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5EA-8B87-4AA4-971A-2CB7D984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0F1-6C42-421E-BD07-6D914237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8D0-BE97-4E43-A231-ED01E6F5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671-B874-458F-B2CA-CB312983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8E7-87B4-427C-A7D9-2C081A01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909-A128-44AC-882F-3A9D4F91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D09-027E-4B6A-A7C4-E506C4FC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079-FE65-4B0A-8FCA-39A02105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58C-AD98-472E-B7AA-C37CDA02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488-3858-4E2F-8294-1848127C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9F1-CAB1-4128-9DF1-B29343C6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F2A-0308-40CB-9998-32F805EB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CF84-E781-4CEE-A8AC-41CDE15967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99f7"/>
            </a:gs>
            <a:gs pos="100000">
              <a:srgbClr val="fc92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22240"/>
            <a:ext cx="891540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小学语文第九册                                    火烧云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课件设计、制作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金川公司二校   陆秀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790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40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1809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60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7900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90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680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4508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347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470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295280" y="1600200"/>
            <a:ext cx="586764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火烧云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395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580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68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9307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4030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99f7"/>
            </a:gs>
            <a:gs pos="100000">
              <a:srgbClr val="fc92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14400"/>
            <a:ext cx="89154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火烧云的变化极多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颜色多                                                                                                                     形态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变化快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8380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 时 恍 恍 惚 惚的，天 空 里 又 像 这个，又 像 那 个，其 实 什 么 也 不 像，什么 也 看 不 清 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45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510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1430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92a4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天 空 的 云 从 西 边一 直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烧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到 东 边， 红 彤 彤 的， 好 像 是 天 空 着 了 火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79006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99f7"/>
            </a:gs>
            <a:gs pos="100000">
              <a:srgbClr val="fc92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19320"/>
            <a:ext cx="89154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火烧云的变化                                  极多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43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440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21:36:19Z</dcterms:created>
  <dc:creator>fx</dc:creator>
  <dc:description/>
  <dc:language>en-US</dc:language>
  <cp:lastModifiedBy>二校</cp:lastModifiedBy>
  <dcterms:modified xsi:type="dcterms:W3CDTF">2001-09-20T03:18:12Z</dcterms:modified>
  <cp:revision>36</cp:revision>
  <dc:subject/>
  <dc:title>没有幻灯片标题</dc:title>
</cp:coreProperties>
</file>