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BF3-7C92-4EB8-86E0-1F09123F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44F-5C6F-4E4F-BA4D-4098745A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C56-6290-4D15-AD19-84635FF5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0FE-8F7E-41D5-A6FC-B9D681C7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4CB-BF2B-49D2-B650-226528E5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88C-24F1-4E9E-BB7A-53D0E71E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917-80A2-4327-83B1-1D75D39D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109-AB7C-4CF1-BCA1-03C935BE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4C3-9779-4FE0-8889-83BFDB14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F9B-D8E7-479E-BA7D-49E9D600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E8C-160A-463F-9B4E-4C21D1D1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1E6-A4CB-4B19-B6CE-DCDB5D7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6544-AD1D-472F-A1B9-8828BCFA24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99f7"/>
            </a:gs>
            <a:gs pos="100000">
              <a:srgbClr val="fc92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22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1600200"/>
            <a:ext cx="586764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火烧云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马是跪着的，像是在等着有人骑到它背上，它才站起来似的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马是跪着的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45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460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395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90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680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470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347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58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4030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99f7"/>
            </a:gs>
            <a:gs pos="100000">
              <a:srgbClr val="fc92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57200"/>
            <a:ext cx="8077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火烧云的最主要的特点是什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是从哪几方面来写这一特点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火烧云颜色和形状的变化各有什么特点？你从哪些语句读出来请标出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是怎样观察火烧云的？你从中受到怎样的启示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8380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 时 恍 恍 惚 惚的，天 空 里 又 像 这个，又 像 那 个，其 实 什 么 也 不 像，什么 也 看 不 清 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99f7"/>
            </a:gs>
            <a:gs pos="100000">
              <a:srgbClr val="fc92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365040"/>
            <a:ext cx="7925040" cy="9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以“火烧云   ”为内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以“礼花”为内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想象它的形状，按“出现、样子、变化、消失”的顺序写一段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790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3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7900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9006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40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307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变化极多，一会儿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--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会儿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----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会儿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----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会儿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---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---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有，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------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见过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1:36:19Z</dcterms:created>
  <dc:creator>fx</dc:creator>
  <dc:description/>
  <dc:language>en-US</dc:language>
  <cp:lastModifiedBy>founder</cp:lastModifiedBy>
  <dcterms:modified xsi:type="dcterms:W3CDTF">2003-04-10T04:37:02Z</dcterms:modified>
  <cp:revision>36</cp:revision>
  <dc:subject/>
  <dc:title>没有幻灯片标题</dc:title>
</cp:coreProperties>
</file>