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3DEA-5D60-4588-8C52-BF5B0352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7474-B040-44DA-9FC6-29384283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8957-54A2-45DF-B378-B93765A7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C792-0025-4676-952F-651B7FC0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ACC1-4C22-4DCD-A79C-7FBFAD78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251C-8617-4882-A5A1-097E0AA4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18AD-2D5C-4EDA-9007-F05AB9F1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BFA6-A195-41F4-8F5D-C82BC054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76FF-BBC6-43F5-8C8B-9F78CDFB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5FE3-FF45-472E-AB90-84F219DB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5678-D2E6-4EFB-8CF7-80DE3D16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94FB-402F-4565-AC65-FEF311DE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99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C2D3-60B9-46BD-94A6-AF84166F01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99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树云霞" descr=""/>
          <p:cNvPicPr/>
          <p:nvPr/>
        </p:nvPicPr>
        <p:blipFill>
          <a:blip r:embed="rId1"/>
          <a:stretch/>
        </p:blipFill>
        <p:spPr>
          <a:xfrm>
            <a:off x="0" y="-112680"/>
            <a:ext cx="9144000" cy="6970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19320" y="457200"/>
            <a:ext cx="65530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幼圆"/>
              </a:rPr>
              <a:t>火烧云</a:t>
            </a:r>
            <a:endParaRPr b="1" i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43" name=""/>
          <p:cNvSpPr/>
          <p:nvPr/>
        </p:nvSpPr>
        <p:spPr>
          <a:xfrm>
            <a:off x="2821680" y="3048120"/>
            <a:ext cx="3570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小学语文第十册 </a:t>
            </a:r>
            <a:br>
              <a:rPr sz="4800"/>
            </a:b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    课件设计、制作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浦东新区凌兆小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鲁惠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99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99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2" descr=""/>
          <p:cNvPicPr/>
          <p:nvPr/>
        </p:nvPicPr>
        <p:blipFill>
          <a:blip r:embed="rId1"/>
          <a:stretch/>
        </p:blipFill>
        <p:spPr>
          <a:xfrm>
            <a:off x="-47520" y="0"/>
            <a:ext cx="91915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99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99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1809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914400" y="1295280"/>
            <a:ext cx="6808680" cy="3733560"/>
            <a:chOff x="914400" y="1295280"/>
            <a:chExt cx="6808680" cy="3733560"/>
          </a:xfrm>
        </p:grpSpPr>
        <p:sp>
          <p:nvSpPr>
            <p:cNvPr id="64" name=""/>
            <p:cNvSpPr txBox="1"/>
            <p:nvPr/>
          </p:nvSpPr>
          <p:spPr>
            <a:xfrm>
              <a:off x="914400" y="2666880"/>
              <a:ext cx="13716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黑体"/>
                </a:rPr>
                <a:t>形状</a:t>
              </a:r>
              <a:endPara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2514600" y="1676520"/>
              <a:ext cx="228600" cy="281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｛</a:t>
              </a:r>
              <a:endPara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2971800" y="1295280"/>
              <a:ext cx="4751280" cy="3733560"/>
              <a:chOff x="2971800" y="1295280"/>
              <a:chExt cx="4751280" cy="3733560"/>
            </a:xfrm>
          </p:grpSpPr>
          <p:sp>
            <p:nvSpPr>
              <p:cNvPr id="67" name=""/>
              <p:cNvSpPr txBox="1"/>
              <p:nvPr/>
            </p:nvSpPr>
            <p:spPr>
              <a:xfrm>
                <a:off x="2971800" y="1295280"/>
                <a:ext cx="4675320" cy="941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1" strike="noStrike">
                    <a:ln w="9360">
                      <a:solidFill>
                        <a:srgbClr val="ffff00"/>
                      </a:solidFill>
                      <a:miter/>
                    </a:ln>
                    <a:solidFill>
                      <a:srgbClr val="ffff00"/>
                    </a:solid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黑体"/>
                  </a:rPr>
                  <a:t>快：一会儿、两三秒、</a:t>
                </a:r>
                <a:endParaRPr b="0" lang="en-US" sz="28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黑体"/>
                  <a:ea typeface="黑体"/>
                </a:endParaRPr>
              </a:p>
            </p:txBody>
          </p:sp>
          <p:sp>
            <p:nvSpPr>
              <p:cNvPr id="68" name=""/>
              <p:cNvSpPr txBox="1"/>
              <p:nvPr/>
            </p:nvSpPr>
            <p:spPr>
              <a:xfrm>
                <a:off x="3048120" y="4087080"/>
                <a:ext cx="4674960" cy="941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1" strike="noStrike">
                    <a:ln w="9360">
                      <a:solidFill>
                        <a:srgbClr val="ffff00"/>
                      </a:solidFill>
                      <a:miter/>
                    </a:ln>
                    <a:solidFill>
                      <a:srgbClr val="ffff00"/>
                    </a:solid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黑体"/>
                  </a:rPr>
                  <a:t>多：马、狗、狮子……</a:t>
                </a:r>
                <a:endParaRPr b="0" lang="en-US" sz="28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黑体"/>
                  <a:ea typeface="黑体"/>
                </a:endParaRPr>
              </a:p>
            </p:txBody>
          </p:sp>
          <p:sp>
            <p:nvSpPr>
              <p:cNvPr id="69" name=""/>
              <p:cNvSpPr txBox="1"/>
              <p:nvPr/>
            </p:nvSpPr>
            <p:spPr>
              <a:xfrm>
                <a:off x="4038480" y="2495880"/>
                <a:ext cx="2336760" cy="941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1" strike="noStrike">
                    <a:ln w="9360">
                      <a:solidFill>
                        <a:srgbClr val="ffff00"/>
                      </a:solidFill>
                      <a:miter/>
                    </a:ln>
                    <a:solidFill>
                      <a:srgbClr val="ffff00"/>
                    </a:solid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黑体"/>
                  </a:rPr>
                  <a:t>一转眼……</a:t>
                </a:r>
                <a:endParaRPr b="0" lang="en-US" sz="28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黑体"/>
                  <a:ea typeface="黑体"/>
                </a:endParaRPr>
              </a:p>
            </p:txBody>
          </p:sp>
        </p:grpSp>
      </p:grp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99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9307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305920" y="60199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99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680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1447920" y="838080"/>
            <a:ext cx="632448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3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琥珀"/>
              </a:rPr>
              <a:t>欣赏多姿多彩的火烧云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琥珀"/>
              <a:ea typeface="华文琥珀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99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14405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99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4600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99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79003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99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1905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99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5867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99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345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99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3950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219320" y="762120"/>
            <a:ext cx="685800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小孩子脸——红红的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大白狗——红的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红公鸡——金的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黑母鸡——紫檀色的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小白猪——金的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白胡子——金的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99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34508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1371600"/>
            <a:ext cx="8077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天 空 的 云 从 西 边一 直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烧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 到 东 边， 红 彤 彤 的， 好 像 是 天 空 着 了 火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99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5100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99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34705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99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430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99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790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99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3950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914400" y="990720"/>
            <a:ext cx="7314840" cy="4419000"/>
            <a:chOff x="914400" y="990720"/>
            <a:chExt cx="7314840" cy="4419000"/>
          </a:xfrm>
        </p:grpSpPr>
        <p:sp>
          <p:nvSpPr>
            <p:cNvPr id="56" name=""/>
            <p:cNvSpPr txBox="1"/>
            <p:nvPr/>
          </p:nvSpPr>
          <p:spPr>
            <a:xfrm>
              <a:off x="914400" y="2021760"/>
              <a:ext cx="1548720" cy="206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颜色</a:t>
              </a:r>
              <a:endPara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2291400" y="990720"/>
              <a:ext cx="5937840" cy="441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快：一会儿……</a:t>
              </a:r>
              <a:endPara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    </a:t>
              </a:r>
              <a:r>
                <a:rPr b="0" lang="zh-CN" sz="24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多：说不出、没见过</a:t>
              </a:r>
              <a:endPara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58" name=""/>
            <p:cNvSpPr txBox="1"/>
            <p:nvPr/>
          </p:nvSpPr>
          <p:spPr>
            <a:xfrm>
              <a:off x="2721600" y="1874520"/>
              <a:ext cx="171720" cy="265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｛</a:t>
              </a:r>
              <a:endPara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21:36:19Z</dcterms:created>
  <dc:creator>fx</dc:creator>
  <dc:description/>
  <dc:language>en-US</dc:language>
  <cp:lastModifiedBy>gu</cp:lastModifiedBy>
  <dcterms:modified xsi:type="dcterms:W3CDTF">2002-01-06T07:48:19Z</dcterms:modified>
  <cp:revision>45</cp:revision>
  <dc:subject/>
  <dc:title>没有幻灯片标题</dc:title>
</cp:coreProperties>
</file>