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1C9-2866-48C9-99D6-BB9F7D3C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740-ADB7-4526-B5B3-F43E4E40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945A-A7BF-4AF6-BBBA-42DFCCDB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0C92-2926-4C15-8A19-01B274A5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9EE-B3B4-42D5-8629-BAC06F9A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1DC6-A41E-4F1D-A213-F34ABBD4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4F4-9E37-44E4-B3E5-778CC302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0464-712C-49AB-8667-CFEB7119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66D-5D02-4D9C-B28C-091A962C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A3E3-62E2-4FC9-9A2D-4D736C2A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D91-B628-4172-9ACF-CC372CAB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5F0-EC6E-45DE-A6E5-289DFD97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4E61-6C0A-410E-A4E5-0BEEE4F31D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" Target="slide4.xml"/><Relationship Id="rId6" Type="http://schemas.openxmlformats.org/officeDocument/2006/relationships/image" Target="../media/image14.jpeg"/><Relationship Id="rId7" Type="http://schemas.openxmlformats.org/officeDocument/2006/relationships/slide" Target="slide3.xml"/><Relationship Id="rId8" Type="http://schemas.openxmlformats.org/officeDocument/2006/relationships/slide" Target="slide6.xml"/><Relationship Id="rId9" Type="http://schemas.openxmlformats.org/officeDocument/2006/relationships/slide" Target="slide5.xml"/><Relationship Id="rId10" Type="http://schemas.openxmlformats.org/officeDocument/2006/relationships/image" Target="../media/image15.png"/><Relationship Id="rId11" Type="http://schemas.openxmlformats.org/officeDocument/2006/relationships/slide" Target="slide6.xml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71640" y="907920"/>
            <a:ext cx="4787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岳嵩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云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东岳泰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山势雄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南岳衡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、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西岳华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险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北岳恒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奇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37920" y="549360"/>
            <a:ext cx="2009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Arial"/>
                <a:ea typeface="隶书"/>
              </a:rPr>
              <a:t>黄山归来不看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50920" y="4869000"/>
            <a:ext cx="63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五岳归来不看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24000" y="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能说说中国的名山吗？五岳是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403280" y="765000"/>
            <a:ext cx="74678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本文独具匠心的构思谋篇手法；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本文简练巧妙、热情奔放的语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解黄山奇险而美妙的壮丽景色，体会作者对祖国河山和对社会主义的热爱、赞颂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-1000800" y="609480"/>
            <a:ext cx="21913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学习目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333360"/>
            <a:ext cx="883908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煞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费心机  前拥后簇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ē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差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ī)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毫不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悭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qiān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吝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l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ì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n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菡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h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à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n)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萏（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d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à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n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）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n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糗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qiǔ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á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o)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龙蟠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á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坡        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踵（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zhǒng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其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狭仄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）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战栗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）     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氤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yīn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氲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yūn)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甫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f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刚刚）       汪瓘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g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凝眸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）    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喑（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yīn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变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载（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ài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）沉载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260280"/>
            <a:ext cx="8839080" cy="54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大手笔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指有名的文章家或其作品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煞费心机：形容费尽心思。煞：极，很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高风峻骨：高尚的品格，坚贞的节操。形容道德和行为的完美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扑朔迷离：比喻事物错综复杂，难于辨别。扑朔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指兔脚乱动；迷离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指眼睛半闭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悭吝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吝啬，小气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鸿蒙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指宇宙形成之前的混沌状态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逸兴横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超逸豪放的意兴四处洋溢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糗：炒米或炒面之类的干粮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卓绝云际：超过一切，直达云际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自学提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55640" y="1628280"/>
            <a:ext cx="80661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研读课文，给课文各部分加上恰当的小标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各部分主要用了什么手法来突出黄的什么特征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作者写作第二部分与第三部分的目的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佳句欣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2008311112056255_2"/>
          <p:cNvPicPr/>
          <p:nvPr/>
        </p:nvPicPr>
        <p:blipFill>
          <a:blip r:embed="rId1">
            <a:lum bright="70000"/>
          </a:blip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48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全文分为四个部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340000" y="206028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黄山胜境天造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340000" y="3429000"/>
            <a:ext cx="3314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千古黄山几人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340000" y="4827600"/>
            <a:ext cx="3265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今攀黄山寻常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2340000" y="6021360"/>
            <a:ext cx="34923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天下奇景数黄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0" y="981000"/>
            <a:ext cx="9144000" cy="46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第一部分</a:t>
            </a:r>
            <a:r>
              <a:rPr b="1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：大自然精心安排了黄山胜景（介绍黄山的概况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第二部分</a:t>
            </a:r>
            <a:r>
              <a:rPr b="1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：回顾古人攀登黄山的历史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第三部分</a:t>
            </a:r>
            <a:r>
              <a:rPr b="1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：记叙从温泉宾馆至天都峰顶的历程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第四部分</a:t>
            </a:r>
            <a:r>
              <a:rPr b="1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：在天都峰顶所见的奇观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阅读第一部分，然后思考下面的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838080"/>
            <a:ext cx="8686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、这部分写得很美好独特，读一读，体会一下为什么写得这么美好，用下面的句子说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、美在写出了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                                   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、美在（用了什么手法）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                     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、美在（别具一格的特色）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                   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457200"/>
            <a:ext cx="815976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一、这部分写得很美好独特：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758400" y="19051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美在写出了黄山的神奇壮丽、变化多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962160" y="28195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、美在用拟人、比喻手法：生动，别开生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315600" y="373392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美在文气：大气磅礴，激情澎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038480" y="4495680"/>
            <a:ext cx="1081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美在句式整齐，语言生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、美在视角独特：俯瞰式全景式，尽收胜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、美在想像奇特、富有灵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7621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《中国名胜》：黄山是火山喷发形成的。面积约千余平方公里。分布了许多花冈岩的山峰。其中三十六大峰和三十六小峰最为壮丽。  黄山云多、云美，绮丽多彩，令人叹为观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阅读第一部分，比较表达效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3048120"/>
            <a:ext cx="914400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《黄山记》：大自然是大手笔，用火山喷发的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手法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，迅速地，在周围一百二十公里，面积千余平方公里的一个浑圆的区域里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分布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了这末多花冈岩的山峰。它巧妙地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安放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了其中三十六大峰和三十六小峰。    这样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布置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后，它打开了它的云库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拨给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这区域的，有倏来倏去的云，扑朔迷离的雾，绮丽多彩的霞光，雪浪滚滚的云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28600" y="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阅读第一部分，然后思考下面的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600" y="8380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这部分主要运用什么修辞手法？有何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411280" y="20606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拟人的手法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476360" y="3429000"/>
            <a:ext cx="4952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独辟蹊径，给人耳目一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突出仙境，充满神奇色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居高临下，细写绝境险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第二部分写的是古人攀登黄山的历史，讨论以下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1052640"/>
            <a:ext cx="9144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写黄帝在这里飞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和李白等人有诗文留下为证，显然不同，为什么要选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一材料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24000" y="278136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增加黄山的神秘色彩，使黄山显得更有魅力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24000" y="357336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写李白等人的诗、文有什么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24000" y="4653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现了黄山的险峻，登山的艰难，也丰富了文章的内容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715000" y="4572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396520" y="1676520"/>
            <a:ext cx="21913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黄山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163760" y="3276720"/>
            <a:ext cx="1033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徐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28600" y="228600"/>
            <a:ext cx="8915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第二、三部分写登山情况，它跟黄山特点以及表达主题的关系如何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04920" y="175248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分析：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第二部分写几千年来，人们攀登黄山的简要历史，看似与写黄山的特点无关，实则是妙笔，几千年来很少有人登上黄山最高峰，是因为其险峻，这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侧面烘托黄山的险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部分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登山时的情况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正面直接写其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险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同时，也处处与第二部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比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以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突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换了人间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之意，表达了主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yunhai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2914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song3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2924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richu1"/>
          <p:cNvPicPr/>
          <p:nvPr/>
        </p:nvPicPr>
        <p:blipFill>
          <a:blip r:embed="rId4"/>
          <a:stretch/>
        </p:blipFill>
        <p:spPr>
          <a:xfrm>
            <a:off x="0" y="2852640"/>
            <a:ext cx="4572000" cy="29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dong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495680" y="2852640"/>
            <a:ext cx="4648320" cy="29527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>
            <a:hlinkClick r:id="rId7" action="ppaction://hlinksldjump"/>
          </p:cNvPr>
          <p:cNvSpPr/>
          <p:nvPr/>
        </p:nvSpPr>
        <p:spPr>
          <a:xfrm>
            <a:off x="2050920" y="2205000"/>
            <a:ext cx="20574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云海奇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>
            <a:hlinkClick r:id="rId8" action="ppaction://hlinksldjump"/>
          </p:cNvPr>
          <p:cNvSpPr/>
          <p:nvPr/>
        </p:nvSpPr>
        <p:spPr>
          <a:xfrm>
            <a:off x="6659640" y="2205000"/>
            <a:ext cx="2057400" cy="6426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50000">
                <a:srgbClr val="5e7618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黄山奇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>
            <a:hlinkClick r:id="rId9" action="ppaction://hlinksldjump"/>
          </p:cNvPr>
          <p:cNvSpPr/>
          <p:nvPr/>
        </p:nvSpPr>
        <p:spPr>
          <a:xfrm>
            <a:off x="1979640" y="5157720"/>
            <a:ext cx="2057400" cy="64260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日出奇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">
            <a:hlinkClick r:id="rId11" action="ppaction://hlinksldjump"/>
          </p:cNvPr>
          <p:cNvSpPr/>
          <p:nvPr/>
        </p:nvSpPr>
        <p:spPr>
          <a:xfrm>
            <a:off x="5580000" y="5157720"/>
            <a:ext cx="3048120" cy="642600"/>
          </a:xfrm>
          <a:prstGeom prst="rect">
            <a:avLst/>
          </a:prstGeom>
          <a:gradFill rotWithShape="0">
            <a:gsLst>
              <a:gs pos="0">
                <a:srgbClr val="ff66ff"/>
              </a:gs>
              <a:gs pos="100000">
                <a:srgbClr val="762f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奇妙的摄身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79280" y="589752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快速阅读第四部分，分别找出描写四种景色的句子进行赏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0" y="0"/>
            <a:ext cx="1828800" cy="581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华文行楷"/>
                <a:ea typeface="华文行楷"/>
              </a:rPr>
              <a:t>语言赏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52280" y="609480"/>
            <a:ext cx="8763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它们的根</a:t>
            </a:r>
            <a:r>
              <a:rPr b="1" i="1" lang="zh-CN" sz="2800" spc="-1" strike="noStrike">
                <a:solidFill>
                  <a:srgbClr val="ff0000"/>
                </a:solidFill>
                <a:latin typeface="宋体"/>
              </a:rPr>
              <a:t>盆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岩缝，和花岗岩一般颜色，一般坚贞。它们有风修剪的波浪形的华盖，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它们因风展开了似飞翔之翼翅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峰顶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俯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它们如苔藓，披覆住岩石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山腰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仰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它们如天女，亭亭玉立。沿着岩壁折缝，一个个地走将出来，薄纱轻绸，露出的身段翩然起舞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0" y="2909880"/>
            <a:ext cx="9144000" cy="31154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66ff"/>
                </a:solidFill>
                <a:uFillTx/>
                <a:latin typeface="宋体"/>
              </a:rPr>
              <a:t>赏析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盘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换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好不好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盘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准确地写出了根纵横交错，咬住青山不放松的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比喻、拟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手法，写出了松树矫健遒劲、多姿多彩的特点，把景色的奇异淋漓尽致地表现出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定景换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从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俯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仰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角度，描绘松树的千姿百态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m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457200" y="380880"/>
            <a:ext cx="1828800" cy="581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华文行楷"/>
                <a:ea typeface="华文行楷"/>
              </a:rPr>
              <a:t>赏析语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85800" y="1066680"/>
            <a:ext cx="8001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排云亭前，好比一座繁忙的海港，码头上装卸着一包包柔软的货物。我多么想从这儿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扬帆出海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去。可是暗礁多，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浪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这样险恶，准可以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撞碎我的帆桅，打翻我的船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55640" y="3284640"/>
            <a:ext cx="7777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赏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联想丰富，想象奇特，运用比喻修辞，写出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云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变化多端、神秘莫测的特点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26" descr="m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27"/>
          <p:cNvSpPr/>
          <p:nvPr/>
        </p:nvSpPr>
        <p:spPr>
          <a:xfrm>
            <a:off x="228600" y="0"/>
            <a:ext cx="2286000" cy="7034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宋体"/>
                <a:ea typeface="华文行楷"/>
              </a:rPr>
              <a:t>比较欣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28"/>
          <p:cNvSpPr/>
          <p:nvPr/>
        </p:nvSpPr>
        <p:spPr>
          <a:xfrm>
            <a:off x="250920" y="4149720"/>
            <a:ext cx="8534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启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写作要发挥联想和想象，抓住景物特征，从多个角度，运用比喻、拟人、排比等修辞手法。国学大师王国维在《人间词话》里说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切景语皆情语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要倾注个人的感情，没有感情色彩的景物描写是苍白无力、毫无生气的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29"/>
          <p:cNvSpPr/>
          <p:nvPr/>
        </p:nvSpPr>
        <p:spPr>
          <a:xfrm>
            <a:off x="380880" y="838080"/>
            <a:ext cx="8001000" cy="13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习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黄山的云很多，有团状的、丝状的、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很特别，很好看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30"/>
          <p:cNvSpPr/>
          <p:nvPr/>
        </p:nvSpPr>
        <p:spPr>
          <a:xfrm>
            <a:off x="228600" y="2362320"/>
            <a:ext cx="80884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</a:rPr>
              <a:t>课文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：庄严的天都峰上，收起了哈达；俏丽的莲蕊峰顶，揭下了蝉翼似的面纱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雪浪褶皱里，载沉载浮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m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457200" y="380880"/>
            <a:ext cx="2286000" cy="7034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宋体"/>
                <a:ea typeface="华文行楷"/>
              </a:rPr>
              <a:t>焦点透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914400" y="1295280"/>
            <a:ext cx="7315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奇、幻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900000" y="1989000"/>
            <a:ext cx="7086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比喻、排比、夸张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914400" y="2819520"/>
            <a:ext cx="4495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直接描写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914400" y="3429000"/>
            <a:ext cx="7848720" cy="31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第一部分，是间接描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采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侧面描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手法，以山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衬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云海，使云海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变幻莫测、令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神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特点生动地表现出来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讴歌黄山的自然风光的无比壮美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赞美把仙境送给“人间”的人们！那些征服、改造大自然的攀登者、探索者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这正是本文要写黄山石工、药农、气象工作者的寓意所在，是烘托主题的亮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给我们展示黄山壮丽美景的同时，赞颂那些改造自然的“人”，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表现对社会主义新时代的无限热爱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684360" y="260280"/>
            <a:ext cx="3600360" cy="9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本文的主题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201320" y="20574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山胜景概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68240" y="3200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们登山简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277640" y="4419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攀登险峰天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851040" y="551664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观赏奇丽风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873760" y="205740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拟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873760" y="3200400"/>
            <a:ext cx="10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873760" y="441972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6955920" y="5373720"/>
            <a:ext cx="50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喻、拟人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夸张、画面拼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3282840" y="2362320"/>
            <a:ext cx="227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3282840" y="35053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3282840" y="47242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3282840" y="57913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835280" y="2590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183528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183528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3648960" y="1905120"/>
            <a:ext cx="9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奇    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3816360" y="304812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3889080" y="4191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3816360" y="52578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539640" y="762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结构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特点      手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m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2895480" y="380880"/>
            <a:ext cx="3276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ff"/>
                </a:solidFill>
                <a:latin typeface="华文行楷"/>
                <a:ea typeface="华文行楷"/>
              </a:rPr>
              <a:t>艺术特色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57200" y="1447920"/>
            <a:ext cx="8153280" cy="15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构思选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  选择最能突出黄山特色的几种景物重 点描写（自然之景，人文之景），详略得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般游记的写法：时空线索，从登山写起，由远及近，由下而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57200" y="3581280"/>
            <a:ext cx="8458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描写方法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移步换景、定点换景、定景换点、点面结合。直接描写、间接描写、细描、白描、动静结合。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457200" y="4648320"/>
            <a:ext cx="79246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表达方式：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记叙、描写、议论、抒情融为一体。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57200" y="5334120"/>
            <a:ext cx="8229600" cy="1169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语言句式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喻、拟人、衬托、对比、夸张、排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用短句和排偶句（叙述、描写）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634400" y="228600"/>
            <a:ext cx="45698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根据课文内容为黄山写对联或广告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020960" y="1523880"/>
            <a:ext cx="7681680" cy="1434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奇松奇云奇石天下独绝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         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101600" y="3657600"/>
            <a:ext cx="7281000" cy="1556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景美文美美不胜收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20092814304921_2"/>
          <p:cNvPicPr/>
          <p:nvPr/>
        </p:nvPicPr>
        <p:blipFill>
          <a:blip r:embed="rId1"/>
          <a:stretch/>
        </p:blipFill>
        <p:spPr>
          <a:xfrm>
            <a:off x="0" y="0"/>
            <a:ext cx="7524720" cy="737244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 rot="5400000">
            <a:off x="6551640" y="3033720"/>
            <a:ext cx="345744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迎客松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2256480" y="1523880"/>
            <a:ext cx="480888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奇松奇云奇石天下独绝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秀山秀水秀景举世无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349360" y="3657600"/>
            <a:ext cx="4204080" cy="1556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景美文美美不胜收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峰险道险险象环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2895480" y="914400"/>
            <a:ext cx="3276720" cy="1008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ff"/>
                </a:solidFill>
                <a:latin typeface="华文行楷"/>
                <a:ea typeface="华文行楷"/>
              </a:rPr>
              <a:t>课后作业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66680" y="220968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仿照课文，写一段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字左右的描写性文字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0100426063118105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2195640" y="260280"/>
            <a:ext cx="424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傲然挺立  玉树琼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007032402112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-99000" y="549360"/>
            <a:ext cx="2618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黑体"/>
              </a:rPr>
              <a:t>仙人石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5806657_102215778000_2"/>
          <p:cNvPicPr/>
          <p:nvPr/>
        </p:nvPicPr>
        <p:blipFill>
          <a:blip r:embed="rId1"/>
          <a:stretch/>
        </p:blipFill>
        <p:spPr>
          <a:xfrm>
            <a:off x="457200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w50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7"/>
          <p:cNvSpPr txBox="1"/>
          <p:nvPr/>
        </p:nvSpPr>
        <p:spPr>
          <a:xfrm>
            <a:off x="3492360" y="0"/>
            <a:ext cx="2232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黄山云海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big_196148_13267993685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8"/>
          <p:cNvSpPr txBox="1"/>
          <p:nvPr/>
        </p:nvSpPr>
        <p:spPr>
          <a:xfrm>
            <a:off x="3059280" y="620640"/>
            <a:ext cx="252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温泉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U36830_20081218101442940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468360" y="333360"/>
            <a:ext cx="828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黄山四绝：奇松、怪石、云海、温泉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371600" y="0"/>
            <a:ext cx="670572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作者简介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55640" y="1125360"/>
            <a:ext cx="7812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徐迟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1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9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浙江省天兴人。现代诗人、报告文学作家。原名徐高寿。他前期作品有诗集《二十岁的人》，散文集《美文集》；解放后，写有特写集《我们这时代的人》、《庆功宴》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7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写的报告文学集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《哥德巴赫猜想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献给全国科学大会的厚礼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曾获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98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年全国报告 文学一等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BC</cp:lastModifiedBy>
  <dcterms:modified xsi:type="dcterms:W3CDTF">2015-12-23T06:35:21Z</dcterms:modified>
  <cp:revision>24</cp:revision>
  <dc:subject/>
  <dc:title>PowerPoint 演示文稿</dc:title>
</cp:coreProperties>
</file>