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9D8-E35E-458D-B649-D157DE66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" y="373752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6572-71A9-4AB9-8D34-C82CA4A6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2603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000" y="37375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7375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4975-794B-4834-9C35-7244309E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6840" y="12603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2603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000" y="37375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6840" y="37375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7375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4A29-4EAD-463B-B9D2-00B86D6C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353E-2DA8-4E02-A51E-6DD9A38A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12603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d6d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7ABE-8709-42DB-ABDC-7729D498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62B6-2A5D-455F-B64A-35BAC3E4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9280" y="12603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1271-9DC6-4D6A-9EBA-7343A05F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1902-4810-4D6B-979A-FA6732DF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000" y="475920"/>
            <a:ext cx="821844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d6d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2771-89F7-49E7-A024-A0975BC1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9280" y="12603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" y="37375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E3DC-4E73-426F-BB2F-54702846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000" y="12603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d6d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B607-0121-427D-A703-FE40B522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9280" y="12603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9280" y="37375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E8C2-9059-4CD7-B6F5-78DA69CA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9280" y="12603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000" y="373752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3F6F-032A-453E-B713-F5FF7C4C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" y="373752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7C34-B7E9-49DF-9F3B-46651CF3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9280" y="12603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000" y="37375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9280" y="37375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6F1D-D723-4156-B2F1-F0A59038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6840" y="12603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5320" y="12603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000" y="37375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6840" y="37375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5320" y="37375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A242-39D8-43DB-A2BA-2B75C877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BE7D7-6F14-4FEE-834D-613880D4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68000" y="12603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d6d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5BC3D-0F6D-4DB6-A8FB-222213F5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9AFFC-2E86-4F10-96D9-4AAE3EDE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9280" y="12603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56DA3-FD3D-4445-85A6-750FACC7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A5A20-A6F8-45E5-9195-E12D90B5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74C-0BEB-4AF5-9270-82E78180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8000" y="475920"/>
            <a:ext cx="821844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d6d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A78C4-F1A7-4BFD-9C61-E8E55D78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9280" y="12603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" y="37375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7F0B6-EF0F-46E8-A48F-BDE4B6C8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9280" y="12603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9280" y="37375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7B6F1-00CE-4F22-BB02-CD637B5B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9280" y="12603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8000" y="373752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320DC-89DC-4F83-9D1C-63BFE077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000" y="373752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6DBFB-5B1C-4B95-8EA4-70AADB75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2603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8000" y="37375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9280" y="37375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C1267-5CEF-4860-9A89-FF601A00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46840" y="12603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5320" y="126036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000" y="37375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46840" y="37375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5320" y="3737520"/>
            <a:ext cx="26460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8F463-E1D4-4F3E-B595-2FB11B6B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2603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BF38-CE40-4D2E-A6D3-AD6D4B07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111D-F8B6-44B5-8DA6-26C28C8D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475920"/>
            <a:ext cx="821844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d6d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0B8-DD7D-4162-BF50-DC301F5F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2603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000" y="37375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BBB1-2E7B-4CF7-AA76-A9A54298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40104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2603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73752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4CDB-C972-49D8-B9ED-708D2073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260360"/>
            <a:ext cx="40104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" y="3737520"/>
            <a:ext cx="82184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2E9-F02C-4706-B9D3-FDEE8874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9913-3000-47F7-87FD-A8997A15D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底纹-01.png"/>
          <p:cNvPicPr/>
          <p:nvPr/>
        </p:nvPicPr>
        <p:blipFill>
          <a:blip r:embed="rId2"/>
          <a:srcRect l="0" t="0" r="2498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4" descr="车马-03-01-01.png"/>
          <p:cNvPicPr/>
          <p:nvPr/>
        </p:nvPicPr>
        <p:blipFill>
          <a:blip r:embed="rId3"/>
          <a:stretch/>
        </p:blipFill>
        <p:spPr>
          <a:xfrm>
            <a:off x="0" y="5505480"/>
            <a:ext cx="1523880" cy="973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897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000" y="12603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358920">
              <a:spcBef>
                <a:spcPts val="1800"/>
              </a:spcBef>
              <a:buClr>
                <a:srgbClr val="005897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1" marL="444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5f5f5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5f5f5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1E1E-548E-42A0-8C1D-BE3B76A0E99C}" type="slidenum">
              <a:rPr b="0" lang="zh-CN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8" descr="底纹-01.png"/>
          <p:cNvPicPr/>
          <p:nvPr/>
        </p:nvPicPr>
        <p:blipFill>
          <a:blip r:embed="rId2"/>
          <a:srcRect l="0" t="0" r="2498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5" descr="车马mulu-01.png"/>
          <p:cNvPicPr/>
          <p:nvPr/>
        </p:nvPicPr>
        <p:blipFill>
          <a:blip r:embed="rId3"/>
          <a:stretch/>
        </p:blipFill>
        <p:spPr>
          <a:xfrm>
            <a:off x="19080" y="3429000"/>
            <a:ext cx="4525920" cy="2878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95400" y="2333520"/>
            <a:ext cx="507996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2ECB-20EF-4CDA-A52E-6F6235E75AA1}" type="slidenum">
              <a:rPr b="0" lang="zh-CN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5680" indent="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d6d6d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6d6d6d"/>
              </a:solidFill>
              <a:latin typeface="Arial"/>
            </a:endParaRPr>
          </a:p>
          <a:p>
            <a:pPr lvl="1" marL="4446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4d4d4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5f5f5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5f5f5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95400" y="2333520"/>
            <a:ext cx="507996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5897"/>
                </a:solidFill>
                <a:latin typeface="Arial"/>
              </a:rPr>
              <a:t>呼兰河传</a:t>
            </a:r>
            <a:endParaRPr b="0" lang="en-US" sz="8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682800" y="3543480"/>
            <a:ext cx="51051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5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d6d6d"/>
                </a:solidFill>
                <a:latin typeface="Arial"/>
              </a:rPr>
              <a:t>萧红</a:t>
            </a:r>
            <a:endParaRPr b="0" lang="en-US" sz="4800" spc="-1" strike="noStrike">
              <a:solidFill>
                <a:srgbClr val="6d6d6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5897"/>
                </a:solidFill>
                <a:latin typeface="Arial"/>
              </a:rPr>
              <a:t>合作探究：</a:t>
            </a:r>
            <a:endParaRPr b="0" lang="en-US" sz="54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1. </a:t>
            </a: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这里的动物、植物都是自由的，那么置身于这样环境中的人的生活又是怎样的呢？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1450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5897"/>
                </a:solidFill>
                <a:latin typeface="Arial"/>
              </a:rPr>
              <a:t>       </a:t>
            </a:r>
            <a:endParaRPr b="0" lang="en-US" sz="8000" spc="-1" strike="noStrike">
              <a:solidFill>
                <a:srgbClr val="005897"/>
              </a:solidFill>
              <a:latin typeface="Arial"/>
            </a:endParaRPr>
          </a:p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5897"/>
                </a:solidFill>
                <a:latin typeface="Arial"/>
              </a:rPr>
              <a:t>       </a:t>
            </a:r>
            <a:r>
              <a:rPr b="0" lang="zh-CN" sz="8000" spc="-1" strike="noStrike">
                <a:solidFill>
                  <a:srgbClr val="005897"/>
                </a:solidFill>
                <a:latin typeface="Arial"/>
              </a:rPr>
              <a:t>自由快乐、</a:t>
            </a:r>
            <a:endParaRPr b="0" lang="en-US" sz="8000" spc="-1" strike="noStrike">
              <a:solidFill>
                <a:srgbClr val="005897"/>
              </a:solidFill>
              <a:latin typeface="Arial"/>
            </a:endParaRPr>
          </a:p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5897"/>
                </a:solidFill>
                <a:latin typeface="Arial"/>
              </a:rPr>
              <a:t>       </a:t>
            </a:r>
            <a:r>
              <a:rPr b="0" lang="zh-CN" sz="8000" spc="-1" strike="noStrike">
                <a:solidFill>
                  <a:srgbClr val="005897"/>
                </a:solidFill>
                <a:latin typeface="Arial"/>
              </a:rPr>
              <a:t>天真烂漫。</a:t>
            </a:r>
            <a:endParaRPr b="0" lang="en-US" sz="80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7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5897"/>
                </a:solidFill>
                <a:latin typeface="Arial"/>
              </a:rPr>
              <a:t>．朗读“我”的天真烂漫、自由快乐的语句，交流：</a:t>
            </a:r>
            <a:endParaRPr b="0" lang="en-US" sz="36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2722680"/>
            <a:ext cx="8218440" cy="32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） 如：“祖父戴一个大草帽，我戴个小草帽；祖父栽花，我就栽花；祖父拔草，我就拔草；祖父铲地，我也铲地；祖父浇菜，我也抢过来浇菜。”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1450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897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5897"/>
                </a:solidFill>
                <a:latin typeface="Arial"/>
              </a:rPr>
              <a:t>评析：</a:t>
            </a:r>
            <a:endParaRPr b="0" lang="en-US" sz="4400" spc="-1" strike="noStrike">
              <a:solidFill>
                <a:srgbClr val="005897"/>
              </a:solidFill>
              <a:latin typeface="Arial"/>
            </a:endParaRPr>
          </a:p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897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005897"/>
                </a:solidFill>
                <a:latin typeface="Arial"/>
              </a:rPr>
              <a:t>小孩子喜好模仿的天性，祖父做什么，我就做什么。祖父干活，我瞎闹、帮倒忙，祖父也不会怪我。</a:t>
            </a:r>
            <a:endParaRPr b="0" lang="en-US" sz="44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1450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7640" y="1336320"/>
            <a:ext cx="78660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5897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5897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5897"/>
                </a:solidFill>
                <a:latin typeface="Arial"/>
              </a:rPr>
              <a:t>） “祖父虽然教我，我看了也并不细看，也不过马马虎虎承认下来就是了。一抬头看见了一个黄瓜长大了，跑过去摘下来，我又去吃黄瓜去了，黄瓜没吃完又去追蜻蜓，跟蜻蜓跑了几步又去做别的去了。”</a:t>
            </a:r>
            <a:endParaRPr b="0" lang="en-US" sz="40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0952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47640" y="1336320"/>
            <a:ext cx="78660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897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5897"/>
                </a:solidFill>
                <a:latin typeface="Arial"/>
              </a:rPr>
              <a:t>评析：</a:t>
            </a:r>
            <a:endParaRPr b="0" lang="en-US" sz="4400" spc="-1" strike="noStrike">
              <a:solidFill>
                <a:srgbClr val="005897"/>
              </a:solidFill>
              <a:latin typeface="Arial"/>
            </a:endParaRPr>
          </a:p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897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005897"/>
                </a:solidFill>
                <a:latin typeface="Arial"/>
              </a:rPr>
              <a:t>在事实面前也只是马马虎虎承认错误，注意力极易分散，一下子就就将“委屈”忘记得一干二净了。</a:t>
            </a:r>
            <a:endParaRPr b="0" lang="en-US" sz="44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1864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7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5897"/>
              </a:solidFill>
              <a:latin typeface="Arial"/>
            </a:endParaRPr>
          </a:p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5897"/>
                </a:solidFill>
                <a:latin typeface="Arial"/>
              </a:rPr>
              <a:t>（</a:t>
            </a:r>
            <a:r>
              <a:rPr b="0" lang="en-US" sz="4800" spc="-1" strike="noStrike">
                <a:solidFill>
                  <a:srgbClr val="005897"/>
                </a:solidFill>
                <a:latin typeface="Arial"/>
              </a:rPr>
              <a:t>3</a:t>
            </a:r>
            <a:r>
              <a:rPr b="0" lang="zh-CN" sz="4800" spc="-1" strike="noStrike">
                <a:solidFill>
                  <a:srgbClr val="005897"/>
                </a:solidFill>
                <a:latin typeface="Arial"/>
              </a:rPr>
              <a:t>）“我玩累了，就在房子底下找个阴凉的地方睡着了。”</a:t>
            </a:r>
            <a:endParaRPr b="0" lang="en-US" sz="48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1648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5897"/>
                </a:solidFill>
                <a:latin typeface="Arial"/>
              </a:rPr>
              <a:t>评析：</a:t>
            </a:r>
            <a:endParaRPr b="0" lang="en-US" sz="4000" spc="-1" strike="noStrike">
              <a:solidFill>
                <a:srgbClr val="005897"/>
              </a:solidFill>
              <a:latin typeface="Arial"/>
            </a:endParaRPr>
          </a:p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897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5897"/>
                </a:solidFill>
                <a:latin typeface="Arial"/>
              </a:rPr>
              <a:t>自由的玩耍，自由的“劳动”，连睡觉都这么自由。大花园真是我儿时的乐园！</a:t>
            </a:r>
            <a:endParaRPr b="0" lang="en-US" sz="40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5897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5897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5897"/>
                </a:solidFill>
                <a:latin typeface="Arial"/>
              </a:rPr>
              <a:t>）多种形式朗读第</a:t>
            </a:r>
            <a:r>
              <a:rPr b="0" lang="en-US" sz="2800" spc="-1" strike="noStrike">
                <a:solidFill>
                  <a:srgbClr val="005897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5897"/>
                </a:solidFill>
                <a:latin typeface="Arial"/>
              </a:rPr>
              <a:t>段，研读这一段所体现的自由自在、天真烂漫的情感。</a:t>
            </a: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891800"/>
            <a:ext cx="8218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           </a:t>
            </a:r>
            <a:r>
              <a:rPr b="0" lang="zh-CN" sz="3600" spc="-1" strike="noStrike">
                <a:solidFill>
                  <a:srgbClr val="005897"/>
                </a:solidFill>
                <a:latin typeface="Arial"/>
              </a:rPr>
              <a:t>这一段使用了十一个“就“字，可是读起来一点也不显得罗嗦，反而有独特的味道，说说它们对表达思想感情有什么样的作用。</a:t>
            </a:r>
            <a:endParaRPr b="0" lang="en-US" sz="36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20952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7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5897"/>
                </a:solidFill>
                <a:latin typeface="Arial"/>
              </a:rPr>
              <a:t>前三个“就”，表示强调语气；</a:t>
            </a:r>
            <a:endParaRPr b="0" lang="en-US" sz="3600" spc="-1" strike="noStrike">
              <a:solidFill>
                <a:srgbClr val="005897"/>
              </a:solidFill>
              <a:latin typeface="Arial"/>
            </a:endParaRPr>
          </a:p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7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5897"/>
                </a:solidFill>
                <a:latin typeface="Arial"/>
              </a:rPr>
              <a:t>后八个“就”表示自由自在，不加任何约束。这十一个“就”，非常有表现力，语气轻松，一气呵成，形象而有力地表现了一切都在自由地生长。</a:t>
            </a:r>
            <a:endParaRPr b="0" lang="en-US" sz="3600" spc="-1" strike="noStrike">
              <a:solidFill>
                <a:srgbClr val="005897"/>
              </a:solidFill>
              <a:latin typeface="Arial"/>
            </a:endParaRPr>
          </a:p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7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5897"/>
                </a:solidFill>
                <a:latin typeface="Arial"/>
              </a:rPr>
              <a:t>为“我”的童年生活提供了自由自在的生长环境。</a:t>
            </a:r>
            <a:endParaRPr b="0" lang="en-US" sz="36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1450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          </a:t>
            </a: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童年是美好的，难忘的，童年生活中充满了童真童趣。在《从百草园到三味书屋》中，我们看到了儿时鲁迅的活泼调皮与天真聪明；在《幼时记趣》中，我们看到了儿时沈复的“物外之趣”的神异世界； 在《呼兰河传》中，我们会看到儿时的萧红又有怎样快乐的童年呢？今天，我们就来学习现代著名女作家萧红的《呼兰河传》。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7"/>
                </a:solidFill>
                <a:latin typeface="Arial"/>
              </a:rPr>
              <a:t>3.</a:t>
            </a:r>
            <a:r>
              <a:rPr b="0" lang="zh-CN" sz="4800" spc="-1" strike="noStrike">
                <a:solidFill>
                  <a:srgbClr val="005897"/>
                </a:solidFill>
                <a:latin typeface="Arial"/>
              </a:rPr>
              <a:t>在“我”的眼里，祖父是一个怎样的人</a:t>
            </a:r>
            <a:r>
              <a:rPr b="0" lang="en-US" sz="4800" spc="-1" strike="noStrike">
                <a:solidFill>
                  <a:srgbClr val="005897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1450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47640" y="1336320"/>
            <a:ext cx="78660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358920">
              <a:spcBef>
                <a:spcPts val="1800"/>
              </a:spcBef>
              <a:buClr>
                <a:srgbClr val="005897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体现祖父的形象的句子，朗读、交流：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marL="444600" indent="-358920">
              <a:spcBef>
                <a:spcPts val="1800"/>
              </a:spcBef>
              <a:buClr>
                <a:srgbClr val="005897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祖父一天都在后园里边。”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marL="444600" indent="-358920">
              <a:spcBef>
                <a:spcPts val="1800"/>
              </a:spcBef>
              <a:buClr>
                <a:srgbClr val="005897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因为我太小，拿不动那锄头杆，祖父就把锄头杆拔下来，让我单拿着那个锄头的头来铲。”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marL="444600" indent="-358920">
              <a:spcBef>
                <a:spcPts val="1800"/>
              </a:spcBef>
              <a:buClr>
                <a:srgbClr val="005897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祖父大笑起来，笑得够了，把草摘下来问我”。“祖父慢慢地把我叫过去，讲给我听……”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marL="444600" indent="-358920">
              <a:spcBef>
                <a:spcPts val="1800"/>
              </a:spcBef>
              <a:buClr>
                <a:srgbClr val="005897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祖父浇菜，我也抢过来浇……”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1864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897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5897"/>
              </a:solidFill>
              <a:latin typeface="Arial"/>
            </a:endParaRPr>
          </a:p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897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5897"/>
                </a:solidFill>
                <a:latin typeface="Arial"/>
              </a:rPr>
              <a:t>从以上语句可以看出，祖父在“我”的眼里，是个热爱生活、热爱劳动，对“我”非常宽容、慈爱、懂得尊重孩子天性的的人。他使“我”的童年自由自在、充满快乐。</a:t>
            </a:r>
            <a:endParaRPr b="0" lang="en-US" sz="40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1648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897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5897"/>
              </a:solidFill>
              <a:latin typeface="Arial"/>
            </a:endParaRPr>
          </a:p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897"/>
              </a:solidFill>
              <a:latin typeface="Arial"/>
            </a:endParaRPr>
          </a:p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897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5897"/>
                </a:solidFill>
                <a:latin typeface="Arial"/>
              </a:rPr>
              <a:t>4.</a:t>
            </a:r>
            <a:r>
              <a:rPr b="0" lang="zh-CN" sz="4400" spc="-1" strike="noStrike">
                <a:solidFill>
                  <a:srgbClr val="005897"/>
                </a:solidFill>
                <a:latin typeface="Arial"/>
              </a:rPr>
              <a:t>选出文中描写最美的几个语段，进行诵读，体味语言特点。 </a:t>
            </a:r>
            <a:endParaRPr b="0" lang="en-US" sz="4400" spc="-1" strike="noStrike">
              <a:solidFill>
                <a:srgbClr val="005897"/>
              </a:solidFill>
              <a:latin typeface="Arial"/>
            </a:endParaRPr>
          </a:p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1648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897"/>
                </a:solidFill>
                <a:latin typeface="黑体"/>
                <a:ea typeface="黑体"/>
              </a:rPr>
              <a:t>（</a:t>
            </a:r>
            <a:r>
              <a:rPr b="0" lang="en-US" sz="2000" spc="-1" strike="noStrike">
                <a:solidFill>
                  <a:srgbClr val="005897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5897"/>
                </a:solidFill>
                <a:latin typeface="黑体"/>
                <a:ea typeface="黑体"/>
              </a:rPr>
              <a:t>）“蜻蜓是金的，蚂蚱是绿的，蜂子则嗡嗡地飞着，满身绒毛，落到一朵花上，胖圆圆地就和一个小毛球似的不动了。”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------------</a:t>
            </a: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用儿童的眼光来观察，辨别颜色、形状、声响，呈现出来的是景物的本来面目， 相对花而言，动的昆虫更容易引发儿童的兴趣。因而平实贴切，充满孩子的欢愉和真挚。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2314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）写小白菜的生长：“小白菜长得非常之快，没有几天就冒了芽了，一转眼就可以拔下来吃了”。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（用语明快朴素）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）写蝴蝶飞舞：“它们是从谁家来的，又飞到谁家去？太阳也不知道。”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（自言自语，充满孩子气。）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897"/>
                </a:solidFill>
                <a:latin typeface="Arial"/>
              </a:rPr>
              <a:t>疑问：</a:t>
            </a: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           </a:t>
            </a: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写《呼兰河传》这部小说时，萧红已经是一位很成熟的作家了，为什么她这样怀念童年的生活？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254160"/>
            <a:ext cx="8218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5897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5897"/>
                </a:solidFill>
                <a:latin typeface="Arial"/>
              </a:rPr>
              <a:t>她童年生活很美好，很自由，而成年后的生活并不幸福，在生活极不安定的情况下，回忆故乡、回忆美好的童年是一种精神寄托。她曾说过：“若是能回呼兰我的家乡去多好啊！”，然而故乡已在日本侵略者的铁蹄之下。对于萧红而言，真正想回到的，真正眷恋的是故乡的后花园、祖父和她构成的温馨世界，是过去自由、幸福纯真的童年生活。</a:t>
            </a: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5897"/>
                </a:solidFill>
                <a:latin typeface="Arial"/>
              </a:rPr>
              <a:t>小结：</a:t>
            </a: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文章回忆了童年的“我”在祖父后花园的无拘无束的自由生活，表现了亲近自然万物，亲近小生命的幸福与快乐，寄托了作者对故乡的怀念，对自由纯真的生活的向往。文章记叙的是一个孩子在狭小的生活空间的琐事，但是由于作者在文字中倾注了热切的情感，为读者描绘出一幅幅旺盛灿烂的生命图景，显得生机勃勃，情趣盎然。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73960"/>
            <a:ext cx="8218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4600" y="909720"/>
            <a:ext cx="813096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897"/>
                </a:solidFill>
                <a:latin typeface="Arial"/>
              </a:rPr>
              <a:t>                                </a:t>
            </a:r>
            <a:r>
              <a:rPr b="0" lang="zh-CN" sz="1400" spc="-1" strike="noStrike">
                <a:solidFill>
                  <a:srgbClr val="005897"/>
                </a:solidFill>
                <a:latin typeface="Arial"/>
              </a:rPr>
              <a:t>《呼兰河传》节选</a:t>
            </a:r>
            <a:endParaRPr b="0" lang="en-US" sz="1400" spc="-1" strike="noStrike">
              <a:solidFill>
                <a:srgbClr val="005897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5897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897"/>
                </a:solidFill>
                <a:latin typeface="Arial"/>
              </a:rPr>
              <a:t>                                                </a:t>
            </a:r>
            <a:r>
              <a:rPr b="0" lang="zh-CN" sz="1400" spc="-1" strike="noStrike">
                <a:solidFill>
                  <a:srgbClr val="005897"/>
                </a:solidFill>
                <a:latin typeface="Arial"/>
              </a:rPr>
              <a:t>萧红    </a:t>
            </a:r>
            <a:endParaRPr b="0" lang="en-US" sz="1400" spc="-1" strike="noStrike">
              <a:solidFill>
                <a:srgbClr val="005897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5897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897"/>
                </a:solidFill>
                <a:latin typeface="Arial"/>
              </a:rPr>
              <a:t>            </a:t>
            </a:r>
            <a:r>
              <a:rPr b="0" lang="zh-CN" sz="1400" spc="-1" strike="noStrike">
                <a:solidFill>
                  <a:srgbClr val="005897"/>
                </a:solidFill>
                <a:latin typeface="Arial"/>
              </a:rPr>
              <a:t>动物：蜜蜂（嗡嗡，胖圆圆，小毛球）蝴蝶（黄、白、红，满身带着</a:t>
            </a:r>
            <a:endParaRPr b="0" lang="en-US" sz="1400" spc="-1" strike="noStrike">
              <a:solidFill>
                <a:srgbClr val="005897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5897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897"/>
                </a:solidFill>
                <a:latin typeface="Arial"/>
              </a:rPr>
              <a:t>            </a:t>
            </a:r>
            <a:r>
              <a:rPr b="0" lang="zh-CN" sz="1400" spc="-1" strike="noStrike">
                <a:solidFill>
                  <a:srgbClr val="005897"/>
                </a:solidFill>
                <a:latin typeface="Arial"/>
              </a:rPr>
              <a:t>大花园里：金粉）蜻蜓（金的）蚂蚱（绿的）小鸟（飞）虫子（叫）</a:t>
            </a:r>
            <a:endParaRPr b="0" lang="en-US" sz="1400" spc="-1" strike="noStrike">
              <a:solidFill>
                <a:srgbClr val="005897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5897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897"/>
                </a:solidFill>
                <a:latin typeface="Arial"/>
              </a:rPr>
              <a:t>          </a:t>
            </a:r>
            <a:r>
              <a:rPr b="0" lang="zh-CN" sz="1400" spc="-1" strike="noStrike">
                <a:solidFill>
                  <a:srgbClr val="005897"/>
                </a:solidFill>
                <a:latin typeface="Arial"/>
              </a:rPr>
              <a:t>植物：大榆树、花、草、小白菜、狗尾巴草、倭瓜花、黄瓜</a:t>
            </a:r>
            <a:endParaRPr b="0" lang="en-US" sz="1400" spc="-1" strike="noStrike">
              <a:solidFill>
                <a:srgbClr val="005897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5897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897"/>
                </a:solidFill>
                <a:latin typeface="Arial"/>
              </a:rPr>
              <a:t>          “</a:t>
            </a:r>
            <a:r>
              <a:rPr b="0" lang="zh-CN" sz="1400" spc="-1" strike="noStrike">
                <a:solidFill>
                  <a:srgbClr val="005897"/>
                </a:solidFill>
                <a:latin typeface="Arial"/>
              </a:rPr>
              <a:t>我”：摘花、追蝴蝶、“锄草”、绑蚂蚱、“浇菜”、尽情玩耍</a:t>
            </a:r>
            <a:endParaRPr b="0" lang="en-US" sz="1400" spc="-1" strike="noStrike">
              <a:solidFill>
                <a:srgbClr val="005897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5897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897"/>
                </a:solidFill>
                <a:latin typeface="Arial"/>
              </a:rPr>
              <a:t>          </a:t>
            </a:r>
            <a:r>
              <a:rPr b="0" lang="zh-CN" sz="1400" spc="-1" strike="noStrike">
                <a:solidFill>
                  <a:srgbClr val="005897"/>
                </a:solidFill>
                <a:latin typeface="Arial"/>
              </a:rPr>
              <a:t>自由自在，天真烂漫的童年生活。对故乡、对自由纯真生活的向往。</a:t>
            </a:r>
            <a:endParaRPr b="0" lang="en-US" sz="14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897"/>
                </a:solidFill>
                <a:latin typeface="Arial"/>
              </a:rPr>
              <a:t>作者及作品简介：</a:t>
            </a: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897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5897"/>
                </a:solidFill>
                <a:latin typeface="Arial"/>
              </a:rPr>
              <a:t>萧红（</a:t>
            </a:r>
            <a:r>
              <a:rPr b="0" lang="en-US" sz="2800" spc="-1" strike="noStrike">
                <a:solidFill>
                  <a:srgbClr val="005897"/>
                </a:solidFill>
                <a:latin typeface="Arial"/>
              </a:rPr>
              <a:t>1911</a:t>
            </a:r>
            <a:r>
              <a:rPr b="0" lang="zh-CN" sz="2800" spc="-1" strike="noStrike">
                <a:solidFill>
                  <a:srgbClr val="005897"/>
                </a:solidFill>
                <a:latin typeface="Arial"/>
              </a:rPr>
              <a:t>－－</a:t>
            </a:r>
            <a:r>
              <a:rPr b="0" lang="en-US" sz="2800" spc="-1" strike="noStrike">
                <a:solidFill>
                  <a:srgbClr val="005897"/>
                </a:solidFill>
                <a:latin typeface="Arial"/>
              </a:rPr>
              <a:t>1942</a:t>
            </a:r>
            <a:r>
              <a:rPr b="0" lang="zh-CN" sz="2800" spc="-1" strike="noStrike">
                <a:solidFill>
                  <a:srgbClr val="005897"/>
                </a:solidFill>
                <a:latin typeface="Arial"/>
              </a:rPr>
              <a:t>），中国现代著名女作家，原名张迺莹，笔名悄吟、田娣等。黑龙江呼兰县人，她一生坎坷：九岁丧母，在暴虐的父亲和继母那儿得不到关爱，只有在年迈的祖父那儿得到温暖。二十岁起就漂泊流浪，二十三岁开始文学创作，三十一岁去世。短暂的</a:t>
            </a:r>
            <a:r>
              <a:rPr b="0" lang="en-US" sz="2800" spc="-1" strike="noStrike">
                <a:solidFill>
                  <a:srgbClr val="005897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5897"/>
                </a:solidFill>
                <a:latin typeface="Arial"/>
              </a:rPr>
              <a:t>年创作生涯中，萧红留下了</a:t>
            </a:r>
            <a:r>
              <a:rPr b="0" lang="en-US" sz="2800" spc="-1" strike="noStrike">
                <a:solidFill>
                  <a:srgbClr val="005897"/>
                </a:solidFill>
                <a:latin typeface="Arial"/>
              </a:rPr>
              <a:t>60</a:t>
            </a:r>
            <a:r>
              <a:rPr b="0" lang="zh-CN" sz="2800" spc="-1" strike="noStrike">
                <a:solidFill>
                  <a:srgbClr val="005897"/>
                </a:solidFill>
                <a:latin typeface="Arial"/>
              </a:rPr>
              <a:t>万字的文学财富。</a:t>
            </a: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897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5897"/>
                </a:solidFill>
                <a:latin typeface="黑体"/>
                <a:ea typeface="黑体"/>
              </a:rPr>
              <a:t>代表作</a:t>
            </a:r>
            <a:r>
              <a:rPr b="0" lang="zh-CN" sz="2800" spc="-1" strike="noStrike">
                <a:solidFill>
                  <a:srgbClr val="005897"/>
                </a:solidFill>
                <a:latin typeface="Arial"/>
              </a:rPr>
              <a:t>：《呼兰河传》、《生死场》、《小城三月》、《马伯乐》。</a:t>
            </a: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5897"/>
                </a:solidFill>
                <a:latin typeface="Arial"/>
              </a:rPr>
              <a:t>课后练笔：</a:t>
            </a: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、课外阅读萧红《呼兰河传》及其他作品，做关于她的卡片资料。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marL="85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marL="85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、回忆你的童年生活，写一段充满情趣的文字，要体现童真童趣。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5897"/>
                </a:solidFill>
                <a:latin typeface="Arial"/>
              </a:rPr>
              <a:t>自主学习：</a:t>
            </a:r>
            <a:endParaRPr b="0" lang="en-US" sz="66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5897"/>
                </a:solidFill>
                <a:latin typeface="Arial"/>
              </a:rPr>
              <a:t>（</a:t>
            </a:r>
            <a:r>
              <a:rPr b="0" lang="en-US" sz="4800" spc="-1" strike="noStrike">
                <a:solidFill>
                  <a:srgbClr val="005897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005897"/>
                </a:solidFill>
                <a:latin typeface="Arial"/>
              </a:rPr>
              <a:t>）文中的主要人物是谁？他们各自的年龄有多大？</a:t>
            </a:r>
            <a:endParaRPr b="0" lang="en-US" sz="48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1450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）</a:t>
            </a:r>
            <a:r>
              <a:rPr b="0" lang="zh-CN" sz="4400" spc="-1" strike="noStrike">
                <a:solidFill>
                  <a:srgbClr val="005897"/>
                </a:solidFill>
                <a:latin typeface="Arial"/>
              </a:rPr>
              <a:t>祖父和我；祖父快七十岁了，“我”才四五岁。</a:t>
            </a:r>
            <a:endParaRPr b="0" lang="en-US" sz="44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1450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5897"/>
                </a:solidFill>
                <a:latin typeface="Arial"/>
              </a:rPr>
              <a:t>）人物活动的地点在哪儿？从文章中大概能看出是在什么季节？从文章的哪里得知？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1450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5897"/>
                </a:solidFill>
                <a:latin typeface="Arial"/>
              </a:rPr>
              <a:t>（</a:t>
            </a:r>
            <a:r>
              <a:rPr b="0" lang="en-US" sz="4800" spc="-1" strike="noStrike">
                <a:solidFill>
                  <a:srgbClr val="005897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5897"/>
                </a:solidFill>
                <a:latin typeface="Arial"/>
              </a:rPr>
              <a:t>）祖父的后花园。从锄谷子、韭菜、摘黄瓜、追蜻蜓、绑蚂蚱等可看出是春夏季节。</a:t>
            </a:r>
            <a:endParaRPr b="0" lang="en-US" sz="48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14832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82184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5897"/>
                </a:solidFill>
                <a:latin typeface="Arial"/>
              </a:rPr>
              <a:t>文中提到了哪些自然事物？</a:t>
            </a:r>
            <a:endParaRPr b="0" lang="en-US" sz="80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1450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238400"/>
            <a:ext cx="8156520" cy="47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5897"/>
                </a:solidFill>
                <a:latin typeface="Arial"/>
              </a:rPr>
              <a:t>         </a:t>
            </a:r>
            <a:r>
              <a:rPr b="0" lang="zh-CN" sz="5400" spc="-1" strike="noStrike">
                <a:solidFill>
                  <a:srgbClr val="005897"/>
                </a:solidFill>
                <a:latin typeface="Arial"/>
              </a:rPr>
              <a:t>蜜蜂、蝴蝶、蜻蜓、蚂蚱、鸟、虫子；果树、榆树、小白菜、草、韭菜、谷穗、黄瓜、玉米；大花园、风、雨、太阳、白云等。</a:t>
            </a:r>
            <a:endParaRPr b="0" lang="en-US" sz="5400" spc="-1" strike="noStrike">
              <a:solidFill>
                <a:srgbClr val="0058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7T08:42:47Z</dcterms:created>
  <dc:creator>微软用户</dc:creator>
  <dc:description/>
  <dc:language>en-US</dc:language>
  <cp:lastModifiedBy>微软用户</cp:lastModifiedBy>
  <dcterms:modified xsi:type="dcterms:W3CDTF">2015-04-07T23:46:07Z</dcterms:modified>
  <cp:revision>2</cp:revision>
  <dc:subject/>
  <dc:title>呼兰河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