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33E-5ED3-44DA-B18C-9F9F42EC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863-4E2B-43DC-9A6C-EC200B41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4BF-D672-4013-8FC1-BCFBACED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BCE1-C688-43B2-83DA-746FC096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1F4-423F-41A5-9A4B-E23AE70D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5BB-EED2-40EA-AA87-1587212F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4774-B4AF-4CAC-9752-036F515D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5799-739F-45DB-A40F-A4D66EB7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32C-A9B4-4F79-AAC2-6CFCAEB5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B32-9B07-42F5-8104-5CFBED3A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18C-E39D-433F-853E-50F1C437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6DA-3836-41B1-B146-ADFDBB47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A389-EA6B-472D-B68B-4E0C4161B8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681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52480" y="1828800"/>
            <a:ext cx="5639040" cy="163044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呼兰河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萧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838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结合具体细节和情节说说祖父是一个什么样的人，他对“我”的童年生活有什么影响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2743200"/>
            <a:ext cx="37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祖父是一个豁达、通达、慈祥的老人，懂得尊重孩子的天性。他使“我”的童年自由自在，充满快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DNA祖父，祖母鉴定之鉴定"/>
          <p:cNvPicPr/>
          <p:nvPr/>
        </p:nvPicPr>
        <p:blipFill>
          <a:blip r:embed="rId1"/>
          <a:stretch/>
        </p:blipFill>
        <p:spPr>
          <a:xfrm>
            <a:off x="304920" y="28195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76720" y="2286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品味语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219320"/>
            <a:ext cx="8748720" cy="180036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花开了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就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像花睡醒了似的。鸟飞了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就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像鸟上天了似的。虫子叫了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就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像虫子在说话似的。一切都活了，都是自由的：要做什么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就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做什么；要怎么样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就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怎么样。倭瓜愿意爬上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就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爬上架，愿意爬上房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就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爬上房。黄瓜愿意开一朵谎花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就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开一朵谎花，愿意结一个黄瓜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就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结一个黄瓜。若都不愿意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就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是一个黄瓜都不结，一朵花都不开，也没人问它。玉米愿意长多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就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长多高，它若愿意长上天去，也没人管。蝴蝶随意地飞，一会从墙头上飞来一对黄蝴蝶，一会又从墙头上飞走一个白蝴蝶。它们是从谁家来的，又飞到谁家去？太阳也不知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90720" y="1295280"/>
            <a:ext cx="7543800" cy="947160"/>
          </a:xfrm>
          <a:prstGeom prst="rect">
            <a:avLst/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前三个“就”，表示强调的语气；后八个“就”表示自由自在，不加任何约束。这十一个“就”，非常有表现力，语气轻松，一气呵成，形象而有力地表现了一切都在自由地生长。为“我”的童年生活提供了自由自在的生长环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1066680"/>
            <a:ext cx="739152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本文语言突出的特点，是自然真切地表现了孩子天真烂漫的心情。用字造句，充满儿童的稚气和欢愉。语言清新活泼，笔触所至，皆有灵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提高与拓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9144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园子里所有的一切都是新鲜的、活泼的、自由的，园子里的人也是健康的、充满活力的、自由的。人与动物、植物一道，共同体现出了生命的美。这样的生活是多么好，多么值得渴望，多么让人怀念啊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讨论：人在什么样的情况下会回想起以前的美好生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6858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写《呼兰河传》这部小说时，萧红已经是一位很成熟的作家了，为什么她这样怀念童年的生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3200400"/>
            <a:ext cx="8076960" cy="9471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她童年生活很美好，很自由，而成年后的生活并不幸福，在生活极不安定的情况下，回忆故乡、回忆美好的童年是一种精神寄托。对于萧红而言，真正想回到的，真正眷恋的是后花园、祖父和她构成的温馨世界，是过去自由、幸福的生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9144000" cy="3124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280" y="12384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很多人去过鲁迅笔下的百草园，都觉得平淡无奇，根本没有鲁迅描写的那样让人心动；同样，如果现在给你机会去一下萧红笔下的后花园，也许那些事物根本没有她所描写的那样鲜活有灵性，这又是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76520"/>
            <a:ext cx="8305920" cy="5205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许多人的童年都有这样一片属于自己的自由天地，不知道成人世界的各种忧患与烦恼，所以无忧无虑，能在一片小天地里寻求快乐，别无他求，幸福无边。而成人不得不为生计奔波时，往往会怀想童年，所以童年的一切美好的东西、感觉，才会那样鲜明而富有朝气地展现在我们面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38080" y="1066680"/>
            <a:ext cx="7239240" cy="5205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课文表现了“我”对故乡、对童年美好的回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752480"/>
            <a:ext cx="89154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首先表现在昔日欢乐的童真童趣上。在花园里观蝶戏虫，栽花拔草，铲地摘瓜，“玩累了，就在房间底下找个阴凉的地方睡着了。不用枕头，不用席子，就把草帽遮在脸上就睡了。”童年的生活是那么天真有趣，无忧无虑，可以说尽享人世间美好的生活。也许在成人之后，再也得不到这份烂漫，这份纯真了。“我”童年所接触的，是同样美好的大自然。蜜蜂、蝴蝶、蜻蜓、蚂蚱，自由飞舞；花儿、草儿、树儿、瓜儿，生机勃勃；蓝天、白云、清风，悠悠洒洒…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我”在这样的自然中嬉戏、成长，人性本自然，自然与天真的童年相映成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01320" y="407880"/>
            <a:ext cx="272448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理解，讨论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全文的主旨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480" y="914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②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在“我”的童年生活中，不仅有自然的滋润，还有亲情的关爱。爷爷带“我”种地除草，教“我”生活知识。在爷爷的关爱呵护下，“我”快乐、自在地欢度着童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</a:rPr>
              <a:t>主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4479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本文回忆童年在祖父后花园的无拘无束的自由生活，表现了亲近大自然万物，亲近小生命的幸福与快乐，寄托了作者对故乡的怀念，对自由纯真的生活的向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90960" y="1905120"/>
            <a:ext cx="4253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宋体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、品味作品对童年生活状态的描写，体会作者赞美人性和自然的思想感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宋体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、鉴赏本文的语言艺术，学习用鲜活的语言描摹事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0"/>
            <a:ext cx="914400" cy="2819520"/>
          </a:xfrm>
          <a:prstGeom prst="wedgeEllipseCallout">
            <a:avLst>
              <a:gd name="adj1" fmla="val 12328"/>
              <a:gd name="adj2" fmla="val 2747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01760" y="685800"/>
            <a:ext cx="20095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课后语文活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1828800"/>
            <a:ext cx="52578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阅读萧红《呼兰和传》及其他作品，做关于她的卡片资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、回忆你的童年，写一段充满情趣的文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3406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2940120" cy="381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252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33920" y="280044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352680"/>
            <a:ext cx="457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感动中国的作家萧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0880"/>
            <a:ext cx="53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画忆萧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3124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萧红故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440" y="53352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新宋体"/>
              </a:rPr>
              <a:t>作者介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19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萧红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(1911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～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1942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现代小说家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。原名张乃莹，曾用笔名悄吟、田娣。黑龙江呼兰县人。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1911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日出生于地主家庭，中学时代喜爱绘画和文学，因反抗包办婚姻离家出走。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1932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年在哈尔滨与萧军相识，并开始为报刊写稿。她与萧军合著的小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散文集《跋涉》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1933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年自费出版。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1934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年与萧军一起离开哈尔滨。同年从青岛到上海。在鲁迅的关怀与扶持下，萧红成为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年代文坛上活跃的女作家。她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代表作品《生死场》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，列入鲁迅主编的“奴隶丛书”，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1935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月出版，鲁迅亲自校阅并写了序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01600"/>
            <a:ext cx="91440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1936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月因病只身东渡日本疗养。这时期结集出版的作品有：散文集《商市街》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(1936)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、《桥》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(1936)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，短篇小说集《牛车上》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(1937)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等。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1937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年初由日本归国。抗日战争时期，她先后到过武汉、西安、重庆等地，曾在山西临汾民族革命大学任教，并随同西北战地服务团辗转各地，写有短篇小说集《旷野的呼唤》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(1939)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，散文集《回忆鲁迅先生》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(1940)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和《萧红散文》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(1940) 1940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。年春，萧红与端木蕻良同去香港，在贫病交迫中依然坚持文学创作，先后有中篇小说《马伯乐》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(1941)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，长篇小说《呼兰河传》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(1942)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出版。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1941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月，日军占领香港，病重的萧红无法离避，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1942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年病逝于香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841320"/>
            <a:ext cx="7848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作品 《呼兰河传》是一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回忆性、自传性的小说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。作者仍以她惯用的散文手法， 疏疏落落地写出儿时难忘的记忆。它再次打破了以人物为中心的传统小说模式，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呼兰城的公众生活和环境为中心，辐射出生活的种种方面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正如书名所示，它是为整个小城的人情风习作传。这里面有活泼的“我”和慈爱的祖父，显示出一点天伦之乐，但这里更有着悲苦的人生。可以说，它实际上是沉默的国民灵魂的别传。课文节选部分是活泼的“我”和慈爱的祖父在一起时的快乐时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76320"/>
            <a:ext cx="2452680" cy="1295280"/>
          </a:xfrm>
          <a:custGeom>
            <a:avLst/>
            <a:gdLst/>
            <a:ahLst/>
            <a:rect l="l" t="t" r="r" b="b"/>
            <a:pathLst>
              <a:path w="1298" h="452">
                <a:moveTo>
                  <a:pt x="83" y="164"/>
                </a:moveTo>
                <a:cubicBezTo>
                  <a:pt x="99" y="230"/>
                  <a:pt x="105" y="295"/>
                  <a:pt x="164" y="335"/>
                </a:cubicBezTo>
                <a:cubicBezTo>
                  <a:pt x="176" y="358"/>
                  <a:pt x="188" y="408"/>
                  <a:pt x="209" y="425"/>
                </a:cubicBezTo>
                <a:cubicBezTo>
                  <a:pt x="225" y="438"/>
                  <a:pt x="246" y="441"/>
                  <a:pt x="263" y="452"/>
                </a:cubicBezTo>
                <a:cubicBezTo>
                  <a:pt x="337" y="445"/>
                  <a:pt x="362" y="452"/>
                  <a:pt x="416" y="416"/>
                </a:cubicBezTo>
                <a:cubicBezTo>
                  <a:pt x="445" y="373"/>
                  <a:pt x="454" y="319"/>
                  <a:pt x="497" y="290"/>
                </a:cubicBezTo>
                <a:cubicBezTo>
                  <a:pt x="611" y="293"/>
                  <a:pt x="725" y="292"/>
                  <a:pt x="839" y="299"/>
                </a:cubicBezTo>
                <a:cubicBezTo>
                  <a:pt x="864" y="301"/>
                  <a:pt x="911" y="317"/>
                  <a:pt x="911" y="317"/>
                </a:cubicBezTo>
                <a:cubicBezTo>
                  <a:pt x="950" y="314"/>
                  <a:pt x="989" y="315"/>
                  <a:pt x="1028" y="308"/>
                </a:cubicBezTo>
                <a:cubicBezTo>
                  <a:pt x="1080" y="299"/>
                  <a:pt x="1054" y="250"/>
                  <a:pt x="1100" y="245"/>
                </a:cubicBezTo>
                <a:cubicBezTo>
                  <a:pt x="1166" y="237"/>
                  <a:pt x="1232" y="239"/>
                  <a:pt x="1298" y="236"/>
                </a:cubicBezTo>
                <a:cubicBezTo>
                  <a:pt x="1287" y="219"/>
                  <a:pt x="1284" y="197"/>
                  <a:pt x="1271" y="182"/>
                </a:cubicBezTo>
                <a:cubicBezTo>
                  <a:pt x="1261" y="170"/>
                  <a:pt x="1246" y="165"/>
                  <a:pt x="1235" y="155"/>
                </a:cubicBezTo>
                <a:cubicBezTo>
                  <a:pt x="1205" y="128"/>
                  <a:pt x="1189" y="100"/>
                  <a:pt x="1154" y="83"/>
                </a:cubicBezTo>
                <a:cubicBezTo>
                  <a:pt x="1082" y="47"/>
                  <a:pt x="1007" y="45"/>
                  <a:pt x="929" y="29"/>
                </a:cubicBezTo>
                <a:cubicBezTo>
                  <a:pt x="694" y="33"/>
                  <a:pt x="324" y="0"/>
                  <a:pt x="65" y="65"/>
                </a:cubicBezTo>
                <a:cubicBezTo>
                  <a:pt x="0" y="109"/>
                  <a:pt x="32" y="159"/>
                  <a:pt x="38" y="245"/>
                </a:cubicBezTo>
                <a:cubicBezTo>
                  <a:pt x="86" y="235"/>
                  <a:pt x="68" y="236"/>
                  <a:pt x="92" y="236"/>
                </a:cubicBezTo>
                <a:lnTo>
                  <a:pt x="83" y="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2120" y="228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作品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快速浏览课文，用最简洁的语言回答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作者向我们介绍的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主要人物是谁？各自的年龄有多大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地点在哪儿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能大概看出是在什么季节吗？从文章的哪里得知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我”对自己童年生活感受如何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你对作者描写的童年生活感受如何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能否尽可能多地回忆一下文中提到了哪些自然事物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不长的文章中出现了这么多的事物，它们的共同特点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762120" y="1219320"/>
            <a:ext cx="3581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自由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048120"/>
            <a:ext cx="632484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动物、植物都是自由的，置身于这样的环境中的人呢？举例说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5" name="" descr=""/>
            <p:cNvPicPr/>
            <p:nvPr/>
          </p:nvPicPr>
          <p:blipFill>
            <a:blip r:embed="rId1">
              <a:lum bright="3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80880" y="838080"/>
              <a:ext cx="8458200" cy="5465520"/>
            </a:xfrm>
            <a:prstGeom prst="rect">
              <a:avLst/>
            </a:prstGeom>
            <a:solidFill>
              <a:srgbClr val="99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53080" y="196164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童年生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2057400"/>
            <a:ext cx="431640" cy="2592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36360" y="18111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环境：大花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1371600"/>
            <a:ext cx="287280" cy="136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93560" y="1052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动物：蜂子、蝴蝶、蚂蚱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09520" y="170028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颜色：白、黄、金、绿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9800" y="240516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植物：榆树、谷子、黄瓜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86040" y="44226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人物：祖父和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03560" y="3429000"/>
            <a:ext cx="360360" cy="2521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87840 h 2521080"/>
              <a:gd name="textAreaBottom" fmla="*/ 243324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4"/>
                  <a:pt x="10800" y="2408"/>
                </a:cubicBezTo>
                <a:lnTo>
                  <a:pt x="10800" y="8188"/>
                </a:lnTo>
                <a:cubicBezTo>
                  <a:pt x="10800" y="9392"/>
                  <a:pt x="5400" y="10596"/>
                  <a:pt x="0" y="10596"/>
                </a:cubicBezTo>
                <a:cubicBezTo>
                  <a:pt x="5400" y="10596"/>
                  <a:pt x="10800" y="11800"/>
                  <a:pt x="10800" y="13004"/>
                </a:cubicBezTo>
                <a:lnTo>
                  <a:pt x="10800" y="19192"/>
                </a:lnTo>
                <a:cubicBezTo>
                  <a:pt x="10800" y="2039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29320" y="43624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摘黄瓜、追蜻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33440" y="5013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采花心、绑蚂蚱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2760" y="3068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种小白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34880" y="3645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铲地（认错谷子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29520" y="558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浇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hui</dc:creator>
  <dc:description/>
  <dc:language>en-US</dc:language>
  <cp:lastModifiedBy>zzz</cp:lastModifiedBy>
  <dcterms:modified xsi:type="dcterms:W3CDTF">2007-12-18T07:37:23Z</dcterms:modified>
  <cp:revision>23</cp:revision>
  <dc:subject/>
  <dc:title>呼兰河传</dc:title>
</cp:coreProperties>
</file>