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whoosh.wav" ContentType="audio/x-wav"/>
  <Override PartName="/ppt/media/camera.wav" ContentType="audio/x-wav"/>
  <Override PartName="/ppt/media/image7.jpeg" ContentType="image/jpeg"/>
  <Override PartName="/ppt/media/type.wav" ContentType="audio/x-wav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20808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dou.com/programs/view/dkTcXBs7XDI/isRenh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360" y="2587680"/>
            <a:ext cx="734220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壶口瀑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文本框 3074"/>
          <p:cNvSpPr/>
          <p:nvPr/>
        </p:nvSpPr>
        <p:spPr>
          <a:xfrm>
            <a:off x="3492360" y="4365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梁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3075" descr="1"/>
          <p:cNvPicPr/>
          <p:nvPr/>
        </p:nvPicPr>
        <p:blipFill>
          <a:blip r:embed="rId1"/>
          <a:stretch/>
        </p:blipFill>
        <p:spPr>
          <a:xfrm>
            <a:off x="0" y="10476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40" name="文本框 3076"/>
          <p:cNvSpPr/>
          <p:nvPr/>
        </p:nvSpPr>
        <p:spPr>
          <a:xfrm>
            <a:off x="6471720" y="600120"/>
            <a:ext cx="152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壶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口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瀑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3077"/>
          <p:cNvSpPr/>
          <p:nvPr/>
        </p:nvSpPr>
        <p:spPr>
          <a:xfrm>
            <a:off x="5152680" y="42753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梁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朗读课文，感受不同之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1680" y="836640"/>
          <a:ext cx="8540640" cy="5948280"/>
        </p:xfrm>
        <a:graphic>
          <a:graphicData uri="http://schemas.openxmlformats.org/drawingml/2006/table">
            <a:tbl>
              <a:tblPr/>
              <a:tblGrid>
                <a:gridCol w="1030320"/>
                <a:gridCol w="2376360"/>
                <a:gridCol w="2303640"/>
                <a:gridCol w="283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季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雨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隐隐如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震耳欲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面的水还是一股劲地冲进去，冲进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浸沟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雾罩乱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旱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隆隆冲去、轰然而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汩汩如泉、潺潺成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哀哀打漩、如丝如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势如千军万马，互相挤着、撞着、推推搡搡、前呼后拥，撞向石壁，排排黄浪霎时碎成堆堆白雪。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凝重”“猛烈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龙槽”“深不可测”；大水“向龙槽隆隆冲去”时“被跌得粉碎，碎成点，碎成雾”，大水“向两边涌去”时，“平平的，大大的，如飞毯抖落”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3313"/>
          <p:cNvSpPr/>
          <p:nvPr/>
        </p:nvSpPr>
        <p:spPr>
          <a:xfrm>
            <a:off x="1791360" y="7207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感悟主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314"/>
          <p:cNvSpPr/>
          <p:nvPr/>
        </p:nvSpPr>
        <p:spPr>
          <a:xfrm>
            <a:off x="1187280" y="2708280"/>
            <a:ext cx="331344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齐读第六段，说说你的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你觉得作者在结尾仅仅还是在谈人生的哲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3315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450072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4337"/>
          <p:cNvSpPr/>
          <p:nvPr/>
        </p:nvSpPr>
        <p:spPr>
          <a:xfrm>
            <a:off x="133884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338"/>
          <p:cNvSpPr/>
          <p:nvPr/>
        </p:nvSpPr>
        <p:spPr>
          <a:xfrm>
            <a:off x="900000" y="1628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黄河铸成了自己伟大的性格，正像一个人经历了许多磨难便有了自己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339"/>
          <p:cNvSpPr/>
          <p:nvPr/>
        </p:nvSpPr>
        <p:spPr>
          <a:xfrm>
            <a:off x="1258920" y="299736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请大家谈谈我们中华民族有哪些经历能体现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百折不挠、自强不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4340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85928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63280" y="2205000"/>
            <a:ext cx="6481800" cy="280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抄写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摘录文中最打动你的语句，并  写出你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成课课练的练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5362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布置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099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椭圆 4100"/>
          <p:cNvSpPr/>
          <p:nvPr/>
        </p:nvSpPr>
        <p:spPr>
          <a:xfrm>
            <a:off x="4211640" y="3357720"/>
            <a:ext cx="30492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1"/>
          <p:cNvSpPr/>
          <p:nvPr/>
        </p:nvSpPr>
        <p:spPr>
          <a:xfrm>
            <a:off x="3708360" y="364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河壶口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4038480" cy="25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初次相识，壶口瀑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给作者留下了怎样的印象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2"/>
          <p:cNvSpPr/>
          <p:nvPr/>
        </p:nvSpPr>
        <p:spPr>
          <a:xfrm>
            <a:off x="2078640" y="5983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初识壶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123" descr="xin_571103251508187305418"/>
          <p:cNvPicPr/>
          <p:nvPr/>
        </p:nvPicPr>
        <p:blipFill>
          <a:blip r:embed="rId1"/>
          <a:stretch/>
        </p:blipFill>
        <p:spPr>
          <a:xfrm>
            <a:off x="4211640" y="2044800"/>
            <a:ext cx="478800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145"/>
          <p:cNvSpPr/>
          <p:nvPr/>
        </p:nvSpPr>
        <p:spPr>
          <a:xfrm>
            <a:off x="2212560" y="620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再访壶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146"/>
          <p:cNvSpPr/>
          <p:nvPr/>
        </p:nvSpPr>
        <p:spPr>
          <a:xfrm>
            <a:off x="1042920" y="220500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雨季的壶口瀑布这样令人胆战心惊，那么枯水季的壶口又以怎样的面貌展现在作者面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147" descr="hukoubupu5"/>
          <p:cNvPicPr/>
          <p:nvPr/>
        </p:nvPicPr>
        <p:blipFill>
          <a:blip r:embed="rId1"/>
          <a:stretch/>
        </p:blipFill>
        <p:spPr>
          <a:xfrm>
            <a:off x="5292720" y="3213000"/>
            <a:ext cx="363528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7169"/>
          <p:cNvSpPr/>
          <p:nvPr/>
        </p:nvSpPr>
        <p:spPr>
          <a:xfrm>
            <a:off x="2867760" y="476280"/>
            <a:ext cx="21924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1"/>
              </a:rPr>
              <a:t>感受壶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170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71643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课文，感受壶口瀑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问：用简练的语言说出什么是“壶口”以及壶口瀑布形成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195"/>
          <p:cNvSpPr/>
          <p:nvPr/>
        </p:nvSpPr>
        <p:spPr>
          <a:xfrm>
            <a:off x="380880" y="2438280"/>
            <a:ext cx="8077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沟底的河心还有一条河，是突然凹下去的一条深沟，当地人叫“龙槽”，槽头入水处深不可测，这便是“壶口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河的河床在这里由宽而窄，由高而低，于是就形成了巨大的水流。 巨大的水流从高达几十米的断面冲下，就形成了壶口瀑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课文，感受不同之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8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朗读第二自然段。（注意读出气势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壶口瀑布和其他瀑布不同之处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219"/>
          <p:cNvSpPr/>
          <p:nvPr/>
        </p:nvSpPr>
        <p:spPr>
          <a:xfrm>
            <a:off x="685800" y="3581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确：“壶口瀑布不是从高处落下，让人们仰观垂空的水幕，而是由平地向更低的沟里跌去，人们只能俯视被急急吸去的水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课文，感受不同之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朗读第三自然段。（注意读出气势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比较一下壶口瀑布在雨季和旱季有哪些方面不同。（用简洁的语言概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243"/>
          <p:cNvSpPr/>
          <p:nvPr/>
        </p:nvSpPr>
        <p:spPr>
          <a:xfrm>
            <a:off x="838080" y="4495680"/>
            <a:ext cx="77724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确：其声、其势、其景均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读课文，感受不同之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84232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同学朗读第四自然段。（注意读出气势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下列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7560" y="2749680"/>
          <a:ext cx="7931160" cy="3189240"/>
        </p:xfrm>
        <a:graphic>
          <a:graphicData uri="http://schemas.openxmlformats.org/drawingml/2006/table">
            <a:tbl>
              <a:tblPr/>
              <a:tblGrid>
                <a:gridCol w="2081160"/>
                <a:gridCol w="1925640"/>
                <a:gridCol w="1960560"/>
                <a:gridCol w="19638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季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雨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旱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2:36:51Z</dcterms:created>
  <dc:creator>21cnjy</dc:creator>
  <dc:description>21cnjy</dc:description>
  <cp:keywords>21cnjy</cp:keywords>
  <dc:language>en-US</dc:language>
  <cp:lastModifiedBy>admin</cp:lastModifiedBy>
  <dcterms:modified xsi:type="dcterms:W3CDTF">2019-05-08T03:48:15Z</dcterms:modified>
  <cp:revision>3</cp:revision>
  <dc:subject>21cnjy</dc:subject>
  <dc:title>21cnj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NXTAG2">
    <vt:lpwstr>0008002206000000000001024120</vt:lpwstr>
  </property>
</Properties>
</file>