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9.gif" ContentType="image/gif"/>
  <Override PartName="/ppt/media/image13.jpeg" ContentType="image/jpeg"/>
  <Override PartName="/ppt/media/image8.jpeg" ContentType="image/jpeg"/>
  <Override PartName="/ppt/media/image7.gif" ContentType="image/gif"/>
  <Override PartName="/ppt/media/image5.jpeg" ContentType="image/jpeg"/>
  <Override PartName="/ppt/media/image26.jpeg" ContentType="image/jpeg"/>
  <Override PartName="/ppt/media/image11.jpeg" ContentType="image/jpeg"/>
  <Override PartName="/ppt/media/image6.jpeg" ContentType="image/jpeg"/>
  <Override PartName="/ppt/media/image10.png" ContentType="image/png"/>
  <Override PartName="/ppt/media/image4.jpeg" ContentType="image/jpeg"/>
  <Override PartName="/ppt/media/image25.png" ContentType="image/png"/>
  <Override PartName="/ppt/media/image3.jpeg" ContentType="image/jpeg"/>
  <Override PartName="/ppt/media/image24.jpeg" ContentType="image/jpeg"/>
  <Override PartName="/ppt/media/image21.png" ContentType="image/png"/>
  <Override PartName="/ppt/media/image19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jpeg" ContentType="image/jpeg"/>
  <Override PartName="/ppt/media/image28.gif" ContentType="image/gif"/>
  <Override PartName="/ppt/media/image14.jpeg" ContentType="image/jpeg"/>
  <Override PartName="/ppt/media/image1.jpeg" ContentType="image/jpeg"/>
  <Override PartName="/ppt/media/image27.gif" ContentType="image/gif"/>
  <Override PartName="/ppt/media/image22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E3F64-0FA1-4DE6-8C6C-DDD621D5430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2E59E-72CE-45A3-8432-30CD46726F4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622A-15F6-4D97-AD90-462CD12CA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8AC2-0A69-488A-B55F-F559EBB8E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37C4-F0AC-4E2D-B930-3F3B015E8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40E7-8514-4725-8CBE-FB874EF7F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D584-C6A4-4465-A971-FFBA5D72B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D3D3-7167-4E22-A7CB-4428FB757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93D8-5EDD-4432-9301-F9FA78B75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2ED9-090A-4B5B-912B-8E071D137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0F0D-8A21-4D61-9F61-EF901508A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6456-3EE4-4944-A7B6-A1826DEAA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021E-8C4B-469A-A30A-EB464C145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5E25-B73F-45A1-9460-4CB2DC785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79E7C-F2AB-44DF-B2F9-1E597064011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file:///usr/lib/libreoffice/share/gallery/sounds/applause.wav" TargetMode="External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B3%C9%D3%EF&#1211;%C3%F9%BE%AA%C8%CB&amp;in=3&amp;cl=2&amp;cm=1&amp;sc=0&amp;lm=-1&amp;pn=2&amp;rn=1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" Target="slide16.xml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12.jpeg"/><Relationship Id="rId3" Type="http://schemas.openxmlformats.org/officeDocument/2006/relationships/slide" Target="slide16.xml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15.xml"/><Relationship Id="rId3" Type="http://schemas.openxmlformats.org/officeDocument/2006/relationships/slide" Target="slide9.xml"/><Relationship Id="rId4" Type="http://schemas.openxmlformats.org/officeDocument/2006/relationships/slide" Target="slide12.xml"/><Relationship Id="rId5" Type="http://schemas.openxmlformats.org/officeDocument/2006/relationships/slide" Target="slide15.xml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image" Target="../media/image26.jpeg"/><Relationship Id="rId5" Type="http://schemas.openxmlformats.org/officeDocument/2006/relationships/image" Target="../media/image20.png"/><Relationship Id="rId6" Type="http://schemas.openxmlformats.org/officeDocument/2006/relationships/image" Target="../media/image4.jpeg"/><Relationship Id="rId7" Type="http://schemas.openxmlformats.org/officeDocument/2006/relationships/image" Target="../media/image7.gif"/><Relationship Id="rId8" Type="http://schemas.openxmlformats.org/officeDocument/2006/relationships/image" Target="../media/image13.jpeg"/><Relationship Id="rId9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6.jpeg"/><Relationship Id="rId3" Type="http://schemas.openxmlformats.org/officeDocument/2006/relationships/image" Target="../media/image11.jpeg"/><Relationship Id="rId4" Type="http://schemas.openxmlformats.org/officeDocument/2006/relationships/image" Target="../media/image27.gif"/><Relationship Id="rId5" Type="http://schemas.openxmlformats.org/officeDocument/2006/relationships/slide" Target="slide1.xml"/><Relationship Id="rId6" Type="http://schemas.openxmlformats.org/officeDocument/2006/relationships/image" Target="../media/image9.gif"/><Relationship Id="rId7" Type="http://schemas.openxmlformats.org/officeDocument/2006/relationships/slide" Target="slide4.xml"/><Relationship Id="rId8" Type="http://schemas.openxmlformats.org/officeDocument/2006/relationships/image" Target="../media/image28.gif"/><Relationship Id="rId9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8.gif"/><Relationship Id="rId3" Type="http://schemas.openxmlformats.org/officeDocument/2006/relationships/image" Target="../media/image28.gif"/><Relationship Id="rId4" Type="http://schemas.openxmlformats.org/officeDocument/2006/relationships/image" Target="../media/image28.gif"/><Relationship Id="rId5" Type="http://schemas.openxmlformats.org/officeDocument/2006/relationships/image" Target="../media/image28.gif"/><Relationship Id="rId6" Type="http://schemas.openxmlformats.org/officeDocument/2006/relationships/image" Target="../media/image27.gi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" Target="slide16.xml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02452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876920" y="0"/>
            <a:ext cx="426708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>
            <a:hlinkClick r:id="rId3"/>
          </p:cNvPr>
          <p:cNvSpPr/>
          <p:nvPr/>
        </p:nvSpPr>
        <p:spPr>
          <a:xfrm>
            <a:off x="4419720" y="62485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8406"/>
                </a:moveTo>
                <a:lnTo>
                  <a:pt x="8224" y="8406"/>
                </a:lnTo>
                <a:lnTo>
                  <a:pt x="12645" y="3794"/>
                </a:lnTo>
                <a:lnTo>
                  <a:pt x="12645" y="17806"/>
                </a:lnTo>
                <a:lnTo>
                  <a:pt x="8224" y="13194"/>
                </a:lnTo>
                <a:lnTo>
                  <a:pt x="3794" y="13194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17806" y="10800"/>
                </a:lnTo>
              </a:path>
              <a:path fill="darken" w="21600" h="21600">
                <a:moveTo>
                  <a:pt x="14299" y="8406"/>
                </a:moveTo>
                <a:lnTo>
                  <a:pt x="17806" y="5639"/>
                </a:lnTo>
              </a:path>
              <a:path fill="darken" w="21600" h="21600">
                <a:moveTo>
                  <a:pt x="14299" y="13194"/>
                </a:moveTo>
                <a:lnTo>
                  <a:pt x="178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8991720" cy="66294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362320" y="1600200"/>
            <a:ext cx="4343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280" y="457200"/>
            <a:ext cx="6934320" cy="64008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792560" y="457200"/>
            <a:ext cx="729000" cy="66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此鸟不飞则已，一飞冲天；不鸣则已，一鸣惊人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2133720"/>
            <a:ext cx="25146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优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（楚乐人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828800" y="1828800"/>
            <a:ext cx="304920" cy="1752480"/>
          </a:xfrm>
          <a:custGeom>
            <a:avLst/>
            <a:gdLst>
              <a:gd name="textAreaLeft" fmla="*/ 194760 w 304920"/>
              <a:gd name="textAreaRight" fmla="*/ 305280 w 30492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905120" y="1752480"/>
            <a:ext cx="5790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反语归谬讽谏“贱人贵马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3048120"/>
            <a:ext cx="586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优孟衣冠”而恤故吏之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7772400" y="0"/>
            <a:ext cx="1371600" cy="21337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7848720" y="2590920"/>
            <a:ext cx="914400" cy="2209680"/>
          </a:xfrm>
          <a:custGeom>
            <a:avLst/>
            <a:gdLst>
              <a:gd name="textAreaLeft" fmla="*/ 122400 w 914400"/>
              <a:gd name="textAreaRight" fmla="*/ 792000 w 914400"/>
              <a:gd name="textAreaTop" fmla="*/ 386640 h 2209680"/>
              <a:gd name="textAreaBottom" fmla="*/ 160200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1051830"/>
                <a:lnTo>
                  <a:pt x="16035" y="19105"/>
                </a:lnTo>
                <a:lnTo>
                  <a:pt x="0" y="17280"/>
                </a:lnTo>
                <a:lnTo>
                  <a:pt x="16035" y="10465"/>
                </a:lnTo>
                <a:lnTo>
                  <a:pt x="16035" y="12625"/>
                </a:lnTo>
                <a:arcTo wR="21600" hR="7560" stAng="1051830" swAng="-694395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971800" y="4572000"/>
            <a:ext cx="495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多 辩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常 以 谈 笑 讽 谏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>
            <a:hlinkClick r:id="rId2" action="ppaction://hlinksldjump"/>
          </p:cNvPr>
          <p:cNvSpPr/>
          <p:nvPr/>
        </p:nvSpPr>
        <p:spPr>
          <a:xfrm>
            <a:off x="830592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0" y="4513320"/>
            <a:ext cx="3124080" cy="23446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6477120" y="388620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9181" y="3794"/>
                </a:moveTo>
                <a:lnTo>
                  <a:pt x="23194" y="10800"/>
                </a:lnTo>
                <a:lnTo>
                  <a:pt x="918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315200" y="388620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6481" y="3794"/>
                </a:moveTo>
                <a:lnTo>
                  <a:pt x="20494" y="10800"/>
                </a:lnTo>
                <a:lnTo>
                  <a:pt x="648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0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990720" y="928800"/>
            <a:ext cx="6400800" cy="55958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7973280" y="228600"/>
            <a:ext cx="78984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华文行楷"/>
              </a:rPr>
              <a:t>       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华文行楷"/>
              </a:rPr>
              <a:t>居数年，其子穷困负薪，逢优孟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467480" cy="65530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7531560" y="152280"/>
            <a:ext cx="1155240" cy="63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华文行楷"/>
              </a:rPr>
              <a:t>庄王大惊，以为孙叔敖复生也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>
            <a:hlinkClick r:id="rId1" action="ppaction://hlinksldjump"/>
          </p:cNvPr>
          <p:cNvSpPr/>
          <p:nvPr/>
        </p:nvSpPr>
        <p:spPr>
          <a:xfrm>
            <a:off x="152280" y="2666880"/>
            <a:ext cx="17528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优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楚艺人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600200" y="1981080"/>
            <a:ext cx="380880" cy="2438640"/>
          </a:xfrm>
          <a:custGeom>
            <a:avLst/>
            <a:gdLst>
              <a:gd name="textAreaLeft" fmla="*/ 243360 w 380880"/>
              <a:gd name="textAreaRight" fmla="*/ 381240 w 380880"/>
              <a:gd name="textAreaTop" fmla="*/ 63360 h 2438640"/>
              <a:gd name="textAreaBottom" fmla="*/ 2375280 h 2438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057400" y="1828800"/>
            <a:ext cx="36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解陛楯郎之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981080" y="2743200"/>
            <a:ext cx="3505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谏阻扩大苑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057400" y="373392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劝戒油漆城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523880" cy="20574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5257800" y="2971800"/>
            <a:ext cx="976320" cy="48564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400800" y="2666880"/>
            <a:ext cx="2590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善为笑言，然合于大道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>
            <a:hlinkClick r:id="rId3" action="ppaction://hlinksldjump"/>
          </p:cNvPr>
          <p:cNvSpPr/>
          <p:nvPr/>
        </p:nvSpPr>
        <p:spPr>
          <a:xfrm>
            <a:off x="609588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6737400" y="3809880"/>
            <a:ext cx="24066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0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0"/>
            <a:ext cx="3886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人物特点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>
            <a:hlinkClick r:id="rId1" action="ppaction://hlinksldjump"/>
          </p:cNvPr>
          <p:cNvSpPr/>
          <p:nvPr/>
        </p:nvSpPr>
        <p:spPr>
          <a:xfrm>
            <a:off x="533520" y="99072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淳于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33520" y="175248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优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>
            <a:hlinkClick r:id="rId2" action="ppaction://hlinksldjump"/>
          </p:cNvPr>
          <p:cNvSpPr/>
          <p:nvPr/>
        </p:nvSpPr>
        <p:spPr>
          <a:xfrm>
            <a:off x="533520" y="259092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优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90720" y="3200400"/>
            <a:ext cx="2590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滑稽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0880" y="3962520"/>
            <a:ext cx="8763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　　滑（古音ｇ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ǔ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）稽，是能言善辩，言辞流利．正言若反，思维敏捷，没有阻难之意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514600" y="1371600"/>
            <a:ext cx="662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聪明伶俐，巧舌如簧，能言善辩，幽默风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752480" y="1219320"/>
            <a:ext cx="609840" cy="1828800"/>
          </a:xfrm>
          <a:custGeom>
            <a:avLst/>
            <a:gdLst>
              <a:gd name="textAreaLeft" fmla="*/ 0 w 609840"/>
              <a:gd name="textAreaRight" fmla="*/ 220320 w 60984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>
            <a:hlinkClick r:id="rId3" action="ppaction://hlinksldjump"/>
          </p:cNvPr>
          <p:cNvSpPr/>
          <p:nvPr/>
        </p:nvSpPr>
        <p:spPr>
          <a:xfrm flipH="1">
            <a:off x="2208960" y="114300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>
            <a:hlinkClick r:id="rId4" action="ppaction://hlinksldjump"/>
          </p:cNvPr>
          <p:cNvSpPr/>
          <p:nvPr/>
        </p:nvSpPr>
        <p:spPr>
          <a:xfrm>
            <a:off x="1447920" y="1905120"/>
            <a:ext cx="228600" cy="30456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04560"/>
              <a:gd name="textAreaBottom" fmla="*/ 289800 h 304560"/>
            </a:gdLst>
            <a:ahLst/>
            <a:rect l="textAreaLeft" t="textAreaTop" r="textAreaRight" b="textAreaBottom"/>
            <a:pathLst>
              <a:path w="21600" h="28766">
                <a:moveTo>
                  <a:pt x="0" y="0"/>
                </a:moveTo>
                <a:lnTo>
                  <a:pt x="21600" y="0"/>
                </a:lnTo>
                <a:lnTo>
                  <a:pt x="21600" y="28766"/>
                </a:lnTo>
                <a:lnTo>
                  <a:pt x="0" y="28766"/>
                </a:lnTo>
                <a:close/>
              </a:path>
              <a:path fill="lightenLess" w="21600" h="2876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66">
                <a:moveTo>
                  <a:pt x="21600" y="0"/>
                </a:moveTo>
                <a:lnTo>
                  <a:pt x="21600" y="28766"/>
                </a:lnTo>
                <a:lnTo>
                  <a:pt x="20200" y="27366"/>
                </a:lnTo>
                <a:lnTo>
                  <a:pt x="20200" y="1400"/>
                </a:lnTo>
                <a:close/>
              </a:path>
              <a:path fill="darkenLess" w="21600" h="28766">
                <a:moveTo>
                  <a:pt x="21600" y="28766"/>
                </a:moveTo>
                <a:lnTo>
                  <a:pt x="0" y="28766"/>
                </a:lnTo>
                <a:lnTo>
                  <a:pt x="1400" y="27366"/>
                </a:lnTo>
                <a:lnTo>
                  <a:pt x="20200" y="27366"/>
                </a:lnTo>
                <a:close/>
              </a:path>
              <a:path fill="lighten" w="21600" h="28766">
                <a:moveTo>
                  <a:pt x="0" y="2876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66"/>
                </a:lnTo>
                <a:close/>
              </a:path>
              <a:path fill="darken" w="21600" h="28766">
                <a:moveTo>
                  <a:pt x="3794" y="7377"/>
                </a:moveTo>
                <a:lnTo>
                  <a:pt x="17806" y="14383"/>
                </a:lnTo>
                <a:lnTo>
                  <a:pt x="3794" y="2139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>
            <a:hlinkClick r:id="rId5" action="ppaction://hlinksldjump"/>
          </p:cNvPr>
          <p:cNvSpPr/>
          <p:nvPr/>
        </p:nvSpPr>
        <p:spPr>
          <a:xfrm flipH="1">
            <a:off x="1523160" y="28954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8458200" y="228600"/>
            <a:ext cx="431640" cy="360360"/>
          </a:xfrm>
          <a:prstGeom prst="smileyFace">
            <a:avLst>
              <a:gd name="adj" fmla="val -465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8077320" y="5410080"/>
            <a:ext cx="106668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228600" y="914400"/>
            <a:ext cx="89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在秦汉时代，优伶、赘婿的社会地位异常低下，常为人们所不齿，尤其是赘婿，甚至受到法律的歧视，常被派去戍边。尽管如此，他们侍奉在君王左右，为君王解闷开心，这就决定了其特定的优势，那就是“优言无罪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19320" y="3581280"/>
            <a:ext cx="5486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3733920"/>
            <a:ext cx="69343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     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华文行楷"/>
              </a:rPr>
              <a:t> “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华文行楷"/>
              </a:rPr>
              <a:t>不流世俗，不争势利，上下无所凝滞，人莫之害，以道之用，作《滑稽列传》。  ”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华文行楷"/>
              </a:rPr>
              <a:t>             ——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华文行楷"/>
              </a:rPr>
              <a:t>《太史公自序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7059600" y="4191120"/>
            <a:ext cx="2084400" cy="26668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 txBox="1"/>
          <p:nvPr/>
        </p:nvSpPr>
        <p:spPr>
          <a:xfrm>
            <a:off x="228600" y="228600"/>
            <a:ext cx="9144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背景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4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304920" y="304920"/>
            <a:ext cx="91440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交流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38088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用幽默解决问题的小故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1600200"/>
            <a:ext cx="883908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50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年代，有一次周总理接待了一位美国记者的采访。这位记者在采访过程中，无意中看到总理桌子上有一支美国产的派克钢笔。那记者便以带有几分讥讽的口吻问道：“请问总理阁下，你们堂堂的中国人，为什么还要用我们美国产的钢笔呢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?”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周总理听后，风趣地说：“谈起这支钢笔，说来话长，这是一位朝鲜朋友的抗美战利品，作为礼物赠送给我的。我无功受禄，就拒收。朝鲜朋友说，留下做个纪念吧。我觉得有意义，就留下了  这支贵国的钢笔。”美国记者一听，顿时哑口无言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304920" y="304920"/>
            <a:ext cx="91440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交流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1828800"/>
            <a:ext cx="89917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这是喜马拉雅山，这是尼泊尔，这是青藏高原。由于印度洋暖湿气流的影响，尼泊尔王国温暖湿润，四季如春，而山的北麓由于寒冷则终年积雪，如果沿着山腰打开一条通路，将湿气引到山的这一边来，那中国的青藏高原该会变成多少鱼米之乡啊！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冯小刚</a:t>
            </a:r>
            <a:br>
              <a:rPr sz="2800"/>
            </a:b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     《不见不散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895480" y="838080"/>
            <a:ext cx="5943600" cy="30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摹形传神  千载如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       ——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《史记》的人物刻画艺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Arial"/>
              </a:rPr>
              <a:t>滑稽列传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7543800" y="4495680"/>
            <a:ext cx="1574640" cy="2362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0" y="533520"/>
            <a:ext cx="324324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9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523880" y="1981080"/>
            <a:ext cx="4114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</a:t>
            </a:r>
            <a:r>
              <a:rPr b="1" lang="zh-CN" sz="4000" spc="-1" strike="noStrike">
                <a:solidFill>
                  <a:srgbClr val="cc0000"/>
                </a:solidFill>
                <a:latin typeface="华文行楷"/>
                <a:ea typeface="华文行楷"/>
              </a:rPr>
              <a:t>能够用智慧的幽默的方式解决问题</a:t>
            </a:r>
            <a:r>
              <a:rPr b="1" lang="zh-CN" sz="4000" spc="-1" strike="noStrike">
                <a:solidFill>
                  <a:srgbClr val="cc0000"/>
                </a:solidFill>
                <a:latin typeface="华文行楷"/>
                <a:ea typeface="华文行楷"/>
              </a:rPr>
              <a:t>,</a:t>
            </a:r>
            <a:r>
              <a:rPr b="1" lang="zh-CN" sz="4000" spc="-1" strike="noStrike">
                <a:solidFill>
                  <a:srgbClr val="cc0000"/>
                </a:solidFill>
                <a:latin typeface="华文行楷"/>
                <a:ea typeface="华文行楷"/>
              </a:rPr>
              <a:t>领略人生乐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228600" y="228600"/>
            <a:ext cx="99072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感悟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4114800"/>
            <a:ext cx="1066680" cy="89388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3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3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1981080" y="1523880"/>
            <a:ext cx="4343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cc0000"/>
                </a:solidFill>
                <a:latin typeface="Arial"/>
              </a:rPr>
              <a:t>谢谢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mph" presetID="2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629" dur="2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30" dur="2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31" dur="2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632" dur="2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9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643" dur="2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path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L 0.25 0.33333 E">
                                      <p:cBhvr>
                                        <p:cTn id="647" dur="2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6" dur="2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7" dur="2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2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609480" y="466560"/>
            <a:ext cx="8305920" cy="1557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【说明】这是专记滑（ｇ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稽人物的类传。滑稽是言辞流利，正言若反，思维敏捷，没有阻难之意。后世用作诙谐幽默之意。《太史公自序》曰：“不流世俗，不争势利，上下无所凝滞，人莫之害，以道之用。作《滑稽列传》”。此篇的主旨是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颂扬淳于髡、优孟、优旃一类滑稽人物“不流世俗，不争势利”的可贵精神，及其“谈言微中，亦可以解纷”的非凡讽谏才能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他们出身虽然微贱，但却机智聪敏，能言多辩，善于缘理设喻，察情取譬，借事托讽，因而其言其行起到了与“六艺于治一也”的重要作用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全传貌似写极鄙极亵之事，而开首却从六艺入笔，可谓开宗明义。以下相继写“齐髡以一言而罢长夜之饮，优孟以一言而恤故吏之家，优旃以一言而禁暴主之欲”，均紧扣全文主旨，多用赋笔，布局精巧，句法奇秀，妙趣横生，读来令人击节。李景星评论本篇：“赞语若雅若俗，若正若反，若有理，若无理，若有情，若无情，数句之中，极嘻笑怒骂之致，真是神品。”（《史记评议》卷四）可谓深得该传之精髓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736640" y="860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2133720" y="3886200"/>
            <a:ext cx="41148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滑稽列传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400800" y="2209680"/>
            <a:ext cx="2133720" cy="12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滑稽列传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295280" y="1066680"/>
            <a:ext cx="2438640" cy="99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滑稽列传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05520" y="762120"/>
            <a:ext cx="213336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宋体"/>
              </a:rPr>
              <a:t>滑稽列传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2743200" y="2438280"/>
            <a:ext cx="2819520" cy="712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宋体"/>
              </a:rPr>
              <a:t>滑稽列传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宋体"/>
              <a:ea typeface="宋体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5"/>
          <a:stretch/>
        </p:blipFill>
        <p:spPr>
          <a:xfrm>
            <a:off x="228600" y="457200"/>
            <a:ext cx="1603440" cy="243828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6"/>
          <a:stretch/>
        </p:blipFill>
        <p:spPr>
          <a:xfrm>
            <a:off x="7010280" y="4343400"/>
            <a:ext cx="1117800" cy="167652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7"/>
          <a:stretch/>
        </p:blipFill>
        <p:spPr>
          <a:xfrm>
            <a:off x="685800" y="4648320"/>
            <a:ext cx="2057400" cy="170316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8"/>
          <a:stretch/>
        </p:blipFill>
        <p:spPr>
          <a:xfrm>
            <a:off x="6553080" y="457200"/>
            <a:ext cx="20574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228600" y="3581280"/>
            <a:ext cx="2286000" cy="289584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4876920" y="1054080"/>
            <a:ext cx="3581280" cy="351792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4495680" y="5562720"/>
            <a:ext cx="685800" cy="457200"/>
          </a:xfrm>
          <a:prstGeom prst="smileyFace">
            <a:avLst>
              <a:gd name="adj" fmla="val -4652"/>
            </a:avLst>
          </a:prstGeom>
          <a:solidFill>
            <a:srgbClr val="ffcc00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684360" y="404640"/>
            <a:ext cx="1269720" cy="95256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4"/>
          <a:stretch/>
        </p:blipFill>
        <p:spPr>
          <a:xfrm rot="1147800">
            <a:off x="6476760" y="4876920"/>
            <a:ext cx="1619280" cy="146988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8001000" y="609480"/>
            <a:ext cx="569880" cy="621000"/>
          </a:xfrm>
          <a:prstGeom prst="rect">
            <a:avLst/>
          </a:prstGeom>
          <a:ln w="0">
            <a:noFill/>
          </a:ln>
        </p:spPr>
      </p:pic>
      <p:sp>
        <p:nvSpPr>
          <p:cNvPr id="184" name="">
            <a:hlinkClick r:id="rId7" action="ppaction://hlinksldjump"/>
          </p:cNvPr>
          <p:cNvSpPr/>
          <p:nvPr/>
        </p:nvSpPr>
        <p:spPr>
          <a:xfrm>
            <a:off x="3048120" y="1676520"/>
            <a:ext cx="431640" cy="3603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8"/>
          <a:stretch/>
        </p:blipFill>
        <p:spPr>
          <a:xfrm>
            <a:off x="1819440" y="2698920"/>
            <a:ext cx="174600" cy="18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7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2209680" y="60948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刻画人物形象的手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190512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记录趣语以见神采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600200" y="2666880"/>
            <a:ext cx="41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罗列佚事展示个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600200" y="3429000"/>
            <a:ext cx="472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摹形传神千载如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80880" y="152280"/>
            <a:ext cx="13716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讨论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1143000" y="2819520"/>
            <a:ext cx="355680" cy="38088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1185840" y="2133720"/>
            <a:ext cx="355680" cy="38088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4"/>
          <a:stretch/>
        </p:blipFill>
        <p:spPr>
          <a:xfrm>
            <a:off x="1190520" y="3581280"/>
            <a:ext cx="355680" cy="38124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5"/>
          <a:stretch/>
        </p:blipFill>
        <p:spPr>
          <a:xfrm>
            <a:off x="1190520" y="4343400"/>
            <a:ext cx="355680" cy="38088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6"/>
          <a:stretch/>
        </p:blipFill>
        <p:spPr>
          <a:xfrm rot="1147800">
            <a:off x="380520" y="5105520"/>
            <a:ext cx="1619280" cy="146988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1523880" y="4191120"/>
            <a:ext cx="35053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轻松幽默寓庄于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3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3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3" dur="3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8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9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9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9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838080" y="380880"/>
            <a:ext cx="8305920" cy="57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                       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第一课时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、知识和能力：能够掌握相关文言知识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了解故事大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、过程和方法：分析故事的思想内容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从不同角度看待事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、情感态度和价值观：能够用智慧的幽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的方式解决问题，领略人生乐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7086600" y="5154480"/>
            <a:ext cx="2057400" cy="17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8600" y="228600"/>
            <a:ext cx="426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检查预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52280" y="990720"/>
            <a:ext cx="899172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下列字词读音有错误的是（ 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髡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kūn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     　　　　②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赘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婿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zhuì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赍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laì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金百斤     　　④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禳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田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ráng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目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眙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yí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不禁    　⑥穿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圹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guǎng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⑦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抵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掌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d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        　 ⑧优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旃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zhān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⑨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苑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囿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yòu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     　 ⑩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芗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xiāng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219320" y="2438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Ｊ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28800" y="3505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ch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467480" y="38862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kuà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819520" y="4800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zh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8534520" y="0"/>
            <a:ext cx="6094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3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0"/>
            <a:ext cx="7086600" cy="64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找出下面句子中含有的通假字，并解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三年不蜚又不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诸侯振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髡尝在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微闻芗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赍以姜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久不相见，卒然相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此知可以言时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陛楯者皆沾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19720" y="6858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蜚 </a:t>
            </a:r>
            <a:r>
              <a:rPr b="0" lang="zh-CN" sz="2400" spc="-1" strike="noStrike">
                <a:solidFill>
                  <a:srgbClr val="cc0000"/>
                </a:solidFill>
                <a:latin typeface="Arial"/>
              </a:rPr>
              <a:t>—— </a:t>
            </a: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 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276720" y="13716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振 </a:t>
            </a:r>
            <a:r>
              <a:rPr b="0" lang="zh-CN" sz="2400" spc="-1" strike="noStrike">
                <a:solidFill>
                  <a:srgbClr val="cc0000"/>
                </a:solidFill>
                <a:latin typeface="Arial"/>
              </a:rPr>
              <a:t>——</a:t>
            </a: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048120" y="20574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尝 </a:t>
            </a:r>
            <a:r>
              <a:rPr b="0" lang="zh-CN" sz="2400" spc="-1" strike="noStrike">
                <a:solidFill>
                  <a:srgbClr val="cc0000"/>
                </a:solidFill>
                <a:latin typeface="Arial"/>
              </a:rPr>
              <a:t>——</a:t>
            </a: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52680" y="28195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芗 </a:t>
            </a:r>
            <a:r>
              <a:rPr b="0" lang="zh-CN" sz="2400" spc="-1" strike="noStrike">
                <a:solidFill>
                  <a:srgbClr val="cc0000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 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29000" y="36576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赍 </a:t>
            </a:r>
            <a:r>
              <a:rPr b="0" lang="zh-CN" sz="2400" spc="-1" strike="noStrike">
                <a:solidFill>
                  <a:srgbClr val="cc00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81480" y="426708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卒 </a:t>
            </a:r>
            <a:r>
              <a:rPr b="0" lang="zh-CN" sz="2400" spc="-1" strike="noStrike">
                <a:solidFill>
                  <a:srgbClr val="cc00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495680" y="502920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知 </a:t>
            </a:r>
            <a:r>
              <a:rPr b="0" lang="zh-CN" sz="2400" spc="-1" strike="noStrike">
                <a:solidFill>
                  <a:srgbClr val="cc0000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 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419720" y="579132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楯 </a:t>
            </a:r>
            <a:r>
              <a:rPr b="0" lang="zh-CN" sz="2400" spc="-1" strike="noStrike">
                <a:solidFill>
                  <a:srgbClr val="cc0000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 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8381880" y="5943600"/>
            <a:ext cx="76212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3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380880"/>
            <a:ext cx="7010280" cy="69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分析加点字的用法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不鸣则已，一鸣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先生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少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之乎？      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乐极则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悲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                        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王有所爱马，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衣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以文绣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韩魏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翼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卫其后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置酒而天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雨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00800" y="121932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惊，使动用法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267080" y="2057400"/>
            <a:ext cx="33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少，意动用法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62520" y="26668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悲，形容词活用为动词，发生悲痛的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373392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衣，名词活用为动词，给…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800600" y="49528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翼，名词作状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267080" y="6095880"/>
            <a:ext cx="44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雨，名词用为动词，下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8305920" y="228600"/>
            <a:ext cx="569880" cy="6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1600200"/>
            <a:ext cx="518148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．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国中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有大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．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私情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相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．妇言慎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无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．齐威王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横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14800" y="1447920"/>
            <a:ext cx="47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（古义，首都、京城里面，今指国家里边。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429000" y="2438280"/>
            <a:ext cx="533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（古义，个人之间的交情，今指  男女之间隐秘的情爱。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62520" y="342900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（古义，不要去做，今义，没有作为。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038480" y="441972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（古义，率意而行，今义，任意胡来。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819520" y="457200"/>
            <a:ext cx="533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一、古今异义（举要）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5451480"/>
            <a:ext cx="1828800" cy="14065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304920" y="304920"/>
            <a:ext cx="91440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积累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28600" y="30492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二、文言句式（举要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1447920"/>
            <a:ext cx="472464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．判断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六艺于治一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淳于髡者，齐之赘婿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09480" y="3809880"/>
            <a:ext cx="403884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．介宾后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淳于髡说之以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衣以文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86400" y="1295280"/>
            <a:ext cx="33526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．被动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二世杀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105520" y="3505320"/>
            <a:ext cx="42670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．省略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置酒（于）后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赐酒（于）大王之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>
            <a:hlinkClick r:id="rId2" action="ppaction://hlinksldjump"/>
          </p:cNvPr>
          <p:cNvSpPr/>
          <p:nvPr/>
        </p:nvSpPr>
        <p:spPr>
          <a:xfrm>
            <a:off x="8153280" y="304920"/>
            <a:ext cx="609840" cy="45720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772400" y="0"/>
            <a:ext cx="1371600" cy="22096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0" y="2590920"/>
            <a:ext cx="2286000" cy="12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淳于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（齐赘婿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81080" y="2133720"/>
            <a:ext cx="601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国中有大鸟”的隐语讽谏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828800" y="2362320"/>
            <a:ext cx="228600" cy="1981080"/>
          </a:xfrm>
          <a:custGeom>
            <a:avLst/>
            <a:gdLst>
              <a:gd name="textAreaLeft" fmla="*/ 146160 w 228600"/>
              <a:gd name="textAreaRight" fmla="*/ 228960 w 228600"/>
              <a:gd name="textAreaTop" fmla="*/ 51480 h 1981080"/>
              <a:gd name="textAreaBottom" fmla="*/ 1929600 h 19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731000" y="2514600"/>
            <a:ext cx="1033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滑 稽 多 辩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315200" y="3276720"/>
            <a:ext cx="838080" cy="485640"/>
          </a:xfrm>
          <a:custGeom>
            <a:avLst/>
            <a:gdLst>
              <a:gd name="textAreaLeft" fmla="*/ 104760 w 838080"/>
              <a:gd name="textAreaRight" fmla="*/ 733320 w 83808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981080" y="3048120"/>
            <a:ext cx="571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操蹄禳田”的寓言类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05120" y="3962520"/>
            <a:ext cx="556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纵酒淫乱”的场面推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>
            <a:hlinkClick r:id="rId2" action="ppaction://hlinksldjump"/>
          </p:cNvPr>
          <p:cNvSpPr/>
          <p:nvPr/>
        </p:nvSpPr>
        <p:spPr>
          <a:xfrm flipH="1" flipV="1">
            <a:off x="8458200" y="6172200"/>
            <a:ext cx="380880" cy="45720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24">
                <a:moveTo>
                  <a:pt x="0" y="0"/>
                </a:moveTo>
                <a:lnTo>
                  <a:pt x="21600" y="0"/>
                </a:lnTo>
                <a:lnTo>
                  <a:pt x="21600" y="25924"/>
                </a:lnTo>
                <a:lnTo>
                  <a:pt x="0" y="25924"/>
                </a:lnTo>
                <a:close/>
              </a:path>
              <a:path fill="lightenLess" w="21600" h="259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24">
                <a:moveTo>
                  <a:pt x="21600" y="0"/>
                </a:moveTo>
                <a:lnTo>
                  <a:pt x="21600" y="25924"/>
                </a:lnTo>
                <a:lnTo>
                  <a:pt x="20200" y="24524"/>
                </a:lnTo>
                <a:lnTo>
                  <a:pt x="20200" y="1400"/>
                </a:lnTo>
                <a:close/>
              </a:path>
              <a:path fill="darkenLess" w="21600" h="25924">
                <a:moveTo>
                  <a:pt x="21600" y="25924"/>
                </a:moveTo>
                <a:lnTo>
                  <a:pt x="0" y="25924"/>
                </a:lnTo>
                <a:lnTo>
                  <a:pt x="1400" y="24524"/>
                </a:lnTo>
                <a:lnTo>
                  <a:pt x="20200" y="24524"/>
                </a:lnTo>
                <a:close/>
              </a:path>
              <a:path fill="lighten" w="21600" h="25924">
                <a:moveTo>
                  <a:pt x="0" y="259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24"/>
                </a:lnTo>
                <a:close/>
              </a:path>
              <a:path fill="darken" w="21600" h="25924">
                <a:moveTo>
                  <a:pt x="3794" y="5956"/>
                </a:moveTo>
                <a:lnTo>
                  <a:pt x="17806" y="12962"/>
                </a:lnTo>
                <a:lnTo>
                  <a:pt x="3794" y="1996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0" y="4419720"/>
            <a:ext cx="2438280" cy="24382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8001000" y="236232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610480" y="2362320"/>
            <a:ext cx="228600" cy="30456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04560"/>
              <a:gd name="textAreaBottom" fmla="*/ 289800 h 304560"/>
            </a:gdLst>
            <a:ahLst/>
            <a:rect l="textAreaLeft" t="textAreaTop" r="textAreaRight" b="textAreaBottom"/>
            <a:pathLst>
              <a:path w="21600" h="28766">
                <a:moveTo>
                  <a:pt x="0" y="0"/>
                </a:moveTo>
                <a:lnTo>
                  <a:pt x="21600" y="0"/>
                </a:lnTo>
                <a:lnTo>
                  <a:pt x="21600" y="28766"/>
                </a:lnTo>
                <a:lnTo>
                  <a:pt x="0" y="28766"/>
                </a:lnTo>
                <a:close/>
              </a:path>
              <a:path fill="lightenLess" w="21600" h="2876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66">
                <a:moveTo>
                  <a:pt x="21600" y="0"/>
                </a:moveTo>
                <a:lnTo>
                  <a:pt x="21600" y="28766"/>
                </a:lnTo>
                <a:lnTo>
                  <a:pt x="20200" y="27366"/>
                </a:lnTo>
                <a:lnTo>
                  <a:pt x="20200" y="1400"/>
                </a:lnTo>
                <a:close/>
              </a:path>
              <a:path fill="darkenLess" w="21600" h="28766">
                <a:moveTo>
                  <a:pt x="21600" y="28766"/>
                </a:moveTo>
                <a:lnTo>
                  <a:pt x="0" y="28766"/>
                </a:lnTo>
                <a:lnTo>
                  <a:pt x="1400" y="27366"/>
                </a:lnTo>
                <a:lnTo>
                  <a:pt x="20200" y="27366"/>
                </a:lnTo>
                <a:close/>
              </a:path>
              <a:path fill="lighten" w="21600" h="28766">
                <a:moveTo>
                  <a:pt x="0" y="2876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66"/>
                </a:lnTo>
                <a:close/>
              </a:path>
              <a:path fill="darken" w="21600" h="28766">
                <a:moveTo>
                  <a:pt x="3794" y="7377"/>
                </a:moveTo>
                <a:lnTo>
                  <a:pt x="17806" y="14383"/>
                </a:lnTo>
                <a:lnTo>
                  <a:pt x="3794" y="2139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80880" y="228600"/>
            <a:ext cx="1219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讲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p</cp:lastModifiedBy>
  <dcterms:modified xsi:type="dcterms:W3CDTF">2007-02-06T07:32:41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