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8.png" ContentType="image/png"/>
  <Override PartName="/ppt/media/image7.gif" ContentType="image/gif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689-D3C0-4285-B174-7777BD3F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5F2-26B4-498C-803A-C0593E86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E90F4-2DC3-47C6-820F-0F8869F0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71BB8-173F-4D0A-8948-B177EB86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95FC2-E467-4AD1-8FBE-4D07CF2C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9C9FF-7B33-4219-87E6-0EBCEFFB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8579E-2536-4D50-9B70-20784A1E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7F131-A977-4040-96DE-16268312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54C2A-C401-40D1-8899-1F03CB27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9E00C-AB69-4677-B233-4C0A0AEB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DA280-FCEB-40D3-816E-0FC86041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73B01-7BBB-4E84-8F3B-2C9F9152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C81-DB77-49E2-9692-02A89D0B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0337D-178B-42D7-BD95-1C3A0BBC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8EAE7-588C-47E8-A3F1-ECA15B3D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B4508-54D5-44AE-88B6-318C35D1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3F171-FCB4-400F-9292-59BBDCD7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0618D-AB6E-46E0-82D3-45946580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60164-39E7-4AC4-9D1C-B8EFDCB6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F01A1-46FA-4C4E-BD02-DBB6BCD4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FF651-5954-4B70-8149-14E26155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A8E37-5FE4-4575-AAAE-41134774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8BD33-BD70-4260-9922-95265AAC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014-8907-495E-8205-754F8F65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91C80-D76B-413E-8EA2-C88054A1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A0EDA-8136-49F6-BAAB-7277EA77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C979D-69D2-4414-AAF2-961DB927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CFF79-F459-419F-BBC6-6DF6802F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250E4-F6A0-4EFD-A5A2-FA386D0B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1806E-4805-4FE7-837C-62DD8E89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39E20-E7CE-4347-9D36-14FF235A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8E796-00D7-4224-864C-70E54FBC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45F76-2F8D-45A4-8A85-4765FA7F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1C787-8F14-4CEF-A1C9-02380EE4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BCCC-CBC3-42FA-9A8F-5938B591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221A4-8C5B-48D5-9588-9C33108B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048B0-1931-4B49-9527-20BD6BBC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B663E-923E-47D4-BF46-61A20216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7EB5-1FCD-4C6F-BFAD-0774FF90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140B-D145-43C6-8C9F-855E84E5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38F5-1EE3-41EC-810E-D19836AE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9D66-5A2D-4332-9C67-1BE68181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353F-525D-4CF8-9FCA-79C76BBA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45D4-3BB2-476D-BF09-FFBC7269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C23-255B-4581-86FA-4CB9B412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3F2F-C558-45B4-8D28-9EC3B50F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969C-500C-4BA9-A943-3EAB51A5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9951-B88E-4E5B-8B84-032AC851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70EB-5E02-4EDE-B40A-78873395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DC4E-7151-4446-AFE9-5E12D697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2995B-E55F-43DD-9059-F36B6974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9723D-1048-4E07-A5A4-F74742F8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850C-4A84-47FB-B568-2E02876E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AA283-171E-4506-A3AE-E2E6FBF7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98534-B52B-4C9F-82EB-B3E63A0E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E42-A74A-4589-A2F2-9E746B7F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E528A-BB45-4028-BB43-523AA118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8B074-76E3-4454-BFEF-39AADB11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6BC73-55E6-4A42-AFC0-38D8722D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7D3DA-0F69-43F0-AD0F-4991D1F6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B2FE-24DC-4765-AA88-02B72625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FB002-8755-41A3-AFB4-070FA427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1C72-FD80-43F2-887B-B44EB49D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710A8-FE2C-47A9-9265-ADBBE991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DE1DA-6D85-4F3B-85BF-308F0C19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5EE4D-C6FA-4DAF-B030-6B842CE1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E8C-F845-4418-85A7-417411E5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B4995-B657-4A1A-B925-D27BAD18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5803D-F597-448A-906E-DD00523B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8A8A2-EED3-4457-B33D-00F00B40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72CC1-0CDF-441B-9D6E-96FED7D2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7E52C-7A41-4D19-BDAC-0BFA1F5B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A4856-D3EA-41CA-B15B-FF764F99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45878-F8CC-43BB-8567-859F4227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CA430-7B52-4639-AD8A-7178203A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61AE8-B5A0-453A-950E-CBA3B99A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50270-96C7-4186-B5ED-4E67F3A5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7FA-238C-44B8-B99F-D0942F9D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03C24-1D75-48F3-92A6-CB5D4074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391A0-CCEE-453E-BC8D-1A2192A0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F53C8-9A84-4E30-BEEA-91F12636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160B1-8E8B-48C4-BE7F-21663026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C0ADA-9B69-40FC-AF3C-369DB19C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2EA63-0943-47C4-94A9-52137519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354E2-25B9-4713-879F-EDF310E7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D3759-975D-485F-95F8-7BE84A04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4F2F8-419E-4AE6-8B7D-8B38EBEC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76AF5-FB02-47FF-AC9E-71AD4324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949-923F-480D-AAE3-16DF6BD9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51886-6784-455C-8FEB-4165C894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79A04-E4A9-4E53-B490-C9FB91B9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7BFA5-BB6B-476A-B57E-001F5816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42235-FFC5-4AC2-A59D-11308B89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13284-5C97-4334-885B-81566905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4EF2D-AF73-4615-AE04-235C87E4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8215C-468B-4BE0-AD00-F99619F1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574E4-5DFF-4DC3-9D1A-5BCDA3D4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1C720-DE09-4232-ADFB-5E478CE7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74012-2B9D-420D-BD89-F25847A7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CD9-80D2-423A-AF95-382B7605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3D438-8CD7-4553-AE81-0D057B51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DB528-8833-4FF2-8FB5-BDB9F3DD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E8425-2DE3-4BCD-BC8A-F0486182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BAF61-4E59-47E8-B3FB-2AE88FCA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13D6B-46EC-43B3-B8CF-5F814A6C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664AD-9DAA-4E04-8371-BB50D363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5ECAC-C970-490B-8EFD-09D594F1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B73BC-5DD7-4564-8A45-468AD673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09A7C-7607-4583-944E-2673F112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041E2-2A52-46AD-B75A-B748C451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7C9-E7C9-4B5D-BB64-A00B3E37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80B31-A173-412F-8886-45539D92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2C6BE-D82D-4EF5-9F60-B5BF8C44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5A807-B425-46E6-AF05-F1ACFA42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4BA76-1C68-4CDC-AFD6-A27B055E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42E7E-1E18-4B4D-8C6D-1F4708AC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19B0F-671B-413C-9033-978D5FCE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BB818-E54C-4216-8576-2680AA01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31BBC-DEF4-4EEA-BD62-AFD31A47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D7CD2-5ADA-4D35-A7D9-375A2092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4481B-33DB-438E-8ECB-22A693F7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F61-EECA-4F4A-BC21-A613DC48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55FDD-EE82-4684-93AD-87DBFABC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6D2BE-531B-4E93-8110-3AE69CD1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9C9DF-2DC5-433C-B1B3-2DE1B118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FB02E-F861-4583-B81F-90EEDA8E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EA778-B8C5-4B73-9CF1-942C3AC4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632DC-D3DC-4483-A8AD-55905628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CA260-E325-41E2-A2B0-F7AE8EA7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BEF3F-609A-403E-B4FD-99EBBBFF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E7618-6520-4A2B-AFC8-9F58B3AB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640A1-6E00-46F5-8135-17BB6B65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D068-A87A-4A94-948B-7736DEED21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A3CC-88DC-4F58-A0AC-DD350BF489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5A0D-3FE3-467F-9529-A9348F9428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E83D-6C1D-48D4-9BBA-BE49BF9628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EB2F-B08F-4105-A9E1-711D3C61EA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8AF2-30CA-46B5-AF2C-1CC5E26D98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ED4A-85FC-4D53-BCFA-9497F165C4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FCC1-E3DE-4DC9-9C6C-DFDF935330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203A-0A68-4772-9368-23F6A1E8BD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C64F-DA04-4EBF-B576-D0BD852E2A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B5D8-0F66-4324-97F8-AAA14129FE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3075" descr="DK01_hehuan6180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文本框 3077"/>
          <p:cNvSpPr/>
          <p:nvPr/>
        </p:nvSpPr>
        <p:spPr>
          <a:xfrm>
            <a:off x="7307280" y="1125360"/>
            <a:ext cx="1836720" cy="4957920"/>
          </a:xfrm>
          <a:prstGeom prst="rect">
            <a:avLst/>
          </a:prstGeom>
          <a:solidFill>
            <a:srgbClr val="ffffff">
              <a:alpha val="81000"/>
            </a:srgbClr>
          </a:solidFill>
          <a:ln w="76320">
            <a:solidFill>
              <a:srgbClr val="ff339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076"/>
          <p:cNvSpPr txBox="1"/>
          <p:nvPr/>
        </p:nvSpPr>
        <p:spPr>
          <a:xfrm rot="5400000">
            <a:off x="6071040" y="2790000"/>
            <a:ext cx="4390920" cy="134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solidFill>
                  <a:srgbClr val="cc0000"/>
                </a:solidFill>
                <a:latin typeface="华文行楷"/>
              </a:rPr>
              <a:t>合欢树</a:t>
            </a:r>
            <a:endParaRPr b="1" lang="en-US" sz="6600" spc="-1" strike="noStrike">
              <a:ln w="0">
                <a:noFill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  <p:pic>
        <p:nvPicPr>
          <p:cNvPr id="454" name="倩女幽魂-殇.mp3" descr=""/>
          <p:cNvPicPr/>
          <p:nvPr/>
        </p:nvPicPr>
        <p:blipFill>
          <a:blip r:embed="rId2"/>
          <a:stretch/>
        </p:blipFill>
        <p:spPr>
          <a:xfrm>
            <a:off x="802800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298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文本框 50179"/>
          <p:cNvSpPr/>
          <p:nvPr/>
        </p:nvSpPr>
        <p:spPr>
          <a:xfrm>
            <a:off x="468360" y="408456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作者由十岁写起，以十年为间隔写了自己的一生，也写了母亲的一生，两个人的生命交错重叠，这对文章的抒情效果有何影响？是这样写好，还是两个人分开写好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张小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50180"/>
          <p:cNvSpPr/>
          <p:nvPr/>
        </p:nvSpPr>
        <p:spPr>
          <a:xfrm>
            <a:off x="468360" y="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在文中几次提及年龄，（按时间顺序写）这样写有什么用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无名氏  戚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50181"/>
          <p:cNvSpPr/>
          <p:nvPr/>
        </p:nvSpPr>
        <p:spPr>
          <a:xfrm>
            <a:off x="468360" y="1844640"/>
            <a:ext cx="8388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在十岁、二十岁、三十岁时对母亲的看法相同吗？如不相同，请说出区别。（作者对母亲的认识经历了怎样的变化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吴秋桐   赵东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图片 50182" descr="图片11"/>
          <p:cNvPicPr/>
          <p:nvPr/>
        </p:nvPicPr>
        <p:blipFill>
          <a:blip r:embed="rId1"/>
          <a:stretch/>
        </p:blipFill>
        <p:spPr>
          <a:xfrm>
            <a:off x="8516880" y="5950080"/>
            <a:ext cx="268200" cy="28728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50183"/>
          <p:cNvSpPr/>
          <p:nvPr/>
        </p:nvSpPr>
        <p:spPr>
          <a:xfrm>
            <a:off x="0" y="476280"/>
            <a:ext cx="611280" cy="4161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Arial"/>
                <a:ea typeface="隶书"/>
              </a:rPr>
              <a:t>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Arial"/>
                <a:ea typeface="隶书"/>
              </a:rPr>
              <a:t>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Arial"/>
                <a:ea typeface="隶书"/>
              </a:rPr>
              <a:t>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Arial"/>
                <a:ea typeface="隶书"/>
              </a:rPr>
              <a:t>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文本框 45059"/>
          <p:cNvSpPr/>
          <p:nvPr/>
        </p:nvSpPr>
        <p:spPr>
          <a:xfrm>
            <a:off x="324000" y="1341360"/>
            <a:ext cx="8820000" cy="352692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章（最后）为什么要写那个不哭不闹、只看树影的小男孩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史学峰  于上  席瑞  刘亮 丁路 唐琨  戚昱   孙亚楠   张小楠   赵东宇   刘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尾“有一天那个孩子大了，会想起童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但他不会知道那是谁种的，是怎么种的”用意深远，请问应什么理解？以此结尾有何用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孙文 李步天  陈杨  吴秋桐   佚名  刘正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45060"/>
          <p:cNvSpPr/>
          <p:nvPr/>
        </p:nvSpPr>
        <p:spPr>
          <a:xfrm>
            <a:off x="539640" y="333360"/>
            <a:ext cx="3672000" cy="825120"/>
          </a:xfrm>
          <a:prstGeom prst="rect">
            <a:avLst/>
          </a:prstGeom>
          <a:solidFill>
            <a:srgbClr val="ffffff">
              <a:alpha val="54000"/>
            </a:srgbClr>
          </a:solidFill>
          <a:ln w="57240">
            <a:solidFill>
              <a:srgbClr val="8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Arial"/>
                <a:ea typeface="隶书"/>
              </a:rPr>
              <a:t>问 题 扫 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图片 45061" descr="图片11"/>
          <p:cNvPicPr/>
          <p:nvPr/>
        </p:nvPicPr>
        <p:blipFill>
          <a:blip r:embed="rId1"/>
          <a:stretch/>
        </p:blipFill>
        <p:spPr>
          <a:xfrm>
            <a:off x="8532720" y="6165720"/>
            <a:ext cx="268560" cy="287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文本框 53251"/>
          <p:cNvSpPr/>
          <p:nvPr/>
        </p:nvSpPr>
        <p:spPr>
          <a:xfrm>
            <a:off x="468360" y="404640"/>
            <a:ext cx="2087640" cy="825120"/>
          </a:xfrm>
          <a:prstGeom prst="rect">
            <a:avLst/>
          </a:prstGeom>
          <a:solidFill>
            <a:srgbClr val="ffff00">
              <a:alpha val="67000"/>
            </a:srgbClr>
          </a:solidFill>
          <a:ln w="57240">
            <a:solidFill>
              <a:srgbClr val="8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整合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53252"/>
          <p:cNvSpPr/>
          <p:nvPr/>
        </p:nvSpPr>
        <p:spPr>
          <a:xfrm>
            <a:off x="684360" y="2060640"/>
            <a:ext cx="7561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幼圆"/>
                <a:ea typeface="幼圆"/>
              </a:rPr>
              <a:t>1 </a:t>
            </a:r>
            <a:r>
              <a:rPr b="1" lang="zh-CN" sz="3200" spc="-1" strike="noStrike">
                <a:solidFill>
                  <a:srgbClr val="990000"/>
                </a:solidFill>
                <a:latin typeface="幼圆"/>
                <a:ea typeface="幼圆"/>
              </a:rPr>
              <a:t>第一段内容的写作用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幼圆"/>
                <a:ea typeface="幼圆"/>
              </a:rPr>
              <a:t>2 </a:t>
            </a:r>
            <a:r>
              <a:rPr b="1" lang="zh-CN" sz="3200" spc="-1" strike="noStrike">
                <a:solidFill>
                  <a:srgbClr val="990000"/>
                </a:solidFill>
                <a:latin typeface="幼圆"/>
                <a:ea typeface="幼圆"/>
              </a:rPr>
              <a:t>作者由十岁写起，以十年为间隔写了自己的一生，也写了母亲的一生，两个人的生命交错重叠，这对文章的抒情效果有何影响？是这样写好，还是两个人分开写好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幼圆"/>
                <a:ea typeface="幼圆"/>
              </a:rPr>
              <a:t>3 </a:t>
            </a:r>
            <a:r>
              <a:rPr b="1" lang="zh-CN" sz="3200" spc="-1" strike="noStrike">
                <a:solidFill>
                  <a:srgbClr val="990000"/>
                </a:solidFill>
                <a:latin typeface="幼圆"/>
                <a:ea typeface="幼圆"/>
              </a:rPr>
              <a:t>文章在对小男孩未来的拟想中结束了，怎样理解这个结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图片 53253" descr="图片11"/>
          <p:cNvPicPr/>
          <p:nvPr/>
        </p:nvPicPr>
        <p:blipFill>
          <a:blip r:embed="rId1"/>
          <a:stretch/>
        </p:blipFill>
        <p:spPr>
          <a:xfrm>
            <a:off x="7020000" y="2276640"/>
            <a:ext cx="268200" cy="287280"/>
          </a:xfrm>
          <a:prstGeom prst="rect">
            <a:avLst/>
          </a:prstGeom>
          <a:ln w="0">
            <a:noFill/>
          </a:ln>
        </p:spPr>
      </p:pic>
      <p:sp>
        <p:nvSpPr>
          <p:cNvPr id="492" name="爆炸形 2 53255"/>
          <p:cNvSpPr/>
          <p:nvPr/>
        </p:nvSpPr>
        <p:spPr>
          <a:xfrm rot="1965000">
            <a:off x="4427640" y="260280"/>
            <a:ext cx="5040360" cy="2133720"/>
          </a:xfrm>
          <a:prstGeom prst="irregularSeal2">
            <a:avLst/>
          </a:prstGeom>
          <a:solidFill>
            <a:srgbClr val="ff99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53256"/>
          <p:cNvSpPr/>
          <p:nvPr/>
        </p:nvSpPr>
        <p:spPr>
          <a:xfrm rot="1221000">
            <a:off x="5640120" y="977760"/>
            <a:ext cx="311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华文行楷"/>
              </a:rPr>
              <a:t>材   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图片 53257" descr="图片11"/>
          <p:cNvPicPr/>
          <p:nvPr/>
        </p:nvPicPr>
        <p:blipFill>
          <a:blip r:embed="rId2"/>
          <a:stretch/>
        </p:blipFill>
        <p:spPr>
          <a:xfrm>
            <a:off x="7093080" y="4941720"/>
            <a:ext cx="268200" cy="287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文本框 67587"/>
          <p:cNvSpPr/>
          <p:nvPr/>
        </p:nvSpPr>
        <p:spPr>
          <a:xfrm>
            <a:off x="0" y="1125360"/>
            <a:ext cx="9144000" cy="520560"/>
          </a:xfrm>
          <a:prstGeom prst="rect">
            <a:avLst/>
          </a:prstGeom>
          <a:solidFill>
            <a:srgbClr val="ccffc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于看合欢树这件事，“我”的态度总在变化。为什么会这样犹豫不决、欲行又止？                 【情感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67588"/>
          <p:cNvSpPr/>
          <p:nvPr/>
        </p:nvSpPr>
        <p:spPr>
          <a:xfrm>
            <a:off x="0" y="2060640"/>
            <a:ext cx="9144000" cy="1169280"/>
          </a:xfrm>
          <a:prstGeom prst="rect">
            <a:avLst/>
          </a:prstGeom>
          <a:solidFill>
            <a:srgbClr val="ff99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风正从树林里吹过”有什么作用？         【语言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悲伤也成享受。”怎样理解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67589"/>
          <p:cNvSpPr/>
          <p:nvPr/>
        </p:nvSpPr>
        <p:spPr>
          <a:xfrm>
            <a:off x="0" y="3348000"/>
            <a:ext cx="8820000" cy="1818000"/>
          </a:xfrm>
          <a:prstGeom prst="rect">
            <a:avLst/>
          </a:prstGeom>
          <a:solidFill>
            <a:srgbClr val="99cc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段内容的写作用意是什么？         【材料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由十岁写起，以十年为间隔写了自己的一生，也写了母亲的一生，两个人的生命交错重叠，这对文章的抒情效果有何影响。是这样写好，还是两个人分开写好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章在对小男孩未来的拟想中结束了，怎样理解这个结尾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67590"/>
          <p:cNvSpPr/>
          <p:nvPr/>
        </p:nvSpPr>
        <p:spPr>
          <a:xfrm>
            <a:off x="0" y="333360"/>
            <a:ext cx="8893080" cy="520560"/>
          </a:xfrm>
          <a:prstGeom prst="rect">
            <a:avLst/>
          </a:prstGeom>
          <a:solidFill>
            <a:srgbClr val="ffff0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欢树”象征什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【构思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文本框 60419"/>
          <p:cNvSpPr/>
          <p:nvPr/>
        </p:nvSpPr>
        <p:spPr>
          <a:xfrm>
            <a:off x="2700360" y="2708280"/>
            <a:ext cx="1368360" cy="764280"/>
          </a:xfrm>
          <a:prstGeom prst="rect">
            <a:avLst/>
          </a:prstGeom>
          <a:solidFill>
            <a:srgbClr val="ff99c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情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60420"/>
          <p:cNvSpPr/>
          <p:nvPr/>
        </p:nvSpPr>
        <p:spPr>
          <a:xfrm>
            <a:off x="3708360" y="3860640"/>
            <a:ext cx="1368360" cy="76428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语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60421"/>
          <p:cNvSpPr/>
          <p:nvPr/>
        </p:nvSpPr>
        <p:spPr>
          <a:xfrm>
            <a:off x="4788000" y="5084640"/>
            <a:ext cx="1511280" cy="764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材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60422"/>
          <p:cNvSpPr/>
          <p:nvPr/>
        </p:nvSpPr>
        <p:spPr>
          <a:xfrm>
            <a:off x="1763640" y="1341360"/>
            <a:ext cx="1440000" cy="7642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构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"/>
                            </p:stCondLst>
                            <p:childTnLst>
                              <p:par>
                                <p:cTn id="4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"/>
                            </p:stCondLst>
                            <p:childTnLst>
                              <p:par>
                                <p:cTn id="413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3"/>
                            </p:stCondLst>
                            <p:childTnLst>
                              <p:par>
                                <p:cTn id="41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文本框 65537"/>
          <p:cNvSpPr/>
          <p:nvPr/>
        </p:nvSpPr>
        <p:spPr>
          <a:xfrm>
            <a:off x="1692360" y="3645000"/>
            <a:ext cx="65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  <a:ea typeface="幼圆"/>
              </a:rPr>
              <a:t>“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幼圆"/>
              </a:rPr>
              <a:t>合欢树”是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  <a:ea typeface="幼圆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65538"/>
          <p:cNvSpPr/>
          <p:nvPr/>
        </p:nvSpPr>
        <p:spPr>
          <a:xfrm>
            <a:off x="468360" y="404640"/>
            <a:ext cx="2087640" cy="825120"/>
          </a:xfrm>
          <a:prstGeom prst="rect">
            <a:avLst/>
          </a:prstGeom>
          <a:solidFill>
            <a:srgbClr val="ffff00">
              <a:alpha val="67000"/>
            </a:srgbClr>
          </a:solidFill>
          <a:ln w="57240">
            <a:solidFill>
              <a:srgbClr val="8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整合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爆炸形 1 65539"/>
          <p:cNvSpPr/>
          <p:nvPr/>
        </p:nvSpPr>
        <p:spPr>
          <a:xfrm>
            <a:off x="4356000" y="476280"/>
            <a:ext cx="3745080" cy="2736720"/>
          </a:xfrm>
          <a:prstGeom prst="irregularSeal1">
            <a:avLst/>
          </a:prstGeom>
          <a:solidFill>
            <a:srgbClr val="ffff99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65540"/>
          <p:cNvSpPr/>
          <p:nvPr/>
        </p:nvSpPr>
        <p:spPr>
          <a:xfrm rot="20747400">
            <a:off x="5238720" y="1356840"/>
            <a:ext cx="20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华文行楷"/>
              </a:rPr>
              <a:t>构 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图片 65543" descr="图片6"/>
          <p:cNvPicPr/>
          <p:nvPr/>
        </p:nvPicPr>
        <p:blipFill>
          <a:blip r:embed="rId1"/>
          <a:stretch/>
        </p:blipFill>
        <p:spPr>
          <a:xfrm>
            <a:off x="7812000" y="5589720"/>
            <a:ext cx="714600" cy="714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文本框 62465"/>
          <p:cNvSpPr/>
          <p:nvPr/>
        </p:nvSpPr>
        <p:spPr>
          <a:xfrm>
            <a:off x="468360" y="404640"/>
            <a:ext cx="2087640" cy="825120"/>
          </a:xfrm>
          <a:prstGeom prst="rect">
            <a:avLst/>
          </a:prstGeom>
          <a:solidFill>
            <a:srgbClr val="ffff00">
              <a:alpha val="73000"/>
            </a:srgbClr>
          </a:solidFill>
          <a:ln w="57240">
            <a:solidFill>
              <a:srgbClr val="8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整合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62466"/>
          <p:cNvSpPr/>
          <p:nvPr/>
        </p:nvSpPr>
        <p:spPr>
          <a:xfrm>
            <a:off x="684360" y="2997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幼圆"/>
              </a:rPr>
              <a:t>对于看合欢树这件事，“我”的态度总在变化。为什么会这样犹豫不决、欲行又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爆炸形 2 62467"/>
          <p:cNvSpPr/>
          <p:nvPr/>
        </p:nvSpPr>
        <p:spPr>
          <a:xfrm>
            <a:off x="4500720" y="620640"/>
            <a:ext cx="3958920" cy="2376720"/>
          </a:xfrm>
          <a:prstGeom prst="irregularSeal2">
            <a:avLst/>
          </a:prstGeom>
          <a:solidFill>
            <a:srgbClr val="ff99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62468"/>
          <p:cNvSpPr/>
          <p:nvPr/>
        </p:nvSpPr>
        <p:spPr>
          <a:xfrm rot="20115600">
            <a:off x="5383440" y="1336320"/>
            <a:ext cx="20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华文行楷"/>
                <a:ea typeface="华文行楷"/>
              </a:rPr>
              <a:t>情 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图片 62469" descr="图片6"/>
          <p:cNvPicPr/>
          <p:nvPr/>
        </p:nvPicPr>
        <p:blipFill>
          <a:blip r:embed="rId1"/>
          <a:stretch/>
        </p:blipFill>
        <p:spPr>
          <a:xfrm>
            <a:off x="7812000" y="5589720"/>
            <a:ext cx="714600" cy="714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文本框 63489"/>
          <p:cNvSpPr/>
          <p:nvPr/>
        </p:nvSpPr>
        <p:spPr>
          <a:xfrm>
            <a:off x="468360" y="404640"/>
            <a:ext cx="2087640" cy="825120"/>
          </a:xfrm>
          <a:prstGeom prst="rect">
            <a:avLst/>
          </a:prstGeom>
          <a:solidFill>
            <a:srgbClr val="ffff00">
              <a:alpha val="67000"/>
            </a:srgbClr>
          </a:solidFill>
          <a:ln w="57240">
            <a:solidFill>
              <a:srgbClr val="8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整合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63490"/>
          <p:cNvSpPr/>
          <p:nvPr/>
        </p:nvSpPr>
        <p:spPr>
          <a:xfrm>
            <a:off x="611280" y="3357720"/>
            <a:ext cx="85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幼圆"/>
                <a:ea typeface="幼圆"/>
              </a:rPr>
              <a:t>1“</a:t>
            </a:r>
            <a:r>
              <a:rPr b="1" lang="zh-CN" sz="4000" spc="-1" strike="noStrike">
                <a:solidFill>
                  <a:srgbClr val="990000"/>
                </a:solidFill>
                <a:latin typeface="幼圆"/>
                <a:ea typeface="幼圆"/>
              </a:rPr>
              <a:t>风正从树林里吹过”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幼圆"/>
                <a:ea typeface="幼圆"/>
              </a:rPr>
              <a:t>2“</a:t>
            </a:r>
            <a:r>
              <a:rPr b="1" lang="zh-CN" sz="4000" spc="-1" strike="noStrike">
                <a:solidFill>
                  <a:srgbClr val="990000"/>
                </a:solidFill>
                <a:latin typeface="幼圆"/>
                <a:ea typeface="幼圆"/>
              </a:rPr>
              <a:t>悲伤也成享受。”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幼圆"/>
                <a:ea typeface="幼圆"/>
              </a:rPr>
              <a:t> “</a:t>
            </a:r>
            <a:r>
              <a:rPr b="1" lang="zh-CN" sz="4000" spc="-1" strike="noStrike">
                <a:solidFill>
                  <a:srgbClr val="990000"/>
                </a:solidFill>
                <a:latin typeface="幼圆"/>
                <a:ea typeface="幼圆"/>
              </a:rPr>
              <a:t>我”在“享受”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爆炸形 1 63491"/>
          <p:cNvSpPr/>
          <p:nvPr/>
        </p:nvSpPr>
        <p:spPr>
          <a:xfrm>
            <a:off x="4211640" y="260280"/>
            <a:ext cx="3384720" cy="2664000"/>
          </a:xfrm>
          <a:prstGeom prst="irregularSeal1">
            <a:avLst/>
          </a:prstGeom>
          <a:solidFill>
            <a:srgbClr val="ff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63492"/>
          <p:cNvSpPr/>
          <p:nvPr/>
        </p:nvSpPr>
        <p:spPr>
          <a:xfrm rot="20694000">
            <a:off x="5003640" y="1125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华文行楷"/>
              </a:rPr>
              <a:t>语 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63493" descr="图片6"/>
          <p:cNvPicPr/>
          <p:nvPr/>
        </p:nvPicPr>
        <p:blipFill>
          <a:blip r:embed="rId1"/>
          <a:stretch/>
        </p:blipFill>
        <p:spPr>
          <a:xfrm>
            <a:off x="7667640" y="573408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文本框 64513"/>
          <p:cNvSpPr/>
          <p:nvPr/>
        </p:nvSpPr>
        <p:spPr>
          <a:xfrm>
            <a:off x="468360" y="404640"/>
            <a:ext cx="2087640" cy="825120"/>
          </a:xfrm>
          <a:prstGeom prst="rect">
            <a:avLst/>
          </a:prstGeom>
          <a:solidFill>
            <a:srgbClr val="ffff00">
              <a:alpha val="67000"/>
            </a:srgbClr>
          </a:solidFill>
          <a:ln w="57240">
            <a:solidFill>
              <a:srgbClr val="8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整合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64514"/>
          <p:cNvSpPr/>
          <p:nvPr/>
        </p:nvSpPr>
        <p:spPr>
          <a:xfrm>
            <a:off x="684360" y="2060640"/>
            <a:ext cx="7561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幼圆"/>
                <a:ea typeface="幼圆"/>
              </a:rPr>
              <a:t>1 </a:t>
            </a:r>
            <a:r>
              <a:rPr b="1" lang="zh-CN" sz="3200" spc="-1" strike="noStrike">
                <a:solidFill>
                  <a:srgbClr val="990000"/>
                </a:solidFill>
                <a:latin typeface="幼圆"/>
                <a:ea typeface="幼圆"/>
              </a:rPr>
              <a:t>第一段内容的写作用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幼圆"/>
                <a:ea typeface="幼圆"/>
              </a:rPr>
              <a:t>2 </a:t>
            </a:r>
            <a:r>
              <a:rPr b="1" lang="zh-CN" sz="3200" spc="-1" strike="noStrike">
                <a:solidFill>
                  <a:srgbClr val="990000"/>
                </a:solidFill>
                <a:latin typeface="幼圆"/>
                <a:ea typeface="幼圆"/>
              </a:rPr>
              <a:t>作者由十岁写起，以十年为间隔写了自己的一生，也写了母亲的一生，两个人的生命交错重叠，这对文章的抒情效果有何影响。是这样写好，还是两个人分开写好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幼圆"/>
                <a:ea typeface="幼圆"/>
              </a:rPr>
              <a:t>3 </a:t>
            </a:r>
            <a:r>
              <a:rPr b="1" lang="zh-CN" sz="3200" spc="-1" strike="noStrike">
                <a:solidFill>
                  <a:srgbClr val="990000"/>
                </a:solidFill>
                <a:latin typeface="幼圆"/>
                <a:ea typeface="幼圆"/>
              </a:rPr>
              <a:t>文章在对小男孩未来的拟想中结束了，怎样理解这个结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爆炸形 2 64516"/>
          <p:cNvSpPr/>
          <p:nvPr/>
        </p:nvSpPr>
        <p:spPr>
          <a:xfrm rot="1965000">
            <a:off x="4427640" y="260280"/>
            <a:ext cx="5040360" cy="2133720"/>
          </a:xfrm>
          <a:prstGeom prst="irregularSeal2">
            <a:avLst/>
          </a:prstGeom>
          <a:solidFill>
            <a:srgbClr val="ff99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64517"/>
          <p:cNvSpPr/>
          <p:nvPr/>
        </p:nvSpPr>
        <p:spPr>
          <a:xfrm rot="1221000">
            <a:off x="5640120" y="1049400"/>
            <a:ext cx="311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华文行楷"/>
              </a:rPr>
              <a:t>材   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图片 64520" descr="图片6"/>
          <p:cNvPicPr/>
          <p:nvPr/>
        </p:nvPicPr>
        <p:blipFill>
          <a:blip r:embed="rId1"/>
          <a:stretch/>
        </p:blipFill>
        <p:spPr>
          <a:xfrm>
            <a:off x="8028000" y="580536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图片 34817" descr="hf6-08_jpg"/>
          <p:cNvPicPr/>
          <p:nvPr/>
        </p:nvPicPr>
        <p:blipFill>
          <a:blip r:embed="rId1"/>
          <a:srcRect l="6299" t="6299" r="6299" b="8398"/>
          <a:stretch/>
        </p:blipFill>
        <p:spPr>
          <a:xfrm>
            <a:off x="0" y="3606840"/>
            <a:ext cx="3330720" cy="325116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34818" descr="史铁生"/>
          <p:cNvPicPr/>
          <p:nvPr/>
        </p:nvPicPr>
        <p:blipFill>
          <a:blip r:embed="rId2"/>
          <a:stretch/>
        </p:blipFill>
        <p:spPr>
          <a:xfrm>
            <a:off x="4846680" y="0"/>
            <a:ext cx="4297320" cy="5445000"/>
          </a:xfrm>
          <a:prstGeom prst="rect">
            <a:avLst/>
          </a:prstGeom>
          <a:ln w="0">
            <a:noFill/>
          </a:ln>
        </p:spPr>
      </p:pic>
      <p:sp>
        <p:nvSpPr>
          <p:cNvPr id="525" name="矩形 34819"/>
          <p:cNvSpPr txBox="1"/>
          <p:nvPr/>
        </p:nvSpPr>
        <p:spPr>
          <a:xfrm rot="5400000">
            <a:off x="2376000" y="2959200"/>
            <a:ext cx="417384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倔强的生命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26" name="矩形 34820"/>
          <p:cNvSpPr txBox="1"/>
          <p:nvPr/>
        </p:nvSpPr>
        <p:spPr>
          <a:xfrm rot="5400000">
            <a:off x="1078560" y="1878840"/>
            <a:ext cx="396072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笑傲人生</a:t>
            </a:r>
            <a:endParaRPr b="0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27" name="文本框 34821"/>
          <p:cNvSpPr/>
          <p:nvPr/>
        </p:nvSpPr>
        <p:spPr>
          <a:xfrm>
            <a:off x="5076720" y="57340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轮椅上的史铁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懂你.mp3" descr=""/>
          <p:cNvPicPr/>
          <p:nvPr/>
        </p:nvPicPr>
        <p:blipFill>
          <a:blip r:embed="rId3"/>
          <a:stretch/>
        </p:blipFill>
        <p:spPr>
          <a:xfrm>
            <a:off x="4716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18" dur="indefinite" restart="never" nodeType="tmRoot">
          <p:childTnLst>
            <p:seq>
              <p:cTn id="419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3" dur="1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31746" descr="200507300621328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ff00"/>
            </a:solidFill>
            <a:prstDash val="lgDashDotDot"/>
            <a:miter/>
          </a:ln>
        </p:spPr>
      </p:pic>
      <p:sp>
        <p:nvSpPr>
          <p:cNvPr id="456" name="文本框 31747"/>
          <p:cNvSpPr/>
          <p:nvPr/>
        </p:nvSpPr>
        <p:spPr>
          <a:xfrm>
            <a:off x="1619280" y="2492280"/>
            <a:ext cx="6769080" cy="131292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质  疑、探   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31768"/>
          <p:cNvSpPr/>
          <p:nvPr/>
        </p:nvSpPr>
        <p:spPr>
          <a:xfrm>
            <a:off x="1619280" y="2492280"/>
            <a:ext cx="6697800" cy="253188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整  体    感  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文本框 30723"/>
          <p:cNvSpPr/>
          <p:nvPr/>
        </p:nvSpPr>
        <p:spPr>
          <a:xfrm>
            <a:off x="826920" y="1197000"/>
            <a:ext cx="792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请为你的母亲写一篇叙事性散文，借鉴</a:t>
            </a:r>
            <a:r>
              <a:rPr b="0" lang="en-US" sz="3600" spc="-1" strike="noStrike">
                <a:solidFill>
                  <a:srgbClr val="cc0000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合欢树</a:t>
            </a:r>
            <a:r>
              <a:rPr b="0" lang="en-US" sz="3600" spc="-1" strike="noStrike">
                <a:solidFill>
                  <a:srgbClr val="cc0000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的写法，融入你的真情实感。（</a:t>
            </a:r>
            <a:r>
              <a:rPr b="0" lang="en-US" sz="3600" spc="-1" strike="noStrike">
                <a:solidFill>
                  <a:srgbClr val="cc0000"/>
                </a:solidFill>
                <a:latin typeface="隶书"/>
                <a:ea typeface="隶书"/>
              </a:rPr>
              <a:t>800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字左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6600cc"/>
                </a:solidFill>
                <a:latin typeface="隶书"/>
                <a:ea typeface="隶书"/>
              </a:rPr>
              <a:t>为母亲写一首小诗，可以配上合适的旋律，或朗诵或演唱出来。（可用已有的歌曲旋律，更鼓励原创）全班作品整理好之后，邀请我们的妈妈来参加以“母爱”为主题的诗歌朗诵音乐班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30724"/>
          <p:cNvSpPr txBox="1"/>
          <p:nvPr/>
        </p:nvSpPr>
        <p:spPr>
          <a:xfrm>
            <a:off x="3635280" y="189000"/>
            <a:ext cx="2057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57345" descr="20050730062132858"/>
          <p:cNvPicPr/>
          <p:nvPr/>
        </p:nvPicPr>
        <p:blipFill>
          <a:blip r:embed="rId1"/>
          <a:stretch/>
        </p:blipFill>
        <p:spPr>
          <a:xfrm>
            <a:off x="0" y="0"/>
            <a:ext cx="7093080" cy="6858000"/>
          </a:xfrm>
          <a:prstGeom prst="rect">
            <a:avLst/>
          </a:prstGeom>
          <a:ln w="9360">
            <a:solidFill>
              <a:srgbClr val="00ff00"/>
            </a:solidFill>
            <a:prstDash val="lgDashDotDot"/>
            <a:miter/>
          </a:ln>
        </p:spPr>
      </p:pic>
      <p:sp>
        <p:nvSpPr>
          <p:cNvPr id="532" name="文本框 57350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妈妈  我想对您说   话到嘴边又咽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妈妈  我想对您笑   眼里却点点泪花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妈妈  烛光里的妈妈 您的黑发泛起了霜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妈妈  烛光里的妈妈 您的脸颊印着这多牵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妈妈  烛光里的妈妈 您的腰身变得不再挺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妈妈  烛光里的妈妈 你的眼睛为何失去了光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妈妈啊  儿女已长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愿牵着您的衣襟   走过春秋冬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妈妈 请相信我    儿女自有儿女的 报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烛光里的妈妈.mp3" descr=""/>
          <p:cNvPicPr/>
          <p:nvPr/>
        </p:nvPicPr>
        <p:blipFill>
          <a:blip r:embed="rId2"/>
          <a:stretch/>
        </p:blipFill>
        <p:spPr>
          <a:xfrm>
            <a:off x="8344080" y="6058080"/>
            <a:ext cx="799920" cy="799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24" dur="indefinite" restart="never" nodeType="tmRoot">
          <p:childTnLst>
            <p:seq>
              <p:cTn id="425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0.0)">
                                      <p:cBhvr>
                                        <p:cTn id="429" dur="360313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68609" descr="20050730062132858"/>
          <p:cNvPicPr/>
          <p:nvPr/>
        </p:nvPicPr>
        <p:blipFill>
          <a:blip r:embed="rId1"/>
          <a:stretch/>
        </p:blipFill>
        <p:spPr>
          <a:xfrm>
            <a:off x="0" y="0"/>
            <a:ext cx="7093080" cy="6858000"/>
          </a:xfrm>
          <a:prstGeom prst="rect">
            <a:avLst/>
          </a:prstGeom>
          <a:ln w="9360">
            <a:solidFill>
              <a:srgbClr val="00ff00"/>
            </a:solidFill>
            <a:prstDash val="lgDashDotDot"/>
            <a:miter/>
          </a:ln>
        </p:spPr>
      </p:pic>
      <p:sp>
        <p:nvSpPr>
          <p:cNvPr id="535" name="矩形 68612"/>
          <p:cNvSpPr txBox="1"/>
          <p:nvPr/>
        </p:nvSpPr>
        <p:spPr>
          <a:xfrm rot="5400000">
            <a:off x="5630400" y="2441520"/>
            <a:ext cx="4751280" cy="125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63360">
                  <a:solidFill>
                    <a:srgbClr val="ff99cc"/>
                  </a:solidFill>
                  <a:round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   见</a:t>
            </a:r>
            <a:endParaRPr b="0" lang="en-US" sz="6600" spc="1" strike="noStrike">
              <a:ln w="63360">
                <a:solidFill>
                  <a:srgbClr val="ff99cc"/>
                </a:solidFill>
                <a:round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文本框 69633"/>
          <p:cNvSpPr/>
          <p:nvPr/>
        </p:nvSpPr>
        <p:spPr>
          <a:xfrm>
            <a:off x="0" y="669960"/>
            <a:ext cx="9144000" cy="477684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章题目为合欢树，但前半部分内容根本没有提及，题目似乎不能总领全文，以此为题，用意何在？可不可以改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的母亲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穆瑞楠  刘芳 王鸿乔 黄思腾  李步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欢树象征什么？（题目有什么寓意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刘亮  接丹枫  陈杨  刘正刚  洪健  冯雪娇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章以写人记事为主，却为何用“合欢树”这一事物来命名？   【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孙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欢树仿佛是一种心愿的象征，那是什么“心愿”呢？    【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张定国  史学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69634"/>
          <p:cNvSpPr/>
          <p:nvPr/>
        </p:nvSpPr>
        <p:spPr>
          <a:xfrm>
            <a:off x="324000" y="0"/>
            <a:ext cx="3311280" cy="1191240"/>
          </a:xfrm>
          <a:prstGeom prst="rect">
            <a:avLst/>
          </a:prstGeom>
          <a:solidFill>
            <a:srgbClr val="ffffff">
              <a:alpha val="54000"/>
            </a:srgbClr>
          </a:solidFill>
          <a:ln w="57240">
            <a:solidFill>
              <a:srgbClr val="8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Arial"/>
                <a:ea typeface="隶书"/>
              </a:rPr>
              <a:t>问   题   扫   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文本框 70657"/>
          <p:cNvSpPr/>
          <p:nvPr/>
        </p:nvSpPr>
        <p:spPr>
          <a:xfrm>
            <a:off x="971640" y="30686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  <a:ea typeface="幼圆"/>
              </a:rPr>
              <a:t>“</a:t>
            </a:r>
            <a:r>
              <a:rPr b="1" lang="zh-CN" sz="7200" spc="-1" strike="noStrike">
                <a:solidFill>
                  <a:srgbClr val="cc0000"/>
                </a:solidFill>
                <a:latin typeface="Arial"/>
                <a:ea typeface="幼圆"/>
              </a:rPr>
              <a:t>合欢树”是</a:t>
            </a:r>
            <a:r>
              <a:rPr b="1" lang="en-US" sz="7200" spc="-1" strike="noStrike">
                <a:solidFill>
                  <a:srgbClr val="cc0000"/>
                </a:solidFill>
                <a:latin typeface="Arial"/>
                <a:ea typeface="幼圆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70658"/>
          <p:cNvSpPr/>
          <p:nvPr/>
        </p:nvSpPr>
        <p:spPr>
          <a:xfrm>
            <a:off x="468360" y="404640"/>
            <a:ext cx="2087640" cy="825120"/>
          </a:xfrm>
          <a:prstGeom prst="rect">
            <a:avLst/>
          </a:prstGeom>
          <a:solidFill>
            <a:srgbClr val="ffff00">
              <a:alpha val="67000"/>
            </a:srgbClr>
          </a:solidFill>
          <a:ln w="57240">
            <a:solidFill>
              <a:srgbClr val="8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整合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爆炸形 1 70659"/>
          <p:cNvSpPr/>
          <p:nvPr/>
        </p:nvSpPr>
        <p:spPr>
          <a:xfrm rot="1776000">
            <a:off x="4355640" y="476280"/>
            <a:ext cx="3745080" cy="2736720"/>
          </a:xfrm>
          <a:prstGeom prst="irregularSeal1">
            <a:avLst/>
          </a:prstGeom>
          <a:solidFill>
            <a:srgbClr val="ffff99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70660"/>
          <p:cNvSpPr/>
          <p:nvPr/>
        </p:nvSpPr>
        <p:spPr>
          <a:xfrm rot="1867200">
            <a:off x="5238000" y="1357200"/>
            <a:ext cx="20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华文行楷"/>
              </a:rPr>
              <a:t>构 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文本框 49155"/>
          <p:cNvSpPr/>
          <p:nvPr/>
        </p:nvSpPr>
        <p:spPr>
          <a:xfrm>
            <a:off x="755640" y="141300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为什么在母亲去世后“我”不愿去那个小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刘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49156"/>
          <p:cNvSpPr/>
          <p:nvPr/>
        </p:nvSpPr>
        <p:spPr>
          <a:xfrm>
            <a:off x="684360" y="2997360"/>
            <a:ext cx="79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什么两次回到小院，却都没去看合欢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丁路 王楚玫 李英魁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49158"/>
          <p:cNvSpPr/>
          <p:nvPr/>
        </p:nvSpPr>
        <p:spPr>
          <a:xfrm>
            <a:off x="611280" y="4724280"/>
            <a:ext cx="76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什么后悔前两年没有自己摇车进去看看合欢树？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张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49159"/>
          <p:cNvSpPr/>
          <p:nvPr/>
        </p:nvSpPr>
        <p:spPr>
          <a:xfrm>
            <a:off x="395280" y="404640"/>
            <a:ext cx="3456000" cy="825120"/>
          </a:xfrm>
          <a:prstGeom prst="rect">
            <a:avLst/>
          </a:prstGeom>
          <a:solidFill>
            <a:srgbClr val="ffffff">
              <a:alpha val="53000"/>
            </a:srgbClr>
          </a:solidFill>
          <a:ln w="57240">
            <a:solidFill>
              <a:srgbClr val="8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Arial"/>
                <a:ea typeface="隶书"/>
              </a:rPr>
              <a:t>问 题 扫 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文本框 38915"/>
          <p:cNvSpPr/>
          <p:nvPr/>
        </p:nvSpPr>
        <p:spPr>
          <a:xfrm>
            <a:off x="468360" y="404640"/>
            <a:ext cx="2087640" cy="825120"/>
          </a:xfrm>
          <a:prstGeom prst="rect">
            <a:avLst/>
          </a:prstGeom>
          <a:solidFill>
            <a:srgbClr val="ffff00">
              <a:alpha val="73000"/>
            </a:srgbClr>
          </a:solidFill>
          <a:ln w="57240">
            <a:solidFill>
              <a:srgbClr val="8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整合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38916"/>
          <p:cNvSpPr/>
          <p:nvPr/>
        </p:nvSpPr>
        <p:spPr>
          <a:xfrm>
            <a:off x="684360" y="2997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幼圆"/>
              </a:rPr>
              <a:t>对于看合欢树这件事，“我”的态度总在变化。为什么会这样犹豫不决、欲行又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爆炸形 2 38918"/>
          <p:cNvSpPr/>
          <p:nvPr/>
        </p:nvSpPr>
        <p:spPr>
          <a:xfrm>
            <a:off x="4500720" y="620640"/>
            <a:ext cx="3958920" cy="2376720"/>
          </a:xfrm>
          <a:prstGeom prst="irregularSeal2">
            <a:avLst/>
          </a:prstGeom>
          <a:solidFill>
            <a:srgbClr val="ff99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38920"/>
          <p:cNvSpPr/>
          <p:nvPr/>
        </p:nvSpPr>
        <p:spPr>
          <a:xfrm rot="20115600">
            <a:off x="5383440" y="1336320"/>
            <a:ext cx="20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华文行楷"/>
                <a:ea typeface="华文行楷"/>
              </a:rPr>
              <a:t>情 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文本框 39940"/>
          <p:cNvSpPr/>
          <p:nvPr/>
        </p:nvSpPr>
        <p:spPr>
          <a:xfrm>
            <a:off x="539640" y="1700280"/>
            <a:ext cx="82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睁开眼睛，看见风正从树林里吹过。”这句景物描写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曲阿言  冯雪娇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 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有时候只想独自静静地呆一会儿。悲伤也成享受。”  “我”在“享受”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周乃睿 王琨琳 陈杨 张小楠 季凯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39941"/>
          <p:cNvSpPr/>
          <p:nvPr/>
        </p:nvSpPr>
        <p:spPr>
          <a:xfrm>
            <a:off x="395280" y="404640"/>
            <a:ext cx="3600360" cy="825120"/>
          </a:xfrm>
          <a:prstGeom prst="rect">
            <a:avLst/>
          </a:prstGeom>
          <a:solidFill>
            <a:srgbClr val="ffffff">
              <a:alpha val="51000"/>
            </a:srgbClr>
          </a:solidFill>
          <a:ln w="57240">
            <a:solidFill>
              <a:srgbClr val="8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Arial"/>
                <a:ea typeface="隶书"/>
              </a:rPr>
              <a:t>问 题 扫 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4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52225"/>
          <p:cNvSpPr/>
          <p:nvPr/>
        </p:nvSpPr>
        <p:spPr>
          <a:xfrm>
            <a:off x="468360" y="404640"/>
            <a:ext cx="2087640" cy="825120"/>
          </a:xfrm>
          <a:prstGeom prst="rect">
            <a:avLst/>
          </a:prstGeom>
          <a:solidFill>
            <a:srgbClr val="ffff00">
              <a:alpha val="67000"/>
            </a:srgbClr>
          </a:solidFill>
          <a:ln w="57240">
            <a:solidFill>
              <a:srgbClr val="8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整合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52226"/>
          <p:cNvSpPr/>
          <p:nvPr/>
        </p:nvSpPr>
        <p:spPr>
          <a:xfrm>
            <a:off x="611280" y="3357720"/>
            <a:ext cx="85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幼圆"/>
                <a:ea typeface="幼圆"/>
              </a:rPr>
              <a:t>1“</a:t>
            </a:r>
            <a:r>
              <a:rPr b="1" lang="zh-CN" sz="4000" spc="-1" strike="noStrike">
                <a:solidFill>
                  <a:srgbClr val="990000"/>
                </a:solidFill>
                <a:latin typeface="幼圆"/>
                <a:ea typeface="幼圆"/>
              </a:rPr>
              <a:t>风正从树林里吹过”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幼圆"/>
                <a:ea typeface="幼圆"/>
              </a:rPr>
              <a:t>2“</a:t>
            </a:r>
            <a:r>
              <a:rPr b="1" lang="zh-CN" sz="4000" spc="-1" strike="noStrike">
                <a:solidFill>
                  <a:srgbClr val="990000"/>
                </a:solidFill>
                <a:latin typeface="幼圆"/>
                <a:ea typeface="幼圆"/>
              </a:rPr>
              <a:t>悲伤也成享受。”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幼圆"/>
                <a:ea typeface="幼圆"/>
              </a:rPr>
              <a:t> “</a:t>
            </a:r>
            <a:r>
              <a:rPr b="1" lang="zh-CN" sz="4000" spc="-1" strike="noStrike">
                <a:solidFill>
                  <a:srgbClr val="990000"/>
                </a:solidFill>
                <a:latin typeface="幼圆"/>
                <a:ea typeface="幼圆"/>
              </a:rPr>
              <a:t>我”在“享受”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爆炸形 1 52227"/>
          <p:cNvSpPr/>
          <p:nvPr/>
        </p:nvSpPr>
        <p:spPr>
          <a:xfrm>
            <a:off x="4211640" y="260280"/>
            <a:ext cx="3384720" cy="2664000"/>
          </a:xfrm>
          <a:prstGeom prst="irregularSeal1">
            <a:avLst/>
          </a:prstGeom>
          <a:solidFill>
            <a:srgbClr val="ff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52228"/>
          <p:cNvSpPr/>
          <p:nvPr/>
        </p:nvSpPr>
        <p:spPr>
          <a:xfrm rot="20694000">
            <a:off x="5003640" y="1125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华文行楷"/>
              </a:rPr>
              <a:t>语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文本框 43011"/>
          <p:cNvSpPr/>
          <p:nvPr/>
        </p:nvSpPr>
        <p:spPr>
          <a:xfrm>
            <a:off x="611280" y="1341360"/>
            <a:ext cx="8532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段为什么要交待母亲是个漂亮的女人？“她正给自己做一条蓝地白花的裙子”，这句话感觉略显突兀，这样写的目的是什么？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孙文 唐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母亲为什么要讲她小时候作文写得好的事？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李英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什么要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那年与母亲的一场小冲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戚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图片 43012" descr="图片11"/>
          <p:cNvPicPr/>
          <p:nvPr/>
        </p:nvPicPr>
        <p:blipFill>
          <a:blip r:embed="rId1"/>
          <a:stretch/>
        </p:blipFill>
        <p:spPr>
          <a:xfrm>
            <a:off x="8101080" y="6021360"/>
            <a:ext cx="403200" cy="432000"/>
          </a:xfrm>
          <a:prstGeom prst="rect">
            <a:avLst/>
          </a:prstGeom>
          <a:ln w="0">
            <a:noFill/>
          </a:ln>
        </p:spPr>
      </p:pic>
      <p:sp>
        <p:nvSpPr>
          <p:cNvPr id="480" name="文本框 43013"/>
          <p:cNvSpPr/>
          <p:nvPr/>
        </p:nvSpPr>
        <p:spPr>
          <a:xfrm>
            <a:off x="395280" y="333360"/>
            <a:ext cx="3313080" cy="825120"/>
          </a:xfrm>
          <a:prstGeom prst="rect">
            <a:avLst/>
          </a:prstGeom>
          <a:solidFill>
            <a:srgbClr val="ffffff">
              <a:alpha val="51000"/>
            </a:srgbClr>
          </a:solidFill>
          <a:ln w="57240">
            <a:solidFill>
              <a:srgbClr val="8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Arial"/>
                <a:ea typeface="隶书"/>
              </a:rPr>
              <a:t>问 题 扫 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2:13:09Z</dcterms:created>
  <dc:creator>USER</dc:creator>
  <dc:description/>
  <dc:language>en-US</dc:language>
  <cp:lastModifiedBy>admin</cp:lastModifiedBy>
  <dcterms:modified xsi:type="dcterms:W3CDTF">2019-03-23T03:28:28Z</dcterms:modified>
  <cp:revision>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