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wmf" ContentType="image/x-wmf"/>
  <Override PartName="/ppt/media/image7.jpeg" ContentType="image/jpeg"/>
  <Override PartName="/ppt/media/image11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6.gif" ContentType="image/gif"/>
  <Override PartName="/ppt/media/image2.png" ContentType="image/png"/>
  <Override PartName="/ppt/media/image8.png" ContentType="image/png"/>
  <Override PartName="/ppt/media/image14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90DF-5723-466D-9E45-761654F41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014C-5D93-49FE-B3BC-33259CFC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8A98-81B2-4388-A1D7-6E90D6F9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D0F8-C886-4EDA-9EC0-D3EE2DD5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118A-E8E0-432E-8BDA-85738EB6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E222-129A-4939-A77C-13C18687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8C09-3B4C-4C15-808A-32AE720C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A98-EA29-48B0-A620-262038C4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A93-8385-4D01-8B7C-D42CA258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BDB-2955-402B-8431-7EC4998A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04D6-4BF3-48D3-91D7-0C0D973C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851F-6FF6-4F64-BDD7-8DF6D767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394A-5E75-4896-B88C-7B8FF8E1846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gif"/><Relationship Id="rId3" Type="http://schemas.openxmlformats.org/officeDocument/2006/relationships/image" Target="../media/image8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image" Target="../media/image10.gi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image" Target="../media/image10.gif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gif"/><Relationship Id="rId3" Type="http://schemas.openxmlformats.org/officeDocument/2006/relationships/image" Target="../media/image8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image" Target="../media/image16.gi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0.gi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0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QQ截图20170720011618"/>
          <p:cNvPicPr/>
          <p:nvPr/>
        </p:nvPicPr>
        <p:blipFill>
          <a:blip r:embed="rId1"/>
          <a:stretch/>
        </p:blipFill>
        <p:spPr>
          <a:xfrm>
            <a:off x="39600" y="41400"/>
            <a:ext cx="11910960" cy="65973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" descr=""/>
          <p:cNvPicPr/>
          <p:nvPr/>
        </p:nvPicPr>
        <p:blipFill>
          <a:blip r:embed="rId2"/>
          <a:stretch/>
        </p:blipFill>
        <p:spPr>
          <a:xfrm rot="18187800">
            <a:off x="10417320" y="253440"/>
            <a:ext cx="1784520" cy="1952640"/>
          </a:xfrm>
          <a:prstGeom prst="rect">
            <a:avLst/>
          </a:prstGeom>
          <a:ln w="0">
            <a:noFill/>
          </a:ln>
        </p:spPr>
      </p:pic>
      <p:sp>
        <p:nvSpPr>
          <p:cNvPr id="43" name="任意多边形 6"/>
          <p:cNvSpPr/>
          <p:nvPr/>
        </p:nvSpPr>
        <p:spPr>
          <a:xfrm>
            <a:off x="8886960" y="-322200"/>
            <a:ext cx="987120" cy="646200"/>
          </a:xfrm>
          <a:custGeom>
            <a:avLst/>
            <a:gdLst>
              <a:gd name="textAreaLeft" fmla="*/ 0 w 987120"/>
              <a:gd name="textAreaRight" fmla="*/ 987480 w 98712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1165156" h="764824">
                <a:moveTo>
                  <a:pt x="768489" y="220152"/>
                </a:moveTo>
                <a:cubicBezTo>
                  <a:pt x="1044714" y="-70360"/>
                  <a:pt x="1301889" y="339214"/>
                  <a:pt x="1082814" y="405890"/>
                </a:cubicBezTo>
                <a:cubicBezTo>
                  <a:pt x="1366976" y="628139"/>
                  <a:pt x="808176" y="750377"/>
                  <a:pt x="792301" y="601152"/>
                </a:cubicBezTo>
                <a:cubicBezTo>
                  <a:pt x="617676" y="913890"/>
                  <a:pt x="257314" y="697990"/>
                  <a:pt x="339864" y="610677"/>
                </a:cubicBezTo>
                <a:cubicBezTo>
                  <a:pt x="43000" y="799589"/>
                  <a:pt x="-139561" y="459864"/>
                  <a:pt x="135076" y="434465"/>
                </a:cubicBezTo>
                <a:cubicBezTo>
                  <a:pt x="23951" y="399539"/>
                  <a:pt x="31888" y="140777"/>
                  <a:pt x="287476" y="229677"/>
                </a:cubicBezTo>
                <a:cubicBezTo>
                  <a:pt x="173177" y="48702"/>
                  <a:pt x="373201" y="105852"/>
                  <a:pt x="473214" y="172527"/>
                </a:cubicBezTo>
                <a:cubicBezTo>
                  <a:pt x="638314" y="-206886"/>
                  <a:pt x="827226" y="147127"/>
                  <a:pt x="768489" y="220152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39240" y="3418560"/>
            <a:ext cx="1730880" cy="3257280"/>
            <a:chOff x="39240" y="3418560"/>
            <a:chExt cx="1730880" cy="3257280"/>
          </a:xfrm>
        </p:grpSpPr>
        <p:sp>
          <p:nvSpPr>
            <p:cNvPr id="45" name="圆角矩形 8"/>
            <p:cNvSpPr/>
            <p:nvPr/>
          </p:nvSpPr>
          <p:spPr>
            <a:xfrm rot="20833200">
              <a:off x="1188720" y="4743000"/>
              <a:ext cx="137880" cy="1941480"/>
            </a:xfrm>
            <a:custGeom>
              <a:avLst/>
              <a:gdLst>
                <a:gd name="textAreaLeft" fmla="*/ 6480 w 137880"/>
                <a:gd name="textAreaRight" fmla="*/ 131400 w 137880"/>
                <a:gd name="textAreaTop" fmla="*/ 6480 h 1941480"/>
                <a:gd name="textAreaBottom" fmla="*/ 1935000 h 1941480"/>
              </a:gdLst>
              <a:ahLst/>
              <a:rect l="textAreaLeft" t="textAreaTop" r="textAreaRight" b="textAreaBottom"/>
              <a:pathLst>
                <a:path w="21600" h="303413">
                  <a:moveTo>
                    <a:pt x="3600" y="0"/>
                  </a:moveTo>
                  <a:arcTo wR="3600" hR="3600" stAng="16200000" swAng="-5400000"/>
                  <a:lnTo>
                    <a:pt x="0" y="299813"/>
                  </a:lnTo>
                  <a:arcTo wR="3600" hR="3600" stAng="10800000" swAng="-5400000"/>
                  <a:lnTo>
                    <a:pt x="18000" y="303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8"/>
            </a:solidFill>
            <a:ln w="12600">
              <a:solidFill>
                <a:srgbClr val="4e3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圆角矩形 9"/>
            <p:cNvSpPr/>
            <p:nvPr/>
          </p:nvSpPr>
          <p:spPr>
            <a:xfrm rot="20833200">
              <a:off x="1099800" y="4354200"/>
              <a:ext cx="137880" cy="1941480"/>
            </a:xfrm>
            <a:custGeom>
              <a:avLst/>
              <a:gdLst>
                <a:gd name="textAreaLeft" fmla="*/ 6480 w 137880"/>
                <a:gd name="textAreaRight" fmla="*/ 131400 w 137880"/>
                <a:gd name="textAreaTop" fmla="*/ 6480 h 1941480"/>
                <a:gd name="textAreaBottom" fmla="*/ 1935000 h 1941480"/>
              </a:gdLst>
              <a:ahLst/>
              <a:rect l="textAreaLeft" t="textAreaTop" r="textAreaRight" b="textAreaBottom"/>
              <a:pathLst>
                <a:path w="21600" h="303413">
                  <a:moveTo>
                    <a:pt x="3600" y="0"/>
                  </a:moveTo>
                  <a:arcTo wR="3600" hR="3600" stAng="16200000" swAng="-5400000"/>
                  <a:lnTo>
                    <a:pt x="0" y="299813"/>
                  </a:lnTo>
                  <a:arcTo wR="3600" hR="3600" stAng="10800000" swAng="-5400000"/>
                  <a:lnTo>
                    <a:pt x="18000" y="303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b331e"/>
            </a:solidFill>
            <a:ln w="12600">
              <a:solidFill>
                <a:srgbClr val="4e3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圆角矩形 10"/>
            <p:cNvSpPr/>
            <p:nvPr/>
          </p:nvSpPr>
          <p:spPr>
            <a:xfrm rot="20833200">
              <a:off x="1058400" y="4171680"/>
              <a:ext cx="137880" cy="1941480"/>
            </a:xfrm>
            <a:custGeom>
              <a:avLst/>
              <a:gdLst>
                <a:gd name="textAreaLeft" fmla="*/ 6480 w 137880"/>
                <a:gd name="textAreaRight" fmla="*/ 131400 w 137880"/>
                <a:gd name="textAreaTop" fmla="*/ 6480 h 1941480"/>
                <a:gd name="textAreaBottom" fmla="*/ 1935000 h 1941480"/>
              </a:gdLst>
              <a:ahLst/>
              <a:rect l="textAreaLeft" t="textAreaTop" r="textAreaRight" b="textAreaBottom"/>
              <a:pathLst>
                <a:path w="21600" h="303413">
                  <a:moveTo>
                    <a:pt x="3600" y="0"/>
                  </a:moveTo>
                  <a:arcTo wR="3600" hR="3600" stAng="16200000" swAng="-5400000"/>
                  <a:lnTo>
                    <a:pt x="0" y="299813"/>
                  </a:lnTo>
                  <a:arcTo wR="3600" hR="3600" stAng="10800000" swAng="-5400000"/>
                  <a:lnTo>
                    <a:pt x="18000" y="303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8"/>
            </a:solidFill>
            <a:ln w="12600">
              <a:solidFill>
                <a:srgbClr val="4e3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圆角矩形 11"/>
            <p:cNvSpPr/>
            <p:nvPr/>
          </p:nvSpPr>
          <p:spPr>
            <a:xfrm rot="20833200">
              <a:off x="1007640" y="3958920"/>
              <a:ext cx="137880" cy="1941480"/>
            </a:xfrm>
            <a:custGeom>
              <a:avLst/>
              <a:gdLst>
                <a:gd name="textAreaLeft" fmla="*/ 6480 w 137880"/>
                <a:gd name="textAreaRight" fmla="*/ 131400 w 137880"/>
                <a:gd name="textAreaTop" fmla="*/ 6480 h 1941480"/>
                <a:gd name="textAreaBottom" fmla="*/ 1935000 h 1941480"/>
              </a:gdLst>
              <a:ahLst/>
              <a:rect l="textAreaLeft" t="textAreaTop" r="textAreaRight" b="textAreaBottom"/>
              <a:pathLst>
                <a:path w="21600" h="303413">
                  <a:moveTo>
                    <a:pt x="3600" y="0"/>
                  </a:moveTo>
                  <a:arcTo wR="3600" hR="3600" stAng="16200000" swAng="-5400000"/>
                  <a:lnTo>
                    <a:pt x="0" y="299813"/>
                  </a:lnTo>
                  <a:arcTo wR="3600" hR="3600" stAng="10800000" swAng="-5400000"/>
                  <a:lnTo>
                    <a:pt x="18000" y="3034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b331e"/>
            </a:solidFill>
            <a:ln w="12600">
              <a:solidFill>
                <a:srgbClr val="4e3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圆角矩形 12"/>
            <p:cNvSpPr/>
            <p:nvPr/>
          </p:nvSpPr>
          <p:spPr>
            <a:xfrm rot="20833200">
              <a:off x="1029960" y="4311360"/>
              <a:ext cx="137880" cy="1417680"/>
            </a:xfrm>
            <a:custGeom>
              <a:avLst/>
              <a:gdLst>
                <a:gd name="textAreaLeft" fmla="*/ 6480 w 137880"/>
                <a:gd name="textAreaRight" fmla="*/ 131400 w 137880"/>
                <a:gd name="textAreaTop" fmla="*/ 6480 h 1417680"/>
                <a:gd name="textAreaBottom" fmla="*/ 1411200 h 1417680"/>
              </a:gdLst>
              <a:ahLst/>
              <a:rect l="textAreaLeft" t="textAreaTop" r="textAreaRight" b="textAreaBottom"/>
              <a:pathLst>
                <a:path w="21600" h="221569">
                  <a:moveTo>
                    <a:pt x="3600" y="0"/>
                  </a:moveTo>
                  <a:arcTo wR="3600" hR="3600" stAng="16200000" swAng="-5400000"/>
                  <a:lnTo>
                    <a:pt x="0" y="217969"/>
                  </a:lnTo>
                  <a:arcTo wR="3600" hR="3600" stAng="10800000" swAng="-5400000"/>
                  <a:lnTo>
                    <a:pt x="18000" y="2215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8"/>
            </a:solidFill>
            <a:ln w="12600">
              <a:solidFill>
                <a:srgbClr val="4e3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圆角矩形 13"/>
            <p:cNvSpPr/>
            <p:nvPr/>
          </p:nvSpPr>
          <p:spPr>
            <a:xfrm rot="20833200">
              <a:off x="952200" y="3909600"/>
              <a:ext cx="137880" cy="1573200"/>
            </a:xfrm>
            <a:custGeom>
              <a:avLst/>
              <a:gdLst>
                <a:gd name="textAreaLeft" fmla="*/ 6480 w 137880"/>
                <a:gd name="textAreaRight" fmla="*/ 131400 w 137880"/>
                <a:gd name="textAreaTop" fmla="*/ 6480 h 1573200"/>
                <a:gd name="textAreaBottom" fmla="*/ 1566720 h 1573200"/>
              </a:gdLst>
              <a:ahLst/>
              <a:rect l="textAreaLeft" t="textAreaTop" r="textAreaRight" b="textAreaBottom"/>
              <a:pathLst>
                <a:path w="21600" h="245869">
                  <a:moveTo>
                    <a:pt x="3600" y="0"/>
                  </a:moveTo>
                  <a:arcTo wR="3600" hR="3600" stAng="16200000" swAng="-5400000"/>
                  <a:lnTo>
                    <a:pt x="0" y="242269"/>
                  </a:lnTo>
                  <a:arcTo wR="3600" hR="3600" stAng="10800000" swAng="-5400000"/>
                  <a:lnTo>
                    <a:pt x="18000" y="24586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3361d"/>
            </a:solidFill>
            <a:ln w="12600">
              <a:solidFill>
                <a:srgbClr val="4e3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圆角矩形 14"/>
            <p:cNvSpPr/>
            <p:nvPr/>
          </p:nvSpPr>
          <p:spPr>
            <a:xfrm rot="20833200">
              <a:off x="936720" y="3906360"/>
              <a:ext cx="137880" cy="1419120"/>
            </a:xfrm>
            <a:custGeom>
              <a:avLst/>
              <a:gdLst>
                <a:gd name="textAreaLeft" fmla="*/ 6480 w 137880"/>
                <a:gd name="textAreaRight" fmla="*/ 131400 w 137880"/>
                <a:gd name="textAreaTop" fmla="*/ 6480 h 1419120"/>
                <a:gd name="textAreaBottom" fmla="*/ 1412640 h 1419120"/>
              </a:gdLst>
              <a:ahLst/>
              <a:rect l="textAreaLeft" t="textAreaTop" r="textAreaRight" b="textAreaBottom"/>
              <a:pathLst>
                <a:path w="21600" h="221794">
                  <a:moveTo>
                    <a:pt x="3600" y="0"/>
                  </a:moveTo>
                  <a:arcTo wR="3600" hR="3600" stAng="16200000" swAng="-5400000"/>
                  <a:lnTo>
                    <a:pt x="0" y="218194"/>
                  </a:lnTo>
                  <a:arcTo wR="3600" hR="3600" stAng="10800000" swAng="-5400000"/>
                  <a:lnTo>
                    <a:pt x="18000" y="2217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8"/>
            </a:solidFill>
            <a:ln w="12600">
              <a:solidFill>
                <a:srgbClr val="4e30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13"/>
            <p:cNvGrpSpPr/>
            <p:nvPr/>
          </p:nvGrpSpPr>
          <p:grpSpPr>
            <a:xfrm>
              <a:off x="39240" y="3418560"/>
              <a:ext cx="1730880" cy="1725840"/>
              <a:chOff x="39240" y="3418560"/>
              <a:chExt cx="1730880" cy="1725840"/>
            </a:xfrm>
          </p:grpSpPr>
          <p:sp>
            <p:nvSpPr>
              <p:cNvPr id="53" name="椭圆 16"/>
              <p:cNvSpPr/>
              <p:nvPr/>
            </p:nvSpPr>
            <p:spPr>
              <a:xfrm>
                <a:off x="860400" y="4747320"/>
                <a:ext cx="422280" cy="351000"/>
              </a:xfrm>
              <a:prstGeom prst="ellipse">
                <a:avLst/>
              </a:prstGeom>
              <a:solidFill>
                <a:srgbClr val="fefef9"/>
              </a:solidFill>
              <a:ln w="25560">
                <a:solidFill>
                  <a:srgbClr val="4e30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39240" y="3418560"/>
                <a:ext cx="1730880" cy="1725840"/>
                <a:chOff x="39240" y="3418560"/>
                <a:chExt cx="1730880" cy="1725840"/>
              </a:xfrm>
            </p:grpSpPr>
            <p:sp>
              <p:nvSpPr>
                <p:cNvPr id="55" name="圆角矩形 21"/>
                <p:cNvSpPr/>
                <p:nvPr/>
              </p:nvSpPr>
              <p:spPr>
                <a:xfrm rot="2050800">
                  <a:off x="277560" y="3664080"/>
                  <a:ext cx="1253880" cy="1234800"/>
                </a:xfrm>
                <a:custGeom>
                  <a:avLst/>
                  <a:gdLst>
                    <a:gd name="textAreaLeft" fmla="*/ 0 w 1253880"/>
                    <a:gd name="textAreaRight" fmla="*/ 1254240 w 1253880"/>
                    <a:gd name="textAreaTop" fmla="*/ 0 h 1234800"/>
                    <a:gd name="textAreaBottom" fmla="*/ 1235160 h 1234800"/>
                  </a:gdLst>
                  <a:ahLst/>
                  <a:rect l="textAreaLeft" t="textAreaTop" r="textAreaRight" b="textAreaBottom"/>
                  <a:pathLst>
                    <a:path w="1362642" h="1342023">
                      <a:moveTo>
                        <a:pt x="56295" y="235354"/>
                      </a:moveTo>
                      <a:cubicBezTo>
                        <a:pt x="56295" y="118536"/>
                        <a:pt x="150995" y="23836"/>
                        <a:pt x="267813" y="23836"/>
                      </a:cubicBezTo>
                      <a:lnTo>
                        <a:pt x="1120697" y="0"/>
                      </a:lnTo>
                      <a:cubicBezTo>
                        <a:pt x="1237515" y="0"/>
                        <a:pt x="1328219" y="19882"/>
                        <a:pt x="1362642" y="226930"/>
                      </a:cubicBezTo>
                      <a:lnTo>
                        <a:pt x="1325377" y="1081400"/>
                      </a:lnTo>
                      <a:cubicBezTo>
                        <a:pt x="1325377" y="1198218"/>
                        <a:pt x="1230677" y="1292918"/>
                        <a:pt x="1113859" y="1292918"/>
                      </a:cubicBezTo>
                      <a:cubicBezTo>
                        <a:pt x="831844" y="1292918"/>
                        <a:pt x="518550" y="1341800"/>
                        <a:pt x="236535" y="1341800"/>
                      </a:cubicBezTo>
                      <a:cubicBezTo>
                        <a:pt x="3520" y="1347033"/>
                        <a:pt x="-21366" y="1260183"/>
                        <a:pt x="11934" y="1083898"/>
                      </a:cubicBezTo>
                      <a:lnTo>
                        <a:pt x="56295" y="235354"/>
                      </a:lnTo>
                      <a:close/>
                    </a:path>
                  </a:pathLst>
                </a:custGeom>
                <a:solidFill>
                  <a:srgbClr val="e2486d"/>
                </a:solidFill>
                <a:ln w="22320">
                  <a:solidFill>
                    <a:srgbClr val="72362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圆角矩形 21"/>
                <p:cNvSpPr/>
                <p:nvPr/>
              </p:nvSpPr>
              <p:spPr>
                <a:xfrm rot="2050800">
                  <a:off x="414000" y="3800160"/>
                  <a:ext cx="981000" cy="961560"/>
                </a:xfrm>
                <a:custGeom>
                  <a:avLst/>
                  <a:gdLst>
                    <a:gd name="textAreaLeft" fmla="*/ 0 w 981000"/>
                    <a:gd name="textAreaRight" fmla="*/ 981000 w 981000"/>
                    <a:gd name="textAreaTop" fmla="*/ 0 h 961560"/>
                    <a:gd name="textAreaBottom" fmla="*/ 961920 h 961560"/>
                  </a:gdLst>
                  <a:ahLst/>
                  <a:rect l="textAreaLeft" t="textAreaTop" r="textAreaRight" b="textAreaBottom"/>
                  <a:pathLst>
                    <a:path w="1373169" h="1343045">
                      <a:moveTo>
                        <a:pt x="56295" y="236376"/>
                      </a:moveTo>
                      <a:cubicBezTo>
                        <a:pt x="51450" y="83356"/>
                        <a:pt x="150995" y="24858"/>
                        <a:pt x="267813" y="24858"/>
                      </a:cubicBezTo>
                      <a:lnTo>
                        <a:pt x="1106847" y="0"/>
                      </a:lnTo>
                      <a:cubicBezTo>
                        <a:pt x="1223665" y="0"/>
                        <a:pt x="1334634" y="19828"/>
                        <a:pt x="1373169" y="193377"/>
                      </a:cubicBezTo>
                      <a:lnTo>
                        <a:pt x="1325377" y="1082422"/>
                      </a:lnTo>
                      <a:cubicBezTo>
                        <a:pt x="1325377" y="1199240"/>
                        <a:pt x="1230677" y="1293940"/>
                        <a:pt x="1113859" y="1293940"/>
                      </a:cubicBezTo>
                      <a:cubicBezTo>
                        <a:pt x="831844" y="1293940"/>
                        <a:pt x="518550" y="1342822"/>
                        <a:pt x="236535" y="1342822"/>
                      </a:cubicBezTo>
                      <a:cubicBezTo>
                        <a:pt x="3520" y="1348055"/>
                        <a:pt x="-21366" y="1261205"/>
                        <a:pt x="11934" y="1084920"/>
                      </a:cubicBezTo>
                      <a:cubicBezTo>
                        <a:pt x="12953" y="781803"/>
                        <a:pt x="27740" y="498957"/>
                        <a:pt x="56295" y="236376"/>
                      </a:cubicBezTo>
                      <a:close/>
                    </a:path>
                  </a:pathLst>
                </a:custGeom>
                <a:solidFill>
                  <a:srgbClr val="fefd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任意多边形 20"/>
          <p:cNvSpPr/>
          <p:nvPr/>
        </p:nvSpPr>
        <p:spPr>
          <a:xfrm>
            <a:off x="0" y="6504120"/>
            <a:ext cx="12192120" cy="46008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12192000" h="1669143">
                <a:moveTo>
                  <a:pt x="0" y="0"/>
                </a:moveTo>
                <a:lnTo>
                  <a:pt x="12192000" y="0"/>
                </a:lnTo>
                <a:lnTo>
                  <a:pt x="12192000" y="1669143"/>
                </a:lnTo>
                <a:lnTo>
                  <a:pt x="0" y="1654629"/>
                </a:lnTo>
                <a:lnTo>
                  <a:pt x="0" y="0"/>
                </a:lnTo>
                <a:close/>
              </a:path>
            </a:pathLst>
          </a:custGeom>
          <a:solidFill>
            <a:srgbClr val="a8ce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22"/>
          <p:cNvSpPr/>
          <p:nvPr/>
        </p:nvSpPr>
        <p:spPr>
          <a:xfrm>
            <a:off x="3630600" y="-420840"/>
            <a:ext cx="987480" cy="646200"/>
          </a:xfrm>
          <a:custGeom>
            <a:avLst/>
            <a:gdLst>
              <a:gd name="textAreaLeft" fmla="*/ 0 w 987480"/>
              <a:gd name="textAreaRight" fmla="*/ 987840 w 98748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1165156" h="764824">
                <a:moveTo>
                  <a:pt x="768489" y="220152"/>
                </a:moveTo>
                <a:cubicBezTo>
                  <a:pt x="1044714" y="-70360"/>
                  <a:pt x="1301889" y="339214"/>
                  <a:pt x="1082814" y="405890"/>
                </a:cubicBezTo>
                <a:cubicBezTo>
                  <a:pt x="1366976" y="628139"/>
                  <a:pt x="808176" y="750377"/>
                  <a:pt x="792301" y="601152"/>
                </a:cubicBezTo>
                <a:cubicBezTo>
                  <a:pt x="617676" y="913890"/>
                  <a:pt x="257314" y="697990"/>
                  <a:pt x="339864" y="610677"/>
                </a:cubicBezTo>
                <a:cubicBezTo>
                  <a:pt x="43000" y="799589"/>
                  <a:pt x="-139561" y="459864"/>
                  <a:pt x="135076" y="434465"/>
                </a:cubicBezTo>
                <a:cubicBezTo>
                  <a:pt x="23951" y="399539"/>
                  <a:pt x="31888" y="140777"/>
                  <a:pt x="287476" y="229677"/>
                </a:cubicBezTo>
                <a:cubicBezTo>
                  <a:pt x="173177" y="48702"/>
                  <a:pt x="373201" y="105852"/>
                  <a:pt x="473214" y="172527"/>
                </a:cubicBezTo>
                <a:cubicBezTo>
                  <a:pt x="638314" y="-206886"/>
                  <a:pt x="827226" y="147127"/>
                  <a:pt x="768489" y="220152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"/>
          <p:cNvGrpSpPr/>
          <p:nvPr/>
        </p:nvGrpSpPr>
        <p:grpSpPr>
          <a:xfrm>
            <a:off x="528120" y="3762720"/>
            <a:ext cx="706320" cy="831600"/>
            <a:chOff x="528120" y="3762720"/>
            <a:chExt cx="706320" cy="831600"/>
          </a:xfrm>
        </p:grpSpPr>
        <p:grpSp>
          <p:nvGrpSpPr>
            <p:cNvPr id="60" name="Group 21"/>
            <p:cNvGrpSpPr/>
            <p:nvPr/>
          </p:nvGrpSpPr>
          <p:grpSpPr>
            <a:xfrm>
              <a:off x="528120" y="3762720"/>
              <a:ext cx="678240" cy="831600"/>
              <a:chOff x="528120" y="3762720"/>
              <a:chExt cx="678240" cy="831600"/>
            </a:xfrm>
          </p:grpSpPr>
          <p:sp>
            <p:nvSpPr>
              <p:cNvPr id="61" name="椭圆 29"/>
              <p:cNvSpPr/>
              <p:nvPr/>
            </p:nvSpPr>
            <p:spPr>
              <a:xfrm rot="17909400">
                <a:off x="499320" y="3998520"/>
                <a:ext cx="738720" cy="366840"/>
              </a:xfrm>
              <a:prstGeom prst="ellipse">
                <a:avLst/>
              </a:prstGeom>
              <a:solidFill>
                <a:srgbClr val="fd5307"/>
              </a:solidFill>
              <a:ln w="19080">
                <a:solidFill>
                  <a:srgbClr val="ff89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" name="图片 30" descr=""/>
              <p:cNvPicPr/>
              <p:nvPr/>
            </p:nvPicPr>
            <p:blipFill>
              <a:blip r:embed="rId3"/>
              <a:srcRect l="0" t="0" r="0" b="47583"/>
              <a:stretch/>
            </p:blipFill>
            <p:spPr>
              <a:xfrm rot="17916600">
                <a:off x="420840" y="4041000"/>
                <a:ext cx="755640" cy="204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" name="椭圆 25"/>
            <p:cNvSpPr/>
            <p:nvPr/>
          </p:nvSpPr>
          <p:spPr>
            <a:xfrm rot="19254600">
              <a:off x="584280" y="4156200"/>
              <a:ext cx="646200" cy="2412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6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25"/>
            <p:cNvGrpSpPr/>
            <p:nvPr/>
          </p:nvGrpSpPr>
          <p:grpSpPr>
            <a:xfrm>
              <a:off x="610200" y="4191480"/>
              <a:ext cx="624240" cy="376560"/>
              <a:chOff x="610200" y="4191480"/>
              <a:chExt cx="624240" cy="376560"/>
            </a:xfrm>
          </p:grpSpPr>
          <p:sp>
            <p:nvSpPr>
              <p:cNvPr id="65" name="椭圆 27"/>
              <p:cNvSpPr/>
              <p:nvPr/>
            </p:nvSpPr>
            <p:spPr>
              <a:xfrm rot="20645400">
                <a:off x="629640" y="4267080"/>
                <a:ext cx="583560" cy="225000"/>
              </a:xfrm>
              <a:prstGeom prst="ellipse">
                <a:avLst/>
              </a:prstGeom>
              <a:solidFill>
                <a:srgbClr val="ffa890"/>
              </a:solidFill>
              <a:ln w="12600">
                <a:solidFill>
                  <a:srgbClr val="ff6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" name="图片 28" descr=""/>
              <p:cNvPicPr/>
              <p:nvPr/>
            </p:nvPicPr>
            <p:blipFill>
              <a:blip r:embed="rId4"/>
              <a:srcRect l="0" t="0" r="0" b="46057"/>
              <a:stretch/>
            </p:blipFill>
            <p:spPr>
              <a:xfrm rot="20616600">
                <a:off x="634320" y="4277160"/>
                <a:ext cx="594000" cy="127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" name="任意多边形 31"/>
          <p:cNvSpPr/>
          <p:nvPr/>
        </p:nvSpPr>
        <p:spPr>
          <a:xfrm>
            <a:off x="511200" y="5840280"/>
            <a:ext cx="501480" cy="282600"/>
          </a:xfrm>
          <a:custGeom>
            <a:avLst/>
            <a:gdLst>
              <a:gd name="textAreaLeft" fmla="*/ 0 w 501480"/>
              <a:gd name="textAreaRight" fmla="*/ 501840 w 5014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25420" h="127528">
                <a:moveTo>
                  <a:pt x="141296" y="50293"/>
                </a:moveTo>
                <a:cubicBezTo>
                  <a:pt x="158758" y="52410"/>
                  <a:pt x="176923" y="25442"/>
                  <a:pt x="206865" y="27141"/>
                </a:cubicBezTo>
                <a:cubicBezTo>
                  <a:pt x="236807" y="28840"/>
                  <a:pt x="234322" y="67037"/>
                  <a:pt x="171048" y="121178"/>
                </a:cubicBezTo>
                <a:cubicBezTo>
                  <a:pt x="115931" y="127576"/>
                  <a:pt x="75798" y="125411"/>
                  <a:pt x="28173" y="127528"/>
                </a:cubicBezTo>
                <a:cubicBezTo>
                  <a:pt x="-16562" y="95873"/>
                  <a:pt x="-4005" y="59510"/>
                  <a:pt x="37698" y="64028"/>
                </a:cubicBezTo>
                <a:lnTo>
                  <a:pt x="82148" y="70450"/>
                </a:lnTo>
                <a:lnTo>
                  <a:pt x="72695" y="26891"/>
                </a:lnTo>
                <a:cubicBezTo>
                  <a:pt x="78516" y="15237"/>
                  <a:pt x="105640" y="-3372"/>
                  <a:pt x="117073" y="528"/>
                </a:cubicBezTo>
                <a:cubicBezTo>
                  <a:pt x="128506" y="4428"/>
                  <a:pt x="133222" y="33705"/>
                  <a:pt x="141296" y="50293"/>
                </a:cubicBezTo>
                <a:close/>
              </a:path>
            </a:pathLst>
          </a:custGeom>
          <a:solidFill>
            <a:srgbClr val="9aa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32"/>
          <p:cNvSpPr/>
          <p:nvPr/>
        </p:nvSpPr>
        <p:spPr>
          <a:xfrm rot="1839000">
            <a:off x="1555560" y="6338520"/>
            <a:ext cx="500040" cy="284040"/>
          </a:xfrm>
          <a:custGeom>
            <a:avLst/>
            <a:gdLst>
              <a:gd name="textAreaLeft" fmla="*/ 0 w 500040"/>
              <a:gd name="textAreaRight" fmla="*/ 500400 w 5000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25420" h="127528">
                <a:moveTo>
                  <a:pt x="141296" y="50293"/>
                </a:moveTo>
                <a:cubicBezTo>
                  <a:pt x="158758" y="52410"/>
                  <a:pt x="176923" y="25442"/>
                  <a:pt x="206865" y="27141"/>
                </a:cubicBezTo>
                <a:cubicBezTo>
                  <a:pt x="236807" y="28840"/>
                  <a:pt x="234322" y="67037"/>
                  <a:pt x="171048" y="121178"/>
                </a:cubicBezTo>
                <a:cubicBezTo>
                  <a:pt x="115931" y="127576"/>
                  <a:pt x="75798" y="125411"/>
                  <a:pt x="28173" y="127528"/>
                </a:cubicBezTo>
                <a:cubicBezTo>
                  <a:pt x="-16562" y="95873"/>
                  <a:pt x="-4005" y="59510"/>
                  <a:pt x="37698" y="64028"/>
                </a:cubicBezTo>
                <a:lnTo>
                  <a:pt x="82148" y="70450"/>
                </a:lnTo>
                <a:lnTo>
                  <a:pt x="72695" y="26891"/>
                </a:lnTo>
                <a:cubicBezTo>
                  <a:pt x="78516" y="15237"/>
                  <a:pt x="105640" y="-3372"/>
                  <a:pt x="117073" y="528"/>
                </a:cubicBezTo>
                <a:cubicBezTo>
                  <a:pt x="128506" y="4428"/>
                  <a:pt x="133222" y="33705"/>
                  <a:pt x="141296" y="50293"/>
                </a:cubicBezTo>
                <a:close/>
              </a:path>
            </a:pathLst>
          </a:custGeom>
          <a:solidFill>
            <a:srgbClr val="9aa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3"/>
          <p:cNvSpPr/>
          <p:nvPr/>
        </p:nvSpPr>
        <p:spPr>
          <a:xfrm rot="722400">
            <a:off x="5844960" y="6806880"/>
            <a:ext cx="501480" cy="284040"/>
          </a:xfrm>
          <a:custGeom>
            <a:avLst/>
            <a:gdLst>
              <a:gd name="textAreaLeft" fmla="*/ 0 w 501480"/>
              <a:gd name="textAreaRight" fmla="*/ 501840 w 5014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25420" h="127528">
                <a:moveTo>
                  <a:pt x="141296" y="50293"/>
                </a:moveTo>
                <a:cubicBezTo>
                  <a:pt x="158758" y="52410"/>
                  <a:pt x="176923" y="25442"/>
                  <a:pt x="206865" y="27141"/>
                </a:cubicBezTo>
                <a:cubicBezTo>
                  <a:pt x="236807" y="28840"/>
                  <a:pt x="234322" y="67037"/>
                  <a:pt x="171048" y="121178"/>
                </a:cubicBezTo>
                <a:cubicBezTo>
                  <a:pt x="115931" y="127576"/>
                  <a:pt x="75798" y="125411"/>
                  <a:pt x="28173" y="127528"/>
                </a:cubicBezTo>
                <a:cubicBezTo>
                  <a:pt x="-16562" y="95873"/>
                  <a:pt x="-4005" y="59510"/>
                  <a:pt x="37698" y="64028"/>
                </a:cubicBezTo>
                <a:lnTo>
                  <a:pt x="82148" y="70450"/>
                </a:lnTo>
                <a:lnTo>
                  <a:pt x="72695" y="26891"/>
                </a:lnTo>
                <a:cubicBezTo>
                  <a:pt x="78516" y="15237"/>
                  <a:pt x="105640" y="-3372"/>
                  <a:pt x="117073" y="528"/>
                </a:cubicBezTo>
                <a:cubicBezTo>
                  <a:pt x="128506" y="4428"/>
                  <a:pt x="133222" y="33705"/>
                  <a:pt x="141296" y="50293"/>
                </a:cubicBezTo>
                <a:close/>
              </a:path>
            </a:pathLst>
          </a:custGeom>
          <a:solidFill>
            <a:srgbClr val="9aa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4"/>
          <p:cNvSpPr/>
          <p:nvPr/>
        </p:nvSpPr>
        <p:spPr>
          <a:xfrm rot="722400">
            <a:off x="11974320" y="6570360"/>
            <a:ext cx="501480" cy="284040"/>
          </a:xfrm>
          <a:custGeom>
            <a:avLst/>
            <a:gdLst>
              <a:gd name="textAreaLeft" fmla="*/ 0 w 501480"/>
              <a:gd name="textAreaRight" fmla="*/ 501840 w 5014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25420" h="127528">
                <a:moveTo>
                  <a:pt x="141296" y="50293"/>
                </a:moveTo>
                <a:cubicBezTo>
                  <a:pt x="158758" y="52410"/>
                  <a:pt x="176923" y="25442"/>
                  <a:pt x="206865" y="27141"/>
                </a:cubicBezTo>
                <a:cubicBezTo>
                  <a:pt x="236807" y="28840"/>
                  <a:pt x="234322" y="67037"/>
                  <a:pt x="171048" y="121178"/>
                </a:cubicBezTo>
                <a:cubicBezTo>
                  <a:pt x="115931" y="127576"/>
                  <a:pt x="75798" y="125411"/>
                  <a:pt x="28173" y="127528"/>
                </a:cubicBezTo>
                <a:cubicBezTo>
                  <a:pt x="-16562" y="95873"/>
                  <a:pt x="-4005" y="59510"/>
                  <a:pt x="37698" y="64028"/>
                </a:cubicBezTo>
                <a:lnTo>
                  <a:pt x="82148" y="70450"/>
                </a:lnTo>
                <a:lnTo>
                  <a:pt x="72695" y="26891"/>
                </a:lnTo>
                <a:cubicBezTo>
                  <a:pt x="78516" y="15237"/>
                  <a:pt x="105640" y="-3372"/>
                  <a:pt x="117073" y="528"/>
                </a:cubicBezTo>
                <a:cubicBezTo>
                  <a:pt x="128506" y="4428"/>
                  <a:pt x="133222" y="33705"/>
                  <a:pt x="141296" y="50293"/>
                </a:cubicBezTo>
                <a:close/>
              </a:path>
            </a:pathLst>
          </a:custGeom>
          <a:solidFill>
            <a:srgbClr val="9aa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5"/>
          <p:cNvSpPr/>
          <p:nvPr/>
        </p:nvSpPr>
        <p:spPr>
          <a:xfrm rot="1690200">
            <a:off x="4273200" y="6554880"/>
            <a:ext cx="453960" cy="257040"/>
          </a:xfrm>
          <a:custGeom>
            <a:avLst/>
            <a:gdLst>
              <a:gd name="textAreaLeft" fmla="*/ 0 w 453960"/>
              <a:gd name="textAreaRight" fmla="*/ 454320 w 45396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25420" h="127528">
                <a:moveTo>
                  <a:pt x="141296" y="50293"/>
                </a:moveTo>
                <a:cubicBezTo>
                  <a:pt x="158758" y="52410"/>
                  <a:pt x="176923" y="25442"/>
                  <a:pt x="206865" y="27141"/>
                </a:cubicBezTo>
                <a:cubicBezTo>
                  <a:pt x="236807" y="28840"/>
                  <a:pt x="234322" y="67037"/>
                  <a:pt x="171048" y="121178"/>
                </a:cubicBezTo>
                <a:cubicBezTo>
                  <a:pt x="115931" y="127576"/>
                  <a:pt x="75798" y="125411"/>
                  <a:pt x="28173" y="127528"/>
                </a:cubicBezTo>
                <a:cubicBezTo>
                  <a:pt x="-16562" y="95873"/>
                  <a:pt x="-4005" y="59510"/>
                  <a:pt x="37698" y="64028"/>
                </a:cubicBezTo>
                <a:lnTo>
                  <a:pt x="82148" y="70450"/>
                </a:lnTo>
                <a:lnTo>
                  <a:pt x="72695" y="26891"/>
                </a:lnTo>
                <a:cubicBezTo>
                  <a:pt x="78516" y="15237"/>
                  <a:pt x="105640" y="-3372"/>
                  <a:pt x="117073" y="528"/>
                </a:cubicBezTo>
                <a:cubicBezTo>
                  <a:pt x="128506" y="4428"/>
                  <a:pt x="133222" y="33705"/>
                  <a:pt x="141296" y="50293"/>
                </a:cubicBezTo>
                <a:close/>
              </a:path>
            </a:pathLst>
          </a:custGeom>
          <a:solidFill>
            <a:srgbClr val="9aa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6"/>
          <p:cNvSpPr/>
          <p:nvPr/>
        </p:nvSpPr>
        <p:spPr>
          <a:xfrm>
            <a:off x="2508120" y="6399360"/>
            <a:ext cx="501840" cy="284040"/>
          </a:xfrm>
          <a:custGeom>
            <a:avLst/>
            <a:gdLst>
              <a:gd name="textAreaLeft" fmla="*/ 0 w 501840"/>
              <a:gd name="textAreaRight" fmla="*/ 502200 w 5018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25420" h="127528">
                <a:moveTo>
                  <a:pt x="141296" y="50293"/>
                </a:moveTo>
                <a:cubicBezTo>
                  <a:pt x="158758" y="52410"/>
                  <a:pt x="176923" y="25442"/>
                  <a:pt x="206865" y="27141"/>
                </a:cubicBezTo>
                <a:cubicBezTo>
                  <a:pt x="236807" y="28840"/>
                  <a:pt x="234322" y="67037"/>
                  <a:pt x="171048" y="121178"/>
                </a:cubicBezTo>
                <a:cubicBezTo>
                  <a:pt x="115931" y="127576"/>
                  <a:pt x="75798" y="125411"/>
                  <a:pt x="28173" y="127528"/>
                </a:cubicBezTo>
                <a:cubicBezTo>
                  <a:pt x="-16562" y="95873"/>
                  <a:pt x="-4005" y="59510"/>
                  <a:pt x="37698" y="64028"/>
                </a:cubicBezTo>
                <a:lnTo>
                  <a:pt x="82148" y="70450"/>
                </a:lnTo>
                <a:lnTo>
                  <a:pt x="72695" y="26891"/>
                </a:lnTo>
                <a:cubicBezTo>
                  <a:pt x="78516" y="15237"/>
                  <a:pt x="105640" y="-3372"/>
                  <a:pt x="117073" y="528"/>
                </a:cubicBezTo>
                <a:cubicBezTo>
                  <a:pt x="128506" y="4428"/>
                  <a:pt x="133222" y="33705"/>
                  <a:pt x="141296" y="50293"/>
                </a:cubicBezTo>
                <a:close/>
              </a:path>
            </a:pathLst>
          </a:custGeom>
          <a:solidFill>
            <a:srgbClr val="9aa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4"/>
          <p:cNvGrpSpPr/>
          <p:nvPr/>
        </p:nvGrpSpPr>
        <p:grpSpPr>
          <a:xfrm>
            <a:off x="10506240" y="5722920"/>
            <a:ext cx="1555560" cy="1179360"/>
            <a:chOff x="10506240" y="5722920"/>
            <a:chExt cx="1555560" cy="1179360"/>
          </a:xfrm>
        </p:grpSpPr>
        <p:sp>
          <p:nvSpPr>
            <p:cNvPr id="74" name="椭圆 39"/>
            <p:cNvSpPr/>
            <p:nvPr/>
          </p:nvSpPr>
          <p:spPr>
            <a:xfrm>
              <a:off x="10506240" y="6562800"/>
              <a:ext cx="1555560" cy="339480"/>
            </a:xfrm>
            <a:prstGeom prst="ellipse">
              <a:avLst/>
            </a:prstGeom>
            <a:solidFill>
              <a:srgbClr val="9aa00b"/>
            </a:solidFill>
            <a:ln w="12600">
              <a:solidFill>
                <a:srgbClr val="9aa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任意多边形 40"/>
            <p:cNvSpPr/>
            <p:nvPr/>
          </p:nvSpPr>
          <p:spPr>
            <a:xfrm>
              <a:off x="11909520" y="6549840"/>
              <a:ext cx="52200" cy="1458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346528" h="715312">
                  <a:moveTo>
                    <a:pt x="0" y="9979"/>
                  </a:moveTo>
                  <a:lnTo>
                    <a:pt x="37193" y="667657"/>
                  </a:lnTo>
                  <a:cubicBezTo>
                    <a:pt x="93889" y="748846"/>
                    <a:pt x="233136" y="709386"/>
                    <a:pt x="286657" y="673100"/>
                  </a:cubicBezTo>
                  <a:lnTo>
                    <a:pt x="346528" y="0"/>
                  </a:lnTo>
                  <a:lnTo>
                    <a:pt x="0" y="9979"/>
                  </a:lnTo>
                  <a:close/>
                </a:path>
              </a:pathLst>
            </a:custGeom>
            <a:solidFill>
              <a:srgbClr val="f8f9fe"/>
            </a:solidFill>
            <a:ln w="25560">
              <a:solidFill>
                <a:srgbClr val="6562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任意多边形 41"/>
            <p:cNvSpPr/>
            <p:nvPr/>
          </p:nvSpPr>
          <p:spPr>
            <a:xfrm>
              <a:off x="11444400" y="5735520"/>
              <a:ext cx="565200" cy="101268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012680"/>
                <a:gd name="textAreaBottom" fmla="*/ 1013040 h 1012680"/>
              </a:gdLst>
              <a:ahLst/>
              <a:rect l="textAreaLeft" t="textAreaTop" r="textAreaRight" b="textAreaBottom"/>
              <a:pathLst>
                <a:path w="3107764" h="5283177">
                  <a:moveTo>
                    <a:pt x="2540000" y="0"/>
                  </a:moveTo>
                  <a:cubicBezTo>
                    <a:pt x="2750457" y="638629"/>
                    <a:pt x="3196282" y="3111105"/>
                    <a:pt x="3092263" y="3989219"/>
                  </a:cubicBezTo>
                  <a:cubicBezTo>
                    <a:pt x="3060815" y="4562533"/>
                    <a:pt x="2097314" y="5529942"/>
                    <a:pt x="1596571" y="5225142"/>
                  </a:cubicBezTo>
                  <a:lnTo>
                    <a:pt x="0" y="2249714"/>
                  </a:lnTo>
                  <a:lnTo>
                    <a:pt x="1741715" y="246742"/>
                  </a:lnTo>
                  <a:lnTo>
                    <a:pt x="2540000" y="0"/>
                  </a:lnTo>
                  <a:close/>
                </a:path>
              </a:pathLst>
            </a:custGeom>
            <a:solidFill>
              <a:srgbClr val="c47901"/>
            </a:solidFill>
            <a:ln w="41400">
              <a:solidFill>
                <a:srgbClr val="7d5b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任意多边形 42"/>
            <p:cNvSpPr/>
            <p:nvPr/>
          </p:nvSpPr>
          <p:spPr>
            <a:xfrm>
              <a:off x="10756800" y="6675480"/>
              <a:ext cx="69840" cy="1458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346528" h="715312">
                  <a:moveTo>
                    <a:pt x="0" y="9979"/>
                  </a:moveTo>
                  <a:lnTo>
                    <a:pt x="37193" y="667657"/>
                  </a:lnTo>
                  <a:cubicBezTo>
                    <a:pt x="93889" y="748846"/>
                    <a:pt x="233136" y="709386"/>
                    <a:pt x="286657" y="673100"/>
                  </a:cubicBezTo>
                  <a:lnTo>
                    <a:pt x="346528" y="0"/>
                  </a:lnTo>
                  <a:lnTo>
                    <a:pt x="0" y="9979"/>
                  </a:lnTo>
                  <a:close/>
                </a:path>
              </a:pathLst>
            </a:custGeom>
            <a:solidFill>
              <a:srgbClr val="f8f9fe"/>
            </a:solidFill>
            <a:ln w="25560">
              <a:solidFill>
                <a:srgbClr val="6562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任意多边形 43"/>
            <p:cNvSpPr/>
            <p:nvPr/>
          </p:nvSpPr>
          <p:spPr>
            <a:xfrm>
              <a:off x="11572920" y="6696000"/>
              <a:ext cx="71280" cy="1443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346528" h="715312">
                  <a:moveTo>
                    <a:pt x="0" y="9979"/>
                  </a:moveTo>
                  <a:lnTo>
                    <a:pt x="37193" y="667657"/>
                  </a:lnTo>
                  <a:cubicBezTo>
                    <a:pt x="93889" y="748846"/>
                    <a:pt x="233136" y="709386"/>
                    <a:pt x="286657" y="673100"/>
                  </a:cubicBezTo>
                  <a:lnTo>
                    <a:pt x="346528" y="0"/>
                  </a:lnTo>
                  <a:lnTo>
                    <a:pt x="0" y="9979"/>
                  </a:lnTo>
                  <a:close/>
                </a:path>
              </a:pathLst>
            </a:custGeom>
            <a:solidFill>
              <a:srgbClr val="f8f9fe"/>
            </a:solidFill>
            <a:ln w="25560">
              <a:solidFill>
                <a:srgbClr val="6562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任意多边形 44"/>
            <p:cNvSpPr/>
            <p:nvPr/>
          </p:nvSpPr>
          <p:spPr>
            <a:xfrm>
              <a:off x="10656720" y="5722920"/>
              <a:ext cx="1251000" cy="179280"/>
            </a:xfrm>
            <a:custGeom>
              <a:avLst/>
              <a:gdLst>
                <a:gd name="textAreaLeft" fmla="*/ 0 w 1251000"/>
                <a:gd name="textAreaRight" fmla="*/ 1251360 w 12510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6297443" h="1159292">
                  <a:moveTo>
                    <a:pt x="0" y="952814"/>
                  </a:moveTo>
                  <a:cubicBezTo>
                    <a:pt x="178642" y="779902"/>
                    <a:pt x="423589" y="412980"/>
                    <a:pt x="959891" y="163402"/>
                  </a:cubicBezTo>
                  <a:cubicBezTo>
                    <a:pt x="1496193" y="-86176"/>
                    <a:pt x="6025510" y="13373"/>
                    <a:pt x="6255713" y="55210"/>
                  </a:cubicBezTo>
                  <a:cubicBezTo>
                    <a:pt x="6485916" y="97047"/>
                    <a:pt x="5703473" y="598854"/>
                    <a:pt x="5379009" y="864325"/>
                  </a:cubicBezTo>
                  <a:lnTo>
                    <a:pt x="58994" y="1159292"/>
                  </a:lnTo>
                  <a:lnTo>
                    <a:pt x="0" y="952814"/>
                  </a:lnTo>
                  <a:close/>
                </a:path>
              </a:pathLst>
            </a:custGeom>
            <a:solidFill>
              <a:srgbClr val="c47901"/>
            </a:solidFill>
            <a:ln w="41400">
              <a:solidFill>
                <a:srgbClr val="7d5b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圆角矩形 17"/>
            <p:cNvSpPr/>
            <p:nvPr/>
          </p:nvSpPr>
          <p:spPr>
            <a:xfrm>
              <a:off x="10550520" y="5810040"/>
              <a:ext cx="1326960" cy="965160"/>
            </a:xfrm>
            <a:custGeom>
              <a:avLst/>
              <a:gdLst>
                <a:gd name="textAreaLeft" fmla="*/ 0 w 1326960"/>
                <a:gd name="textAreaRight" fmla="*/ 1327320 w 1326960"/>
                <a:gd name="textAreaTop" fmla="*/ 0 h 965160"/>
                <a:gd name="textAreaBottom" fmla="*/ 965160 h 965160"/>
              </a:gdLst>
              <a:ahLst/>
              <a:rect l="textAreaLeft" t="textAreaTop" r="textAreaRight" b="textAreaBottom"/>
              <a:pathLst>
                <a:path w="6877336" h="5014534">
                  <a:moveTo>
                    <a:pt x="322544" y="914046"/>
                  </a:moveTo>
                  <a:cubicBezTo>
                    <a:pt x="453172" y="405791"/>
                    <a:pt x="426244" y="69863"/>
                    <a:pt x="1195756" y="113406"/>
                  </a:cubicBezTo>
                  <a:lnTo>
                    <a:pt x="5365454" y="26320"/>
                  </a:lnTo>
                  <a:cubicBezTo>
                    <a:pt x="6570395" y="-75280"/>
                    <a:pt x="6485408" y="100991"/>
                    <a:pt x="6616037" y="841475"/>
                  </a:cubicBezTo>
                  <a:cubicBezTo>
                    <a:pt x="6775694" y="1870258"/>
                    <a:pt x="6877294" y="3073212"/>
                    <a:pt x="6877294" y="4160052"/>
                  </a:cubicBezTo>
                  <a:cubicBezTo>
                    <a:pt x="6877294" y="4610250"/>
                    <a:pt x="6904223" y="5091322"/>
                    <a:pt x="5597682" y="5004236"/>
                  </a:cubicBezTo>
                  <a:lnTo>
                    <a:pt x="1239299" y="4917150"/>
                  </a:lnTo>
                  <a:cubicBezTo>
                    <a:pt x="-125299" y="5018750"/>
                    <a:pt x="3230" y="4624765"/>
                    <a:pt x="3230" y="4174567"/>
                  </a:cubicBezTo>
                  <a:cubicBezTo>
                    <a:pt x="-1609" y="2613593"/>
                    <a:pt x="95154" y="1850905"/>
                    <a:pt x="322544" y="914046"/>
                  </a:cubicBezTo>
                  <a:close/>
                </a:path>
              </a:pathLst>
            </a:custGeom>
            <a:solidFill>
              <a:srgbClr val="fecb04"/>
            </a:solidFill>
            <a:ln w="41400">
              <a:solidFill>
                <a:srgbClr val="7d5b2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圆角矩形 17"/>
            <p:cNvSpPr/>
            <p:nvPr/>
          </p:nvSpPr>
          <p:spPr>
            <a:xfrm>
              <a:off x="10613880" y="5862600"/>
              <a:ext cx="1214280" cy="86040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6877336" h="5014534">
                  <a:moveTo>
                    <a:pt x="322544" y="914046"/>
                  </a:moveTo>
                  <a:cubicBezTo>
                    <a:pt x="453172" y="405791"/>
                    <a:pt x="426244" y="69863"/>
                    <a:pt x="1195756" y="113406"/>
                  </a:cubicBezTo>
                  <a:lnTo>
                    <a:pt x="5365454" y="26320"/>
                  </a:lnTo>
                  <a:cubicBezTo>
                    <a:pt x="6570395" y="-75280"/>
                    <a:pt x="6485408" y="100991"/>
                    <a:pt x="6616037" y="841475"/>
                  </a:cubicBezTo>
                  <a:cubicBezTo>
                    <a:pt x="6775694" y="1870258"/>
                    <a:pt x="6877294" y="3073212"/>
                    <a:pt x="6877294" y="4160052"/>
                  </a:cubicBezTo>
                  <a:cubicBezTo>
                    <a:pt x="6877294" y="4610250"/>
                    <a:pt x="6904223" y="5091322"/>
                    <a:pt x="5597682" y="5004236"/>
                  </a:cubicBezTo>
                  <a:lnTo>
                    <a:pt x="1239299" y="4917150"/>
                  </a:lnTo>
                  <a:cubicBezTo>
                    <a:pt x="-125299" y="5018750"/>
                    <a:pt x="3230" y="4624765"/>
                    <a:pt x="3230" y="4174567"/>
                  </a:cubicBezTo>
                  <a:cubicBezTo>
                    <a:pt x="-1609" y="2613593"/>
                    <a:pt x="95154" y="1850905"/>
                    <a:pt x="322544" y="914046"/>
                  </a:cubicBezTo>
                  <a:close/>
                </a:path>
              </a:pathLst>
            </a:custGeom>
            <a:solidFill>
              <a:srgbClr val="fecb04"/>
            </a:solidFill>
            <a:ln w="25560">
              <a:solidFill>
                <a:srgbClr val="fffff8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47"/>
            <p:cNvSpPr/>
            <p:nvPr/>
          </p:nvSpPr>
          <p:spPr>
            <a:xfrm>
              <a:off x="10710720" y="5873400"/>
              <a:ext cx="37800" cy="39600"/>
            </a:xfrm>
            <a:prstGeom prst="ellipse">
              <a:avLst/>
            </a:prstGeom>
            <a:solidFill>
              <a:srgbClr val="51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48"/>
            <p:cNvSpPr/>
            <p:nvPr/>
          </p:nvSpPr>
          <p:spPr>
            <a:xfrm>
              <a:off x="11733480" y="5873400"/>
              <a:ext cx="39600" cy="39600"/>
            </a:xfrm>
            <a:prstGeom prst="ellipse">
              <a:avLst/>
            </a:prstGeom>
            <a:solidFill>
              <a:srgbClr val="51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圆角矩形 43"/>
            <p:cNvSpPr/>
            <p:nvPr/>
          </p:nvSpPr>
          <p:spPr>
            <a:xfrm>
              <a:off x="10707840" y="5957640"/>
              <a:ext cx="1039680" cy="544320"/>
            </a:xfrm>
            <a:custGeom>
              <a:avLst/>
              <a:gdLst>
                <a:gd name="textAreaLeft" fmla="*/ 0 w 1039680"/>
                <a:gd name="textAreaRight" fmla="*/ 1040040 w 103968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5610987" h="2942117">
                  <a:moveTo>
                    <a:pt x="157475" y="489731"/>
                  </a:moveTo>
                  <a:cubicBezTo>
                    <a:pt x="157475" y="240719"/>
                    <a:pt x="397440" y="115054"/>
                    <a:pt x="646452" y="57904"/>
                  </a:cubicBezTo>
                  <a:cubicBezTo>
                    <a:pt x="1954155" y="13454"/>
                    <a:pt x="3176132" y="-30996"/>
                    <a:pt x="4607660" y="29329"/>
                  </a:cubicBezTo>
                  <a:cubicBezTo>
                    <a:pt x="4856672" y="29329"/>
                    <a:pt x="5325237" y="78794"/>
                    <a:pt x="5439537" y="480206"/>
                  </a:cubicBezTo>
                  <a:cubicBezTo>
                    <a:pt x="5582412" y="1065483"/>
                    <a:pt x="5610987" y="1584085"/>
                    <a:pt x="5610987" y="2236037"/>
                  </a:cubicBezTo>
                  <a:cubicBezTo>
                    <a:pt x="5572887" y="2485049"/>
                    <a:pt x="5361497" y="2705964"/>
                    <a:pt x="5112485" y="2705964"/>
                  </a:cubicBezTo>
                  <a:cubicBezTo>
                    <a:pt x="4366757" y="2915514"/>
                    <a:pt x="2087505" y="3115539"/>
                    <a:pt x="722652" y="2696439"/>
                  </a:cubicBezTo>
                  <a:cubicBezTo>
                    <a:pt x="473640" y="2696439"/>
                    <a:pt x="214625" y="2494574"/>
                    <a:pt x="62225" y="2302712"/>
                  </a:cubicBezTo>
                  <a:cubicBezTo>
                    <a:pt x="-61600" y="1387235"/>
                    <a:pt x="14600" y="957533"/>
                    <a:pt x="157475" y="489731"/>
                  </a:cubicBezTo>
                  <a:close/>
                </a:path>
              </a:pathLst>
            </a:custGeom>
            <a:solidFill>
              <a:srgbClr val="493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圆角矩形 43"/>
            <p:cNvSpPr/>
            <p:nvPr/>
          </p:nvSpPr>
          <p:spPr>
            <a:xfrm>
              <a:off x="10680840" y="5989320"/>
              <a:ext cx="1038240" cy="544320"/>
            </a:xfrm>
            <a:custGeom>
              <a:avLst/>
              <a:gdLst>
                <a:gd name="textAreaLeft" fmla="*/ 0 w 1038240"/>
                <a:gd name="textAreaRight" fmla="*/ 1038600 w 1038240"/>
                <a:gd name="textAreaTop" fmla="*/ 0 h 544320"/>
                <a:gd name="textAreaBottom" fmla="*/ 544680 h 544320"/>
              </a:gdLst>
              <a:ahLst/>
              <a:rect l="textAreaLeft" t="textAreaTop" r="textAreaRight" b="textAreaBottom"/>
              <a:pathLst>
                <a:path w="5610987" h="2942117">
                  <a:moveTo>
                    <a:pt x="157475" y="489731"/>
                  </a:moveTo>
                  <a:cubicBezTo>
                    <a:pt x="291115" y="182252"/>
                    <a:pt x="397440" y="115054"/>
                    <a:pt x="646452" y="57904"/>
                  </a:cubicBezTo>
                  <a:cubicBezTo>
                    <a:pt x="1954155" y="13454"/>
                    <a:pt x="3176132" y="-30996"/>
                    <a:pt x="4607660" y="29329"/>
                  </a:cubicBezTo>
                  <a:cubicBezTo>
                    <a:pt x="4856672" y="29329"/>
                    <a:pt x="5325237" y="78794"/>
                    <a:pt x="5439537" y="480206"/>
                  </a:cubicBezTo>
                  <a:cubicBezTo>
                    <a:pt x="5582412" y="1065483"/>
                    <a:pt x="5610987" y="1584085"/>
                    <a:pt x="5610987" y="2236037"/>
                  </a:cubicBezTo>
                  <a:cubicBezTo>
                    <a:pt x="5572887" y="2485049"/>
                    <a:pt x="5361497" y="2705964"/>
                    <a:pt x="5112485" y="2705964"/>
                  </a:cubicBezTo>
                  <a:cubicBezTo>
                    <a:pt x="4366757" y="2915514"/>
                    <a:pt x="2087505" y="3115539"/>
                    <a:pt x="722652" y="2696439"/>
                  </a:cubicBezTo>
                  <a:cubicBezTo>
                    <a:pt x="473640" y="2696439"/>
                    <a:pt x="214625" y="2494574"/>
                    <a:pt x="62225" y="2302712"/>
                  </a:cubicBezTo>
                  <a:cubicBezTo>
                    <a:pt x="-61600" y="1387235"/>
                    <a:pt x="14600" y="957533"/>
                    <a:pt x="157475" y="489731"/>
                  </a:cubicBezTo>
                  <a:close/>
                </a:path>
              </a:pathLst>
            </a:custGeom>
            <a:solidFill>
              <a:srgbClr val="fffdff"/>
            </a:solidFill>
            <a:ln w="28440">
              <a:solidFill>
                <a:srgbClr val="fd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圆角矩形 130"/>
            <p:cNvSpPr/>
            <p:nvPr/>
          </p:nvSpPr>
          <p:spPr>
            <a:xfrm>
              <a:off x="10775880" y="6575400"/>
              <a:ext cx="842760" cy="82440"/>
            </a:xfrm>
            <a:custGeom>
              <a:avLst/>
              <a:gdLst>
                <a:gd name="textAreaLeft" fmla="*/ 0 w 842760"/>
                <a:gd name="textAreaRight" fmla="*/ 843120 w 84276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4149969" h="441730">
                  <a:moveTo>
                    <a:pt x="0" y="82795"/>
                  </a:moveTo>
                  <a:cubicBezTo>
                    <a:pt x="0" y="44083"/>
                    <a:pt x="31383" y="12700"/>
                    <a:pt x="70095" y="12700"/>
                  </a:cubicBezTo>
                  <a:cubicBezTo>
                    <a:pt x="1387638" y="-15875"/>
                    <a:pt x="2743281" y="12700"/>
                    <a:pt x="4079874" y="12700"/>
                  </a:cubicBezTo>
                  <a:cubicBezTo>
                    <a:pt x="4118586" y="12700"/>
                    <a:pt x="4149969" y="44083"/>
                    <a:pt x="4149969" y="82795"/>
                  </a:cubicBezTo>
                  <a:lnTo>
                    <a:pt x="4149969" y="363169"/>
                  </a:lnTo>
                  <a:cubicBezTo>
                    <a:pt x="4149969" y="401881"/>
                    <a:pt x="4118586" y="433264"/>
                    <a:pt x="4079874" y="433264"/>
                  </a:cubicBezTo>
                  <a:cubicBezTo>
                    <a:pt x="2705181" y="452314"/>
                    <a:pt x="1406688" y="433264"/>
                    <a:pt x="70095" y="433264"/>
                  </a:cubicBezTo>
                  <a:cubicBezTo>
                    <a:pt x="31383" y="433264"/>
                    <a:pt x="0" y="401881"/>
                    <a:pt x="0" y="363169"/>
                  </a:cubicBezTo>
                  <a:lnTo>
                    <a:pt x="0" y="82795"/>
                  </a:lnTo>
                  <a:close/>
                </a:path>
              </a:pathLst>
            </a:custGeom>
            <a:solidFill>
              <a:srgbClr val="f9fdfb"/>
            </a:solidFill>
            <a:ln w="25560">
              <a:solidFill>
                <a:srgbClr val="4a30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48"/>
            <p:cNvGrpSpPr/>
            <p:nvPr/>
          </p:nvGrpSpPr>
          <p:grpSpPr>
            <a:xfrm>
              <a:off x="10703880" y="6537600"/>
              <a:ext cx="146520" cy="132840"/>
              <a:chOff x="10703880" y="6537600"/>
              <a:chExt cx="146520" cy="132840"/>
            </a:xfrm>
          </p:grpSpPr>
          <p:sp>
            <p:nvSpPr>
              <p:cNvPr id="88" name="椭圆 59"/>
              <p:cNvSpPr/>
              <p:nvPr/>
            </p:nvSpPr>
            <p:spPr>
              <a:xfrm>
                <a:off x="10705320" y="6537600"/>
                <a:ext cx="145080" cy="118800"/>
              </a:xfrm>
              <a:prstGeom prst="ellipse">
                <a:avLst/>
              </a:prstGeom>
              <a:solidFill>
                <a:srgbClr val="4126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椭圆 60"/>
              <p:cNvSpPr/>
              <p:nvPr/>
            </p:nvSpPr>
            <p:spPr>
              <a:xfrm>
                <a:off x="10703880" y="6551640"/>
                <a:ext cx="145080" cy="118800"/>
              </a:xfrm>
              <a:prstGeom prst="ellipse">
                <a:avLst/>
              </a:prstGeom>
              <a:solidFill>
                <a:srgbClr val="fffff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任意多边形 61"/>
              <p:cNvSpPr/>
              <p:nvPr/>
            </p:nvSpPr>
            <p:spPr>
              <a:xfrm>
                <a:off x="10738800" y="6572160"/>
                <a:ext cx="73080" cy="80640"/>
              </a:xfrm>
              <a:custGeom>
                <a:avLst/>
                <a:gdLst>
                  <a:gd name="textAreaLeft" fmla="*/ 0 w 73080"/>
                  <a:gd name="textAreaRight" fmla="*/ 73440 w 7308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432566" h="475632">
                    <a:moveTo>
                      <a:pt x="283299" y="0"/>
                    </a:moveTo>
                    <a:lnTo>
                      <a:pt x="334192" y="13449"/>
                    </a:lnTo>
                    <a:cubicBezTo>
                      <a:pt x="368738" y="25888"/>
                      <a:pt x="399848" y="43888"/>
                      <a:pt x="425975" y="66130"/>
                    </a:cubicBezTo>
                    <a:lnTo>
                      <a:pt x="432566" y="72930"/>
                    </a:lnTo>
                    <a:lnTo>
                      <a:pt x="144169" y="475632"/>
                    </a:lnTo>
                    <a:lnTo>
                      <a:pt x="109404" y="466445"/>
                    </a:lnTo>
                    <a:cubicBezTo>
                      <a:pt x="74858" y="454006"/>
                      <a:pt x="43748" y="436007"/>
                      <a:pt x="17621" y="413765"/>
                    </a:cubicBezTo>
                    <a:lnTo>
                      <a:pt x="0" y="395584"/>
                    </a:lnTo>
                    <a:lnTo>
                      <a:pt x="283299" y="0"/>
                    </a:lnTo>
                    <a:close/>
                  </a:path>
                </a:pathLst>
              </a:custGeom>
              <a:solidFill>
                <a:srgbClr val="4a301d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任意多边形 62"/>
              <p:cNvSpPr/>
              <p:nvPr/>
            </p:nvSpPr>
            <p:spPr>
              <a:xfrm>
                <a:off x="10727640" y="6570720"/>
                <a:ext cx="59040" cy="6804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350251" h="401452">
                    <a:moveTo>
                      <a:pt x="288750" y="0"/>
                    </a:moveTo>
                    <a:cubicBezTo>
                      <a:pt x="308684" y="0"/>
                      <a:pt x="328146" y="1720"/>
                      <a:pt x="346943" y="4994"/>
                    </a:cubicBezTo>
                    <a:lnTo>
                      <a:pt x="350251" y="5868"/>
                    </a:lnTo>
                    <a:lnTo>
                      <a:pt x="66952" y="401452"/>
                    </a:lnTo>
                    <a:lnTo>
                      <a:pt x="49314" y="383253"/>
                    </a:lnTo>
                    <a:cubicBezTo>
                      <a:pt x="18180" y="344020"/>
                      <a:pt x="0" y="296725"/>
                      <a:pt x="0" y="245815"/>
                    </a:cubicBezTo>
                    <a:cubicBezTo>
                      <a:pt x="0" y="110055"/>
                      <a:pt x="129278" y="0"/>
                      <a:pt x="288750" y="0"/>
                    </a:cubicBezTo>
                    <a:close/>
                  </a:path>
                </a:pathLst>
              </a:custGeom>
              <a:solidFill>
                <a:srgbClr val="fffff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任意多边形 63"/>
              <p:cNvSpPr/>
              <p:nvPr/>
            </p:nvSpPr>
            <p:spPr>
              <a:xfrm>
                <a:off x="10762920" y="6585120"/>
                <a:ext cx="61920" cy="694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366379" h="412832">
                    <a:moveTo>
                      <a:pt x="288397" y="0"/>
                    </a:moveTo>
                    <a:lnTo>
                      <a:pt x="317065" y="29579"/>
                    </a:lnTo>
                    <a:cubicBezTo>
                      <a:pt x="348199" y="68812"/>
                      <a:pt x="366379" y="116107"/>
                      <a:pt x="366379" y="167017"/>
                    </a:cubicBezTo>
                    <a:cubicBezTo>
                      <a:pt x="366379" y="302777"/>
                      <a:pt x="237101" y="412832"/>
                      <a:pt x="77629" y="412832"/>
                    </a:cubicBezTo>
                    <a:cubicBezTo>
                      <a:pt x="57695" y="412832"/>
                      <a:pt x="38233" y="411113"/>
                      <a:pt x="19436" y="407838"/>
                    </a:cubicBezTo>
                    <a:lnTo>
                      <a:pt x="0" y="402702"/>
                    </a:lnTo>
                    <a:lnTo>
                      <a:pt x="288397" y="0"/>
                    </a:lnTo>
                    <a:close/>
                  </a:path>
                </a:pathLst>
              </a:custGeom>
              <a:solidFill>
                <a:srgbClr val="fffff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11572920" y="6548400"/>
              <a:ext cx="145440" cy="134640"/>
              <a:chOff x="11572920" y="6548400"/>
              <a:chExt cx="145440" cy="134640"/>
            </a:xfrm>
          </p:grpSpPr>
          <p:sp>
            <p:nvSpPr>
              <p:cNvPr id="94" name="椭圆 54"/>
              <p:cNvSpPr/>
              <p:nvPr/>
            </p:nvSpPr>
            <p:spPr>
              <a:xfrm>
                <a:off x="11572920" y="6548400"/>
                <a:ext cx="145440" cy="118800"/>
              </a:xfrm>
              <a:prstGeom prst="ellipse">
                <a:avLst/>
              </a:prstGeom>
              <a:solidFill>
                <a:srgbClr val="4126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椭圆 55"/>
              <p:cNvSpPr/>
              <p:nvPr/>
            </p:nvSpPr>
            <p:spPr>
              <a:xfrm>
                <a:off x="11572920" y="6564240"/>
                <a:ext cx="145440" cy="118800"/>
              </a:xfrm>
              <a:prstGeom prst="ellipse">
                <a:avLst/>
              </a:prstGeom>
              <a:solidFill>
                <a:srgbClr val="fffff2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任意多边形 56"/>
              <p:cNvSpPr/>
              <p:nvPr/>
            </p:nvSpPr>
            <p:spPr>
              <a:xfrm>
                <a:off x="11607480" y="6584760"/>
                <a:ext cx="72720" cy="81000"/>
              </a:xfrm>
              <a:custGeom>
                <a:avLst/>
                <a:gdLst>
                  <a:gd name="textAreaLeft" fmla="*/ 0 w 72720"/>
                  <a:gd name="textAreaRight" fmla="*/ 73080 w 727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432566" h="475632">
                    <a:moveTo>
                      <a:pt x="283299" y="0"/>
                    </a:moveTo>
                    <a:lnTo>
                      <a:pt x="334192" y="13449"/>
                    </a:lnTo>
                    <a:cubicBezTo>
                      <a:pt x="368738" y="25888"/>
                      <a:pt x="399848" y="43888"/>
                      <a:pt x="425975" y="66130"/>
                    </a:cubicBezTo>
                    <a:lnTo>
                      <a:pt x="432566" y="72930"/>
                    </a:lnTo>
                    <a:lnTo>
                      <a:pt x="144169" y="475632"/>
                    </a:lnTo>
                    <a:lnTo>
                      <a:pt x="109404" y="466445"/>
                    </a:lnTo>
                    <a:cubicBezTo>
                      <a:pt x="74858" y="454006"/>
                      <a:pt x="43748" y="436007"/>
                      <a:pt x="17621" y="413765"/>
                    </a:cubicBezTo>
                    <a:lnTo>
                      <a:pt x="0" y="395584"/>
                    </a:lnTo>
                    <a:lnTo>
                      <a:pt x="283299" y="0"/>
                    </a:lnTo>
                    <a:close/>
                  </a:path>
                </a:pathLst>
              </a:custGeom>
              <a:solidFill>
                <a:srgbClr val="4a301d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任意多边形 57"/>
              <p:cNvSpPr/>
              <p:nvPr/>
            </p:nvSpPr>
            <p:spPr>
              <a:xfrm>
                <a:off x="11596680" y="6583320"/>
                <a:ext cx="58320" cy="680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350251" h="401452">
                    <a:moveTo>
                      <a:pt x="288750" y="0"/>
                    </a:moveTo>
                    <a:cubicBezTo>
                      <a:pt x="308684" y="0"/>
                      <a:pt x="328146" y="1720"/>
                      <a:pt x="346943" y="4994"/>
                    </a:cubicBezTo>
                    <a:lnTo>
                      <a:pt x="350251" y="5868"/>
                    </a:lnTo>
                    <a:lnTo>
                      <a:pt x="66952" y="401452"/>
                    </a:lnTo>
                    <a:lnTo>
                      <a:pt x="49314" y="383253"/>
                    </a:lnTo>
                    <a:cubicBezTo>
                      <a:pt x="18180" y="344020"/>
                      <a:pt x="0" y="296725"/>
                      <a:pt x="0" y="245815"/>
                    </a:cubicBezTo>
                    <a:cubicBezTo>
                      <a:pt x="0" y="110055"/>
                      <a:pt x="129278" y="0"/>
                      <a:pt x="288750" y="0"/>
                    </a:cubicBezTo>
                    <a:close/>
                  </a:path>
                </a:pathLst>
              </a:custGeom>
              <a:solidFill>
                <a:srgbClr val="fffff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任意多边形 58"/>
              <p:cNvSpPr/>
              <p:nvPr/>
            </p:nvSpPr>
            <p:spPr>
              <a:xfrm>
                <a:off x="11631240" y="6597360"/>
                <a:ext cx="63360" cy="69840"/>
              </a:xfrm>
              <a:custGeom>
                <a:avLst/>
                <a:gdLst>
                  <a:gd name="textAreaLeft" fmla="*/ 0 w 63360"/>
                  <a:gd name="textAreaRight" fmla="*/ 63720 w 63360"/>
                  <a:gd name="textAreaTop" fmla="*/ 0 h 69840"/>
                  <a:gd name="textAreaBottom" fmla="*/ 70200 h 69840"/>
                </a:gdLst>
                <a:ahLst/>
                <a:rect l="textAreaLeft" t="textAreaTop" r="textAreaRight" b="textAreaBottom"/>
                <a:pathLst>
                  <a:path w="366379" h="412832">
                    <a:moveTo>
                      <a:pt x="288397" y="0"/>
                    </a:moveTo>
                    <a:lnTo>
                      <a:pt x="317065" y="29579"/>
                    </a:lnTo>
                    <a:cubicBezTo>
                      <a:pt x="348199" y="68812"/>
                      <a:pt x="366379" y="116107"/>
                      <a:pt x="366379" y="167017"/>
                    </a:cubicBezTo>
                    <a:cubicBezTo>
                      <a:pt x="366379" y="302777"/>
                      <a:pt x="237101" y="412832"/>
                      <a:pt x="77629" y="412832"/>
                    </a:cubicBezTo>
                    <a:cubicBezTo>
                      <a:pt x="57695" y="412832"/>
                      <a:pt x="38233" y="411113"/>
                      <a:pt x="19436" y="407838"/>
                    </a:cubicBezTo>
                    <a:lnTo>
                      <a:pt x="0" y="402702"/>
                    </a:lnTo>
                    <a:lnTo>
                      <a:pt x="288397" y="0"/>
                    </a:lnTo>
                    <a:close/>
                  </a:path>
                </a:pathLst>
              </a:custGeom>
              <a:solidFill>
                <a:srgbClr val="fffff2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Group 60"/>
          <p:cNvGrpSpPr/>
          <p:nvPr/>
        </p:nvGrpSpPr>
        <p:grpSpPr>
          <a:xfrm>
            <a:off x="11088720" y="5195880"/>
            <a:ext cx="822600" cy="763920"/>
            <a:chOff x="11088720" y="5195880"/>
            <a:chExt cx="822600" cy="763920"/>
          </a:xfrm>
        </p:grpSpPr>
        <p:sp>
          <p:nvSpPr>
            <p:cNvPr id="100" name="任意多边形 66"/>
            <p:cNvSpPr/>
            <p:nvPr/>
          </p:nvSpPr>
          <p:spPr>
            <a:xfrm flipH="1">
              <a:off x="11472120" y="5607000"/>
              <a:ext cx="338040" cy="199800"/>
            </a:xfrm>
            <a:custGeom>
              <a:avLst/>
              <a:gdLst>
                <a:gd name="textAreaLeft" fmla="*/ -360 w 338040"/>
                <a:gd name="textAreaRight" fmla="*/ 338040 w 3380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2938072" h="1728788">
                  <a:moveTo>
                    <a:pt x="0" y="1469037"/>
                  </a:moveTo>
                  <a:cubicBezTo>
                    <a:pt x="244839" y="1852357"/>
                    <a:pt x="2783174" y="1818807"/>
                    <a:pt x="2938072" y="1319135"/>
                  </a:cubicBezTo>
                  <a:cubicBezTo>
                    <a:pt x="2658256" y="34977"/>
                    <a:pt x="1853784" y="309797"/>
                    <a:pt x="1469036" y="0"/>
                  </a:cubicBezTo>
                  <a:cubicBezTo>
                    <a:pt x="124918" y="474689"/>
                    <a:pt x="60199" y="1060733"/>
                    <a:pt x="0" y="1469037"/>
                  </a:cubicBezTo>
                  <a:close/>
                </a:path>
              </a:pathLst>
            </a:custGeom>
            <a:solidFill>
              <a:srgbClr val="4d2d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88"/>
            <p:cNvSpPr/>
            <p:nvPr/>
          </p:nvSpPr>
          <p:spPr>
            <a:xfrm flipH="1" rot="2288400">
              <a:off x="11414160" y="5324040"/>
              <a:ext cx="191880" cy="29088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0 h 290880"/>
                <a:gd name="textAreaBottom" fmla="*/ 291240 h 290880"/>
              </a:gdLst>
              <a:ahLst/>
              <a:rect l="textAreaLeft" t="textAreaTop" r="textAreaRight" b="textAreaBottom"/>
              <a:pathLst>
                <a:path w="1665617" h="2525221">
                  <a:moveTo>
                    <a:pt x="538" y="1245931"/>
                  </a:moveTo>
                  <a:cubicBezTo>
                    <a:pt x="-12233" y="825581"/>
                    <a:pt x="201825" y="-18563"/>
                    <a:pt x="736563" y="312"/>
                  </a:cubicBezTo>
                  <a:cubicBezTo>
                    <a:pt x="1271301" y="19187"/>
                    <a:pt x="1555549" y="376426"/>
                    <a:pt x="1665617" y="1251924"/>
                  </a:cubicBezTo>
                  <a:cubicBezTo>
                    <a:pt x="1665617" y="1934445"/>
                    <a:pt x="1400581" y="2572933"/>
                    <a:pt x="813190" y="2522410"/>
                  </a:cubicBezTo>
                  <a:cubicBezTo>
                    <a:pt x="225799" y="2471887"/>
                    <a:pt x="13309" y="1666281"/>
                    <a:pt x="538" y="1245931"/>
                  </a:cubicBezTo>
                  <a:close/>
                </a:path>
              </a:pathLst>
            </a:custGeom>
            <a:solidFill>
              <a:srgbClr val="fffefe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68"/>
            <p:cNvSpPr/>
            <p:nvPr/>
          </p:nvSpPr>
          <p:spPr>
            <a:xfrm>
              <a:off x="11088720" y="5195880"/>
              <a:ext cx="263520" cy="1872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457200" h="323850">
                  <a:moveTo>
                    <a:pt x="457200" y="323850"/>
                  </a:moveTo>
                  <a:lnTo>
                    <a:pt x="285750" y="219075"/>
                  </a:lnTo>
                  <a:lnTo>
                    <a:pt x="152400" y="295275"/>
                  </a:lnTo>
                  <a:lnTo>
                    <a:pt x="228600" y="104775"/>
                  </a:lnTo>
                  <a:lnTo>
                    <a:pt x="142875" y="152400"/>
                  </a:lnTo>
                  <a:lnTo>
                    <a:pt x="171450" y="47625"/>
                  </a:lnTo>
                  <a:lnTo>
                    <a:pt x="47625" y="171450"/>
                  </a:lnTo>
                  <a:lnTo>
                    <a:pt x="76200" y="47625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弧形 69"/>
            <p:cNvSpPr/>
            <p:nvPr/>
          </p:nvSpPr>
          <p:spPr>
            <a:xfrm>
              <a:off x="11572920" y="5634000"/>
              <a:ext cx="168120" cy="3222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stroke="0" w="291377" h="557770">
                  <a:moveTo>
                    <a:pt x="147899" y="32"/>
                  </a:moveTo>
                  <a:cubicBezTo>
                    <a:pt x="202873" y="1629"/>
                    <a:pt x="252695" y="62332"/>
                    <a:pt x="276725" y="156993"/>
                  </a:cubicBezTo>
                  <a:cubicBezTo>
                    <a:pt x="287091" y="197829"/>
                    <a:pt x="292093" y="242892"/>
                    <a:pt x="291295" y="288268"/>
                  </a:cubicBezTo>
                  <a:lnTo>
                    <a:pt x="145689" y="278885"/>
                  </a:lnTo>
                  <a:cubicBezTo>
                    <a:pt x="146426" y="185934"/>
                    <a:pt x="147162" y="92983"/>
                    <a:pt x="147899" y="32"/>
                  </a:cubicBezTo>
                  <a:close/>
                </a:path>
                <a:path fill="none" w="291377" h="557770">
                  <a:moveTo>
                    <a:pt x="147899" y="32"/>
                  </a:moveTo>
                  <a:cubicBezTo>
                    <a:pt x="202873" y="1629"/>
                    <a:pt x="252695" y="62332"/>
                    <a:pt x="276725" y="156993"/>
                  </a:cubicBezTo>
                  <a:cubicBezTo>
                    <a:pt x="287091" y="197829"/>
                    <a:pt x="292093" y="242892"/>
                    <a:pt x="291295" y="288268"/>
                  </a:cubicBezTo>
                </a:path>
              </a:pathLst>
            </a:custGeom>
            <a:noFill/>
            <a:ln w="12600">
              <a:solidFill>
                <a:srgbClr val="f6f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弧形 70"/>
            <p:cNvSpPr/>
            <p:nvPr/>
          </p:nvSpPr>
          <p:spPr>
            <a:xfrm rot="727200">
              <a:off x="11520000" y="5632200"/>
              <a:ext cx="142560" cy="3157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stroke="0" w="247396" h="546781">
                  <a:moveTo>
                    <a:pt x="123698" y="0"/>
                  </a:moveTo>
                  <a:cubicBezTo>
                    <a:pt x="192015" y="0"/>
                    <a:pt x="247396" y="122401"/>
                    <a:pt x="247396" y="273391"/>
                  </a:cubicBezTo>
                  <a:lnTo>
                    <a:pt x="123698" y="273391"/>
                  </a:lnTo>
                  <a:lnTo>
                    <a:pt x="123698" y="0"/>
                  </a:lnTo>
                  <a:close/>
                </a:path>
                <a:path fill="none" w="247396" h="546781">
                  <a:moveTo>
                    <a:pt x="123698" y="0"/>
                  </a:moveTo>
                  <a:cubicBezTo>
                    <a:pt x="192015" y="0"/>
                    <a:pt x="247396" y="122401"/>
                    <a:pt x="247396" y="273391"/>
                  </a:cubicBezTo>
                </a:path>
              </a:pathLst>
            </a:custGeom>
            <a:noFill/>
            <a:ln w="12600">
              <a:solidFill>
                <a:srgbClr val="f6f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弧形 71"/>
            <p:cNvSpPr/>
            <p:nvPr/>
          </p:nvSpPr>
          <p:spPr>
            <a:xfrm flipH="1" rot="20872800">
              <a:off x="11600280" y="5630400"/>
              <a:ext cx="142560" cy="316080"/>
            </a:xfrm>
            <a:custGeom>
              <a:avLst/>
              <a:gdLst>
                <a:gd name="textAreaLeft" fmla="*/ 360 w 142560"/>
                <a:gd name="textAreaRight" fmla="*/ 143280 w 14256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stroke="0" w="247396" h="546779">
                  <a:moveTo>
                    <a:pt x="123698" y="0"/>
                  </a:moveTo>
                  <a:cubicBezTo>
                    <a:pt x="192015" y="0"/>
                    <a:pt x="247396" y="122401"/>
                    <a:pt x="247396" y="273390"/>
                  </a:cubicBezTo>
                  <a:lnTo>
                    <a:pt x="123698" y="273390"/>
                  </a:lnTo>
                  <a:lnTo>
                    <a:pt x="123698" y="0"/>
                  </a:lnTo>
                  <a:close/>
                </a:path>
                <a:path fill="none" w="247396" h="546779">
                  <a:moveTo>
                    <a:pt x="123698" y="0"/>
                  </a:moveTo>
                  <a:cubicBezTo>
                    <a:pt x="192015" y="0"/>
                    <a:pt x="247396" y="122401"/>
                    <a:pt x="247396" y="273390"/>
                  </a:cubicBezTo>
                </a:path>
              </a:pathLst>
            </a:custGeom>
            <a:noFill/>
            <a:ln w="12600">
              <a:solidFill>
                <a:srgbClr val="f6f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弧形 72"/>
            <p:cNvSpPr/>
            <p:nvPr/>
          </p:nvSpPr>
          <p:spPr>
            <a:xfrm flipH="1" rot="460800">
              <a:off x="11530800" y="5632200"/>
              <a:ext cx="144360" cy="317520"/>
            </a:xfrm>
            <a:custGeom>
              <a:avLst/>
              <a:gdLst>
                <a:gd name="textAreaLeft" fmla="*/ -360 w 144360"/>
                <a:gd name="textAreaRight" fmla="*/ 144360 w 144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stroke="0" w="250145" h="549528">
                  <a:moveTo>
                    <a:pt x="125072" y="0"/>
                  </a:moveTo>
                  <a:cubicBezTo>
                    <a:pt x="176582" y="0"/>
                    <a:pt x="222824" y="69374"/>
                    <a:pt x="241569" y="174774"/>
                  </a:cubicBezTo>
                  <a:cubicBezTo>
                    <a:pt x="248305" y="212650"/>
                    <a:pt x="251130" y="253338"/>
                    <a:pt x="249841" y="293903"/>
                  </a:cubicBezTo>
                  <a:lnTo>
                    <a:pt x="125073" y="274764"/>
                  </a:lnTo>
                  <a:cubicBezTo>
                    <a:pt x="125073" y="183176"/>
                    <a:pt x="125072" y="91588"/>
                    <a:pt x="125072" y="0"/>
                  </a:cubicBezTo>
                  <a:close/>
                </a:path>
                <a:path fill="none" w="250145" h="549528">
                  <a:moveTo>
                    <a:pt x="125072" y="0"/>
                  </a:moveTo>
                  <a:cubicBezTo>
                    <a:pt x="176582" y="0"/>
                    <a:pt x="222824" y="69374"/>
                    <a:pt x="241569" y="174774"/>
                  </a:cubicBezTo>
                  <a:cubicBezTo>
                    <a:pt x="248305" y="212650"/>
                    <a:pt x="251130" y="253338"/>
                    <a:pt x="249841" y="293903"/>
                  </a:cubicBezTo>
                </a:path>
              </a:pathLst>
            </a:custGeom>
            <a:noFill/>
            <a:ln w="12600">
              <a:solidFill>
                <a:srgbClr val="f6f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弧形 73"/>
            <p:cNvSpPr/>
            <p:nvPr/>
          </p:nvSpPr>
          <p:spPr>
            <a:xfrm rot="6793200">
              <a:off x="11371680" y="5269320"/>
              <a:ext cx="407880" cy="55548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stroke="0" w="706144" h="962094">
                  <a:moveTo>
                    <a:pt x="480703" y="32530"/>
                  </a:moveTo>
                  <a:cubicBezTo>
                    <a:pt x="622296" y="107324"/>
                    <a:pt x="712925" y="297099"/>
                    <a:pt x="705750" y="503775"/>
                  </a:cubicBezTo>
                  <a:lnTo>
                    <a:pt x="353072" y="481047"/>
                  </a:lnTo>
                  <a:lnTo>
                    <a:pt x="480703" y="32530"/>
                  </a:lnTo>
                  <a:close/>
                </a:path>
                <a:path fill="none" w="706144" h="962094">
                  <a:moveTo>
                    <a:pt x="480703" y="32530"/>
                  </a:moveTo>
                  <a:cubicBezTo>
                    <a:pt x="622296" y="107324"/>
                    <a:pt x="712925" y="297099"/>
                    <a:pt x="705750" y="503775"/>
                  </a:cubicBezTo>
                </a:path>
              </a:pathLst>
            </a:custGeom>
            <a:noFill/>
            <a:ln w="12600">
              <a:solidFill>
                <a:srgbClr val="f6f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弧形 74"/>
            <p:cNvSpPr/>
            <p:nvPr/>
          </p:nvSpPr>
          <p:spPr>
            <a:xfrm rot="6793200">
              <a:off x="11400840" y="5310360"/>
              <a:ext cx="363600" cy="436320"/>
            </a:xfrm>
            <a:custGeom>
              <a:avLst/>
              <a:gdLst>
                <a:gd name="textAreaLeft" fmla="*/ 0 w 363600"/>
                <a:gd name="textAreaRight" fmla="*/ 363960 w 36360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stroke="0" w="629210" h="755930">
                  <a:moveTo>
                    <a:pt x="416376" y="20323"/>
                  </a:moveTo>
                  <a:cubicBezTo>
                    <a:pt x="549561" y="75025"/>
                    <a:pt x="636297" y="229353"/>
                    <a:pt x="628758" y="398210"/>
                  </a:cubicBezTo>
                  <a:lnTo>
                    <a:pt x="314605" y="377965"/>
                  </a:lnTo>
                  <a:lnTo>
                    <a:pt x="416376" y="20323"/>
                  </a:lnTo>
                  <a:close/>
                </a:path>
                <a:path fill="none" w="629210" h="755930">
                  <a:moveTo>
                    <a:pt x="416376" y="20323"/>
                  </a:moveTo>
                  <a:cubicBezTo>
                    <a:pt x="549561" y="75025"/>
                    <a:pt x="636297" y="229353"/>
                    <a:pt x="628758" y="398210"/>
                  </a:cubicBezTo>
                </a:path>
              </a:pathLst>
            </a:custGeom>
            <a:noFill/>
            <a:ln w="12600">
              <a:solidFill>
                <a:srgbClr val="f6f9f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70"/>
            <p:cNvGrpSpPr/>
            <p:nvPr/>
          </p:nvGrpSpPr>
          <p:grpSpPr>
            <a:xfrm>
              <a:off x="11362320" y="5316840"/>
              <a:ext cx="309600" cy="316440"/>
              <a:chOff x="11362320" y="5316840"/>
              <a:chExt cx="309600" cy="316440"/>
            </a:xfrm>
          </p:grpSpPr>
          <p:sp>
            <p:nvSpPr>
              <p:cNvPr id="110" name="任意多边形 76"/>
              <p:cNvSpPr/>
              <p:nvPr/>
            </p:nvSpPr>
            <p:spPr>
              <a:xfrm flipH="1">
                <a:off x="11594880" y="5559120"/>
                <a:ext cx="72720" cy="74160"/>
              </a:xfrm>
              <a:custGeom>
                <a:avLst/>
                <a:gdLst>
                  <a:gd name="textAreaLeft" fmla="*/ 360 w 72720"/>
                  <a:gd name="textAreaRight" fmla="*/ 73440 w 72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632791" h="647541">
                    <a:moveTo>
                      <a:pt x="29" y="518306"/>
                    </a:moveTo>
                    <a:cubicBezTo>
                      <a:pt x="-2764" y="669995"/>
                      <a:pt x="191292" y="666108"/>
                      <a:pt x="436149" y="617772"/>
                    </a:cubicBezTo>
                    <a:cubicBezTo>
                      <a:pt x="288971" y="316598"/>
                      <a:pt x="494219" y="177349"/>
                      <a:pt x="632791" y="0"/>
                    </a:cubicBezTo>
                    <a:cubicBezTo>
                      <a:pt x="388004" y="89160"/>
                      <a:pt x="92416" y="149746"/>
                      <a:pt x="29" y="518306"/>
                    </a:cubicBezTo>
                    <a:close/>
                  </a:path>
                </a:pathLst>
              </a:custGeom>
              <a:solidFill>
                <a:srgbClr val="f4fdfa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任意多边形 77"/>
              <p:cNvSpPr/>
              <p:nvPr/>
            </p:nvSpPr>
            <p:spPr>
              <a:xfrm flipH="1">
                <a:off x="11399760" y="5351400"/>
                <a:ext cx="271800" cy="268920"/>
              </a:xfrm>
              <a:custGeom>
                <a:avLst/>
                <a:gdLst>
                  <a:gd name="textAreaLeft" fmla="*/ -360 w 271800"/>
                  <a:gd name="textAreaRight" fmla="*/ 271800 w 271800"/>
                  <a:gd name="textAreaTop" fmla="*/ 0 h 268920"/>
                  <a:gd name="textAreaBottom" fmla="*/ 269280 h 268920"/>
                </a:gdLst>
                <a:ahLst/>
                <a:rect l="textAreaLeft" t="textAreaTop" r="textAreaRight" b="textAreaBottom"/>
                <a:pathLst>
                  <a:path w="2363466" h="2333624">
                    <a:moveTo>
                      <a:pt x="745677" y="1053"/>
                    </a:moveTo>
                    <a:cubicBezTo>
                      <a:pt x="1133027" y="-45937"/>
                      <a:pt x="2425887" y="1493303"/>
                      <a:pt x="2361117" y="1829853"/>
                    </a:cubicBezTo>
                    <a:cubicBezTo>
                      <a:pt x="2204907" y="2090203"/>
                      <a:pt x="1190177" y="2706153"/>
                      <a:pt x="357057" y="2020353"/>
                    </a:cubicBezTo>
                    <a:cubicBezTo>
                      <a:pt x="-476063" y="1334553"/>
                      <a:pt x="358327" y="48043"/>
                      <a:pt x="745677" y="1053"/>
                    </a:cubicBezTo>
                    <a:close/>
                  </a:path>
                </a:pathLst>
              </a:custGeom>
              <a:solidFill>
                <a:srgbClr val="2b5a43"/>
              </a:solidFill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椭圆 87"/>
              <p:cNvSpPr/>
              <p:nvPr/>
            </p:nvSpPr>
            <p:spPr>
              <a:xfrm flipH="1" rot="2225400">
                <a:off x="11425680" y="5340600"/>
                <a:ext cx="169200" cy="267120"/>
              </a:xfrm>
              <a:custGeom>
                <a:avLst/>
                <a:gdLst>
                  <a:gd name="textAreaLeft" fmla="*/ 0 w 169200"/>
                  <a:gd name="textAreaRight" fmla="*/ 169200 w 16920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1479745" h="2325048">
                    <a:moveTo>
                      <a:pt x="1151" y="1133511"/>
                    </a:moveTo>
                    <a:cubicBezTo>
                      <a:pt x="-20148" y="746037"/>
                      <a:pt x="255946" y="0"/>
                      <a:pt x="664248" y="0"/>
                    </a:cubicBezTo>
                    <a:cubicBezTo>
                      <a:pt x="1072550" y="0"/>
                      <a:pt x="1479745" y="507649"/>
                      <a:pt x="1479745" y="1133511"/>
                    </a:cubicBezTo>
                    <a:cubicBezTo>
                      <a:pt x="1479745" y="1759373"/>
                      <a:pt x="1230884" y="2309719"/>
                      <a:pt x="792044" y="2324842"/>
                    </a:cubicBezTo>
                    <a:cubicBezTo>
                      <a:pt x="353204" y="2339965"/>
                      <a:pt x="22450" y="1520985"/>
                      <a:pt x="1151" y="1133511"/>
                    </a:cubicBezTo>
                    <a:close/>
                  </a:path>
                </a:pathLst>
              </a:custGeom>
              <a:solidFill>
                <a:srgbClr val="aeed65"/>
              </a:solidFill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任意多边形 79"/>
              <p:cNvSpPr/>
              <p:nvPr/>
            </p:nvSpPr>
            <p:spPr>
              <a:xfrm flipH="1" rot="2372400">
                <a:off x="11541240" y="5482800"/>
                <a:ext cx="34560" cy="75960"/>
              </a:xfrm>
              <a:custGeom>
                <a:avLst/>
                <a:gdLst>
                  <a:gd name="textAreaLeft" fmla="*/ 360 w 34560"/>
                  <a:gd name="textAreaRight" fmla="*/ 35280 w 34560"/>
                  <a:gd name="textAreaTop" fmla="*/ 0 h 75960"/>
                  <a:gd name="textAreaBottom" fmla="*/ 75960 h 75960"/>
                </a:gdLst>
                <a:ahLst/>
                <a:rect l="textAreaLeft" t="textAreaTop" r="textAreaRight" b="textAreaBottom"/>
                <a:pathLst>
                  <a:path w="297507" h="657486">
                    <a:moveTo>
                      <a:pt x="169726" y="25834"/>
                    </a:moveTo>
                    <a:cubicBezTo>
                      <a:pt x="244817" y="75740"/>
                      <a:pt x="297507" y="192573"/>
                      <a:pt x="297507" y="328743"/>
                    </a:cubicBezTo>
                    <a:cubicBezTo>
                      <a:pt x="297507" y="510303"/>
                      <a:pt x="203837" y="657486"/>
                      <a:pt x="88289" y="657486"/>
                    </a:cubicBezTo>
                    <a:lnTo>
                      <a:pt x="80392" y="656235"/>
                    </a:lnTo>
                    <a:lnTo>
                      <a:pt x="55755" y="578824"/>
                    </a:lnTo>
                    <a:cubicBezTo>
                      <a:pt x="20552" y="446160"/>
                      <a:pt x="1219" y="321379"/>
                      <a:pt x="53" y="224371"/>
                    </a:cubicBezTo>
                    <a:cubicBezTo>
                      <a:pt x="-529" y="175867"/>
                      <a:pt x="3771" y="121966"/>
                      <a:pt x="12538" y="64807"/>
                    </a:cubicBezTo>
                    <a:lnTo>
                      <a:pt x="21135" y="18868"/>
                    </a:lnTo>
                    <a:lnTo>
                      <a:pt x="46124" y="6679"/>
                    </a:lnTo>
                    <a:cubicBezTo>
                      <a:pt x="59744" y="2300"/>
                      <a:pt x="73846" y="0"/>
                      <a:pt x="88289" y="0"/>
                    </a:cubicBezTo>
                    <a:cubicBezTo>
                      <a:pt x="117176" y="0"/>
                      <a:pt x="144696" y="9199"/>
                      <a:pt x="169726" y="25834"/>
                    </a:cubicBezTo>
                    <a:close/>
                  </a:path>
                </a:pathLst>
              </a:custGeom>
              <a:solidFill>
                <a:srgbClr val="493414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任意多边形 80"/>
              <p:cNvSpPr/>
              <p:nvPr/>
            </p:nvSpPr>
            <p:spPr>
              <a:xfrm flipH="1">
                <a:off x="11452680" y="5438520"/>
                <a:ext cx="120240" cy="93240"/>
              </a:xfrm>
              <a:custGeom>
                <a:avLst/>
                <a:gdLst>
                  <a:gd name="textAreaLeft" fmla="*/ 360 w 120240"/>
                  <a:gd name="textAreaRight" fmla="*/ 120960 w 120240"/>
                  <a:gd name="textAreaTop" fmla="*/ 0 h 93240"/>
                  <a:gd name="textAreaBottom" fmla="*/ 93600 h 93240"/>
                </a:gdLst>
                <a:ahLst/>
                <a:rect l="textAreaLeft" t="textAreaTop" r="textAreaRight" b="textAreaBottom"/>
                <a:pathLst>
                  <a:path w="1120140" h="891540">
                    <a:moveTo>
                      <a:pt x="0" y="716280"/>
                    </a:moveTo>
                    <a:lnTo>
                      <a:pt x="1120140" y="0"/>
                    </a:lnTo>
                    <a:lnTo>
                      <a:pt x="160020" y="891540"/>
                    </a:lnTo>
                    <a:cubicBezTo>
                      <a:pt x="-7620" y="848360"/>
                      <a:pt x="30480" y="767080"/>
                      <a:pt x="0" y="716280"/>
                    </a:cubicBezTo>
                    <a:close/>
                  </a:path>
                </a:pathLst>
              </a:custGeom>
              <a:solidFill>
                <a:srgbClr val="f6f9f7"/>
              </a:solidFill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5" name="图片 82" descr=""/>
          <p:cNvPicPr/>
          <p:nvPr/>
        </p:nvPicPr>
        <p:blipFill>
          <a:blip r:embed="rId5"/>
          <a:srcRect l="0" t="0" r="-45926" b="0"/>
          <a:stretch/>
        </p:blipFill>
        <p:spPr>
          <a:xfrm>
            <a:off x="10742760" y="6129360"/>
            <a:ext cx="1409400" cy="276120"/>
          </a:xfrm>
          <a:prstGeom prst="rect">
            <a:avLst/>
          </a:prstGeom>
          <a:ln w="0">
            <a:noFill/>
          </a:ln>
        </p:spPr>
      </p:pic>
      <p:sp>
        <p:nvSpPr>
          <p:cNvPr id="116" name="矩形 83"/>
          <p:cNvSpPr/>
          <p:nvPr/>
        </p:nvSpPr>
        <p:spPr>
          <a:xfrm>
            <a:off x="4124160" y="2028960"/>
            <a:ext cx="406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85723"/>
                </a:solidFill>
                <a:latin typeface="微软雅黑"/>
                <a:ea typeface="微软雅黑"/>
              </a:rPr>
              <a:t>13. </a:t>
            </a:r>
            <a:r>
              <a:rPr b="1" lang="zh-CN" sz="5400" spc="-1" strike="noStrike">
                <a:solidFill>
                  <a:srgbClr val="385723"/>
                </a:solidFill>
                <a:latin typeface="微软雅黑"/>
                <a:ea typeface="微软雅黑"/>
              </a:rPr>
              <a:t>寒号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1"/>
          <p:cNvSpPr/>
          <p:nvPr/>
        </p:nvSpPr>
        <p:spPr>
          <a:xfrm>
            <a:off x="4981680" y="2935440"/>
            <a:ext cx="35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说五台山上有一种鸟，人们叫它“寒号鸟”。寒号鸟长着一身漂亮的羽毛。它到处卖弄自己的羽毛，看到别人干活，反而嘲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4981680" y="2170080"/>
            <a:ext cx="376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根据课文展开想象编故事范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3"/>
          <p:cNvGrpSpPr/>
          <p:nvPr/>
        </p:nvGrpSpPr>
        <p:grpSpPr>
          <a:xfrm>
            <a:off x="2554200" y="1519200"/>
            <a:ext cx="9212400" cy="3470400"/>
            <a:chOff x="2554200" y="1519200"/>
            <a:chExt cx="9212400" cy="3470400"/>
          </a:xfrm>
        </p:grpSpPr>
        <p:sp>
          <p:nvSpPr>
            <p:cNvPr id="192" name="Rectangle 8"/>
            <p:cNvSpPr/>
            <p:nvPr/>
          </p:nvSpPr>
          <p:spPr>
            <a:xfrm>
              <a:off x="2554200" y="3562920"/>
              <a:ext cx="9212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圆角矩形 5"/>
            <p:cNvSpPr/>
            <p:nvPr/>
          </p:nvSpPr>
          <p:spPr>
            <a:xfrm>
              <a:off x="2554200" y="1519200"/>
              <a:ext cx="7139880" cy="34704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b05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Picture 34" descr="RW_009"/>
          <p:cNvPicPr/>
          <p:nvPr/>
        </p:nvPicPr>
        <p:blipFill>
          <a:blip r:embed="rId2"/>
          <a:stretch/>
        </p:blipFill>
        <p:spPr>
          <a:xfrm>
            <a:off x="10117080" y="851040"/>
            <a:ext cx="787320" cy="66816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2" descr=""/>
          <p:cNvPicPr/>
          <p:nvPr/>
        </p:nvPicPr>
        <p:blipFill>
          <a:blip r:embed="rId3"/>
          <a:srcRect l="21633" t="10270" r="20260" b="47026"/>
          <a:stretch/>
        </p:blipFill>
        <p:spPr>
          <a:xfrm>
            <a:off x="828720" y="3983040"/>
            <a:ext cx="882720" cy="917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寒号鸟2"/>
          <p:cNvPicPr/>
          <p:nvPr/>
        </p:nvPicPr>
        <p:blipFill>
          <a:blip r:embed="rId4"/>
          <a:stretch/>
        </p:blipFill>
        <p:spPr>
          <a:xfrm>
            <a:off x="3267000" y="2654280"/>
            <a:ext cx="13939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1"/>
          <p:cNvSpPr/>
          <p:nvPr/>
        </p:nvSpPr>
        <p:spPr>
          <a:xfrm>
            <a:off x="5357880" y="3027240"/>
            <a:ext cx="3936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故事二：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       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如果寒号鸟接受了喜鹊的第二次劝告，在那个晴天垒巢了，结果又会怎么样呢？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"/>
          <p:cNvSpPr/>
          <p:nvPr/>
        </p:nvSpPr>
        <p:spPr>
          <a:xfrm>
            <a:off x="5479920" y="2219400"/>
            <a:ext cx="22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展开想象，拓展延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3"/>
          <p:cNvGrpSpPr/>
          <p:nvPr/>
        </p:nvGrpSpPr>
        <p:grpSpPr>
          <a:xfrm>
            <a:off x="3143160" y="1681200"/>
            <a:ext cx="8367840" cy="3213000"/>
            <a:chOff x="3143160" y="1681200"/>
            <a:chExt cx="8367840" cy="3213000"/>
          </a:xfrm>
        </p:grpSpPr>
        <p:sp>
          <p:nvSpPr>
            <p:cNvPr id="200" name="Rectangle 8"/>
            <p:cNvSpPr/>
            <p:nvPr/>
          </p:nvSpPr>
          <p:spPr>
            <a:xfrm>
              <a:off x="3143160" y="3573360"/>
              <a:ext cx="8367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圆角矩形 5"/>
            <p:cNvSpPr/>
            <p:nvPr/>
          </p:nvSpPr>
          <p:spPr>
            <a:xfrm>
              <a:off x="3143160" y="1681200"/>
              <a:ext cx="6485400" cy="321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b05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2" name="图片 2" descr=""/>
          <p:cNvPicPr/>
          <p:nvPr/>
        </p:nvPicPr>
        <p:blipFill>
          <a:blip r:embed="rId2"/>
          <a:srcRect l="21633" t="10270" r="20260" b="47026"/>
          <a:stretch/>
        </p:blipFill>
        <p:spPr>
          <a:xfrm>
            <a:off x="828720" y="3924360"/>
            <a:ext cx="882720" cy="9176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4" descr="RW_009"/>
          <p:cNvPicPr/>
          <p:nvPr/>
        </p:nvPicPr>
        <p:blipFill>
          <a:blip r:embed="rId3"/>
          <a:stretch/>
        </p:blipFill>
        <p:spPr>
          <a:xfrm>
            <a:off x="9844200" y="1012680"/>
            <a:ext cx="787320" cy="668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寒号鸟2"/>
          <p:cNvPicPr/>
          <p:nvPr/>
        </p:nvPicPr>
        <p:blipFill>
          <a:blip r:embed="rId4"/>
          <a:stretch/>
        </p:blipFill>
        <p:spPr>
          <a:xfrm>
            <a:off x="3495600" y="2654280"/>
            <a:ext cx="13939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1"/>
          <p:cNvSpPr/>
          <p:nvPr/>
        </p:nvSpPr>
        <p:spPr>
          <a:xfrm>
            <a:off x="5276880" y="2286000"/>
            <a:ext cx="3168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好多好心的鸟儿提醒它说：“快垒个窝吧</a:t>
            </a:r>
            <a:r>
              <a:rPr b="0" lang="en-US" sz="2100" spc="-1" strike="noStrike">
                <a:solidFill>
                  <a:srgbClr val="000000"/>
                </a:solidFill>
                <a:latin typeface="微软雅黑"/>
              </a:rPr>
              <a:t>!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不然冬天来了，怎么过呀！” 寒号鸟说：“冬天还早呢，着什么急！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2"/>
          <p:cNvGrpSpPr/>
          <p:nvPr/>
        </p:nvGrpSpPr>
        <p:grpSpPr>
          <a:xfrm>
            <a:off x="2554200" y="1612800"/>
            <a:ext cx="9212400" cy="3249720"/>
            <a:chOff x="2554200" y="1612800"/>
            <a:chExt cx="9212400" cy="3249720"/>
          </a:xfrm>
        </p:grpSpPr>
        <p:sp>
          <p:nvSpPr>
            <p:cNvPr id="207" name="Rectangle 8"/>
            <p:cNvSpPr/>
            <p:nvPr/>
          </p:nvSpPr>
          <p:spPr>
            <a:xfrm>
              <a:off x="2554200" y="3526560"/>
              <a:ext cx="9212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圆角矩形 4"/>
            <p:cNvSpPr/>
            <p:nvPr/>
          </p:nvSpPr>
          <p:spPr>
            <a:xfrm>
              <a:off x="2554200" y="1612800"/>
              <a:ext cx="6832080" cy="32497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b05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Picture 34" descr="RW_009"/>
          <p:cNvPicPr/>
          <p:nvPr/>
        </p:nvPicPr>
        <p:blipFill>
          <a:blip r:embed="rId2"/>
          <a:stretch/>
        </p:blipFill>
        <p:spPr>
          <a:xfrm>
            <a:off x="9968040" y="944640"/>
            <a:ext cx="787320" cy="6681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4" descr="RW_009"/>
          <p:cNvPicPr/>
          <p:nvPr/>
        </p:nvPicPr>
        <p:blipFill>
          <a:blip r:embed="rId3"/>
          <a:stretch/>
        </p:blipFill>
        <p:spPr>
          <a:xfrm>
            <a:off x="963720" y="4768920"/>
            <a:ext cx="787320" cy="668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寒号鸟2"/>
          <p:cNvPicPr/>
          <p:nvPr/>
        </p:nvPicPr>
        <p:blipFill>
          <a:blip r:embed="rId4"/>
          <a:stretch/>
        </p:blipFill>
        <p:spPr>
          <a:xfrm>
            <a:off x="3281400" y="2508120"/>
            <a:ext cx="139392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1"/>
          <p:cNvSpPr/>
          <p:nvPr/>
        </p:nvSpPr>
        <p:spPr>
          <a:xfrm>
            <a:off x="5408640" y="2195640"/>
            <a:ext cx="39369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冬天眨眼就要到了。鸟儿们晚上躲在自己暖和的窝里，而寒号鸟却在寒风里，冻得发抖。它在山脚下找了一条缝，就把这条缝当做自己的窝。旁边有一棵大树，树上住着喜鹊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组合 2"/>
          <p:cNvGrpSpPr/>
          <p:nvPr/>
        </p:nvGrpSpPr>
        <p:grpSpPr>
          <a:xfrm>
            <a:off x="2873520" y="1806480"/>
            <a:ext cx="9318600" cy="3168720"/>
            <a:chOff x="2873520" y="1806480"/>
            <a:chExt cx="9318600" cy="3168720"/>
          </a:xfrm>
        </p:grpSpPr>
        <p:sp>
          <p:nvSpPr>
            <p:cNvPr id="214" name="Rectangle 8"/>
            <p:cNvSpPr/>
            <p:nvPr/>
          </p:nvSpPr>
          <p:spPr>
            <a:xfrm>
              <a:off x="2873520" y="3672720"/>
              <a:ext cx="9318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圆角矩形 4"/>
            <p:cNvSpPr/>
            <p:nvPr/>
          </p:nvSpPr>
          <p:spPr>
            <a:xfrm>
              <a:off x="2873520" y="1806480"/>
              <a:ext cx="6910920" cy="31687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b05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图片 2" descr=""/>
          <p:cNvPicPr/>
          <p:nvPr/>
        </p:nvPicPr>
        <p:blipFill>
          <a:blip r:embed="rId2"/>
          <a:srcRect l="21633" t="10270" r="20260" b="47026"/>
          <a:stretch/>
        </p:blipFill>
        <p:spPr>
          <a:xfrm>
            <a:off x="1069920" y="4056120"/>
            <a:ext cx="884160" cy="919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4" descr="RW_009"/>
          <p:cNvPicPr/>
          <p:nvPr/>
        </p:nvPicPr>
        <p:blipFill>
          <a:blip r:embed="rId3"/>
          <a:stretch/>
        </p:blipFill>
        <p:spPr>
          <a:xfrm>
            <a:off x="9990000" y="1001880"/>
            <a:ext cx="787680" cy="668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寒号鸟2"/>
          <p:cNvPicPr/>
          <p:nvPr/>
        </p:nvPicPr>
        <p:blipFill>
          <a:blip r:embed="rId4"/>
          <a:stretch/>
        </p:blipFill>
        <p:spPr>
          <a:xfrm>
            <a:off x="3402000" y="2527200"/>
            <a:ext cx="151920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2792520" y="2089080"/>
            <a:ext cx="70498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      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有一天，天气晴朗。喜鹊一早飞出去，东寻西找，找回来一些枯枝、棉絮，给它的窝添加铺盖，准备过冬。寒号鸟却整天飞出去玩，玩累了就睡觉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晚上，寒风呼呼地刮着。喜鹊住在温暖的窝里，寒号鸟在石缝里冻得直打哆嗦，悲哀地叫着：“哆啰啰，哆啰啰，寒风冻死我，明天就垒窝。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2"/>
          <p:cNvGrpSpPr/>
          <p:nvPr/>
        </p:nvGrpSpPr>
        <p:grpSpPr>
          <a:xfrm>
            <a:off x="2111400" y="1384200"/>
            <a:ext cx="10945800" cy="3764160"/>
            <a:chOff x="2111400" y="1384200"/>
            <a:chExt cx="10945800" cy="3764160"/>
          </a:xfrm>
        </p:grpSpPr>
        <p:sp>
          <p:nvSpPr>
            <p:cNvPr id="221" name="Rectangle 8"/>
            <p:cNvSpPr/>
            <p:nvPr/>
          </p:nvSpPr>
          <p:spPr>
            <a:xfrm>
              <a:off x="2111400" y="3601080"/>
              <a:ext cx="1094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圆角矩形 4"/>
            <p:cNvSpPr/>
            <p:nvPr/>
          </p:nvSpPr>
          <p:spPr>
            <a:xfrm>
              <a:off x="2111400" y="1384200"/>
              <a:ext cx="8117640" cy="37641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b05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Picture 34" descr="RW_009"/>
          <p:cNvPicPr/>
          <p:nvPr/>
        </p:nvPicPr>
        <p:blipFill>
          <a:blip r:embed="rId2"/>
          <a:stretch/>
        </p:blipFill>
        <p:spPr>
          <a:xfrm>
            <a:off x="10383840" y="716040"/>
            <a:ext cx="787320" cy="66816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2" descr=""/>
          <p:cNvPicPr/>
          <p:nvPr/>
        </p:nvPicPr>
        <p:blipFill>
          <a:blip r:embed="rId3"/>
          <a:srcRect l="21633" t="10270" r="20260" b="47026"/>
          <a:stretch/>
        </p:blipFill>
        <p:spPr>
          <a:xfrm>
            <a:off x="720720" y="4422600"/>
            <a:ext cx="88416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矩形 1"/>
          <p:cNvSpPr/>
          <p:nvPr/>
        </p:nvSpPr>
        <p:spPr>
          <a:xfrm>
            <a:off x="4737240" y="1932120"/>
            <a:ext cx="467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第二天，风停了，太阳很暖和。喜鹊又对寒号鸟说：“趁着天气好，赶快垒窝吧。”寒号鸟不听劝告，伸伸懒腰，又睡觉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      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晚上又来临了，寒号鸟又冻得直打哆嗦，悲哀地叫着：“哆啰啰，哆啰啰，寒风冻死我，明天就垒窝。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2"/>
          <p:cNvGrpSpPr/>
          <p:nvPr/>
        </p:nvGrpSpPr>
        <p:grpSpPr>
          <a:xfrm>
            <a:off x="2111400" y="1384200"/>
            <a:ext cx="10945800" cy="3497400"/>
            <a:chOff x="2111400" y="1384200"/>
            <a:chExt cx="10945800" cy="3497400"/>
          </a:xfrm>
        </p:grpSpPr>
        <p:sp>
          <p:nvSpPr>
            <p:cNvPr id="227" name="Rectangle 8"/>
            <p:cNvSpPr/>
            <p:nvPr/>
          </p:nvSpPr>
          <p:spPr>
            <a:xfrm>
              <a:off x="2111400" y="3444120"/>
              <a:ext cx="1094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圆角矩形 4"/>
            <p:cNvSpPr/>
            <p:nvPr/>
          </p:nvSpPr>
          <p:spPr>
            <a:xfrm>
              <a:off x="2111400" y="1384200"/>
              <a:ext cx="8117640" cy="34974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b05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34" descr="RW_009"/>
          <p:cNvPicPr/>
          <p:nvPr/>
        </p:nvPicPr>
        <p:blipFill>
          <a:blip r:embed="rId2"/>
          <a:stretch/>
        </p:blipFill>
        <p:spPr>
          <a:xfrm>
            <a:off x="10383840" y="716040"/>
            <a:ext cx="787320" cy="66816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2" descr=""/>
          <p:cNvPicPr/>
          <p:nvPr/>
        </p:nvPicPr>
        <p:blipFill>
          <a:blip r:embed="rId3"/>
          <a:srcRect l="21633" t="10270" r="20260" b="47026"/>
          <a:stretch/>
        </p:blipFill>
        <p:spPr>
          <a:xfrm>
            <a:off x="662040" y="4422600"/>
            <a:ext cx="882720" cy="91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寒号鸟2"/>
          <p:cNvPicPr/>
          <p:nvPr/>
        </p:nvPicPr>
        <p:blipFill>
          <a:blip r:embed="rId4"/>
          <a:stretch/>
        </p:blipFill>
        <p:spPr>
          <a:xfrm>
            <a:off x="2797200" y="2476440"/>
            <a:ext cx="139392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3"/>
          <p:cNvSpPr/>
          <p:nvPr/>
        </p:nvSpPr>
        <p:spPr>
          <a:xfrm>
            <a:off x="5859360" y="2117880"/>
            <a:ext cx="2710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       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就这样重复了几个晚上，大雪突然降临，鸟儿们奇怪寒号鸟怎么不发出叫声呢？原来，寒号鸟早就被冻死了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4"/>
          <p:cNvGrpSpPr/>
          <p:nvPr/>
        </p:nvGrpSpPr>
        <p:grpSpPr>
          <a:xfrm>
            <a:off x="3213000" y="1762200"/>
            <a:ext cx="8001000" cy="2743200"/>
            <a:chOff x="3213000" y="1762200"/>
            <a:chExt cx="8001000" cy="2743200"/>
          </a:xfrm>
        </p:grpSpPr>
        <p:sp>
          <p:nvSpPr>
            <p:cNvPr id="234" name="Rectangle 8"/>
            <p:cNvSpPr/>
            <p:nvPr/>
          </p:nvSpPr>
          <p:spPr>
            <a:xfrm>
              <a:off x="3213000" y="3377880"/>
              <a:ext cx="800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圆角矩形 6"/>
            <p:cNvSpPr/>
            <p:nvPr/>
          </p:nvSpPr>
          <p:spPr>
            <a:xfrm>
              <a:off x="3213000" y="1762200"/>
              <a:ext cx="5933520" cy="2743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b05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图片 2" descr=""/>
          <p:cNvPicPr/>
          <p:nvPr/>
        </p:nvPicPr>
        <p:blipFill>
          <a:blip r:embed="rId2"/>
          <a:srcRect l="21633" t="10270" r="20260" b="47026"/>
          <a:stretch/>
        </p:blipFill>
        <p:spPr>
          <a:xfrm>
            <a:off x="1036800" y="4422600"/>
            <a:ext cx="884160" cy="917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A3_019"/>
          <p:cNvPicPr/>
          <p:nvPr/>
        </p:nvPicPr>
        <p:blipFill>
          <a:blip r:embed="rId3"/>
          <a:stretch/>
        </p:blipFill>
        <p:spPr>
          <a:xfrm>
            <a:off x="10002960" y="1138320"/>
            <a:ext cx="1211040" cy="1247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寒号鸟2"/>
          <p:cNvPicPr/>
          <p:nvPr/>
        </p:nvPicPr>
        <p:blipFill>
          <a:blip r:embed="rId4"/>
          <a:stretch/>
        </p:blipFill>
        <p:spPr>
          <a:xfrm>
            <a:off x="3828960" y="245268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1"/>
          <p:cNvSpPr/>
          <p:nvPr/>
        </p:nvSpPr>
        <p:spPr>
          <a:xfrm>
            <a:off x="3792600" y="773280"/>
            <a:ext cx="460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更多资料加微信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7774643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1"/>
          <p:cNvSpPr/>
          <p:nvPr/>
        </p:nvSpPr>
        <p:spPr>
          <a:xfrm>
            <a:off x="5715000" y="2184480"/>
            <a:ext cx="3052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、回家把故事讲给父母听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、向父母说出你从故事中明白了什么？你在以后的学习、生活中应该怎么做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2"/>
          <p:cNvGrpSpPr/>
          <p:nvPr/>
        </p:nvGrpSpPr>
        <p:grpSpPr>
          <a:xfrm>
            <a:off x="3200400" y="1828800"/>
            <a:ext cx="7866000" cy="2743200"/>
            <a:chOff x="3200400" y="1828800"/>
            <a:chExt cx="7866000" cy="2743200"/>
          </a:xfrm>
        </p:grpSpPr>
        <p:sp>
          <p:nvSpPr>
            <p:cNvPr id="242" name="Rectangle 8"/>
            <p:cNvSpPr/>
            <p:nvPr/>
          </p:nvSpPr>
          <p:spPr>
            <a:xfrm>
              <a:off x="3200400" y="3444480"/>
              <a:ext cx="7866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圆角矩形 4"/>
            <p:cNvSpPr/>
            <p:nvPr/>
          </p:nvSpPr>
          <p:spPr>
            <a:xfrm>
              <a:off x="3200400" y="1828800"/>
              <a:ext cx="5833440" cy="2743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b05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4" name="Picture 4" descr="pic_253082[1]"/>
          <p:cNvPicPr/>
          <p:nvPr/>
        </p:nvPicPr>
        <p:blipFill>
          <a:blip r:embed="rId2"/>
          <a:stretch/>
        </p:blipFill>
        <p:spPr>
          <a:xfrm>
            <a:off x="1074600" y="2955960"/>
            <a:ext cx="793800" cy="841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4" descr="RW_009"/>
          <p:cNvPicPr/>
          <p:nvPr/>
        </p:nvPicPr>
        <p:blipFill>
          <a:blip r:embed="rId3"/>
          <a:stretch/>
        </p:blipFill>
        <p:spPr>
          <a:xfrm>
            <a:off x="9433080" y="1160640"/>
            <a:ext cx="787320" cy="668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寒号鸟2"/>
          <p:cNvPicPr/>
          <p:nvPr/>
        </p:nvPicPr>
        <p:blipFill>
          <a:blip r:embed="rId4"/>
          <a:stretch/>
        </p:blipFill>
        <p:spPr>
          <a:xfrm>
            <a:off x="3765600" y="2476440"/>
            <a:ext cx="139392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文本框 1"/>
          <p:cNvSpPr/>
          <p:nvPr/>
        </p:nvSpPr>
        <p:spPr>
          <a:xfrm>
            <a:off x="2533680" y="334800"/>
            <a:ext cx="46069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2" descr="QQ截图20170720011618"/>
          <p:cNvPicPr/>
          <p:nvPr/>
        </p:nvPicPr>
        <p:blipFill>
          <a:blip r:embed="rId2"/>
          <a:stretch/>
        </p:blipFill>
        <p:spPr>
          <a:xfrm>
            <a:off x="39600" y="41400"/>
            <a:ext cx="11910960" cy="6597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630400" y="1558800"/>
            <a:ext cx="4550040" cy="10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矩形 3"/>
          <p:cNvSpPr/>
          <p:nvPr/>
        </p:nvSpPr>
        <p:spPr>
          <a:xfrm>
            <a:off x="5645160" y="2589120"/>
            <a:ext cx="53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微软雅黑"/>
              </a:rPr>
              <a:t>传说这种鸟经常在冬天的晚上不断地号叫，发出“哆啰啰、哆啰啰”的声音，所以人们叫它 “寒号鸟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寒号鸟3"/>
          <p:cNvPicPr/>
          <p:nvPr/>
        </p:nvPicPr>
        <p:blipFill>
          <a:blip r:embed="rId3"/>
          <a:stretch/>
        </p:blipFill>
        <p:spPr>
          <a:xfrm>
            <a:off x="2171880" y="2332080"/>
            <a:ext cx="2649240" cy="2085840"/>
          </a:xfrm>
          <a:prstGeom prst="rect">
            <a:avLst/>
          </a:prstGeom>
          <a:ln w="0">
            <a:noFill/>
          </a:ln>
        </p:spPr>
      </p:pic>
      <p:grpSp>
        <p:nvGrpSpPr>
          <p:cNvPr id="121" name="组合 5"/>
          <p:cNvGrpSpPr/>
          <p:nvPr/>
        </p:nvGrpSpPr>
        <p:grpSpPr>
          <a:xfrm>
            <a:off x="1565280" y="1324080"/>
            <a:ext cx="9032760" cy="4100400"/>
            <a:chOff x="1565280" y="1324080"/>
            <a:chExt cx="9032760" cy="4100400"/>
          </a:xfrm>
        </p:grpSpPr>
        <p:sp>
          <p:nvSpPr>
            <p:cNvPr id="122" name="Rectangle 8"/>
            <p:cNvSpPr/>
            <p:nvPr/>
          </p:nvSpPr>
          <p:spPr>
            <a:xfrm>
              <a:off x="1747800" y="3846240"/>
              <a:ext cx="8673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圆角矩形 10"/>
            <p:cNvSpPr/>
            <p:nvPr/>
          </p:nvSpPr>
          <p:spPr>
            <a:xfrm>
              <a:off x="1565280" y="1324080"/>
              <a:ext cx="9032760" cy="41004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b05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矩形 13"/>
          <p:cNvSpPr/>
          <p:nvPr/>
        </p:nvSpPr>
        <p:spPr>
          <a:xfrm>
            <a:off x="6813360" y="1692360"/>
            <a:ext cx="33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微软雅黑"/>
              </a:rPr>
              <a:t>我们认识主人公“寒号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QQ截图20170720011618"/>
          <p:cNvPicPr/>
          <p:nvPr/>
        </p:nvPicPr>
        <p:blipFill>
          <a:blip r:embed="rId2"/>
          <a:stretch/>
        </p:blipFill>
        <p:spPr>
          <a:xfrm>
            <a:off x="39600" y="41400"/>
            <a:ext cx="11910960" cy="659736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2" descr=""/>
          <p:cNvPicPr/>
          <p:nvPr/>
        </p:nvPicPr>
        <p:blipFill>
          <a:blip r:embed="rId3"/>
          <a:srcRect l="21633" t="10270" r="20260" b="47026"/>
          <a:stretch/>
        </p:blipFill>
        <p:spPr>
          <a:xfrm>
            <a:off x="738360" y="4218120"/>
            <a:ext cx="884160" cy="919080"/>
          </a:xfrm>
          <a:prstGeom prst="rect">
            <a:avLst/>
          </a:prstGeom>
          <a:ln w="0">
            <a:noFill/>
          </a:ln>
        </p:spPr>
      </p:pic>
      <p:sp>
        <p:nvSpPr>
          <p:cNvPr id="127" name="矩形 4"/>
          <p:cNvSpPr/>
          <p:nvPr/>
        </p:nvSpPr>
        <p:spPr>
          <a:xfrm>
            <a:off x="3097080" y="2322360"/>
            <a:ext cx="60962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楷体_GB2312"/>
              </a:rPr>
              <a:t>石崖            垒巢           懒惰        寒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楷体_GB2312"/>
              </a:rPr>
              <a:t>吵闹            厉害           悲哀        腊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楷体_GB2312"/>
              </a:rPr>
              <a:t>狮子            寒号鸟       伸伸腰      缝隙     大雪纷飞     得过且过          冻得打哆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5"/>
          <p:cNvGrpSpPr/>
          <p:nvPr/>
        </p:nvGrpSpPr>
        <p:grpSpPr>
          <a:xfrm>
            <a:off x="2297160" y="1763640"/>
            <a:ext cx="7624800" cy="3237120"/>
            <a:chOff x="2297160" y="1763640"/>
            <a:chExt cx="7624800" cy="3237120"/>
          </a:xfrm>
        </p:grpSpPr>
        <p:sp>
          <p:nvSpPr>
            <p:cNvPr id="129" name="Rectangle 8"/>
            <p:cNvSpPr/>
            <p:nvPr/>
          </p:nvSpPr>
          <p:spPr>
            <a:xfrm>
              <a:off x="2451240" y="3754800"/>
              <a:ext cx="7321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圆角矩形 10"/>
            <p:cNvSpPr/>
            <p:nvPr/>
          </p:nvSpPr>
          <p:spPr>
            <a:xfrm>
              <a:off x="2297160" y="1763640"/>
              <a:ext cx="7624800" cy="32371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b05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22" descr="复件 读一读"/>
          <p:cNvPicPr/>
          <p:nvPr/>
        </p:nvPicPr>
        <p:blipFill>
          <a:blip r:embed="rId4"/>
          <a:stretch/>
        </p:blipFill>
        <p:spPr>
          <a:xfrm rot="181200">
            <a:off x="10334520" y="782640"/>
            <a:ext cx="806400" cy="9604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774000" y="1050840"/>
            <a:ext cx="1965240" cy="10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3" name="矩形 2"/>
          <p:cNvSpPr/>
          <p:nvPr/>
        </p:nvSpPr>
        <p:spPr>
          <a:xfrm>
            <a:off x="3057480" y="2270160"/>
            <a:ext cx="60958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100" spc="-1" strike="noStrike">
                <a:solidFill>
                  <a:srgbClr val="ff0000"/>
                </a:solidFill>
                <a:latin typeface="微软雅黑"/>
              </a:rPr>
              <a:t>几阵秋风，树叶落尽，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冬天快要到了</a:t>
            </a:r>
            <a:r>
              <a:rPr b="1" lang="zh-CN" sz="2100" spc="-1" strike="noStrike">
                <a:solidFill>
                  <a:srgbClr val="ff0000"/>
                </a:solidFill>
                <a:latin typeface="微软雅黑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微软雅黑"/>
              </a:rPr>
              <a:t>       </a:t>
            </a:r>
            <a:r>
              <a:rPr b="1" lang="zh-CN" sz="2100" spc="-1" strike="noStrike">
                <a:solidFill>
                  <a:srgbClr val="ff0000"/>
                </a:solidFill>
                <a:latin typeface="微软雅黑"/>
              </a:rPr>
              <a:t>冬天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说到就到</a:t>
            </a:r>
            <a:r>
              <a:rPr b="1" lang="zh-CN" sz="2100" spc="-1" strike="noStrike">
                <a:solidFill>
                  <a:srgbClr val="ff0000"/>
                </a:solidFill>
                <a:latin typeface="微软雅黑"/>
              </a:rPr>
              <a:t>，寒风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呼呼地刮</a:t>
            </a:r>
            <a:r>
              <a:rPr b="1" lang="zh-CN" sz="2100" spc="-1" strike="noStrike">
                <a:solidFill>
                  <a:srgbClr val="ff0000"/>
                </a:solidFill>
                <a:latin typeface="微软雅黑"/>
              </a:rPr>
              <a:t>着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微软雅黑"/>
              </a:rPr>
              <a:t>      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寒冬腊月，大雪纷飞，漫山遍野一片白色。</a:t>
            </a:r>
            <a:r>
              <a:rPr b="1" lang="zh-CN" sz="2100" spc="-1" strike="noStrike">
                <a:solidFill>
                  <a:srgbClr val="ff0000"/>
                </a:solidFill>
                <a:latin typeface="微软雅黑"/>
              </a:rPr>
              <a:t>北风像狮子那样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狂吼</a:t>
            </a:r>
            <a:r>
              <a:rPr b="1" lang="zh-CN" sz="2100" spc="-1" strike="noStrike">
                <a:solidFill>
                  <a:srgbClr val="ff0000"/>
                </a:solidFill>
                <a:latin typeface="微软雅黑"/>
              </a:rPr>
              <a:t>，河里的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水结了冰</a:t>
            </a:r>
            <a:r>
              <a:rPr b="1" lang="zh-CN" sz="2100" spc="-1" strike="noStrike">
                <a:solidFill>
                  <a:srgbClr val="ff0000"/>
                </a:solidFill>
                <a:latin typeface="微软雅黑"/>
              </a:rPr>
              <a:t>，崖缝里冷得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像冰窖</a:t>
            </a:r>
            <a:r>
              <a:rPr b="1" lang="zh-CN" sz="2100" spc="-1" strike="noStrike">
                <a:solidFill>
                  <a:srgbClr val="ff0000"/>
                </a:solidFill>
                <a:latin typeface="微软雅黑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组合 3"/>
          <p:cNvGrpSpPr/>
          <p:nvPr/>
        </p:nvGrpSpPr>
        <p:grpSpPr>
          <a:xfrm>
            <a:off x="2300400" y="1049400"/>
            <a:ext cx="7623000" cy="4016160"/>
            <a:chOff x="2300400" y="1049400"/>
            <a:chExt cx="7623000" cy="4016160"/>
          </a:xfrm>
        </p:grpSpPr>
        <p:sp>
          <p:nvSpPr>
            <p:cNvPr id="135" name="Rectangle 8"/>
            <p:cNvSpPr/>
            <p:nvPr/>
          </p:nvSpPr>
          <p:spPr>
            <a:xfrm>
              <a:off x="2454120" y="3467880"/>
              <a:ext cx="7319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圆角矩形 10"/>
            <p:cNvSpPr/>
            <p:nvPr/>
          </p:nvSpPr>
          <p:spPr>
            <a:xfrm>
              <a:off x="2300400" y="1049400"/>
              <a:ext cx="7623000" cy="40161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b05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图片 2" descr=""/>
          <p:cNvPicPr/>
          <p:nvPr/>
        </p:nvPicPr>
        <p:blipFill>
          <a:blip r:embed="rId2"/>
          <a:srcRect l="21633" t="10270" r="20260" b="47026"/>
          <a:stretch/>
        </p:blipFill>
        <p:spPr>
          <a:xfrm>
            <a:off x="828720" y="3924360"/>
            <a:ext cx="882720" cy="917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4" descr="RW_009"/>
          <p:cNvPicPr/>
          <p:nvPr/>
        </p:nvPicPr>
        <p:blipFill>
          <a:blip r:embed="rId3"/>
          <a:stretch/>
        </p:blipFill>
        <p:spPr>
          <a:xfrm>
            <a:off x="10412280" y="1160640"/>
            <a:ext cx="787680" cy="6681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8"/>
          <p:cNvSpPr/>
          <p:nvPr/>
        </p:nvSpPr>
        <p:spPr>
          <a:xfrm>
            <a:off x="4976280" y="1565280"/>
            <a:ext cx="1941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有表情地读句子体会意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云形标注 2"/>
          <p:cNvSpPr/>
          <p:nvPr/>
        </p:nvSpPr>
        <p:spPr>
          <a:xfrm>
            <a:off x="3724200" y="1295280"/>
            <a:ext cx="2131920" cy="881280"/>
          </a:xfrm>
          <a:prstGeom prst="cloudCallout">
            <a:avLst>
              <a:gd name="adj1" fmla="val 164967"/>
              <a:gd name="adj2" fmla="val 76106"/>
            </a:avLst>
          </a:prstGeom>
          <a:solidFill>
            <a:srgbClr val="00ccff"/>
          </a:soli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寒号鸟2"/>
          <p:cNvPicPr/>
          <p:nvPr/>
        </p:nvPicPr>
        <p:blipFill>
          <a:blip r:embed="rId2"/>
          <a:stretch/>
        </p:blipFill>
        <p:spPr>
          <a:xfrm>
            <a:off x="3929040" y="2481120"/>
            <a:ext cx="1849320" cy="1677960"/>
          </a:xfrm>
          <a:prstGeom prst="rect">
            <a:avLst/>
          </a:prstGeom>
          <a:ln w="0">
            <a:noFill/>
          </a:ln>
        </p:spPr>
      </p:pic>
      <p:sp>
        <p:nvSpPr>
          <p:cNvPr id="142" name="矩形 2"/>
          <p:cNvSpPr/>
          <p:nvPr/>
        </p:nvSpPr>
        <p:spPr>
          <a:xfrm>
            <a:off x="7975440" y="2460600"/>
            <a:ext cx="3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微软雅黑"/>
                <a:ea typeface="楷体_GB2312"/>
              </a:rPr>
              <a:t>寒号鸟，别睡觉，大好晴天，赶快垒巢。</a:t>
            </a:r>
            <a:r>
              <a:rPr b="0" lang="zh-CN" sz="1800" spc="-1" strike="noStrike">
                <a:solidFill>
                  <a:srgbClr val="cc0099"/>
                </a:solidFill>
                <a:latin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5952960" y="3214800"/>
            <a:ext cx="44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微软雅黑"/>
                <a:ea typeface="黑体"/>
              </a:rPr>
              <a:t>寒号鸟不听劝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微软雅黑"/>
                <a:ea typeface="楷体_GB2312"/>
              </a:rPr>
              <a:t>傻喜鹊，不要吵，太阳暖和，正好睡觉。</a:t>
            </a:r>
            <a:r>
              <a:rPr b="0" lang="zh-CN" sz="1800" spc="-1" strike="noStrike">
                <a:solidFill>
                  <a:srgbClr val="ff0066"/>
                </a:solidFill>
                <a:latin typeface="微软雅黑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3929040" y="1550880"/>
            <a:ext cx="31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喜鹊第一次劝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8"/>
          <p:cNvGrpSpPr/>
          <p:nvPr/>
        </p:nvGrpSpPr>
        <p:grpSpPr>
          <a:xfrm>
            <a:off x="2301840" y="961920"/>
            <a:ext cx="8174160" cy="4183200"/>
            <a:chOff x="2301840" y="961920"/>
            <a:chExt cx="8174160" cy="4183200"/>
          </a:xfrm>
        </p:grpSpPr>
        <p:sp>
          <p:nvSpPr>
            <p:cNvPr id="146" name="Rectangle 8"/>
            <p:cNvSpPr/>
            <p:nvPr/>
          </p:nvSpPr>
          <p:spPr>
            <a:xfrm>
              <a:off x="2470320" y="3435480"/>
              <a:ext cx="8005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圆角矩形 10"/>
            <p:cNvSpPr/>
            <p:nvPr/>
          </p:nvSpPr>
          <p:spPr>
            <a:xfrm>
              <a:off x="2301840" y="961920"/>
              <a:ext cx="8065440" cy="41832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b05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11"/>
          <p:cNvSpPr/>
          <p:nvPr/>
        </p:nvSpPr>
        <p:spPr>
          <a:xfrm>
            <a:off x="3724200" y="425448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楷体_GB2312"/>
              </a:rPr>
              <a:t>展开想象喜鹊再次劝告寒号鸟：现在天气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微软雅黑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楷体_GB2312"/>
              </a:rPr>
              <a:t>，你看我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微软雅黑"/>
                <a:ea typeface="楷体_GB2312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楷体_GB2312"/>
              </a:rPr>
              <a:t>， 你却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微软雅黑"/>
                <a:ea typeface="楷体_GB2312"/>
              </a:rPr>
              <a:t>        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楷体_GB2312"/>
              </a:rPr>
              <a:t>，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微软雅黑"/>
                <a:ea typeface="楷体_GB2312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楷体_GB2312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4" descr="RW_009"/>
          <p:cNvPicPr/>
          <p:nvPr/>
        </p:nvPicPr>
        <p:blipFill>
          <a:blip r:embed="rId3"/>
          <a:stretch/>
        </p:blipFill>
        <p:spPr>
          <a:xfrm>
            <a:off x="10639440" y="627120"/>
            <a:ext cx="787320" cy="6681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2" descr=""/>
          <p:cNvPicPr/>
          <p:nvPr/>
        </p:nvPicPr>
        <p:blipFill>
          <a:blip r:embed="rId4"/>
          <a:srcRect l="21633" t="10270" r="20260" b="47026"/>
          <a:stretch/>
        </p:blipFill>
        <p:spPr>
          <a:xfrm>
            <a:off x="693720" y="4159080"/>
            <a:ext cx="884160" cy="919440"/>
          </a:xfrm>
          <a:prstGeom prst="rect">
            <a:avLst/>
          </a:prstGeom>
          <a:ln w="0">
            <a:noFill/>
          </a:ln>
        </p:spPr>
      </p:pic>
      <p:sp>
        <p:nvSpPr>
          <p:cNvPr id="151" name="矩形 14"/>
          <p:cNvSpPr/>
          <p:nvPr/>
        </p:nvSpPr>
        <p:spPr>
          <a:xfrm>
            <a:off x="3048120" y="26449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黑体"/>
              </a:rPr>
              <a:t>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8"/>
          <p:cNvSpPr/>
          <p:nvPr/>
        </p:nvSpPr>
        <p:spPr>
          <a:xfrm>
            <a:off x="5676840" y="1824120"/>
            <a:ext cx="2513160" cy="689040"/>
          </a:xfrm>
          <a:prstGeom prst="cloudCallout">
            <a:avLst>
              <a:gd name="adj1" fmla="val -60611"/>
              <a:gd name="adj2" fmla="val -53273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云形标注 2"/>
          <p:cNvSpPr/>
          <p:nvPr/>
        </p:nvSpPr>
        <p:spPr>
          <a:xfrm>
            <a:off x="5676840" y="3836880"/>
            <a:ext cx="2959200" cy="708120"/>
          </a:xfrm>
          <a:prstGeom prst="cloudCallout">
            <a:avLst>
              <a:gd name="adj1" fmla="val 114375"/>
              <a:gd name="adj2" fmla="val 66662"/>
            </a:avLst>
          </a:prstGeom>
          <a:solidFill>
            <a:srgbClr val="00ccff"/>
          </a:soli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寒号鸟2"/>
          <p:cNvPicPr/>
          <p:nvPr/>
        </p:nvPicPr>
        <p:blipFill>
          <a:blip r:embed="rId2"/>
          <a:stretch/>
        </p:blipFill>
        <p:spPr>
          <a:xfrm>
            <a:off x="2946240" y="2168640"/>
            <a:ext cx="2405160" cy="2184120"/>
          </a:xfrm>
          <a:prstGeom prst="rect">
            <a:avLst/>
          </a:prstGeom>
          <a:ln w="0">
            <a:noFill/>
          </a:ln>
        </p:spPr>
      </p:pic>
      <p:sp>
        <p:nvSpPr>
          <p:cNvPr id="155" name="矩形 3"/>
          <p:cNvSpPr/>
          <p:nvPr/>
        </p:nvSpPr>
        <p:spPr>
          <a:xfrm>
            <a:off x="5952960" y="1930320"/>
            <a:ext cx="22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黑体"/>
              </a:rPr>
              <a:t>喜鹊第二次劝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5857920" y="2674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</a:rPr>
              <a:t>趁天晴，快垒巢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</a:rPr>
              <a:t>现在懒惰，将来糟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5952960" y="3836880"/>
            <a:ext cx="27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傻喜鹊，真啰嗦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</a:rPr>
              <a:t>太阳暖和，得过且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7"/>
          <p:cNvGrpSpPr/>
          <p:nvPr/>
        </p:nvGrpSpPr>
        <p:grpSpPr>
          <a:xfrm>
            <a:off x="2301840" y="1168560"/>
            <a:ext cx="8066160" cy="4184640"/>
            <a:chOff x="2301840" y="1168560"/>
            <a:chExt cx="8066160" cy="4184640"/>
          </a:xfrm>
        </p:grpSpPr>
        <p:sp>
          <p:nvSpPr>
            <p:cNvPr id="159" name="Rectangle 8"/>
            <p:cNvSpPr/>
            <p:nvPr/>
          </p:nvSpPr>
          <p:spPr>
            <a:xfrm>
              <a:off x="2467800" y="3643200"/>
              <a:ext cx="79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圆角矩形 9"/>
            <p:cNvSpPr/>
            <p:nvPr/>
          </p:nvSpPr>
          <p:spPr>
            <a:xfrm>
              <a:off x="2301840" y="1168560"/>
              <a:ext cx="7958880" cy="4184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b05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图片 2" descr=""/>
          <p:cNvPicPr/>
          <p:nvPr/>
        </p:nvPicPr>
        <p:blipFill>
          <a:blip r:embed="rId3"/>
          <a:srcRect l="21633" t="10270" r="20260" b="47026"/>
          <a:stretch/>
        </p:blipFill>
        <p:spPr>
          <a:xfrm>
            <a:off x="693720" y="4159080"/>
            <a:ext cx="884160" cy="919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4" descr="RW_009"/>
          <p:cNvPicPr/>
          <p:nvPr/>
        </p:nvPicPr>
        <p:blipFill>
          <a:blip r:embed="rId4"/>
          <a:stretch/>
        </p:blipFill>
        <p:spPr>
          <a:xfrm>
            <a:off x="10639440" y="835200"/>
            <a:ext cx="787320" cy="668160"/>
          </a:xfrm>
          <a:prstGeom prst="rect">
            <a:avLst/>
          </a:prstGeom>
          <a:ln w="0">
            <a:noFill/>
          </a:ln>
        </p:spPr>
      </p:pic>
      <p:sp>
        <p:nvSpPr>
          <p:cNvPr id="163" name="矩形 12"/>
          <p:cNvSpPr/>
          <p:nvPr/>
        </p:nvSpPr>
        <p:spPr>
          <a:xfrm>
            <a:off x="6012000" y="33368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微软雅黑"/>
                <a:ea typeface="黑体"/>
              </a:rPr>
              <a:t>寒号鸟不听劝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1"/>
          <p:cNvSpPr/>
          <p:nvPr/>
        </p:nvSpPr>
        <p:spPr>
          <a:xfrm>
            <a:off x="3433680" y="2828880"/>
            <a:ext cx="7700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微软雅黑"/>
                <a:ea typeface="黑体"/>
              </a:rPr>
              <a:t>冬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微软雅黑"/>
                <a:ea typeface="黑体"/>
              </a:rPr>
              <a:t>天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微软雅黑"/>
                <a:ea typeface="黑体"/>
              </a:rPr>
              <a:t>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微软雅黑"/>
                <a:ea typeface="黑体"/>
              </a:rPr>
              <a:t>了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2"/>
          <p:cNvGrpSpPr/>
          <p:nvPr/>
        </p:nvGrpSpPr>
        <p:grpSpPr>
          <a:xfrm>
            <a:off x="2894040" y="1332000"/>
            <a:ext cx="8064360" cy="4262400"/>
            <a:chOff x="2894040" y="1332000"/>
            <a:chExt cx="8064360" cy="4262400"/>
          </a:xfrm>
        </p:grpSpPr>
        <p:sp>
          <p:nvSpPr>
            <p:cNvPr id="166" name="Rectangle 8"/>
            <p:cNvSpPr/>
            <p:nvPr/>
          </p:nvSpPr>
          <p:spPr>
            <a:xfrm>
              <a:off x="3060000" y="3852360"/>
              <a:ext cx="7898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圆角矩形 4"/>
            <p:cNvSpPr/>
            <p:nvPr/>
          </p:nvSpPr>
          <p:spPr>
            <a:xfrm>
              <a:off x="2894040" y="1332000"/>
              <a:ext cx="6787440" cy="42624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b05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矩形 5"/>
          <p:cNvSpPr/>
          <p:nvPr/>
        </p:nvSpPr>
        <p:spPr>
          <a:xfrm>
            <a:off x="4581360" y="2155680"/>
            <a:ext cx="44816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寒号鸟悲哀地叫着：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         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哆啰啰，哆啰啰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         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寒风冻死我，明天就垒窝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6"/>
          <p:cNvSpPr/>
          <p:nvPr/>
        </p:nvSpPr>
        <p:spPr>
          <a:xfrm>
            <a:off x="4589640" y="3683160"/>
            <a:ext cx="47163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寒号鸟最后的哀号：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         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哆啰啰，哆啰啰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         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寒风冻死我，明天就垒窝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5626080" y="160668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表演朗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4622760" y="4944960"/>
            <a:ext cx="43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展开想象：你想对寒号鸟说一些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4" descr="RW_009"/>
          <p:cNvPicPr/>
          <p:nvPr/>
        </p:nvPicPr>
        <p:blipFill>
          <a:blip r:embed="rId2"/>
          <a:stretch/>
        </p:blipFill>
        <p:spPr>
          <a:xfrm>
            <a:off x="10333080" y="996840"/>
            <a:ext cx="787320" cy="668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4" descr="RW_009"/>
          <p:cNvPicPr/>
          <p:nvPr/>
        </p:nvPicPr>
        <p:blipFill>
          <a:blip r:embed="rId3"/>
          <a:stretch/>
        </p:blipFill>
        <p:spPr>
          <a:xfrm>
            <a:off x="1063800" y="4745160"/>
            <a:ext cx="78732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3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2"/>
          <p:cNvSpPr/>
          <p:nvPr/>
        </p:nvSpPr>
        <p:spPr>
          <a:xfrm>
            <a:off x="4237200" y="1868400"/>
            <a:ext cx="5819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微软雅黑"/>
              </a:rPr>
              <a:t>通过这个故事：你明白了什么？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5726160" y="2836800"/>
            <a:ext cx="3821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明日歌</a:t>
            </a:r>
            <a:br>
              <a:rPr sz="2100"/>
            </a:b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明日复明日，明日何其多！</a:t>
            </a:r>
            <a:br>
              <a:rPr sz="2100"/>
            </a:b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我生待明日，万事成蹉跎。</a:t>
            </a:r>
            <a:br>
              <a:rPr sz="2100"/>
            </a:b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凡事适时做，明日不待我。</a:t>
            </a:r>
            <a:br>
              <a:rPr sz="2100"/>
            </a:b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万事待明日，明日能几何？</a:t>
            </a:r>
            <a:br>
              <a:rPr sz="2100"/>
            </a:b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只有努力做，才不负日月。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4"/>
          <p:cNvGrpSpPr/>
          <p:nvPr/>
        </p:nvGrpSpPr>
        <p:grpSpPr>
          <a:xfrm>
            <a:off x="2976480" y="1332000"/>
            <a:ext cx="8066160" cy="4093920"/>
            <a:chOff x="2976480" y="1332000"/>
            <a:chExt cx="8066160" cy="4093920"/>
          </a:xfrm>
        </p:grpSpPr>
        <p:sp>
          <p:nvSpPr>
            <p:cNvPr id="177" name="Rectangle 8"/>
            <p:cNvSpPr/>
            <p:nvPr/>
          </p:nvSpPr>
          <p:spPr>
            <a:xfrm>
              <a:off x="3142440" y="3753000"/>
              <a:ext cx="7900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圆角矩形 6"/>
            <p:cNvSpPr/>
            <p:nvPr/>
          </p:nvSpPr>
          <p:spPr>
            <a:xfrm>
              <a:off x="2976480" y="1332000"/>
              <a:ext cx="6789240" cy="40939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b05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34" descr="RW_009"/>
          <p:cNvPicPr/>
          <p:nvPr/>
        </p:nvPicPr>
        <p:blipFill>
          <a:blip r:embed="rId2"/>
          <a:stretch/>
        </p:blipFill>
        <p:spPr>
          <a:xfrm>
            <a:off x="10333080" y="1023840"/>
            <a:ext cx="787320" cy="668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4" descr="RW_009"/>
          <p:cNvPicPr/>
          <p:nvPr/>
        </p:nvPicPr>
        <p:blipFill>
          <a:blip r:embed="rId3"/>
          <a:stretch/>
        </p:blipFill>
        <p:spPr>
          <a:xfrm>
            <a:off x="776160" y="4757760"/>
            <a:ext cx="787680" cy="668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寒号鸟2"/>
          <p:cNvPicPr/>
          <p:nvPr/>
        </p:nvPicPr>
        <p:blipFill>
          <a:blip r:embed="rId4"/>
          <a:stretch/>
        </p:blipFill>
        <p:spPr>
          <a:xfrm>
            <a:off x="3419640" y="2913120"/>
            <a:ext cx="184932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2"/>
          <p:cNvSpPr/>
          <p:nvPr/>
        </p:nvSpPr>
        <p:spPr>
          <a:xfrm>
            <a:off x="3935520" y="2523960"/>
            <a:ext cx="511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故事一：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       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</a:rPr>
              <a:t>第二天喜鹊在枝头邻居寒号鸟，却发现邻居已经在严寒的夜晚冻死了，喜鹊会说些什么、做些什么呢？（喜鹊的话里可以用上如果、假如等词。）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3"/>
          <p:cNvGrpSpPr/>
          <p:nvPr/>
        </p:nvGrpSpPr>
        <p:grpSpPr>
          <a:xfrm>
            <a:off x="2976480" y="1332000"/>
            <a:ext cx="7767720" cy="3790800"/>
            <a:chOff x="2976480" y="1332000"/>
            <a:chExt cx="7767720" cy="3790800"/>
          </a:xfrm>
        </p:grpSpPr>
        <p:sp>
          <p:nvSpPr>
            <p:cNvPr id="184" name="Rectangle 8"/>
            <p:cNvSpPr/>
            <p:nvPr/>
          </p:nvSpPr>
          <p:spPr>
            <a:xfrm>
              <a:off x="3136320" y="3573720"/>
              <a:ext cx="7607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微软雅黑"/>
                </a:rPr>
                <a:t>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圆角矩形 5"/>
            <p:cNvSpPr/>
            <p:nvPr/>
          </p:nvSpPr>
          <p:spPr>
            <a:xfrm>
              <a:off x="2976480" y="1332000"/>
              <a:ext cx="6537960" cy="37908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b05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6"/>
          <p:cNvSpPr/>
          <p:nvPr/>
        </p:nvSpPr>
        <p:spPr>
          <a:xfrm>
            <a:off x="5245200" y="173520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展开想象，拓展延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4" descr="RW_009"/>
          <p:cNvPicPr/>
          <p:nvPr/>
        </p:nvPicPr>
        <p:blipFill>
          <a:blip r:embed="rId2"/>
          <a:stretch/>
        </p:blipFill>
        <p:spPr>
          <a:xfrm>
            <a:off x="10237680" y="831960"/>
            <a:ext cx="787680" cy="668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RW_009"/>
          <p:cNvPicPr/>
          <p:nvPr/>
        </p:nvPicPr>
        <p:blipFill>
          <a:blip r:embed="rId3"/>
          <a:stretch/>
        </p:blipFill>
        <p:spPr>
          <a:xfrm>
            <a:off x="1138320" y="4518000"/>
            <a:ext cx="787320" cy="6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5T01:28:05Z</dcterms:created>
  <dc:creator>lcj</dc:creator>
  <dc:description/>
  <cp:keywords/>
  <dc:language>en-US</dc:language>
  <cp:lastModifiedBy>Administrator</cp:lastModifiedBy>
  <dcterms:modified xsi:type="dcterms:W3CDTF">2017-07-22T22:57:56Z</dcterms:modified>
  <cp:revision>16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