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amera.wav" ContentType="audio/x-wav"/>
  <Override PartName="/ppt/media/chimes.wav" ContentType="audio/x-wav"/>
  <Override PartName="/ppt/media/image6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AD5-65C3-4764-8881-122A8A16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C56-D5D6-4FF0-8C4C-C20A57E9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E4E-BF17-4750-8706-5AD973A6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F9A-20DC-4842-A889-FE09995B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196-94FD-48BE-999D-C88E1434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6C7-2A5E-4B09-9EAC-4CD12EAE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9D2-34A9-4EF1-82D7-4332EB07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66D-CFC1-4DA0-B544-4FF13D1F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487-F3B8-401E-B868-14A9598D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7BB-2C9E-41DA-BEB2-B5C92697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6BD-F6D3-4878-AE22-A80CF5EC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314-67D3-496F-85B1-FAC01B1B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78FE-CA9B-446D-A0E6-871105A779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" Target="slide13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60280"/>
            <a:ext cx="678204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荷花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孙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79480" y="54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89647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个性化的语言描写（课后第二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“低着头”表现了水生嫂的性格：传统贤惠的农村妇女，对丈夫很顺从；有一丝嗔怪，但并未反对，说明她深明大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深明大义；对家庭很有责任感；对丈夫依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坚强；对于丈夫给予的理解感到欣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对丈夫的突然离开，心理上一时难以承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现了她温和顺从的性格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明了她的坚强，对丈夫的忠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体会下面这句话的份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不要叫敌人汉奸捉住的。捉住了要和他们拼命。”这才是那最重要的一句。女人流着眼泪答应了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你能掂量出这句话的份量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是全篇小说中份量最重、内涵最多的一句话。战争年代，被敌人捉了活的，对一个年轻少妇来说，就意味着被羞辱的命运，这不仅是个人的悲剧，也是家庭的悲剧，更是一个民族的耻辱。一对恩爱夫妻，他们最担心、最不能接受的就是这样一个事实。因此，丈夫要求妻子去拼命，正应了那句古话——“宁为玉碎，不为瓦全”。此时夫妻的思想感情，一定经历了瞬间的狂风暴雨、电闪雷鸣。为了个人的、民族的尊严，他们的选择只能是与敌人“拼命”。此刻女人是流着眼泪答应丈夫的。你看，从内心一惊，到理解丈夫，从鼻子发酸，到狠下决心，答应丈夫的嘱咐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把一个女人丰富、复杂、高洁的情感世界，表现得多么淋漓尽致而又回环曲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对话比较鉴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晚丈夫才回来……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人抬头瞪着他说“死到哪里去了，这么晚才回来！没你的饭了！”说着，拍拍手站起来要往灶间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生坐在台阶上说“吃过饭了，你不要去拿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人就又坐在席子上，她望着丈夫的脸，她看出了他的脸有些红涨，说话也有些气喘。她问“有事快说。我知道，回来晚了一准没好事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生咧嘴笑了，“你看你，尽瞎猜。”四下看看又说，“爹呢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有爹呀？早睡了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华呢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甭跟我打岔，到底什么事？给我痛快点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生小声说：“明天我就到大部队去了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人停下了手中的活儿，怔了一下，站起来，并不看水生的脸。“不就是这么点事吗？还又是问爹又是问小华的，婆婆妈妈不直说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生一把拉住她：“今天在县里开会，会上决定成立一个地区队。我第一个举手报了名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人的眼睛熠熠闪光：“你要是不积极，爹和我都不依你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62485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重点探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7772400" cy="555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改写后的水生女人同原作中的水生女人有共同点：深明大义，支持丈夫参军。不同之处是后者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性格泼辣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直爽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；前者温柔、缠绵、含蓄。如果说后者像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火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那前者像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第二部分中几个女人聚在水生家商量探夫的对话描写，注意读出个性。然后分析几个女人各自的性格特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12891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个说：“我不拖尾巴，可是忘下了一件衣裳。”活画出这个女人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含蓄、聪明伶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个说：“我有句要紧的话，得和他说说。”则表现出该女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直爽开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特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个说“听他说，敌人要在同口安据点……”是水生嫂的，表现了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心细、考虑问题周到、善于思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个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句“哪里就碰得那么巧，我们快去快回来”表现出的是一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快言快语，急切而又真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女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五个女人是个新媳妇。“我本来不想去，可是俺婆婆非叫我再去看看他——有什么看头啊！”活画出一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羞涩忸怩而又十分可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形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3480" y="189000"/>
            <a:ext cx="75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部分中几个女人聚在水生家商量探夫的对话描写，注意读出个性。然后分析几个女人各自的性格特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品的对话描写简洁朴素，生动传神，刻画人物栩栩如生，使读者如见其人，如闻其声，不仅如此，而且能形象地展示人物丰富的内心世界，展示了白洋淀女人们的成长历程，展示白洋淀地区人民的人情美、人性美，深化了小说的主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鉴赏细节描写的作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请从文中找出细节描写的句子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800000"/>
                </a:solidFill>
                <a:latin typeface="Times New Roman"/>
              </a:rPr>
              <a:t>震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是水生嫂听到丈夫报名参军之后出现的一个细节描写。丈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明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就要参军到大部队上去，的确出于水生嫂的意料之外，心里受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震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手指不由自主地震动了一下。我们不难想象，这时水生嫂心里的感情一定是很复杂的：几年的夫妻恩爱，家中生产生活两副重担，上前线前途莫测…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800000"/>
                </a:solidFill>
                <a:latin typeface="Times New Roman"/>
              </a:rPr>
              <a:t>吮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水生嫂毕竟是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识大体，明大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人，很快地把一个手指放在嘴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一下，她用这个动作迅速平衡了自己的情绪，她不能让丈夫看出自己有软弱的表现，并作出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支持丈夫参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决定，显示了她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坚强性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99"/>
                </a:solidFill>
                <a:latin typeface="Times New Roman"/>
                <a:ea typeface="华文新魏"/>
              </a:rPr>
              <a:t>作者孙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518148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孙犁（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1913――1996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），原名孙树勋，河北安平县人，现代作家。主要作品有长篇小说《风云初记》，中篇小说《铁木前传》，短篇小说集《白洋淀》、《荷花淀》、《采蒲台》、《嘱咐》，小说散文集《白洋淀纪事》等。 </a:t>
            </a:r>
            <a:br>
              <a:rPr sz="2400"/>
            </a:b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     孙犁小说语言清新自然、朴素洗练，被称为“诗体小说”。他和作家刘绍棠、丛维熙、韩映山、房树民等，在创作风格上有共同的特点：如荷花一样根植于水乡泥土，带着自然的清新</a:t>
            </a:r>
            <a:r>
              <a:rPr b="0" lang="zh-CN" sz="2400" spc="-1" strike="noStrike">
                <a:solidFill>
                  <a:srgbClr val="990000"/>
                </a:solidFill>
                <a:latin typeface="宋体"/>
              </a:rPr>
              <a:t>纯朴，充满诗情画意。被称之为“荷花淀”派。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 与赵树理为代表的“山药蛋”派小说一起，对后来的文学发展有较大的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886200" cy="441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72200" y="5715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孙犁照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是他们是谁，一群落后分子！”说完把纸盒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顺手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女人船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这里细节描写把丈夫对妻子的无法言说的爱，农民战士的朴素、真实而又细腻的情感，表现得具体而又微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思考题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试以水生嫂和祥林嫂为例，说说时代变迁对妇女命运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69138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9933ff"/>
                </a:solidFill>
                <a:uFillTx/>
                <a:latin typeface="Times New Roman"/>
              </a:rPr>
              <a:t>水生嫂和祥林嫂之比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</a:rPr>
              <a:t>同样作为中国普通的农村妇女，但是祥林嫂和水生嫂的人生道路却完全不一样。祥林嫂生活在封建时代末期，现代文明之风还吹不进封闭、保守的鲁镇，祥林嫂只能被冷漠、黑暗的社会现实所毁灭；水生嫂生活在全民抗战时期，社会已经有了很大的进步，尤其是根据地，妇女解放已经开始深入人心，所以水生嫂能从一个贤惠、温顺的村妇成长为一个抗战的巾帼战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概括“荷花淀派”的创作特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者以冀中抗日根据地人民斗争生活为题材，在延安窑洞里的一盏油灯下，用自制的墨水和草纸写成这篇小说。他的小说作品追求散文式的格调，追求诗歌般的意境，形成独特的艺术风格，并对当代文学产生极大的影响，造成了一个作家群，被当代文坛誉为“荷花淀派”。《白洋淀纪事》是他的小说散文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荷花淀派”的创作特色：散文式清新秀美的语言，浓郁的诗情画意，在细腻的描写中开拓诗一般的意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文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于美的艺术创造，是孙犁的一贯追求。他曾这样说道：“看到真善美的极致，我写了一些作品。看到邪恶的极致，我不愿意写。这些东西，我体验很深，可以说是镂心刻骨的，可是我不愿意去写这些东西。我也不愿意回忆它。”《荷花淀》则是最集中体现他追求美的极致的战争小说，是一篇真正的纯美小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全文已空行标明小说三部分，请你从一个角度，用四字句给每部分加小标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小说的故事情节有开端、发展、高潮、结局，这三部分各属什么阶段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小说的主人公应该是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你觉得小说主要是靠什么来塑造人物性格和推动故事情节发展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61722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初步感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484280"/>
            <a:ext cx="1523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夫妻话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探夫遇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助夫杀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700280"/>
            <a:ext cx="1523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开端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发展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高潮、结局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青年妇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1628640"/>
            <a:ext cx="1066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773360"/>
            <a:ext cx="1447560" cy="3045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227664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771640" y="2421000"/>
            <a:ext cx="106704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508720" y="1916280"/>
            <a:ext cx="1150920" cy="2412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2349360"/>
            <a:ext cx="9097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2637000"/>
            <a:ext cx="990720" cy="2286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0"/>
            <a:ext cx="4680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初步感知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60199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讨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7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7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重点探讨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鉴赏景物描写的作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028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鉴赏人物对话的作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028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鉴赏细节描写的作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33"/>
                </a:solidFill>
                <a:latin typeface="Times New Roman"/>
              </a:rPr>
              <a:t>鉴赏小说景物描写的方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第一、领会写的是什么样的景，联系时代背景和上下文来理解它为人物活动创设的背景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第二、明确“一切景语皆情语”，领会画中之意，理解景物中蕴含着有关人物的丰富感情，体味它对刻画人物性格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理解景物描写画面情景的转换，对推动故事情节发展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6019920"/>
            <a:ext cx="1143000" cy="405000"/>
          </a:xfrm>
          <a:prstGeom prst="rect">
            <a:avLst/>
          </a:prstGeom>
          <a:noFill/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重点探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71640" y="54900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景物描写，古人认为情景名为二而实不可分。请同学们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本文有几处景物描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各描写了哪些景物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文中起了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18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9900"/>
                </a:solidFill>
                <a:latin typeface="Times New Roman"/>
              </a:rPr>
              <a:t>三处景物描写及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开头部分对             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提供背景，衬托人物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水生家小院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白洋淀夜景的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正午淀上风光的描写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烘托心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对荷花淀的描写       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推动情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鉴赏人物对话的作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找出文中个性化的语言描写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01:54:14Z</dcterms:created>
  <dc:creator>吴雪阳</dc:creator>
  <dc:description/>
  <dc:language>en-US</dc:language>
  <cp:lastModifiedBy>user</cp:lastModifiedBy>
  <dcterms:modified xsi:type="dcterms:W3CDTF">2006-02-21T08:06:17Z</dcterms:modified>
  <cp:revision>13</cp:revision>
  <dc:subject/>
  <dc:title>PowerPoint 演示文稿</dc:title>
</cp:coreProperties>
</file>