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31A9-2523-4560-919A-8988F4D55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71FF-9D9C-4A45-AAD9-378C6DDE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08B1-00D2-4825-8ED1-61F937974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3BE7-430D-4E3F-AD6E-47BF7DF97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7764-31D3-45C0-A010-59B8A5B1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9620-A63E-42BA-B7B4-822F0BBB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61DD-BBDE-4887-A9EB-0837ED63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D85B-8930-4C3C-ADDB-504A2392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0645-D0B6-4F22-BAB2-49B348D5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112E-D7F1-44A0-A068-A093F6BC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1E03-9BBB-4D3F-B077-EA44EADB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4CCA-C3EE-4966-96B1-93585C92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99D2-174D-4350-A2FA-84C65B144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12.com.cn/teacher/union/personal/per_zj.php3?uid=tianzhu926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5400000">
            <a:off x="5524200" y="2476440"/>
            <a:ext cx="541008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幼圆"/>
              </a:rPr>
              <a:t>灰姑娘的时钟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42" name=""/>
          <p:cNvSpPr/>
          <p:nvPr/>
        </p:nvSpPr>
        <p:spPr>
          <a:xfrm>
            <a:off x="6906240" y="4343400"/>
            <a:ext cx="7898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角山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2"/>
          </p:cNvPr>
          <p:cNvSpPr/>
          <p:nvPr/>
        </p:nvSpPr>
        <p:spPr>
          <a:xfrm>
            <a:off x="-48240" y="990720"/>
            <a:ext cx="911880" cy="556236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ccff"/>
                </a:solidFill>
                <a:latin typeface="Times New Roman"/>
              </a:rPr>
              <a:t>课件制作——南京市瑞金路中学  钟天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66680" y="1442880"/>
            <a:ext cx="70866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教学目标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学习本文从故事中提出问题，展开论述的写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理解本文阐述的道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理解本文的结构特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49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304920"/>
            <a:ext cx="9448920" cy="67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给下列红字注音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祈祷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                流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无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暇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顾及  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迎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刃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而解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蜥蜴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                  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鼷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鼠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90920" y="121932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Times New Roman"/>
              </a:rPr>
              <a:t>q</a:t>
            </a:r>
            <a:r>
              <a:rPr b="1" lang="zh-CN" sz="4400" spc="-1" strike="noStrike">
                <a:solidFill>
                  <a:srgbClr val="d60093"/>
                </a:solidFill>
                <a:latin typeface="宋体"/>
              </a:rPr>
              <a:t>ǐ</a:t>
            </a:r>
            <a:r>
              <a:rPr b="1" lang="zh-CN" sz="4400" spc="-1" strike="noStrike">
                <a:solidFill>
                  <a:srgbClr val="d60093"/>
                </a:solidFill>
                <a:latin typeface="Times New Roman"/>
              </a:rPr>
              <a:t> d</a:t>
            </a:r>
            <a:r>
              <a:rPr b="1" lang="zh-CN" sz="4400" spc="-1" strike="noStrike">
                <a:solidFill>
                  <a:srgbClr val="d60093"/>
                </a:solidFill>
                <a:latin typeface="宋体"/>
              </a:rPr>
              <a:t>ǎ</a:t>
            </a:r>
            <a:r>
              <a:rPr b="1" lang="zh-CN" sz="4400" spc="-1" strike="noStrike">
                <a:solidFill>
                  <a:srgbClr val="d60093"/>
                </a:solidFill>
                <a:latin typeface="Times New Roman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111132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Times New Roman"/>
              </a:rPr>
              <a:t>sh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2514600"/>
            <a:ext cx="21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Times New Roman"/>
              </a:rPr>
              <a:t>xi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14800" y="358128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宋体"/>
              </a:rPr>
              <a:t>rè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38280" y="487692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宋体"/>
              </a:rPr>
              <a:t>xīy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0" y="487692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宋体"/>
              </a:rPr>
              <a:t>x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828800" y="1066680"/>
            <a:ext cx="7315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思考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、作者从“灰姑娘的时钟”提出的第一个问题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27432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、文章提出的第二个问题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33526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、机械时钟的出现对人们的生活和劳动产生的最大影响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443376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、什么是不定时法则和定时法则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50292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、灰姑娘的童话到底是什么时间什么社会中产生的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d-1" descr=""/>
          <p:cNvPicPr/>
          <p:nvPr/>
        </p:nvPicPr>
        <p:blipFill>
          <a:blip r:embed="rId2"/>
          <a:stretch/>
        </p:blipFill>
        <p:spPr>
          <a:xfrm>
            <a:off x="0" y="3200400"/>
            <a:ext cx="2649600" cy="3657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62120" y="304920"/>
            <a:ext cx="70866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给灰姑娘报时的是什么样的时钟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2514600"/>
            <a:ext cx="5486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世纪到</a:t>
            </a: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17</a:t>
            </a: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世纪初宫廷内用的室内用座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8229600" y="6324480"/>
            <a:ext cx="914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124080" y="380880"/>
            <a:ext cx="23623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机械时钟的出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81680" y="2911320"/>
            <a:ext cx="22860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时法则向定时法则转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579132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工作向受时间约束的雇佣劳动转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2971800"/>
            <a:ext cx="16765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遵守时间的伦理和习惯形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33920" y="990720"/>
            <a:ext cx="1066680" cy="1371600"/>
          </a:xfrm>
          <a:prstGeom prst="downArrow">
            <a:avLst>
              <a:gd name="adj1" fmla="val 50000"/>
              <a:gd name="adj2" fmla="val 3214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638680" y="2819520"/>
            <a:ext cx="1067040" cy="1447560"/>
          </a:xfrm>
          <a:prstGeom prst="leftArrow">
            <a:avLst>
              <a:gd name="adj1" fmla="val 32500"/>
              <a:gd name="adj2" fmla="val 2656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33720" y="3048120"/>
            <a:ext cx="76176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9880" y="4952880"/>
            <a:ext cx="990720" cy="7621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971800" y="2362320"/>
            <a:ext cx="2666880" cy="251460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灰姑娘的童话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生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世纪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世纪初的欧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" name=""/>
          <p:cNvCxnSpPr/>
          <p:nvPr/>
        </p:nvCxnSpPr>
        <p:spPr>
          <a:xfrm rot="10800000">
            <a:off x="1142280" y="4114080"/>
            <a:ext cx="2210400" cy="2043720"/>
          </a:xfrm>
          <a:prstGeom prst="curvedConnector2">
            <a:avLst/>
          </a:prstGeom>
          <a:ln w="82440">
            <a:solidFill>
              <a:srgbClr val="00cc99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2" idx="3"/>
            <a:endCxn id="63" idx="0"/>
          </p:cNvCxnSpPr>
          <p:nvPr/>
        </p:nvCxnSpPr>
        <p:spPr>
          <a:xfrm>
            <a:off x="5486040" y="609480"/>
            <a:ext cx="2439000" cy="2302560"/>
          </a:xfrm>
          <a:prstGeom prst="curvedConnector2">
            <a:avLst/>
          </a:prstGeom>
          <a:ln w="69840">
            <a:solidFill>
              <a:srgbClr val="00cc99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0" y="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7c80"/>
                </a:solidFill>
                <a:latin typeface="Times New Roman"/>
              </a:rPr>
              <a:t>第二个问题：与仙女约定的严守时间的问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3" idx="2"/>
            <a:endCxn id="64" idx="3"/>
          </p:cNvCxnSpPr>
          <p:nvPr/>
        </p:nvCxnSpPr>
        <p:spPr>
          <a:xfrm rot="5400000">
            <a:off x="5775480" y="4053600"/>
            <a:ext cx="2469240" cy="1829520"/>
          </a:xfrm>
          <a:prstGeom prst="curvedConnector2">
            <a:avLst/>
          </a:prstGeom>
          <a:ln w="82440">
            <a:solidFill>
              <a:srgbClr val="00cc99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815328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219320" y="609480"/>
            <a:ext cx="662940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d60093"/>
                </a:solidFill>
                <a:latin typeface="Times New Roman"/>
              </a:rPr>
              <a:t>讨论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d60093"/>
                </a:solidFill>
                <a:latin typeface="Times New Roman"/>
              </a:rPr>
              <a:t>      </a:t>
            </a:r>
            <a:r>
              <a:rPr b="1" lang="zh-CN" sz="6600" spc="-1" strike="noStrike">
                <a:solidFill>
                  <a:srgbClr val="d60093"/>
                </a:solidFill>
                <a:latin typeface="Times New Roman"/>
              </a:rPr>
              <a:t>联系生活实际，谈谈你对“遵守时间”的感想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cind_09" descr=""/>
          <p:cNvPicPr/>
          <p:nvPr/>
        </p:nvPicPr>
        <p:blipFill>
          <a:blip r:embed="rId2"/>
          <a:stretch/>
        </p:blipFill>
        <p:spPr>
          <a:xfrm>
            <a:off x="-1600200" y="1447920"/>
            <a:ext cx="2631960" cy="3581280"/>
          </a:xfrm>
          <a:prstGeom prst="rect">
            <a:avLst/>
          </a:prstGeom>
          <a:ln w="0">
            <a:noFill/>
          </a:ln>
        </p:spPr>
      </p:pic>
      <p:pic>
        <p:nvPicPr>
          <p:cNvPr id="78" name="cind_09" descr=""/>
          <p:cNvPicPr/>
          <p:nvPr/>
        </p:nvPicPr>
        <p:blipFill>
          <a:blip r:embed="rId3"/>
          <a:stretch/>
        </p:blipFill>
        <p:spPr>
          <a:xfrm>
            <a:off x="8077320" y="1523880"/>
            <a:ext cx="1679400" cy="2286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600200" y="304920"/>
            <a:ext cx="63244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作业：对同一个问题，可以从不同的角度来分析。作者就是从《灰姑娘》中分析出与童话不相干的经济学问题的。试从学过的童话、寓言或民间故事中找出一两个问题来加以论述，并写成小论文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endshow"/>
          </p:cNvPr>
          <p:cNvSpPr/>
          <p:nvPr/>
        </p:nvSpPr>
        <p:spPr>
          <a:xfrm>
            <a:off x="8229600" y="0"/>
            <a:ext cx="9144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7c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838080"/>
            <a:ext cx="74674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定时法则——将日出到日落的白天时间，以及日落到日出的夜晚时间，分别划分成六等份至十二等份进行计算的方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定时法则——单位时间的长短与季节和场所无关，无论白天还是夜晚，它都是相同不变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229600" y="6400800"/>
            <a:ext cx="914400" cy="45972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1:53:41Z</dcterms:created>
  <dc:creator>zty</dc:creator>
  <dc:description/>
  <dc:language>en-US</dc:language>
  <cp:lastModifiedBy>zty</cp:lastModifiedBy>
  <dcterms:modified xsi:type="dcterms:W3CDTF">2002-07-15T12:37:58Z</dcterms:modified>
  <cp:revision>8</cp:revision>
  <dc:subject/>
  <dc:title>没有幻灯片标题</dc:title>
</cp:coreProperties>
</file>