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9D8-941F-4A25-A149-CFBB8F94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F5E-456E-4350-844B-9ABEBD55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737-B9CC-4BA4-A40B-1DA2551F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B17-AF8F-46D3-977B-99FC1B41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1FD-154A-4AF0-A306-7069477D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40E-D9A0-43C0-A275-8C17DA6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D69-3CB3-4B40-B709-69F09660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75D-D77D-415A-837D-7AE76B30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A92-F609-42E3-B86B-10070554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DD6-857D-4F8E-B009-C56982E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2BA-43F7-46BA-81C2-1217871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850-A7FD-4549-8397-D743652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432F-74B1-49CD-830B-67AC6C2AC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xb.wenxuebao.com/ddzq/200605/W020060515398964384781.JPG&amp;imgrefurl=http://wxb.wenxuebao.com/ddzq/200605/t20060515_939863.htm&amp;h=227&amp;w=170&amp;sz=23&amp;hl=zh-CN&amp;start=12&amp;tbnid=8aET3XwrYcn8nM:&amp;tbnh=108&amp;tbnw=81&amp;prev=/images%3Fq%3D%25E5%2588%2598%25E4%25BA%25AE%25E7%25A8%258B%26svnum%3D10%26hl%3Dzh-CN%26lr%3D%26newwindow%3D1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n/imgres?imgurl=http://www.bachinese.com/forum/attachment/59_2146_778f6b1207db41a.jpg&amp;imgrefurl=http://www.bachinese.com/forum/read.php%3Ftid%3D10562%26page%3De&amp;h=490&amp;w=320&amp;sz=25&amp;hl=zh-CN&amp;start=20&amp;tbnid=QqmPBEligmMFjM:&amp;tbnh=130&amp;tbnw=85&amp;prev=/images%3Fq%3D%25E5%2588%2598%25E4%25BA%25AE%25E7%25A8%258B%26svnum%3D10%26hl%3Dzh-CN%26lr%3D%26newwindow%3D1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22560" y="3933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落在一个人一生中的雪，我们不能全部看见。每个人都在自己的生命中，孤独地过冬。我们帮不了谁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夜雨寄北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商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君问归期未有期，巴山夜雨涨秋池。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何当共剪西窗烛，却话巴山夜雨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39765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首诗既描写了今日身处巴山倾听秋雨时的寂寥之苦，又想象了来日聚首之时的幸福欢乐。此时的痛苦，与将来的喜悦交织一起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时空变换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79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61419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柳暗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花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的“寒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冬天或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是指自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寒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冬天或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联系大语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下列文句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许多年后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寒风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从我自以为火热温暖的从未被寒冷侵入的内心深处阵阵袭来时，我才发现穿再厚的棉衣也没用了。生命本身有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冬天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，它已经来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在一个人一生中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不能全部看见。每个人都在自己的生命中，孤独地过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我们帮不了谁。我的一小炉火，对这个贫寒一生的人来说，显然杯水车薪。他的寒冷太巨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414972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里的“寒冷”包含着哪几层意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联系“我”、路人、姑妈和母亲的境遇讨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冬天、寒风、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字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文中既指自然的真实情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指人生中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劣境、苦难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衰老乃至死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境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寒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对这一切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助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冷漠、孤独乃至绝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独特的生命体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寒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验的背后是对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生命苦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体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8360" y="5805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象征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6920" y="40464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是很少读到这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朴素、沉静而又博大、丰富的文字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我真是很惊讶作者是怎么在黄沙滚滚的旷野里，同时获得了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对生命和语言如此深刻的体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李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刘亮程的才能在于，他好像能把文字放到一条清亮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透明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小河里淘洗一番，洗得每个字都干干净净，但洗尽铅华的文字里又有一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厚重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捧在手里掂一掂，每个字都重得好像要脱手。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李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年来想写的一种文字，被刘亮程写出来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                               (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韩少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文坛上的异类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独上高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075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文旨在表现对生命的敬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还是强调生命的脆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达对人生的悲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悲人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悲人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149720"/>
            <a:ext cx="8964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写多年前的一次拉柴冻伤有什么寓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○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写冻死的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写姑妈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写母亲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想表达什么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章借“大雪”、“寒风”等物象以及人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写生存境遇的恶劣和生命的痛苦与无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同情自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关怀他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静地表达着悲悯情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富有人性的光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60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主  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8459640" y="6453360"/>
            <a:ext cx="362160" cy="215640"/>
          </a:xfrm>
          <a:custGeom>
            <a:avLst/>
            <a:gdLst>
              <a:gd name="textAreaLeft" fmla="*/ 13680 w 362160"/>
              <a:gd name="textAreaRight" fmla="*/ 348480 w 3621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252" h="21600">
                <a:moveTo>
                  <a:pt x="0" y="0"/>
                </a:moveTo>
                <a:lnTo>
                  <a:pt x="36252" y="0"/>
                </a:lnTo>
                <a:lnTo>
                  <a:pt x="36252" y="21600"/>
                </a:lnTo>
                <a:lnTo>
                  <a:pt x="0" y="21600"/>
                </a:lnTo>
                <a:close/>
              </a:path>
              <a:path fill="lightenLess" w="36252" h="21600">
                <a:moveTo>
                  <a:pt x="0" y="0"/>
                </a:moveTo>
                <a:lnTo>
                  <a:pt x="36252" y="0"/>
                </a:lnTo>
                <a:lnTo>
                  <a:pt x="34852" y="1400"/>
                </a:lnTo>
                <a:lnTo>
                  <a:pt x="1400" y="1400"/>
                </a:lnTo>
                <a:close/>
              </a:path>
              <a:path fill="darken" w="36252" h="21600">
                <a:moveTo>
                  <a:pt x="36252" y="0"/>
                </a:moveTo>
                <a:lnTo>
                  <a:pt x="36252" y="21600"/>
                </a:lnTo>
                <a:lnTo>
                  <a:pt x="34852" y="20200"/>
                </a:lnTo>
                <a:lnTo>
                  <a:pt x="34852" y="1400"/>
                </a:lnTo>
                <a:close/>
              </a:path>
              <a:path fill="darkenLess" w="36252" h="21600">
                <a:moveTo>
                  <a:pt x="36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52" y="20200"/>
                </a:lnTo>
                <a:close/>
              </a:path>
              <a:path fill="lighten" w="36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怎样理解标题“寒风吹彻”的含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57360"/>
            <a:ext cx="914400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乡村哲学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他的文字充满了强烈的生命意识和家园意识。回归了人的困境，“人本”的困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乡村哲学”的最大特点是连着人性，甚至渗透着某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宗教气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8459640" y="6453360"/>
            <a:ext cx="362160" cy="215640"/>
          </a:xfrm>
          <a:custGeom>
            <a:avLst/>
            <a:gdLst>
              <a:gd name="textAreaLeft" fmla="*/ 13680 w 362160"/>
              <a:gd name="textAreaRight" fmla="*/ 348480 w 3621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252" h="21600">
                <a:moveTo>
                  <a:pt x="0" y="0"/>
                </a:moveTo>
                <a:lnTo>
                  <a:pt x="36252" y="0"/>
                </a:lnTo>
                <a:lnTo>
                  <a:pt x="36252" y="21600"/>
                </a:lnTo>
                <a:lnTo>
                  <a:pt x="0" y="21600"/>
                </a:lnTo>
                <a:close/>
              </a:path>
              <a:path fill="lightenLess" w="36252" h="21600">
                <a:moveTo>
                  <a:pt x="0" y="0"/>
                </a:moveTo>
                <a:lnTo>
                  <a:pt x="36252" y="0"/>
                </a:lnTo>
                <a:lnTo>
                  <a:pt x="34852" y="1400"/>
                </a:lnTo>
                <a:lnTo>
                  <a:pt x="1400" y="1400"/>
                </a:lnTo>
                <a:close/>
              </a:path>
              <a:path fill="darken" w="36252" h="21600">
                <a:moveTo>
                  <a:pt x="36252" y="0"/>
                </a:moveTo>
                <a:lnTo>
                  <a:pt x="36252" y="21600"/>
                </a:lnTo>
                <a:lnTo>
                  <a:pt x="34852" y="20200"/>
                </a:lnTo>
                <a:lnTo>
                  <a:pt x="34852" y="1400"/>
                </a:lnTo>
                <a:close/>
              </a:path>
              <a:path fill="darkenLess" w="36252" h="21600">
                <a:moveTo>
                  <a:pt x="36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52" y="20200"/>
                </a:lnTo>
                <a:close/>
              </a:path>
              <a:path fill="lighten" w="36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869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任何一株草的死亡都是人的死亡，任何一棵树的夭折都是人的夭折，任何一粒虫的鸣叫也是人的鸣叫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03280" y="26028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风物长宜放眼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lastslide"/>
          </p:cNvPr>
          <p:cNvSpPr/>
          <p:nvPr/>
        </p:nvSpPr>
        <p:spPr>
          <a:xfrm>
            <a:off x="8459640" y="6453360"/>
            <a:ext cx="362160" cy="215640"/>
          </a:xfrm>
          <a:custGeom>
            <a:avLst/>
            <a:gdLst>
              <a:gd name="textAreaLeft" fmla="*/ 13680 w 362160"/>
              <a:gd name="textAreaRight" fmla="*/ 348480 w 3621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252" h="21600">
                <a:moveTo>
                  <a:pt x="0" y="0"/>
                </a:moveTo>
                <a:lnTo>
                  <a:pt x="36252" y="0"/>
                </a:lnTo>
                <a:lnTo>
                  <a:pt x="36252" y="21600"/>
                </a:lnTo>
                <a:lnTo>
                  <a:pt x="0" y="21600"/>
                </a:lnTo>
                <a:close/>
              </a:path>
              <a:path fill="lightenLess" w="36252" h="21600">
                <a:moveTo>
                  <a:pt x="0" y="0"/>
                </a:moveTo>
                <a:lnTo>
                  <a:pt x="36252" y="0"/>
                </a:lnTo>
                <a:lnTo>
                  <a:pt x="34852" y="1400"/>
                </a:lnTo>
                <a:lnTo>
                  <a:pt x="1400" y="1400"/>
                </a:lnTo>
                <a:close/>
              </a:path>
              <a:path fill="darken" w="36252" h="21600">
                <a:moveTo>
                  <a:pt x="36252" y="0"/>
                </a:moveTo>
                <a:lnTo>
                  <a:pt x="36252" y="21600"/>
                </a:lnTo>
                <a:lnTo>
                  <a:pt x="34852" y="20200"/>
                </a:lnTo>
                <a:lnTo>
                  <a:pt x="34852" y="1400"/>
                </a:lnTo>
                <a:close/>
              </a:path>
              <a:path fill="darkenLess" w="36252" h="21600">
                <a:moveTo>
                  <a:pt x="36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52" y="20200"/>
                </a:lnTo>
                <a:close/>
              </a:path>
              <a:path fill="lighten" w="36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60640"/>
            <a:ext cx="88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44640"/>
            <a:ext cx="91440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冬天到了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春天还会远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如何从全文通篇的寒冷中看到希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16280"/>
            <a:ext cx="8964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下列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文章中选一篇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就立意、结构、语言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艺术手法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等的某一方面的异同进行赏析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、《西风颂》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雪莱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二、《冬天之美》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乔治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"/>
              </a:rPr>
              <a:t>寒风吹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83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298620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读不懂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62064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曲径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通幽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637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中的”我”是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7180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刘亮程，新疆沙湾县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放过牛，种过地，上过几年初中，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岁新疆汉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要当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多年农机管理员，将来要进乌鲁木齐城打工，要成为《中国西部文学》的编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242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785960" cy="2565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7640" y="2349000"/>
            <a:ext cx="56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刘亮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在做什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在一个雪天，静坐在屋子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围抱火炉，吃咸菜啃馍馍想着一些人和事情，想得深远而入神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抚摸自己的一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屋子里更暗了，我看不见雪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第四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像现在，我紧围着火炉，努力想烤热自己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第六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雪越下越大。天彻底黑透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第四十二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围抱着火炉，烤热漫长一生的一个时刻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第四十三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26028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亮程主要想到了哪些人和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700280"/>
            <a:ext cx="748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现在的我” —— “十四岁的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路人——姑妈——母亲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3716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人和事都是在怎样的环境中发生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5157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冬天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雪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)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寒风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寒冷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亮程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怎样组织文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段人生经历和感受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56536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作者以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岁的‘我’”作为叙述的起点，在一个雪天，围抱火炉， “抚摸自己的一生”，散文以这段场景组织衔接了“现在的我”、“十四岁的我”、路人、姑妈以及与“我”“隔着三十岁的人生距离”的母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一个人一出世，他的全部未来便明明白白摆在村里。当你十五岁或二十岁的时候，那些三十岁、五十岁、七十岁的人便展示了你的全部未来；而当你八十岁时，那些四十岁、二十岁、十七岁的人们又演绎着你的全部过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《冯四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8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有一种怎样特别的叙述方式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雪落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那些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雪落过的地方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许久以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还记起我在这样的一个雪天，围抱火炉，吃咸菜啃馍馍想着一些人和事情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把这点隐深的温暖节俭地用于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此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年的爱情生活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十一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可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行了。隔着多少个季节，今夜的我，围抱火炉，再也暖不热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那个遥远冬天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我……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十六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热了，母亲会带着我们，趟过河，到对岸的村子里看望姑妈。姑妈也会走出蜗居－冬的土屋，在院子里晒着暖暖的太阳和我们说说笑笑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十一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1:59:47Z</dcterms:created>
  <dc:creator>黄广翔</dc:creator>
  <dc:description/>
  <dc:language>en-US</dc:language>
  <cp:lastModifiedBy>hp</cp:lastModifiedBy>
  <dcterms:modified xsi:type="dcterms:W3CDTF">2007-03-14T14:14:20Z</dcterms:modified>
  <cp:revision>83</cp:revision>
  <dc:subject/>
  <dc:title>寒风吹彻</dc:title>
</cp:coreProperties>
</file>