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0B4E-36F3-40DD-B4C5-3B5B5E57A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8321-0622-40EC-B7A9-6F1E2A50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31C6-83BE-4DA2-8DD9-470D23300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DCB7-97A4-45D7-9989-77DC31851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D420-F758-4EBE-A515-F0C4E323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93D9-AA32-4FDB-8F1B-F3EF899E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6404-44E2-493F-A253-14DCFA96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4A04-E093-46B7-B45A-0C2D5CE5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95CA-F807-452B-84BE-84968498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CE68-288A-4ABD-8AA9-D2476132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F53E-218B-4ADA-AE8F-4A578679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57E6-F441-424B-856F-E8F9292E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6E0B-896C-4A30-9A76-BDEE56C5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28C6-1822-48BF-B167-6647E55B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9D6E-17E1-42CC-B4F2-4FDD514C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8363-AD92-4BBA-86A5-53E85329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F5A6-F523-4085-A8DA-F0DBB75C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43103-E48C-4DAB-B0C8-B8C1997E0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7C061-684E-42BB-AC3E-46817D76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D4BC7-A4D5-4176-8076-1EEA6813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0D942-E145-45C8-9A39-A8A943AF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DEDDF-F212-4E01-BB88-D10424A8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ECEC-7425-409C-ADD6-6F617258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64DD2-4521-4675-8F2A-1E51136A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0F29D-E9E8-4C12-80AA-ECEFCC7A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2C3FA-06C8-4A3E-84FA-EDBE396B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516A5-E673-43B0-AE47-D02B6949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6C1D1-1F5F-4C72-A64A-65A4BC2D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41494-C285-427F-BD80-1BAE6DF6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B12BE-5B48-452B-B8C3-C050F8096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FA790-A6C7-4E0D-BCF9-9BEA1028A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8A1A5-8923-450C-96ED-9A431622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F990D-5252-4A6B-AD3A-A7FC85AE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36FB-0937-489D-84B7-38B34EC4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4397A-D290-4620-8FE8-D8712073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CB2CD-40E0-4B32-8FD0-E42CB0A4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7F004-51E2-425F-8F2A-6B518075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E87D7-ACB8-4796-91EE-DC482C42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6D0D3-0320-4C7B-A211-933766B8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079EA-ABD0-4601-977D-6EA033A4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7EAD2-F77F-4820-B45B-CC2FF46E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9055E-1D8D-4C60-99E1-90BB4D69C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83C0F-5A06-400D-89B8-78C45347F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D6274-878E-4A0B-94E8-39001E48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7234-7306-4200-85C3-1E4391C8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D387E-7870-47E2-A8F0-6CA327CB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6173C-3EAE-4CBA-8AC8-13F5C7CF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ACDA9-4044-4BDF-8B36-AF3E8A3B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A3E80-694F-4122-9D60-96BFB556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8368A-0103-4BCA-929E-AFC6D9E5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A98CA-282A-4F4A-9170-CBC8E2DA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3586F-7F8F-4856-97D7-87D5F806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5ADB4-BEFD-448C-B898-7D9A4A28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DC6EC-72C3-4D06-8610-D8EA2842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3E86C-A9F3-40EA-987E-02B5B9EE7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53D5-6274-4CE1-BA74-E6D0ED03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A9A28-64C6-4C33-9220-F6A303BB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AE169-BA9E-40AB-9121-3EE81684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8E491-24F2-4793-BACD-E31707A7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0A631-4F7A-4D71-8100-D91A69E8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3B92B-958F-48A6-BF7F-EAA17CB5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FBDE7-A1CF-4842-A9F0-C7B8E9B4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4FD8E-4F6E-4930-A952-A2065C30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E7870-1EFB-486B-91A8-18F6679B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E0A99-1E1D-4858-BCF2-461E5550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C4B8E-E297-4C43-BD61-948FDFC6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B37C-C06D-4607-9E2B-2F3CF628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34E2B-1D96-4F0D-A2F9-2D3437D6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1B3D5-C0E5-485F-B200-04FDF56D6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63C4A-5B75-470F-A1CB-99C7B5D8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71C9A-DCCA-4E22-999A-44581D127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F37C3-D976-4CF5-9737-965E7C2B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9A27F-2A8D-4134-96BE-8B288E12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BE26F-95EB-45AE-A7C8-5F107223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EF46A-0077-4B46-954E-1AD22C5F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96D00-3F92-4838-AA05-44CBEDF9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C6234-BE2B-42D8-BB2D-207A6920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9443-75F7-42FE-95A6-27086869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6F0EC-F712-429A-AC26-2CEFB339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88CAB-7C38-40EE-971B-861E1E52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9F332-228B-45CF-873B-8605F595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21BCA-8779-4671-9B16-F7AB669E9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738A2-B84C-462F-868E-A01DE354D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017A-8682-47B5-AAEF-62E4BE10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3CC3-0C19-4B2C-95B6-1D082E0E42E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BD5F-B931-4F59-A6A8-95111F267F4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74AF-165E-43B2-99A2-1089109C25A0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A09F-F40C-4BCE-B7F1-12319C7275D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8CD0-3740-476C-9F65-2884DF93717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8445-F365-4DD6-B37F-3229160E3C3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B266-8FA6-47A8-AF9B-1AA97EB2C43B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611280" y="620640"/>
            <a:ext cx="7632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海底两万里</a:t>
            </a:r>
            <a:r>
              <a:rPr b="1" lang="en-US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科学与幻想之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4" descr="https://timgsa.baidu.com/timg?image&amp;quality=80&amp;size=b9999_10000&amp;sec=1490088032558&amp;di=ed92d035edb067aa31a7b68141622558&amp;imgtype=0&amp;src=http%3A%2F%2Fimg.gewara.cn%2Fuserfiles%2Fimage%2Fdrama%2F201607%2Fs1015f3bd_15582184c07__4ae1.jpg"/>
          <p:cNvPicPr/>
          <p:nvPr/>
        </p:nvPicPr>
        <p:blipFill>
          <a:blip r:embed="rId1"/>
          <a:stretch/>
        </p:blipFill>
        <p:spPr>
          <a:xfrm>
            <a:off x="250920" y="3500280"/>
            <a:ext cx="4033800" cy="30704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https://timgsa.baidu.com/timg?image&amp;quality=80&amp;size=b9999_10000&amp;sec=1490088073015&amp;di=01776ed5d51b1ea94e42133e5927d23c&amp;imgtype=0&amp;src=http%3A%2F%2Ffdfs.xmcdn.com%2Fgroup3%2FM09%2F3A%2FA0%2FwKgDslMWjkzh7scmAAdX12Tb4qw635.jpg"/>
          <p:cNvPicPr/>
          <p:nvPr/>
        </p:nvPicPr>
        <p:blipFill>
          <a:blip r:embed="rId2"/>
          <a:stretch/>
        </p:blipFill>
        <p:spPr>
          <a:xfrm>
            <a:off x="4427640" y="3500280"/>
            <a:ext cx="4465440" cy="292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326880" y="260280"/>
            <a:ext cx="870912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神秘色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凡尔纳时代，潜水艇刚刚面世，还是一种神秘的东西；“诺第留斯”号艇长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尼摩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又是个身世不明之人，他逃避人类，蛰居海底，而又隐隐约约和陆地上的某些人有一种特殊联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“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尼摩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，在拉丁文里是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子虚乌有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意思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4" descr="https://timgsa.baidu.com/timg?image&amp;quality=80&amp;size=b9999_10000&amp;sec=1490088783798&amp;di=3e54c4f203fd520279c89499fbee0c79&amp;imgtype=0&amp;src=http%3A%2F%2Fi-7.vcimg.com%2Ftrim%2F00cc7e414d1982963f64d123e3f0659948841%2Ftrim.jpg"/>
          <p:cNvPicPr/>
          <p:nvPr/>
        </p:nvPicPr>
        <p:blipFill>
          <a:blip r:embed="rId1"/>
          <a:stretch/>
        </p:blipFill>
        <p:spPr>
          <a:xfrm>
            <a:off x="250920" y="3430440"/>
            <a:ext cx="842472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468360" y="325440"/>
            <a:ext cx="396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中宋"/>
                <a:ea typeface="华文中宋"/>
              </a:rPr>
              <a:t>人物介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252360" y="1262160"/>
            <a:ext cx="842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阿龙纳斯教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生物学家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博古通今，乘潜艇在水下航行，使他饱览了海洋里的各种动植物；他和他的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仆人康塞尔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将这些海洋生物向我们做了详实的介绍，界、门、纲、目、科、属、种，说得井井有条，使读者认识了许多海洋生物；阿龙纳斯还把在海洋中见到的种种奇观，一一娓娓道来，令读者大开眼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611280" y="476280"/>
            <a:ext cx="38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中宋"/>
                <a:ea typeface="华文中宋"/>
              </a:rPr>
              <a:t>人物介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4572000" y="260280"/>
            <a:ext cx="4392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中宋"/>
                <a:ea typeface="华文中宋"/>
              </a:rPr>
              <a:t>尼摩船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书中的尼摩船长是个不明国籍、自称“跟整个人类断绝了关系”的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神秘人物，身材高大，神情自信、坚毅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是个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海上堂吉诃德式的人物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为了民族的仇恨而漂泊海底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5" descr="https://timgsa.baidu.com/timg?image&amp;quality=80&amp;size=b9999_10000&amp;sec=1490088547291&amp;di=2589ed56662d029321c4766433bf10c7&amp;imgtype=0&amp;src=http%3A%2F%2Fimg1.2345.com%2Fduoteimg%2Fapi_images%2F1%2Fimg%2F5056_3.jpg"/>
          <p:cNvPicPr/>
          <p:nvPr/>
        </p:nvPicPr>
        <p:blipFill>
          <a:blip r:embed="rId1"/>
          <a:stretch/>
        </p:blipFill>
        <p:spPr>
          <a:xfrm>
            <a:off x="155520" y="1492200"/>
            <a:ext cx="4200480" cy="51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611280" y="69228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主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395280" y="1484280"/>
            <a:ext cx="813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凡尔纳塑造的尼摩艇长是处在资本主义上升阶段，有着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人文主义和民主思想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典型的人物形象。在当时的历史条件下，他代表着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新兴的资产阶级的利益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透过他的个性，可以看到处在上升阶段的资产阶级的代表人物那种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自强不息的进取精神。</a:t>
            </a: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684360" y="404640"/>
            <a:ext cx="31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中宋"/>
                <a:ea typeface="华文中宋"/>
              </a:rPr>
              <a:t>作者简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576360" y="1316160"/>
            <a:ext cx="8137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儒勒</a:t>
            </a:r>
            <a:r>
              <a:rPr b="1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凡尔纳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828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-1905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），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法国小说家，科幻小说的开创者之一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他一生写了六十多部大大小小的科幻小说，总题为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已知和未知的世界漫游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他以其大量著作和突出贡献，被誉为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“现代科学幻想小说之父”</a:t>
            </a:r>
            <a:r>
              <a:rPr b="1" lang="zh-CN" sz="2800" spc="-1" strike="noStrike">
                <a:solidFill>
                  <a:srgbClr val="073e87"/>
                </a:solidFill>
                <a:latin typeface="华文中宋"/>
                <a:ea typeface="华文中宋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"/>
          <p:cNvSpPr/>
          <p:nvPr/>
        </p:nvSpPr>
        <p:spPr>
          <a:xfrm>
            <a:off x="455760" y="3860640"/>
            <a:ext cx="82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海底两万里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是凡尔纳的三部曲的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第二部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第一部是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格兰特船长的儿女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，第三部是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神秘岛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，主要讲述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诺第留斯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号潜艇的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611280" y="69228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故事梗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324000" y="1700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故事发生在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866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，法国人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阿龙纳斯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一位生物学家，应邀赴美参加一项科学考察活动。这时，海上出了个怪物，在全世界闹得沸沸扬扬。科考活动结束之后，生物学家正准备束装就道，返回法国，却接到美国海军部的邀请，于是改弦更张，登上了一艘驱逐舰，参与“把那个怪物从海洋中清除出去 ”的活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https://timgsa.baidu.com/timg?image&amp;quality=80&amp;size=b9999_10000&amp;sec=1490088203386&amp;di=004df7f16b6521063244cdb56a13c9a3&amp;imgtype=0&amp;src=http%3A%2F%2Fp6.qhimg.com%2Fdr%2F250_500_%2Ft01328617ed95d1490c.jpg"/>
          <p:cNvPicPr/>
          <p:nvPr/>
        </p:nvPicPr>
        <p:blipFill>
          <a:blip r:embed="rId1"/>
          <a:stretch/>
        </p:blipFill>
        <p:spPr>
          <a:xfrm>
            <a:off x="0" y="1628640"/>
            <a:ext cx="3564000" cy="475308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2"/>
          <p:cNvSpPr/>
          <p:nvPr/>
        </p:nvSpPr>
        <p:spPr>
          <a:xfrm>
            <a:off x="3132000" y="333360"/>
            <a:ext cx="59040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经过千辛万苦，“怪物”未被清除，驱逐舰反被“怪物”重创，生物学家和他的仆人以及为清除“怪物”被特意请到驱逐舰上来的一名捕鲸手，都成了“怪物”的俘虏！结果发现“怪物”是一艘尚不为世人所知的潜水艇，名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诺第留斯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4" descr="https://timgsa.baidu.com/timg?image&amp;quality=80&amp;size=b9999_10000&amp;sec=1490088127350&amp;di=2ba36b52ed6df348cd117de8dccb350c&amp;imgtype=0&amp;src=http%3A%2F%2Fimg.bookegou.com%2Fsrc%2FFB34476C-ABE6-49CB-A06E-23637C928D5B.jpg"/>
          <p:cNvPicPr/>
          <p:nvPr/>
        </p:nvPicPr>
        <p:blipFill>
          <a:blip r:embed="rId1"/>
          <a:stretch/>
        </p:blipFill>
        <p:spPr>
          <a:xfrm>
            <a:off x="4211640" y="260280"/>
            <a:ext cx="4941720" cy="633744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2"/>
          <p:cNvSpPr/>
          <p:nvPr/>
        </p:nvSpPr>
        <p:spPr>
          <a:xfrm>
            <a:off x="250920" y="260280"/>
            <a:ext cx="496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潜艇对俘虏倒也优待；只是为了保守自己的秘密，潜艇艇长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尼摩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从此永远不许他们离开。阿龙纳斯一行别无选择，只能跟着潜水艇周游各大洋。十个月之后，这三个人终于在极其险恶的情况下逃脱，生物学家阿龙纳斯才得以把这件海底秘密公诸于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250920" y="260280"/>
            <a:ext cx="511308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中宋"/>
                <a:ea typeface="华文中宋"/>
              </a:rPr>
              <a:t>艺术特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这部作品集中了凡尔纳科幻小说的所有特点。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曲折紧张、扑朔迷离的故事情节，瞬息万变的人物命运，丰富详尽的科学知识，细节逼真的美妙幻想融于一炉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https://timgsa.baidu.com/timg?image&amp;quality=80&amp;size=b9999_10000&amp;sec=1490088249887&amp;di=1eacc0ae13685885268692a54f09232f&amp;imgtype=0&amp;src=http%3A%2F%2Fimg11.360buyimg.com%2Fn0%2Fjfs%2Ft493%2F314%2F330112040%2F77671%2F9c5b5f1%2F545ebcdaN5d653056.jpg"/>
          <p:cNvPicPr/>
          <p:nvPr/>
        </p:nvPicPr>
        <p:blipFill>
          <a:blip r:embed="rId1"/>
          <a:stretch/>
        </p:blipFill>
        <p:spPr>
          <a:xfrm>
            <a:off x="5219640" y="189000"/>
            <a:ext cx="374508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250920" y="189000"/>
            <a:ext cx="8713800" cy="20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丰富的知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谁见过海底森林？谁见过海底煤矿？谁见过“养”在贝壳里、价值连城的大珍珠？当了俘虏的阿龙纳斯 和他的朋友们都见到了，而且曾经徜徉其间。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4" descr="https://timgsa.baidu.com/timg?image&amp;quality=80&amp;size=b9999_10000&amp;sec=1490088333815&amp;di=2ba3490f48b50173ec4bf2d63ccc872f&amp;imgtype=0&amp;src=http%3A%2F%2Fimg3.fumubang.com%2Fhuodong%2Fbanner%2FX20160816181232896.jpg"/>
          <p:cNvPicPr/>
          <p:nvPr/>
        </p:nvPicPr>
        <p:blipFill>
          <a:blip r:embed="rId1"/>
          <a:stretch/>
        </p:blipFill>
        <p:spPr>
          <a:xfrm>
            <a:off x="324000" y="3325680"/>
            <a:ext cx="8496000" cy="31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203040" y="189000"/>
            <a:ext cx="5521320" cy="30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精心动魄的场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他们在印度洋的珠场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和鲨鱼展开过搏斗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捕鲸手尼德兰手刃了一条凶恶的巨鲨；他们在红海里追捕过一条濒于绝种的儒艮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(gèn)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儒艮肉当晚就被端上了餐桌；他们在大西洋里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和章鱼进行过血战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一名船员惨死；这些场面，都十分惊心动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https://timgsa.baidu.com/timg?image&amp;quality=80&amp;size=b9999_10000&amp;sec=1490088388727&amp;di=ae4929144010d8399dac30d9c340164a&amp;imgtype=0&amp;src=http%3A%2F%2Fimg13.360buyimg.com%2FpopWaterMark%2Fjfs%2Ft712%2F239%2F209696315%2F328704%2Febb4eb80%2F54949916N68190deb.jpg"/>
          <p:cNvPicPr/>
          <p:nvPr/>
        </p:nvPicPr>
        <p:blipFill>
          <a:blip r:embed="rId1"/>
          <a:stretch/>
        </p:blipFill>
        <p:spPr>
          <a:xfrm>
            <a:off x="5867280" y="189000"/>
            <a:ext cx="3060720" cy="36716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https://timgsa.baidu.com/timg?image&amp;quality=80&amp;size=b9999_10000&amp;sec=1490088479630&amp;di=739022bcd012859153fbdd1a43e37f23&amp;imgtype=0&amp;src=http%3A%2F%2Fstatic7.photo.sina.com.cn%2Fbmiddle%2F4bd8d542h66f246eab746"/>
          <p:cNvPicPr/>
          <p:nvPr/>
        </p:nvPicPr>
        <p:blipFill>
          <a:blip r:embed="rId2"/>
          <a:stretch/>
        </p:blipFill>
        <p:spPr>
          <a:xfrm>
            <a:off x="5867280" y="3890880"/>
            <a:ext cx="3060720" cy="27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179280" y="189000"/>
            <a:ext cx="88567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险象环生的情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“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诺第留斯”号也曾遇险，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在珊瑚礁上搁过浅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受到过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巴布亚土著的袭击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最可怕的是，在南极被厚厚的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冰层困住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艇内缺氧，艇上的人几乎不能生还。但是，凭着潜艇的精良构造和艇长的超人智慧，种种险境，均被化解，终于完成了十一万公里的海底行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4" descr="https://timgsa.baidu.com/timg?image&amp;quality=80&amp;size=b9999_10000&amp;sec=1490683335&amp;di=530843ec577722e65e833680ffb63697&amp;imgtype=jpg&amp;er=1&amp;src=http%3A%2F%2Fwww.kfzimg.com%2FG01%2FM01%2F5B%2F87%2Fo4YBAFPy8ZmAEkXBAAGFuVoiIYg697_b.jpg"/>
          <p:cNvPicPr/>
          <p:nvPr/>
        </p:nvPicPr>
        <p:blipFill>
          <a:blip r:embed="rId1"/>
          <a:stretch/>
        </p:blipFill>
        <p:spPr>
          <a:xfrm>
            <a:off x="179280" y="3198960"/>
            <a:ext cx="8856720" cy="36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07:52:01Z</dcterms:created>
  <dc:creator>微软用户</dc:creator>
  <dc:description/>
  <dc:language>en-US</dc:language>
  <cp:lastModifiedBy>Windows 用户</cp:lastModifiedBy>
  <dcterms:modified xsi:type="dcterms:W3CDTF">2017-03-21T06:46:52Z</dcterms:modified>
  <cp:revision>10</cp:revision>
  <dc:subject/>
  <dc:title>幻灯片 1</dc:title>
</cp:coreProperties>
</file>