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chimes.wav" ContentType="audio/x-wav"/>
  <Override PartName="/ppt/media/image21.jpeg" ContentType="image/jpeg"/>
  <Override PartName="/ppt/media/image22.jpeg" ContentType="image/jpeg"/>
  <Override PartName="/ppt/media/image4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30.jpeg" ContentType="image/jpeg"/>
  <Override PartName="/ppt/media/image3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6.jpeg" ContentType="image/jpeg"/>
  <Override PartName="/ppt/media/image25.gif" ContentType="image/gif"/>
  <Override PartName="/ppt/media/image37.jpeg" ContentType="image/jpeg"/>
  <Override PartName="/ppt/media/image47.gif" ContentType="image/gif"/>
  <Override PartName="/ppt/media/image10.gif" ContentType="image/gif"/>
  <Override PartName="/ppt/media/image12.jpeg" ContentType="image/jpeg"/>
  <Override PartName="/ppt/media/image31.jpeg" ContentType="image/jpeg"/>
  <Override PartName="/ppt/media/image4.jpeg" ContentType="image/jpeg"/>
  <Override PartName="/ppt/media/image38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8.jpeg" ContentType="image/jpeg"/>
  <Override PartName="/ppt/media/image39.jpeg" ContentType="image/jpeg"/>
  <Override PartName="/ppt/media/image48.gif" ContentType="image/gif"/>
  <Override PartName="/ppt/media/image9.jpeg" ContentType="image/jpeg"/>
  <Override PartName="/ppt/media/image40.jpeg" ContentType="image/jpeg"/>
  <Override PartName="/ppt/media/image13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A79-7DF5-45BC-AE68-935E0E23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941-243F-459F-B953-C78BCC4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34C-D86A-4A16-A140-436BD50C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D8F-94BD-46CD-8D97-6993B16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BB3-AD8D-4064-95D5-66F1E05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AAE-0D8E-4A25-B345-E4F0225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6CE-21B2-42AF-B16D-D470FAC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B23-26A4-42AD-A372-10A9C6A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8E0-C9DF-45CB-A520-C3F4D61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F73-A0B9-415C-97B4-7098939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A4C-7642-4C3B-BEA3-08F35F5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2C0-C525-426B-8924-4296681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170-9E54-4F45-9BF7-C9E0497E5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hidao.baidu.com/search?word=&#20754;&#21202;&#183;&#20961;&#23572;&#32435;&amp;fr=qb_search_exp&amp;ie=utf8" TargetMode="External"/><Relationship Id="rId3" Type="http://schemas.openxmlformats.org/officeDocument/2006/relationships/hyperlink" Target="http://zhidao.baidu.com/search?word=&#20754;&#21202;&#183;&#20961;&#23572;&#32435;&amp;fr=qb_search_exp&amp;ie=utf8" TargetMode="External"/><Relationship Id="rId4" Type="http://schemas.openxmlformats.org/officeDocument/2006/relationships/hyperlink" Target="http://zhidao.baidu.com/search?word=&#20754;&#21202;&#183;&#20961;&#23572;&#32435;&amp;fr=qb_search_exp&amp;ie=utf8" TargetMode="External"/><Relationship Id="rId5" Type="http://schemas.openxmlformats.org/officeDocument/2006/relationships/hyperlink" Target="http://zhidao.baidu.com/search?word=&#31185;&#24187;&#23567;&#35828;&amp;fr=qb_search_exp&amp;ie=utf8" TargetMode="External"/><Relationship Id="rId6" Type="http://schemas.openxmlformats.org/officeDocument/2006/relationships/hyperlink" Target="http://zhidao.baidu.com/search?word=&#24187;&#24819;&#23567;&#35828;&amp;fr=qb_search_exp&amp;ie=utf8" TargetMode="External"/><Relationship Id="rId7" Type="http://schemas.openxmlformats.org/officeDocument/2006/relationships/hyperlink" Target="http://zhidao.baidu.com/search?word=&#28023;&#24213;&#20004;&#19975;&#37324;&amp;fr=qb_search_exp&amp;ie=utf8" TargetMode="External"/><Relationship Id="rId8" Type="http://schemas.openxmlformats.org/officeDocument/2006/relationships/hyperlink" Target="http://zhidao.baidu.com/search?word=&#22320;&#24515;&#28216;&#35760;&amp;fr=qb_search_exp&amp;ie=utf8" TargetMode="External"/><Relationship Id="rId9" Type="http://schemas.openxmlformats.org/officeDocument/2006/relationships/hyperlink" Target="http://zhidao.baidu.com/search?word=&#29615;&#28216;&#19990;&#30028;&#20843;&#21313;&#22825;&amp;fr=qb_search_exp&amp;ie=utf8" TargetMode="External"/><Relationship Id="rId10" Type="http://schemas.openxmlformats.org/officeDocument/2006/relationships/hyperlink" Target="http://zhidao.baidu.com/search?word=1828&#24180;&amp;fr=qb_search_exp&amp;ie=utf8" TargetMode="External"/><Relationship Id="rId11" Type="http://schemas.openxmlformats.org/officeDocument/2006/relationships/hyperlink" Target="http://zhidao.baidu.com/search?word=1828&#24180;&amp;fr=qb_search_exp&amp;ie=utf8" TargetMode="External"/><Relationship Id="rId12" Type="http://schemas.openxmlformats.org/officeDocument/2006/relationships/hyperlink" Target="http://zhidao.baidu.com/search?word=&#20961;&#23572;&#32435;&amp;fr=qb_search_exp&amp;ie=utf8" TargetMode="External"/><Relationship Id="rId13" Type="http://schemas.openxmlformats.org/officeDocument/2006/relationships/hyperlink" Target="http://zhidao.baidu.com/search?word=&#21335;&#29305;&amp;fr=qb_search_exp&amp;ie=utf8" TargetMode="External"/><Relationship Id="rId14" Type="http://schemas.openxmlformats.org/officeDocument/2006/relationships/hyperlink" Target="http://zhidao.baidu.com/search?word=&#28023;&#24213;&#20004;&#19975;&#37324;&amp;fr=qb_search_exp&amp;ie=utf8" TargetMode="External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408720" cy="612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08000" y="4508640"/>
            <a:ext cx="2752560" cy="20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1844640"/>
            <a:ext cx="590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"/>
              </a:rPr>
              <a:t>走进海底两万里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44" name=""/>
          <p:cNvSpPr/>
          <p:nvPr/>
        </p:nvSpPr>
        <p:spPr>
          <a:xfrm>
            <a:off x="2644920" y="4247640"/>
            <a:ext cx="38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66ff66"/>
                </a:solidFill>
                <a:latin typeface="Arial"/>
              </a:rPr>
              <a:t>初一五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灯光在色彩鲜艳的枝叶间照来照去，发生无穷的美丽迷人的景象。好像是看见薄膜一般的圆筒形的细管在海波下颤动。当要去采它们的带有纤维触须的新鲜花瓣时，有些身子轻快、鳍迅速摆动的鱼游来，像鸟飞过一样触动了它们。当我的手挨近这些活花朵，这些珊瑚立即发出警报。于是雪白的花瓣缩入它们的朱红匣中去了，花朵在我眼前消失了，珊瑚丛随即转变为一大团的石圆丘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1280" y="0"/>
            <a:ext cx="1871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3640" y="620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珊瑚王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21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284720" y="3041640"/>
            <a:ext cx="48592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 rot="21252000">
            <a:off x="539640" y="76464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主要内容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49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鹦鹉螺号开往终年积雪结冰的南极圈，冲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冰盖，浮出水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413000"/>
            <a:ext cx="384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大冰盖：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4864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40360" y="3257640"/>
            <a:ext cx="50036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5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阳光投射在宁静的海底，仿佛是透过光谱被曲折分析的光线一般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美不胜收。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连海底的岩石、草木、贝壳和珊瑚，也都染上了阳光的七彩，令人惊讶。</a:t>
            </a:r>
            <a:br>
              <a:rPr sz="3600"/>
            </a:b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007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儒勒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·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凡尔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ules-Ver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28.2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5.3.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法国作家，著名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科幻小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冒险小说作家，被誉为“现代科学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幻想小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父”。曾写过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海底两万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、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地心游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、《气球上的五星期》、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环游世界八十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等著名书籍。　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828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凡尔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南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赴巴黎学习法律，写过短篇小说和剧本。 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海底两万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是他的幻想小说三部曲之一，也是他的名篇佳作之首。 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7720" y="3290760"/>
            <a:ext cx="8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5"/>
          <a:stretch/>
        </p:blipFill>
        <p:spPr>
          <a:xfrm>
            <a:off x="468360" y="260280"/>
            <a:ext cx="3816360" cy="6015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黄色小纹贝，所谓珍珠母的两片介壳差不多相等，壳作圆环形，壳壁很厚，外表很粗，凹凸不平。有些珍珠母的外壳上面带一条一条的淡青色线纹，线纹尽头处有些发亮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78800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33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78800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859280" y="3573360"/>
            <a:ext cx="10461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056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83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932360" cy="36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21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76360" y="260280"/>
            <a:ext cx="633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大家欣赏图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-22" b="3577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中海上的四十八小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中海上的四十八小时：鹦鹉螺号在地中海底穿行，我看到许多的遇难船只的残骸静卧在那里，惨不忍睹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979640" y="2492280"/>
            <a:ext cx="44640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56000" y="274680"/>
            <a:ext cx="298764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Arial"/>
              </a:rPr>
              <a:t>章 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11280" y="-24336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》中章鱼袭击的情节是在第二部第十八章 章鱼 中的，而到达南极是在第二部第十四章 南极 中的。章鱼袭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86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，到达南极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86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。所以章鱼袭击是发生在到达南极之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067280" y="3467160"/>
            <a:ext cx="507672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新宋体"/>
              </a:rPr>
              <a:t>林中地上并没有生长什么草，小树上丛生的枝权没有一根向外蔓延，也不弯曲垂下，也不向横的方面伸展。所有草木都笔直伸向洋面。没有枝条，没有叶带，不管怎么细小，都是笔直的，像铁杆一般。海带和水藻，受到海水强大密度的影响，坚定不移地沿着垂直线生长。而且这些水草叉是静止不动的，当我用手分开它们的时候，一放手，它们立即回复原来的笔直状态。这林子简直就是垂直线的世界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484360" y="404640"/>
            <a:ext cx="3384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海底森林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4:57:31Z</dcterms:created>
  <dc:creator>微软用户</dc:creator>
  <dc:description/>
  <dc:language>en-US</dc:language>
  <cp:lastModifiedBy>微软用户</cp:lastModifiedBy>
  <dcterms:modified xsi:type="dcterms:W3CDTF">2013-11-29T04:25:48Z</dcterms:modified>
  <cp:revision>18</cp:revision>
  <dc:subject/>
  <dc:title>幻灯片 1</dc:title>
</cp:coreProperties>
</file>