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348-5CD1-49F5-BD30-71A0F5EC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0AF-5515-4D41-B2B5-C809372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F14-C33C-4CA3-A8C4-14600C87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DA5-F739-4DDD-99CA-12B05E84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E82-D933-4C0A-B269-BD9C3D79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3CF-7243-4964-A767-D935ACE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3B4-29BE-4D11-87AB-17AF9C71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AE8-E521-4C57-978A-379041D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35C-3D70-44AE-A264-67937C23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64B-3FCC-406A-B8AE-DF96B26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E7A-EB3C-498B-9A15-9BBE014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09F-C4EF-4804-B9B3-2568F79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F8F-AC51-4877-B0DA-5665EE2A8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photos.baidu.com/laofeixia/pic/item/0c8203736fa377198701b089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.ccbooknet.com/book/402880831ba9c1cb011bb24852b80709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q.xinhuanet.com/photonews/2008-06/19/content_13586144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bs.qhope.com/dispbbs.asp?boardid=18&amp;id=2592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.xmnext.com/shqq/dwzw/2007/08/27/862963_10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download.shouji.com.cn/do/pic/532044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nbbs.soufun.com/xxtd~8~172/10593987_10593987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sc.ppmai.com/tp/fj/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sc.ppmai.com/tp/fj/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club.news.sohu.com/r-huanjing-14345-0-0-0.html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x10bbs.com/dv_rss.asp?s=xhtml&amp;boardid=18&amp;id=3372&amp;page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0"/>
            <a:ext cx="4629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3552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55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-2619360"/>
            <a:ext cx="6461280" cy="94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幻小说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儒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尔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著名的小说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尔纳母亲的家族中有许多是航海家，他的启蒙教师还是一位船长的遗孀。幼小的凡尔纳一直向往着远航探险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时，为了给表妹买一串贝壳项链，他悄悄登上了一艘开往印度的邮船。不料中途被父亲截了回来，挨了一顿揍。在家里，他留着泪向父亲发誓：“以后只躺在床上在幻想中旅行。”正是这样的，使得凡尔纳一生博览群书，在幻想中遨游世界，从而创作出了许多著名的科幻小说，被誉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科学幻想小说的之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海底底万里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凡尔纳的三部曲的第二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部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格兰特船长的儿女》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部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神秘岛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人翁是自然科学家阿罗纳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他和同伴康塞尔、尼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兰，在一次海洋追捕中，意外地登上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鹦鹉螺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潜水艇，从而开始了充满传奇色彩的海底探险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鹦鹉螺号”的主人尼摩船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个性格阴郁、知识渊博的人，在短短的不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月的时间里，他们一道周游了太平洋、印度洋、大西洋、红海、地中海、南极海、北冰洋，航程约两万里。这期间，他们目睹了无数的海底奇观，发现了海底煤矿和沉船的宝藏，与大鲨鱼、章鱼博斗，击退土著人的围攻……等等。凭着坚忍的意志与过人的智慧，教授和同伴终于返回了自己的国家。但是“鹦鹉螺号”自此也神秘地消失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海底两万里》一书，情节跌宕起伏，悬念丛生，具有强烈的可读性，而且书中还包含了大量的地理、历史、生物、物理、地质、气象方面的知识，小读者在阅读引人入胜的历险故事的同时，还能够轻松地获取科学知识，这种完全自然的知识启迪方式也是本书的精妙这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小说由于具有科学科学而令人信服，因而不但能够激发人们对科学的兴趣，而且更能启发人们的思考，使他们大胆地幻想未来的远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海底两万里》是一部纯虚构的科幻小说，你觉得这部书最吸引你的地方是什么？书中哪些想像事物如今已经变成现实，通过这些事例你能看出科幻小说与科技发展的某些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649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例：海底世界充满异国风情和浓厚的浪漫主义色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底潜艇，人类登月、太空飞行都已成为现实。科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说往往也是科学研究基础上的的推理和预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《海底两万里》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国家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作品，他被誉为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5760" y="4189680"/>
            <a:ext cx="542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国科幻小说家儒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凡尔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被誉为“现代科学幻想小说的之父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33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在海上发现了一头被认为是独角鲸的大怪物。法国生物学家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阿龙纳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邀参加追捕。经过千辛万苦，“怪物”未被清除，驱逐舰反被“怪物”重创，博物学家和他的仆人以及为清除“怪物”被特意请到驱逐舰上来的一名捕鲸手，都成了“怪物”的俘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怪物”非他，原来是一艘尚不为世人所知的潜水艇，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“鹦鹉螺”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3429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部是《格兰特船长的儿女》，第二部是《海底底万里》，第三部是《神秘岛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132640"/>
            <a:ext cx="536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凡尔纳的三部曲分别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部作品集中了凡尔纳科幻小说的所有特点。曲折紧张、扑朔迷离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故事情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瞬息万变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人物命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丰富详尽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科学知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细节逼真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美妙幻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融于一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【丰富的知识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见过海底森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见过海底煤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见过“养”在贝壳里、价值连城的大珍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了俘虏的阿罗纳克斯和他的朋友们都见到了，而且曾经徜徉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精心动魄的场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印度洋的珠场和鲨鱼展开过搏斗，捕鲸手尼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兰手刃了一条凶恶的巨鲨；他们在红海里追捕过一条濒于绝种的儒艮，儒艮肉当晚就被端上了餐桌；他们在大西洋里和章鱼进行过血战，一名船员惨死；这些场面，都十分惊心动魄。此外，书中还描写了抹香鲸如何残杀长须鲸，“鹦鹉螺”号潜艇又是如何杀死成群的抹香鲸的，那情景也十分罕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险象环生的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鹦鹉螺”号也曾遇险，在珊瑚礁上搁过浅，受到过巴布亚土著的袭击，最可怕的是，在南极被厚厚的冰层困住，艇内缺氧，艇上的人几乎不能生还。但是，凭着潜艇的精良构造和艇长的超人智慧，种种险境，均被化解，终于完成了十一万公里的海底行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神秘色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尔纳时代，潜水艇刚刚面世，还是一种神秘的东西；“鹦鹉螺”号艇长内莫又是个身世不明之人，他逃避人类，蛰居海底，而又隐隐约约和陆地上的某些人有一种特殊联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莫”，在拉丁文里是子虚乌有的意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尼摩船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中的尼摩船长是个不明国籍、自称“跟整个人类断绝了关系”的神秘人物，身材高大，神情自信、坚毅。是个海上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吉诃德式的人物，为了民族的仇恨而漂泊海底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56000" y="0"/>
            <a:ext cx="433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潜艇船长尼摩，是个不明国籍、自称“跟整个人类断绝了关系”的神秘人物，身材高大，神情自信、坚毅。尼摩邀请阿龙纳斯参观了这艘令人惊叹的现代工业的杰作—一诺第留斯号；它利用海浪发电，供给船上热、光、动力；它所需的一切都取自海洋。它是尼摩在大洋中的一个荒岛上秘密建造起来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龙纳斯及其同伴乘诺第留斯号，从太平洋出发，开始了海底探险旅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737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226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0"/>
            <a:ext cx="4859280" cy="362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3605040"/>
            <a:ext cx="4356000" cy="3252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5892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1:46Z</dcterms:created>
  <dc:creator>番茄花园</dc:creator>
  <dc:description/>
  <dc:language>en-US</dc:language>
  <cp:lastModifiedBy>zmj</cp:lastModifiedBy>
  <dcterms:modified xsi:type="dcterms:W3CDTF">2012-06-08T03:17:23Z</dcterms:modified>
  <cp:revision>9</cp:revision>
  <dc:subject/>
  <dc:title>幻灯片 1</dc:title>
</cp:coreProperties>
</file>