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34D-F61B-44D3-B80F-AEA8CA14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42F-6855-4203-AED7-1232D681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450-46FC-44D8-A2EA-33D11D7C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37B-2447-4B25-8C04-810A9A57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ED7A-F256-468A-8D87-5AFF475C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90BB-C8FD-466D-A005-6F216CB9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7C57-B025-429E-BF02-BF5D7EBB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29E5-CA15-4EFD-A900-82872E8F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CC9F-9FF2-4F86-A60D-F36082CA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0939-A863-4D78-B2B8-DD23505D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127F-72E5-412D-A067-7699A0FA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FB2-6BF2-479D-817C-2581F0FE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8C33-7693-4329-9D5B-F03AC1AD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5AC6-A79C-4588-840E-D34C0B69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B81D-2944-4A55-B88E-C747E4AA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ABB8-7191-4731-B7BD-5F3D81A6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DB47-079A-4A39-B42A-00B7FD6C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786C-639F-4EEF-8CE1-511ABCE4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8FA9-CBA8-462E-B919-E556A81B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1F11-1382-4537-B435-BA4739EA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5C067-C019-4866-9D6D-5D3A2BFA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CF2C-2070-4CFF-9F15-B5A71AC6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BEB-498D-4253-8215-AD37603C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59E93-250B-472E-875D-BCA1C78B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C9B78-B075-413B-B775-DDA36267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8017-AFC5-44F8-A40B-688FACC3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A033B-53C3-4FEE-9232-1532C319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17203-41EB-46AF-9C01-B00B2DDB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0753-1526-4C7A-9A6D-D58EE1C7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8C2FA-B1F8-4987-AD95-EDC52DA0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D2B-34D1-424A-BBB6-42321E97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780-7F32-4C32-A947-0CCD7DAC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DB9-C46D-45A3-9850-1AB0B987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EC7-40F0-4313-8DB6-4DECF95F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FAA-AA2D-4D45-A991-908CDEA6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53F-29FF-49F8-9458-CC1F7AB9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B8A2-F752-43B7-BF12-6D3B651B449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93A1-5FA5-4A01-B531-28C2D3FAA6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5F60-B2E2-4A88-83DA-61CA91D9320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w066"/>
          <p:cNvPicPr/>
          <p:nvPr/>
        </p:nvPicPr>
        <p:blipFill>
          <a:blip r:embed="rId1">
            <a:lum contrast="-66000"/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097280" y="333360"/>
            <a:ext cx="310644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归园田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720320" y="3141720"/>
            <a:ext cx="10947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陶渊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中国古典音乐 - 高山流水.mp3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舒体"/>
              </a:rPr>
              <a:t>归园田居</a:t>
            </a:r>
            <a:br>
              <a:rPr sz="4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陶渊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32000" y="1483920"/>
            <a:ext cx="4211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舒体"/>
              </a:rPr>
              <a:t>南山下的田地里，豆苗淹没在杂草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舒体"/>
              </a:rPr>
              <a:t>诗人早晨起来便到田地里除草，待到晚上才扛着锄头回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舒体"/>
              </a:rPr>
              <a:t>回家的道路狭窄，草木丛生，晚上草叶上的露水沾湿了我的衣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舒体"/>
              </a:rPr>
              <a:t>衣裳沾湿了不值得惋惜，只要不违背自己的意愿就行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95280" y="184464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539640" y="1700280"/>
            <a:ext cx="453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种豆南山下，草盛豆苗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11280" y="27082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晨兴理荒秽，带月荷锄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11280" y="371628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道狭草木长，夕露沾我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39640" y="4869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衣沾不足惜，但使愿无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UTurnArrow"/>
          <p:cNvSpPr/>
          <p:nvPr/>
        </p:nvSpPr>
        <p:spPr>
          <a:xfrm rot="5400000">
            <a:off x="7883640" y="6166080"/>
            <a:ext cx="598320" cy="452160"/>
          </a:xfrm>
          <a:custGeom>
            <a:avLst/>
            <a:gdLst>
              <a:gd name="textAreaLeft" fmla="*/ 0 w 598320"/>
              <a:gd name="textAreaRight" fmla="*/ 154440 w 598320"/>
              <a:gd name="textAreaTop" fmla="*/ 173880 h 452160"/>
              <a:gd name="textAreaBottom" fmla="*/ 452520 h 4521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0920" y="86832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诗中最能体现作者写作意图的是哪一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24000" y="141120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d7435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8d7435"/>
                </a:solidFill>
                <a:latin typeface="Times New Roman"/>
                <a:ea typeface="华文行楷"/>
              </a:rPr>
              <a:t>衣沾不足惜，但使愿无违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95280" y="213192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使愿无违”的“愿”具体指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952880" y="2666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79280" y="39988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d7435"/>
                </a:solidFill>
                <a:latin typeface="Times New Roman"/>
                <a:ea typeface="华文行楷"/>
              </a:rPr>
              <a:t>要按照自己的意愿生活，不想在那污浊的现实世界中失去自我，即使做一个农夫也比在官场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001"/>
          <p:cNvPicPr/>
          <p:nvPr/>
        </p:nvPicPr>
        <p:blipFill>
          <a:blip r:embed="rId1"/>
          <a:stretch/>
        </p:blipFill>
        <p:spPr>
          <a:xfrm>
            <a:off x="5435640" y="4076640"/>
            <a:ext cx="29210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395280" y="187200"/>
            <a:ext cx="835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这句话表现了作者怎样的思想感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95280" y="14443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49444"/>
                </a:solidFill>
                <a:latin typeface="Times New Roman"/>
                <a:ea typeface="华文行楷"/>
              </a:rPr>
              <a:t>对田园生活的喜爱，享受田园之乐的惬意、闲适之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24000" y="27414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从这句话中可以看出陶渊明是个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24000" y="389232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49444"/>
                </a:solidFill>
                <a:latin typeface="Times New Roman"/>
                <a:ea typeface="华文行楷"/>
              </a:rPr>
              <a:t>辞官归隐，躬耕田园，不慕权贵，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49444"/>
                </a:solidFill>
                <a:latin typeface="Times New Roman"/>
                <a:ea typeface="华文行楷"/>
              </a:rPr>
              <a:t>薄名利，洁身自好，刚正不阿，对美好社会充满向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gdhh45"/>
          <p:cNvPicPr/>
          <p:nvPr/>
        </p:nvPicPr>
        <p:blipFill>
          <a:blip r:embed="rId1"/>
          <a:stretch/>
        </p:blipFill>
        <p:spPr>
          <a:xfrm>
            <a:off x="4500720" y="4797360"/>
            <a:ext cx="3276360" cy="1676520"/>
          </a:xfrm>
          <a:prstGeom prst="rect">
            <a:avLst/>
          </a:prstGeom>
          <a:ln w="0">
            <a:noFill/>
          </a:ln>
        </p:spPr>
      </p:pic>
      <p:sp>
        <p:nvSpPr>
          <p:cNvPr id="207" name="UTurnArrow"/>
          <p:cNvSpPr/>
          <p:nvPr/>
        </p:nvSpPr>
        <p:spPr>
          <a:xfrm rot="5400000">
            <a:off x="7883640" y="6166080"/>
            <a:ext cx="598320" cy="452160"/>
          </a:xfrm>
          <a:custGeom>
            <a:avLst/>
            <a:gdLst>
              <a:gd name="textAreaLeft" fmla="*/ 0 w 598320"/>
              <a:gd name="textAreaRight" fmla="*/ 154440 w 598320"/>
              <a:gd name="textAreaTop" fmla="*/ 173880 h 452160"/>
              <a:gd name="textAreaBottom" fmla="*/ 452520 h 4521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gdhh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1178280" y="3049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b49444"/>
                </a:solidFill>
                <a:latin typeface="Times New Roman"/>
                <a:ea typeface="方正舒体"/>
              </a:rPr>
              <a:t>总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186720" y="2286000"/>
            <a:ext cx="310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者通过这首诗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向我们展示了一幅安逸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闲适的农村生活的画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并表现了他淡薄名利、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身自好的美好品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5" descr="it22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156360" y="189000"/>
            <a:ext cx="2570040" cy="2836800"/>
          </a:xfrm>
          <a:prstGeom prst="rect">
            <a:avLst/>
          </a:prstGeom>
          <a:ln w="0">
            <a:noFill/>
          </a:ln>
        </p:spPr>
      </p:pic>
      <p:sp>
        <p:nvSpPr>
          <p:cNvPr id="212" name="UTurnArrow"/>
          <p:cNvSpPr/>
          <p:nvPr/>
        </p:nvSpPr>
        <p:spPr>
          <a:xfrm rot="5400000">
            <a:off x="7883640" y="6166080"/>
            <a:ext cx="598320" cy="452160"/>
          </a:xfrm>
          <a:custGeom>
            <a:avLst/>
            <a:gdLst>
              <a:gd name="textAreaLeft" fmla="*/ 0 w 598320"/>
              <a:gd name="textAreaRight" fmla="*/ 154440 w 598320"/>
              <a:gd name="textAreaTop" fmla="*/ 173880 h 452160"/>
              <a:gd name="textAreaBottom" fmla="*/ 452520 h 4521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2196000" y="1989000"/>
            <a:ext cx="13463640" cy="684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陶渊明  其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少无适俗韵，性本爱丘山。误落尘网中，一去三十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羁鸟恋旧林，池鱼思故渊。开荒南野际，守拙归园田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方宅十余亩，草屋八九间。榆柳荫后檐，桃李罗堂前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暧暧远人村，依依墟里烟。狗吠深巷中，鸡鸣桑树巅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户庭无尘杂，虚室有余闲。久在樊笼里，复得返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3"/>
          <p:cNvSpPr txBox="1"/>
          <p:nvPr/>
        </p:nvSpPr>
        <p:spPr>
          <a:xfrm>
            <a:off x="2484360" y="549360"/>
            <a:ext cx="424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归园田居五首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其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野外罕人事，穷巷寡轮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白日掩荆扉，对酒绝尘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时复墟曲人，披草共来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相见无杂言，但道桑麻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桑麻日已长，我土日已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常恐霜霰至，零落同草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gdhh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其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方正舒体"/>
              </a:rPr>
              <a:t>久去山泽游，浪莽林野娱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方正舒体"/>
              </a:rPr>
              <a:t>试携子侄辈，披榛步荒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方正舒体"/>
              </a:rPr>
              <a:t>徘徊丘垅间，依依昔人居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方正舒体"/>
              </a:rPr>
              <a:t>井灶有遗处，桑竹残朽株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方正舒体"/>
              </a:rPr>
              <a:t>借问采薪者，此人皆焉如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方正舒体"/>
              </a:rPr>
              <a:t>薪者向我言，死没无复余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方正舒体"/>
              </a:rPr>
              <a:t>一世弃朝市，此语真不虚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方正舒体"/>
              </a:rPr>
              <a:t>人生似幻化，终当归空无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其五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1906920" y="1413000"/>
            <a:ext cx="125269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100" spc="-1" strike="noStrike">
                <a:solidFill>
                  <a:srgbClr val="000000"/>
                </a:solidFill>
                <a:latin typeface="方正舒体"/>
                <a:ea typeface="方正舒体"/>
              </a:rPr>
              <a:t>怅恨独策还，崎岖历榛曲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4100" spc="-1" strike="noStrike">
                <a:solidFill>
                  <a:srgbClr val="000000"/>
                </a:solidFill>
                <a:latin typeface="方正舒体"/>
                <a:ea typeface="方正舒体"/>
              </a:rPr>
              <a:t>山涧清且浅，遇以濯吾足。</a:t>
            </a:r>
            <a:br>
              <a:rPr sz="4100"/>
            </a:br>
            <a:r>
              <a:rPr b="0" lang="zh-CN" sz="4100" spc="-1" strike="noStrike">
                <a:solidFill>
                  <a:srgbClr val="000000"/>
                </a:solidFill>
                <a:latin typeface="方正舒体"/>
                <a:ea typeface="方正舒体"/>
              </a:rPr>
              <a:t>漉我新熟酒，只鸡招近局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</a:t>
            </a:r>
            <a:r>
              <a:rPr b="0" lang="zh-CN" sz="4100" spc="-1" strike="noStrike">
                <a:solidFill>
                  <a:srgbClr val="000000"/>
                </a:solidFill>
                <a:latin typeface="方正舒体"/>
                <a:ea typeface="方正舒体"/>
              </a:rPr>
              <a:t>日入室中，荆薪代明烛。</a:t>
            </a:r>
            <a:br>
              <a:rPr sz="4100"/>
            </a:br>
            <a:r>
              <a:rPr b="0" lang="zh-CN" sz="4100" spc="-1" strike="noStrike">
                <a:solidFill>
                  <a:srgbClr val="000000"/>
                </a:solidFill>
                <a:latin typeface="方正舒体"/>
                <a:ea typeface="方正舒体"/>
              </a:rPr>
              <a:t>欢来苦夕短，已复至天旭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00849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4067280" y="404640"/>
            <a:ext cx="3836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再 见</a:t>
            </a:r>
            <a:r>
              <a:rPr b="0" lang="zh-CN" sz="9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制作人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:   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厉寒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指导者：刘红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无标题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45" name="WordArt 3"/>
          <p:cNvSpPr txBox="1"/>
          <p:nvPr/>
        </p:nvSpPr>
        <p:spPr>
          <a:xfrm>
            <a:off x="3492360" y="189000"/>
            <a:ext cx="23749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目录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11280" y="1916280"/>
            <a:ext cx="338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如何欣赏诗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476720" y="294480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作者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981440" y="380844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写作背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>
            <a:hlinkClick r:id="rId5" action="ppaction://hlinksldjump"/>
          </p:cNvPr>
          <p:cNvSpPr/>
          <p:nvPr/>
        </p:nvSpPr>
        <p:spPr>
          <a:xfrm>
            <a:off x="2340360" y="481644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773440" y="5753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园田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 rot="1219200">
            <a:off x="4788360" y="393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49444"/>
                </a:solidFill>
                <a:latin typeface="Times New Roman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3924720" y="191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揣摩词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635280" y="2924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5508720" y="5157720"/>
            <a:ext cx="1827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归园田居五首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如何欣赏诗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19280" y="1483920"/>
            <a:ext cx="84247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一、了解作者的生平简介和诗歌的写作背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二、初读诗歌，借助课下注释及字典，弄懂诗词的字面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三、朗读成诵，仔细品味全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四、结合自己的生活经验，展开想象和联想，深入体会诗的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UTurnArrow"/>
          <p:cNvSpPr/>
          <p:nvPr/>
        </p:nvSpPr>
        <p:spPr>
          <a:xfrm rot="5400000">
            <a:off x="7920000" y="6202440"/>
            <a:ext cx="525600" cy="452160"/>
          </a:xfrm>
          <a:custGeom>
            <a:avLst/>
            <a:gdLst>
              <a:gd name="textAreaLeft" fmla="*/ 0 w 525600"/>
              <a:gd name="textAreaRight" fmla="*/ 135720 w 525600"/>
              <a:gd name="textAreaTop" fmla="*/ 173880 h 452160"/>
              <a:gd name="textAreaBottom" fmla="*/ 452520 h 4521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陶2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540080" y="-70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83ff"/>
                </a:solidFill>
                <a:latin typeface="Times New Roman"/>
                <a:ea typeface="方正舒体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65520" y="887400"/>
            <a:ext cx="508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陶渊明（约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7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又名潜，字元亮，东晋著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诗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80880" y="28180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曾经学过他的文章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文中表现了他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想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970640" y="335628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252040" y="414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渴望和平、安定生活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UTurnArrow"/>
          <p:cNvSpPr/>
          <p:nvPr/>
        </p:nvSpPr>
        <p:spPr>
          <a:xfrm rot="5400000">
            <a:off x="7883640" y="6166080"/>
            <a:ext cx="598320" cy="452160"/>
          </a:xfrm>
          <a:custGeom>
            <a:avLst/>
            <a:gdLst>
              <a:gd name="textAreaLeft" fmla="*/ 0 w 598320"/>
              <a:gd name="textAreaRight" fmla="*/ 154440 w 598320"/>
              <a:gd name="textAreaTop" fmla="*/ 173880 h 452160"/>
              <a:gd name="textAreaBottom" fmla="*/ 452520 h 4521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0957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ttp:/foxmm.vip.sina.com/tym/ph.jpg"/>
          <p:cNvPicPr/>
          <p:nvPr/>
        </p:nvPicPr>
        <p:blipFill>
          <a:blip r:embed="rId1"/>
          <a:stretch/>
        </p:blipFill>
        <p:spPr>
          <a:xfrm>
            <a:off x="228600" y="22860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3276720" y="2286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第三时期，归田时期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从晋安帝义熙二年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(406)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至宋文帝元嘉四年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(427)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病故。归田后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20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多年，是他创作最丰富的时期。陶渊明今存诗歌共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125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首，计四言诗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首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五言诗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116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首。他的四言诗并不太出色。他的五言诗可大略分为两大类；一类是继承汉魏以来抒情言志传统而加以发展的咏怀诗，一类是几乎很少先例的田园诗。陶诗的艺术成就从唐代开始受到推崇，甚至被当作是</a:t>
            </a:r>
            <a:r>
              <a:rPr b="1" lang="zh-CN" sz="2000" spc="-1" strike="noStrike">
                <a:solidFill>
                  <a:srgbClr val="393939"/>
                </a:solidFill>
                <a:latin typeface="_x000b__x000c_"/>
              </a:rPr>
              <a:t>“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为诗之根本准则</a:t>
            </a:r>
            <a:r>
              <a:rPr b="1" lang="zh-CN" sz="2000" spc="-1" strike="noStrike">
                <a:solidFill>
                  <a:srgbClr val="393939"/>
                </a:solidFill>
                <a:latin typeface="_x000b__x000c_"/>
              </a:rPr>
              <a:t>”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。陶渊明死后 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100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多年，萧统搜集他的遗文，区分编目，编定了《陶渊明集》 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393939"/>
                </a:solidFill>
                <a:latin typeface="宋体"/>
              </a:rPr>
              <a:t>卷，并亲自写序，作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8813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http:/foxmm.vip.sina.com/0p5/line1.gif"/>
          <p:cNvPicPr/>
          <p:nvPr/>
        </p:nvPicPr>
        <p:blipFill>
          <a:blip r:embed="rId2"/>
          <a:stretch/>
        </p:blipFill>
        <p:spPr>
          <a:xfrm>
            <a:off x="228600" y="5638680"/>
            <a:ext cx="8458200" cy="943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228600" y="3886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附带说一下，在封建时代，皇帝及大臣死后朝廷都要根据他们的行事给一个谥号；陶渊明不是大臣，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靖节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这个谥号是他死后朋友和门人私下给的，为的是表彰他高尚的节操，可以叫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私谥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陶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1453320" y="4561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写作背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09480" y="40237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f4f31"/>
                </a:solidFill>
                <a:latin typeface="Times New Roman"/>
                <a:ea typeface="华文行楷"/>
              </a:rPr>
              <a:t>陶渊明不满于官场的黑暗，“不为五斗米折腰”，隐居农村。这首诗写作于隐居后第二年，共写了五首，这是其中的第三首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UTurnArrow"/>
          <p:cNvSpPr/>
          <p:nvPr/>
        </p:nvSpPr>
        <p:spPr>
          <a:xfrm rot="5400000">
            <a:off x="7883640" y="6166080"/>
            <a:ext cx="598320" cy="452160"/>
          </a:xfrm>
          <a:custGeom>
            <a:avLst/>
            <a:gdLst>
              <a:gd name="textAreaLeft" fmla="*/ 0 w 598320"/>
              <a:gd name="textAreaRight" fmla="*/ 154440 w 598320"/>
              <a:gd name="textAreaTop" fmla="*/ 173880 h 452160"/>
              <a:gd name="textAreaBottom" fmla="*/ 452520 h 4521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971000" y="14832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33"/>
                </a:solidFill>
                <a:latin typeface="Times New Roman"/>
                <a:ea typeface="方正舒体"/>
              </a:rPr>
              <a:t>学习目标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764360" y="1351440"/>
            <a:ext cx="5046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能有感情地朗读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粗知诗歌的大意，揣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词语，了解诗人的思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感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3.</a:t>
            </a: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能背诵并默写诗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UTurnArrow"/>
          <p:cNvSpPr/>
          <p:nvPr/>
        </p:nvSpPr>
        <p:spPr>
          <a:xfrm rot="5400000">
            <a:off x="7883640" y="6166080"/>
            <a:ext cx="598320" cy="452160"/>
          </a:xfrm>
          <a:custGeom>
            <a:avLst/>
            <a:gdLst>
              <a:gd name="textAreaLeft" fmla="*/ 0 w 598320"/>
              <a:gd name="textAreaRight" fmla="*/ 154440 w 598320"/>
              <a:gd name="textAreaTop" fmla="*/ 173880 h 452160"/>
              <a:gd name="textAreaBottom" fmla="*/ 452520 h 4521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162920" y="120096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归园田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705720" y="3505320"/>
            <a:ext cx="11552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陶渊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651640" y="366120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种豆南山下，草盛豆苗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643280" y="366120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晨兴理荒秽，带月荷锄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492360" y="358956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道狭草木长，夕露沾我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268360" y="358956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衣沾不足惜，但使愿无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swh2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3054960" y="45540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揣摩下列词句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66680" y="2286720"/>
            <a:ext cx="8534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豆南山下，草</a:t>
            </a: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盛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豆苗</a:t>
            </a: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稀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晨兴理荒秽，</a:t>
            </a: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带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荷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锄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道狭草木长，夕露沾我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衣沾</a:t>
            </a: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不足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惜，</a:t>
            </a: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但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愿无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中国古典音乐 - 高山流水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5:49:05Z</dcterms:modified>
  <cp:revision>1</cp:revision>
  <dc:subject/>
  <dc:title>PowerPoint 演示文稿</dc:title>
</cp:coreProperties>
</file>