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wmf" ContentType="image/x-wmf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jpeg" ContentType="image/jpeg"/>
  <Override PartName="/ppt/media/image21.gif" ContentType="image/gif"/>
  <Override PartName="/ppt/media/image20.png" ContentType="image/png"/>
  <Override PartName="/ppt/media/image17.gif" ContentType="image/gif"/>
  <Override PartName="/ppt/media/image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6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D8FA-A502-4308-B7FB-B1F91E2C8C0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0A75-139D-48B0-85C6-68E565AA96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2E3C-974B-4B84-B9CE-A908A34C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54D8-9914-4265-8803-41C9F261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89B0-C94E-49FD-B672-3BA3BE0E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7FDD-AEB1-4555-970B-1168CCEF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06E3-B516-4EAB-89C9-760E3071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FAFD-A9C2-4F08-BE2D-CC077C12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962B-E923-474C-9469-79C47446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9913-4825-4023-84F6-35BC81F9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B5DF-858C-4EE7-A7D0-DBD0146E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4DB4-1153-4595-A694-4F61FD29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C294-BB76-4638-A6FB-D6F358C3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A32-3E86-447E-901D-B27C64C0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0D49-5B7B-4A8A-B68F-027DD391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C46C-C41D-4E86-82DB-1C4286AA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B261-1731-4850-86BA-1F863CF5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DA25-2EC7-4C87-9953-4A5A6A13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988C-F825-43DF-BB5B-FF7E938C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095A1-CED4-4727-BF7C-6405EFF5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D6C96-6464-46C5-BE7F-AFB38774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4FCC9-EBC9-45B1-97D4-FD0B61FF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DC8D5-680E-4870-91F8-E94D55DD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81213-F7A6-486B-8856-5202E037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734-A9AF-41C5-9591-F307B37C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E1C4A-FFA8-476C-8246-6BEA8BD4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7CCAE-DE7B-41E5-A766-5092DE73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8720F-AA9B-417B-A174-7243B5F2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541C2-6418-4F3E-B6A9-572B3144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E3E63-6588-48F1-83FA-A22D2D9D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CA42-818C-466B-A334-9E0F3D88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1C4F0-1A0A-423C-B779-C69B00D9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210E0-5049-458B-8446-8FEBF1BF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79EB9-7971-443A-86C1-A1B1BB2A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EE854-7F62-40E6-9D7C-72C0862F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2EFA-BFA2-44B8-9B2F-1AAA46DA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97BF8-92DB-4E9C-BF38-C36D5C1E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221B6-9B11-498E-AB1D-21E2CE2B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D49D3-C0F9-4E56-8ED6-5463524A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ABB91-70DE-4F2C-A392-99030FBD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94CD3-68BD-4DF4-9BB0-9234F4B1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76614-C440-4257-89C0-AF01F715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FCDBA-98F2-4995-BAFE-C108ADE9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D4EF5-C522-46F6-A7D1-1D36BB3B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421B6-0C80-4C96-9763-B904251D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4C011-D2AA-442A-BF6C-F60BDFF9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DEF-3AA4-4AFF-81AC-322329B3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2D664-B9EC-4CF1-98AA-88FBBC2B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D13C1-1179-4F7C-9068-AA9C3DF9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E51C1-4F20-45A8-9CBA-843F3E0E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E0E5A-E115-4763-983E-ACFA355E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C878E-6411-4F75-90A9-44DF999E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E9CC8-5888-4BD8-A29B-EAA69389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B1D01-F897-4191-974F-A47999AD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89B4E-12F2-4636-8287-CD5BEDF6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B4C39-A524-4733-9E8D-FE4588EF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9FA93-394F-467C-B008-4DA1DD6F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7046-B62A-4A20-BDB7-091537D4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016AE-677B-4A5C-8A5B-1464C59D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56A-3B8A-48BE-8EDA-903734A7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11CF-E866-40B6-8B41-6E001F90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DD73-EDB8-4DC5-B06B-71E0D311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2B83-053C-486F-AED4-BD98CD10B1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7930-627E-420D-87E4-0B4BE8023F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0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8563-3641-43EE-A408-FFF6C0EFAB7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6CB5-06B0-424F-83E8-B015A5C71BF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113A-6830-4C48-9D54-DB2BD31EAB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pp.sms888.net/web/apps/diynew.php?uid=4188&amp;url=http://www.dabaoku.com/sucai/meishu/shanshuihua/027b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hoto.xylv.com/uploadimage/2006_6_26/2758picimg20060626095353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iaojia.cn/jingdian/show.asp?id=20157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hoto.xylv.com/uploadimage/2006_6_26/2758picimg20060626095353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file:///&#23567;&#23396;&#23665;.flv" TargetMode="Externa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&#23567;&#23396;&#23665;.flv" TargetMode="Externa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&#22823;&#23396;&#23665;.flv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山水画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 txBox="1"/>
          <p:nvPr/>
        </p:nvSpPr>
        <p:spPr>
          <a:xfrm rot="5400000">
            <a:off x="5343120" y="1506600"/>
            <a:ext cx="4095720" cy="2181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中国古代诗歌散文欣赏</a:t>
            </a:r>
            <a:endParaRPr b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37" name=""/>
          <p:cNvSpPr/>
          <p:nvPr/>
        </p:nvSpPr>
        <p:spPr>
          <a:xfrm>
            <a:off x="3465000" y="2708280"/>
            <a:ext cx="1826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散文之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20800" y="1125360"/>
            <a:ext cx="15634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衡阳县第一中学　　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　　聂仲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04200" y="6491160"/>
            <a:ext cx="16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1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7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1908000" y="2205000"/>
            <a:ext cx="5256360" cy="17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翻译全文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-252720" y="189000"/>
            <a:ext cx="4211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八月一日，过烽火矶。南朝自武昌至京口，列置烽燧，此山当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一也。自舟中望山，突兀而已。及抛江过其下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岩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穴，怪奇万状，色泽莹润，亦与它石迥异。又有一石，不附山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杰然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起，高百余尺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丹藤翠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罗络其上，如宝装屏风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风静，舟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颇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又秋深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潦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故得尽见，杜老所谓“幸有舟楫迟，得尽所历妙”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924000" y="0"/>
            <a:ext cx="5219640" cy="71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八月一日，（船）经过烽火矶。南朝以来，从武昌（今鄂城）到京口，都设置了很多（报警的）烽火台，这座山应该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中之一。从船上看山，只是见到高耸（的山峰）罢了。等到抛锚停船后，（我）走过山下，（看到）裂缝的岩石和各式洞穴，奇形怪状，色彩光亮润泽，也和别的石头不大一样。又有一块巨石，与烽火矶不相连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高峻雄伟地拔地而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高约一百多尺，有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红藤绿蔓覆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它上面，像宝石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镶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屏风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天，风平浪静，船走得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很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又因为深秋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水位下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所以能看到这里的一切美景，（正像）杜甫所说的“幸有舟楫迟，得尽所历妙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38098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澎浪矶、小孤山，二山东西相望。小孤属舒州宿松县，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兵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江中独山，如金山、焦山、落星之类，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下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峭拔秀丽皆不可与小孤比。自数十里外望之，碧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巉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孤起，上干云霄，已非它山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愈近愈秀，冬夏晴雨，姿态万变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造化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尤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780000" y="333000"/>
            <a:ext cx="48225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过澎浪矶、小孤山，这两座山东西相望。小孤山属于舒州宿松县，山上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防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士兵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所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江中的独山，如金山、焦山、落星山之类，都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扬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下的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峭拔秀丽上看，都不能和小孤山相比。从几十里外看去，小孤山碧绿的山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高高耸立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上冲云霄，已经不是别的山可以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相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了。越近（看）越秀丽，冬天，夏天，晴天，雨天，姿态变化万千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诚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自然界风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最优美的地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38102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祠宇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极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荒残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若稍饰以楼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观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(guàn)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亭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江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发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自当高出金山之上矣。庙在山之西麓，额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惠济”，神曰“安济夫人”。绍兴初，张魏公自湖湘还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营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有碑载其事。又有别祠在澎浪矶，属江州彭泽县，三面临江，倒影水中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亦占一山之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舟过矶，虽无风，亦浪涌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此得名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850920" y="259920"/>
            <a:ext cx="482436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只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山上的）庙宇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荒凉残破了，如果再增加些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楼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亭榭来装饰，与山光水色互相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辉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自然会比金山更漂亮了。庙在西边山脚下，匾额上写着“惠济”二字，（里面供奉的）神叫“安济夫人”。绍兴初年，魏国公张浚从湖南回来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曾经修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，有座碑记载了这件事。又有另一座庙在澎浪矶，在江州彭泽县境内，三面临着长江，山的倒影映在水中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也是一处名山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胜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船过澎浪矶，即使无风，浪也很大，澎浪矶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大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此而得名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-181080" y="260280"/>
            <a:ext cx="395784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昔人诗有“舟中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估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漫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小姑前年嫁彭郎”之句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传者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谓小孤庙有彭郎像，澎浪庙有小姑像，实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。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沙夹，距小孤一里。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复以小艇游庙中，南望彭泽、都昌诸山，烟雨空濛，鸥鹭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灭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登临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徙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久之而归。方立庙门，有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鹘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禽，掠江东南去，甚可壮也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庙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云，山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鹘甚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563640" y="188640"/>
            <a:ext cx="53290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古人有诗：“舟中估客莫漫狂，小姑前年嫁彭郎。”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传说的人 因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小孤山的庙里有彭郎像，澎浪矶庙里有小姑像，其实并不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这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。这天晚上，（我的船）就停在沙夹，距小孤山大约一里远。天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下着小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（我）又乘小艇到小孤山的庙中游览。向南远望，彭泽、都昌一带山峦，烟雨迷茫，沙鸥和白鹭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时隐时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极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登临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胜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徘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很长时间才回去。刚到庙门口站着，有一只健美的老鹰正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鸟，掠过江面向东南方向飞去，非常壮观。守庙的人说，山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栖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着很多老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-252360" y="259920"/>
            <a:ext cx="396072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日早，行未二十里，忽风云腾涌，急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缆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复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遂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彭蠡口，四望无际，乃知太白“开帆入天镜”之句为妙。始见庐山及大孤。大孤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状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梁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可拟小姑之秀丽，然小孤之旁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沙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葭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大孤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际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渺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皆大江，望之如浮水面，亦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。江自湖口分一支为南江，盖江西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672000" y="259920"/>
            <a:ext cx="5472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二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早晨，（船）行不到二十里，忽然风起云涌，（于是）急忙系上缆绳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一会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天又转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（船又）继续前行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泛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彭蠡口，四面望去，没有边际，这时我才领会李白“开帆入天镜”这句诗的妙处。这时才看到庐山和大孤山。大孤山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样子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梁山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虽然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上小孤山那样秀丽，但是小孤山的旁边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几块沙洲和初生的芦苇；大孤山的四周却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茫茫无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江水，远望它像浮在水面上一样，也是一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奇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呀！长江从湖口分出一支成为南江，大概是长江西路一带水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-396720" y="0"/>
            <a:ext cx="424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浑浊，每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，皆以杏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澄（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dèng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，过夕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饮。南江则极清澈，合处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引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不相乱。晚抵江州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州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德化县，即唐之浔阳县，柴桑、栗里，皆其地也；南唐为奉化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军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江军。岸土赤而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东坡先生所谓“舟人指点岸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者也。泊湓浦，水亦甚清，不与江水乱。自七月二十六日至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首尾才六日，其间一日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阻风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不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实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日半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行七百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492000" y="-360"/>
            <a:ext cx="5651640" cy="71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长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水很浑浊，每逢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汲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江水时，都需用杏仁来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澄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过一个晚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能喝。南江的水却很清，两江的水合流处像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绳尺划分过一样，不相混淆。晚上到达江州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州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设在德化县，就是唐代的浔阳县。柴桑、栗里，都属于江州地面；南唐时由奉化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军管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现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定江军。岸上的土是红色的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像墙一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立着，东坡先生所说的“舟人指点岸如赪”，说的就是这个。（船）停泊在湓浦口，水也是很清的，不和江水相混。从七月二十六日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今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前后才六天，其中有一天因为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风阻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不能行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实际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了四天半的时间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逆水而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航行了七百里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1908000" y="2205000"/>
            <a:ext cx="5256360" cy="17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理解全文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95280" y="549360"/>
            <a:ext cx="820728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0000"/>
                </a:solidFill>
                <a:latin typeface="Arial"/>
                <a:ea typeface="华文中宋"/>
              </a:rPr>
              <a:t>本文作为一篇游记，主要内容是写景。阅读全文，找出文章中描写了哪些景物？这些景物有什么特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Picture 4" descr="小孤山">
            <a:hlinkClick r:id="rId1"/>
          </p:cNvPr>
          <p:cNvPicPr/>
          <p:nvPr/>
        </p:nvPicPr>
        <p:blipFill>
          <a:blip r:embed="rId2"/>
          <a:srcRect l="0" t="0" r="0" b="18948"/>
          <a:stretch/>
        </p:blipFill>
        <p:spPr>
          <a:xfrm>
            <a:off x="179280" y="2997360"/>
            <a:ext cx="4032360" cy="350028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3"/>
          <a:stretch/>
        </p:blipFill>
        <p:spPr>
          <a:xfrm>
            <a:off x="4716360" y="2997360"/>
            <a:ext cx="4103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3600" y="907920"/>
            <a:ext cx="667800" cy="34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游     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1280" y="189000"/>
            <a:ext cx="144360" cy="3095640"/>
          </a:xfrm>
          <a:custGeom>
            <a:avLst/>
            <a:gdLst>
              <a:gd name="textAreaLeft" fmla="*/ 42480 w 144360"/>
              <a:gd name="textAreaRight" fmla="*/ 144360 w 144360"/>
              <a:gd name="textAreaTop" fmla="*/ 128880 h 3095640"/>
              <a:gd name="textAreaBottom" fmla="*/ 296676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170028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描写的景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及特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68360" y="476280"/>
            <a:ext cx="71640" cy="2808360"/>
          </a:xfrm>
          <a:custGeom>
            <a:avLst/>
            <a:gdLst>
              <a:gd name="textAreaLeft" fmla="*/ 20880 w 71640"/>
              <a:gd name="textAreaRight" fmla="*/ 72000 w 71640"/>
              <a:gd name="textAreaTop" fmla="*/ 117000 h 2808360"/>
              <a:gd name="textAreaBottom" fmla="*/ 269136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88760" y="16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烽火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00360" y="836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峭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340000" y="152712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孤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10680" y="2349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彭泽都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411280" y="28940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孤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350240" y="2602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嵌岩窦穴，怪奇万状，色泽莹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407840" y="6922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杰然特起，丹藤翠蔓，罗络其上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如宝装屏风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414320" y="162864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碧峰巉然孤起，上干云霄，冬夏晴雨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姿态万变，祠宇极于荒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668920" y="242100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烟雨空濛，鸥鹭灭没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11960" y="306864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四际渺弥皆大江，望之如浮水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26920" y="479736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作者用了哪些方法写这些景物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天来见一个熟悉的陌生人</a:t>
            </a:r>
            <a:r>
              <a:rPr b="1" lang="en-US" sz="4400" spc="-1" strike="noStrike">
                <a:solidFill>
                  <a:srgbClr val="e40000"/>
                </a:solidFill>
                <a:latin typeface="Arial"/>
              </a:rPr>
              <a:t>----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务观，号放翁，越州山阴（今浙江绍兴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坎坷之始：应进士试，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喜论恢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受到秦桧的忌恨，复试时竟被除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恨而终：嘉定二年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八十五岁的老诗人，抱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死前恨不见中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遗恨，离开人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372360" y="49680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陆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997720" y="6093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0000"/>
                </a:solidFill>
                <a:latin typeface="Arial"/>
                <a:ea typeface="华文彩云"/>
              </a:rPr>
              <a:t>此前，他有一次重要的入蜀经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600" y="907920"/>
            <a:ext cx="667800" cy="34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游     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11280" y="189000"/>
            <a:ext cx="144360" cy="3095640"/>
          </a:xfrm>
          <a:custGeom>
            <a:avLst/>
            <a:gdLst>
              <a:gd name="textAreaLeft" fmla="*/ 42480 w 144360"/>
              <a:gd name="textAreaRight" fmla="*/ 144360 w 144360"/>
              <a:gd name="textAreaTop" fmla="*/ 128880 h 3095640"/>
              <a:gd name="textAreaBottom" fmla="*/ 296676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84360" y="170028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描写的景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及特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268360" y="476280"/>
            <a:ext cx="71640" cy="2808360"/>
          </a:xfrm>
          <a:custGeom>
            <a:avLst/>
            <a:gdLst>
              <a:gd name="textAreaLeft" fmla="*/ 20880 w 71640"/>
              <a:gd name="textAreaRight" fmla="*/ 72000 w 71640"/>
              <a:gd name="textAreaTop" fmla="*/ 117000 h 2808360"/>
              <a:gd name="textAreaBottom" fmla="*/ 269136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88760" y="16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烽火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700360" y="836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峭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340000" y="152712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孤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010680" y="2349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彭泽都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411280" y="28940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孤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164360" y="33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点面结合   比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451640" y="23493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烘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740720" y="2852640"/>
            <a:ext cx="81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比较 想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740720" y="155736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衬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350240" y="2602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嵌岩窦穴，怪奇万状，色泽莹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407840" y="6922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杰然特起，丹藤翠蔓，罗络其上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如宝装屏风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414320" y="162864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碧峰巉然孤起，上干云霄，冬夏晴雨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姿态万变，祠宇极于荒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668920" y="242100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烟雨空濛，鸥鹭灭没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511960" y="306864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四际渺弥皆大江，望之如浮水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329200" y="46674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文章在景物描写上有什么特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600" y="907920"/>
            <a:ext cx="667800" cy="34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游     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11280" y="189000"/>
            <a:ext cx="144360" cy="3095640"/>
          </a:xfrm>
          <a:custGeom>
            <a:avLst/>
            <a:gdLst>
              <a:gd name="textAreaLeft" fmla="*/ 42480 w 144360"/>
              <a:gd name="textAreaRight" fmla="*/ 144360 w 144360"/>
              <a:gd name="textAreaTop" fmla="*/ 128880 h 3095640"/>
              <a:gd name="textAreaBottom" fmla="*/ 296676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84360" y="170028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描写的景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及特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11280" y="5084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e0000"/>
                </a:solidFill>
                <a:latin typeface="Arial"/>
              </a:rPr>
              <a:t>，运用多种表达方式：议论抒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11280" y="594504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fe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e0000"/>
                </a:solidFill>
                <a:latin typeface="Arial"/>
              </a:rPr>
              <a:t>引用传说，前人诗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68360" y="476280"/>
            <a:ext cx="71640" cy="2808360"/>
          </a:xfrm>
          <a:custGeom>
            <a:avLst/>
            <a:gdLst>
              <a:gd name="textAreaLeft" fmla="*/ 20880 w 71640"/>
              <a:gd name="textAreaRight" fmla="*/ 72000 w 71640"/>
              <a:gd name="textAreaTop" fmla="*/ 117000 h 2808360"/>
              <a:gd name="textAreaBottom" fmla="*/ 269136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588760" y="16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烽火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700360" y="836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峭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340000" y="152712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孤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10680" y="2349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彭泽都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411280" y="28940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孤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164360" y="33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点面结合   比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451640" y="23493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烘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740720" y="2852640"/>
            <a:ext cx="81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比较 想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11280" y="378936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，抓住景物特征多角度进行描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39640" y="443700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Ｂ，运用移步换景法层次分明地描写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356000" y="616572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840200" y="579600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景物添彩生色，丰富作品内容，增强文化底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740720" y="155736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衬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350240" y="2602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嵌岩窦穴，怪奇万状，色泽莹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407840" y="6922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杰然特起，丹藤翠蔓，罗络其上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如宝装屏风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414320" y="162864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碧峰巉然孤起，上干云霄，冬夏晴雨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姿态万变，祠宇极于荒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668920" y="242100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烟雨空濛，鸥鹭灭没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11960" y="306864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四际渺弥皆大江，望之如浮水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本文主旨是什么？</a:t>
            </a: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11280" y="162864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主旨：本文通过描写所见的景物特色，表达了热爱祖国大好河山的感情，也流露出作者的爱国忠君之意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971640" y="5229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0000"/>
                </a:solidFill>
                <a:latin typeface="Arial"/>
              </a:rPr>
              <a:t>江山如此多娇，引英雄陆游直折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5" descr="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341360"/>
            <a:ext cx="5334120" cy="551664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6"/>
          <p:cNvSpPr/>
          <p:nvPr/>
        </p:nvSpPr>
        <p:spPr>
          <a:xfrm>
            <a:off x="5410080" y="2432160"/>
            <a:ext cx="358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思训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江绝岛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释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山色苍翠，烟水迷茫，大小二孤，矗立江水中央。崖高险绝，猿鸟不度，乔木凌空。有客舟从何处而来？桨声流水间船歌抑扬。沙岸平整，轻风徐来，望客不见，唯浪涌船高，孤山低首，此起彼伏。两山如发髻高耸，正对江水之镜，二美梳弄新妆。舟中商贾，切莫轻狂，小姑前年，已嫁彭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476360" y="27468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对比阅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隶书"/>
              </a:rPr>
              <a:t>诗文有别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歌展现的形象和具体事物间的距离比较大，上下句之间多有跳跃和省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散文描写细致真实，上下句之间交待具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2411280" y="1557360"/>
            <a:ext cx="5975640" cy="24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课内练习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下列读音有错的一项（ 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有俊鹘抟水禽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án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 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沙洲葭苇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iā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潦缩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áo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岸如赪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ēng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546880" y="2009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e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78920" y="692280"/>
            <a:ext cx="82789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下列各项解释有误的一项（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信造化之尤物   造化：指天地、大自然；尤物：美好的事物，这里指漂亮的女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杰然特起：高峻雄伟地拔地而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舟中估客莫漫狂。估客：贩货的行商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渺弥：形容水势浩淼，广阔无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726520" y="692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e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178920" y="907920"/>
            <a:ext cx="87138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与其他三句不同句式的一项（ 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东坡先生所谓“舟人指点岸如赪”者也。   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若稍饰以楼观亭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江自湖口分一支为南江，盖江西路也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因谓小孤庙有彭郎像，澎浪庙有小姑像，实不然也。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6443640" y="836640"/>
            <a:ext cx="76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000"/>
                </a:solidFill>
                <a:latin typeface="Arial"/>
              </a:rPr>
              <a:t>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解释下列一词多义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起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峭拔秀丽皆不可与小孤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实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　　　　　　　　　　　　　　　　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碧峰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孤起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84360" y="4076640"/>
            <a:ext cx="76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fe0000"/>
                </a:solidFill>
                <a:latin typeface="Times New Roman"/>
                <a:ea typeface="Times New Roman"/>
              </a:rPr>
              <a:t>、然（</a:t>
            </a:r>
            <a:r>
              <a:rPr b="1" lang="en-US" sz="3200" spc="-1" strike="noStrike">
                <a:solidFill>
                  <a:srgbClr val="fe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fe0000"/>
                </a:solidFill>
                <a:latin typeface="Times New Roman"/>
                <a:ea typeface="Times New Roman"/>
              </a:rPr>
              <a:t>的样子；但是；这样；</a:t>
            </a:r>
            <a:r>
              <a:rPr b="1" lang="en-US" sz="3200" spc="-1" strike="noStrike">
                <a:solidFill>
                  <a:srgbClr val="fe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fe0000"/>
                </a:solidFill>
                <a:latin typeface="Times New Roman"/>
                <a:ea typeface="Times New Roman"/>
              </a:rPr>
              <a:t>的样子）</a:t>
            </a:r>
            <a:r>
              <a:rPr b="1" lang="zh-CN" sz="3200" spc="-1" strike="noStrike">
                <a:solidFill>
                  <a:srgbClr val="fe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0" y="1711440"/>
            <a:ext cx="9144000" cy="51465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 txBox="1"/>
          <p:nvPr/>
        </p:nvSpPr>
        <p:spPr>
          <a:xfrm>
            <a:off x="1547640" y="117360"/>
            <a:ext cx="5761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过小孤山大孤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646" name=""/>
          <p:cNvSpPr/>
          <p:nvPr/>
        </p:nvSpPr>
        <p:spPr>
          <a:xfrm>
            <a:off x="6084720" y="21178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京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050920" y="50068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江州（庐山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987640" y="57261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鄱阳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643280" y="26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安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24000" y="41497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武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635280" y="44942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彭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36000" y="191628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镇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08360" y="2421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合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771280" y="2924280"/>
            <a:ext cx="2592360" cy="2376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 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钟磬置水中，虽大风浪不能鸣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艇游庙中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若稍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楼观亭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夫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，则游者众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喜，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己悲。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475360" y="4581360"/>
            <a:ext cx="36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0000"/>
                </a:solidFill>
                <a:latin typeface="Arial"/>
              </a:rPr>
              <a:t>以（用；用；用；而且；因为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 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信造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尤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自数十里外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之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徙倚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何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哉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虫又何知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61080" y="44370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0000"/>
                </a:solidFill>
                <a:latin typeface="Arial"/>
              </a:rPr>
              <a:t>之（的；它；语音助词，无义；无义；这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突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而已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徙倚久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岸土赤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壁立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青，取之于蓝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于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母立于兹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229640" y="45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而（罢了；表顺接；表并列；表转折；你、你的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指出下列词类活用现象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晚泊沙夹　　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岸土赤而壁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掠江东南去　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上干云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5640" y="3716280"/>
            <a:ext cx="76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、（</a:t>
            </a:r>
            <a:r>
              <a:rPr b="1" lang="en-US" sz="2800" spc="-1" strike="noStrike">
                <a:solidFill>
                  <a:srgbClr val="fe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）晚：名作状（</a:t>
            </a:r>
            <a:r>
              <a:rPr b="1" lang="en-US" sz="2800" spc="-1" strike="noStrike">
                <a:solidFill>
                  <a:srgbClr val="fe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）壁：象墙壁一样，名作状（</a:t>
            </a:r>
            <a:r>
              <a:rPr b="1" lang="en-US" sz="2800" spc="-1" strike="noStrike">
                <a:solidFill>
                  <a:srgbClr val="fe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）东南：向东南方，名作状（</a:t>
            </a:r>
            <a:r>
              <a:rPr b="1" lang="en-US" sz="2800" spc="-1" strike="noStrike">
                <a:solidFill>
                  <a:srgbClr val="fe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）上：向上，名作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7138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翻译下列句子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又有一石，不附山，杰起特起，高百余尺，丹藤翠蔓，罗络其上，如宝装屏风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95280" y="2997360"/>
            <a:ext cx="82407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自数十里外望之，碧峰巉然孤起，上干云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非它山可拟，愈近愈秀，冬夏晴雨，姿态万变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信造化之尤物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843920" y="1844640"/>
            <a:ext cx="543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e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e0000"/>
                </a:solidFill>
                <a:latin typeface="Arial"/>
              </a:rPr>
              <a:t>）又有一块巨石，与烽火矶不相连。高峻雄伟地拔地而起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0000"/>
                </a:solidFill>
                <a:latin typeface="Arial"/>
              </a:rPr>
              <a:t>高约一百多尺，有红藤绿蔓蒙络在它上面，像宝石镶嵌的屏风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5280" y="4724280"/>
            <a:ext cx="81532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e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e0000"/>
                </a:solidFill>
                <a:latin typeface="Arial"/>
              </a:rPr>
              <a:t>）从几十里外看去，小孤山碧绿的山峰高高耸立着，直插云霄，已经不是别的山可以相比的了。越近（看）越秀丽，冬天，夏天，晴天，雨天，姿态变化万千，确实是自然界风景最优美的地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000"/>
            </a:b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方立庙门，有俊鹘抟水禽，掠江东南去，甚可壮也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舟过矶，虽无风，亦浪涌，盖以此得名也。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84360" y="2997360"/>
            <a:ext cx="7976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e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e0000"/>
                </a:solidFill>
                <a:latin typeface="Arial"/>
              </a:rPr>
              <a:t>）刚到庙门口站着，有一只健美的老鹰正在追逐水鸟，掠过江面东南方向飞去，非常壮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e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e0000"/>
                </a:solidFill>
                <a:latin typeface="Arial"/>
              </a:rPr>
              <a:t>）船过澎浪矶，即使无风，浪也很大，澎浪矶大概因此而得名吧。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684360" y="10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大孤状类西梁，虽不可拟小姑之秀丽，然小孤之旁，颇有沙洲葭苇，大孤则四际渺弥皆大江，望之如浮水面，亦一奇也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江水浑浊，每汲用，皆以杏仁澄之，过夕乃可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南江则极清澈，合处如引绳，不相乱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96720" y="3068640"/>
            <a:ext cx="849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e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）大孤山的样子象西梁山，虽然比不上小孤山那样秀丽，但是小孤山的旁边，很有几块沙洲和初生的芦苇；大孤山的四周却是茫茫无际的江水，远望它像浮在水面上一样，也是一种奇观呀！</a:t>
            </a:r>
            <a:br>
              <a:rPr sz="2800"/>
            </a:b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e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）（这一段）长江的水很浑浊，每逢要汲用江水时，都需用杏仁来澄清，过一个晚上才能喝。</a:t>
            </a:r>
            <a:br>
              <a:rPr sz="2800"/>
            </a:b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e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）南江的水却很清，两江的水合流处像用绳尺划分过一样，不相混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1692360" y="1628640"/>
            <a:ext cx="5975280" cy="244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课外拓展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2484360" y="33336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识记陆游名诗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252000" y="1196640"/>
            <a:ext cx="889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游山西村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山重水复疑无路，柳暗花明又一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书愤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楼船夜雪瓜洲渡，铁马秋风大散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书愤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出师一表真名世，千载谁堪伯仲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病起书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位卑未敢忘忧国，事定犹须待阖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临安春雨初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小楼一夜听春雨，深巷明朝卖杏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算子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咏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零落成泥碾作尘，只有香如故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冬夜读书示子聿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纸上得来终觉浅，绝知此事要躬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示儿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王师北定中原日，家祭无忘告乃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7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7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1619280" y="333360"/>
            <a:ext cx="63374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陆游与绍兴沈园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239160" cy="431316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004000" cy="375300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3"/>
          <a:stretch/>
        </p:blipFill>
        <p:spPr>
          <a:xfrm>
            <a:off x="2050920" y="3645000"/>
            <a:ext cx="500400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4" descr="小孤山">
            <a:hlinkClick r:id="rId1"/>
          </p:cNvPr>
          <p:cNvPicPr/>
          <p:nvPr/>
        </p:nvPicPr>
        <p:blipFill>
          <a:blip r:embed="rId2"/>
          <a:srcRect l="0" t="0" r="0" b="189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3995640" y="6299280"/>
            <a:ext cx="2089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66cc"/>
                </a:solidFill>
                <a:uFillTx/>
                <a:latin typeface="Arial"/>
                <a:ea typeface="华文行楷"/>
                <a:hlinkClick r:id="rId3"/>
              </a:rPr>
              <a:t>小孤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陆游</a:t>
            </a:r>
            <a:r>
              <a:rPr b="1" lang="en-US" sz="2800" spc="-1" strike="noStrike">
                <a:solidFill>
                  <a:srgbClr val="fe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钗头凤</a:t>
            </a:r>
            <a:r>
              <a:rPr b="1" lang="en-US" sz="2800" spc="-1" strike="noStrike">
                <a:solidFill>
                  <a:srgbClr val="fe0000"/>
                </a:solidFill>
                <a:latin typeface="Arial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红酥手，黄籘酒，满城春色宫墙柳。东风恶，欢情薄，一怀愁绪，几年离索。错，错，错！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春如旧，人空瘦，泪痕红浥鲛绡透。桃花落，闲池阁，山盟虽在，锦书难托。莫，莫，莫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68360" y="350028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唐婉</a:t>
            </a:r>
            <a:r>
              <a:rPr b="1" lang="en-US" sz="2800" spc="-1" strike="noStrike">
                <a:solidFill>
                  <a:srgbClr val="fe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钗头凤</a:t>
            </a:r>
            <a:r>
              <a:rPr b="1" lang="en-US" sz="2800" spc="-1" strike="noStrike">
                <a:solidFill>
                  <a:srgbClr val="fe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世情薄，人情恶，雨送黄昏花易落。晓风乾，泪痕残，欲笺心事，独语斜栏。难，难，难！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成各，今非昨，病魂常似秋千索。角声寒，夜阑珊，怕人寻问，咽泪装欢。瞒，瞒，瞒！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4" descr="小孤山"/>
          <p:cNvPicPr/>
          <p:nvPr/>
        </p:nvPicPr>
        <p:blipFill>
          <a:blip r:embed="rId1"/>
          <a:srcRect l="0" t="0" r="0" b="18948"/>
          <a:stretch/>
        </p:blipFill>
        <p:spPr>
          <a:xfrm>
            <a:off x="0" y="141300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3780000" y="5877000"/>
            <a:ext cx="2089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66cc"/>
                </a:solidFill>
                <a:uFillTx/>
                <a:latin typeface="Arial"/>
                <a:ea typeface="华文行楷"/>
                <a:hlinkClick r:id="rId2"/>
              </a:rPr>
              <a:t>小孤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</a:rPr>
              <a:t>听读散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96360" cy="604836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 txBox="1"/>
          <p:nvPr/>
        </p:nvSpPr>
        <p:spPr>
          <a:xfrm>
            <a:off x="2771640" y="1916280"/>
            <a:ext cx="180036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3047760" y="2979720"/>
            <a:ext cx="10036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66cc"/>
                </a:solidFill>
                <a:uFillTx/>
                <a:latin typeface="Arial"/>
                <a:ea typeface="华文行楷"/>
                <a:hlinkClick r:id="rId2"/>
              </a:rPr>
              <a:t>大孤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1908000" y="2205000"/>
            <a:ext cx="5256360" cy="17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感知全文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539640" y="260280"/>
            <a:ext cx="252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文体裁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899640" y="2133360"/>
            <a:ext cx="4002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矶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燧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窦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ò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潦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ǎ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巉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干云霄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榭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143680" y="2060280"/>
            <a:ext cx="4000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鹘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抟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蠡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葭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赪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湓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汲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11280" y="1197000"/>
            <a:ext cx="25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文注音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6" name=""/>
          <p:cNvSpPr/>
          <p:nvPr/>
        </p:nvSpPr>
        <p:spPr>
          <a:xfrm>
            <a:off x="3419640" y="40464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0000"/>
                </a:solidFill>
                <a:latin typeface="Arial"/>
              </a:rPr>
              <a:t>--------</a:t>
            </a:r>
            <a:r>
              <a:rPr b="1" lang="zh-CN" sz="3600" spc="-1" strike="noStrike">
                <a:solidFill>
                  <a:srgbClr val="fe0000"/>
                </a:solidFill>
                <a:latin typeface="Arial"/>
              </a:rPr>
              <a:t>游记散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176480" y="378000"/>
            <a:ext cx="6783120" cy="84420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6378840" cy="79848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>
            <a:off x="971640" y="2492280"/>
            <a:ext cx="6873840" cy="87804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4"/>
          <a:stretch/>
        </p:blipFill>
        <p:spPr>
          <a:xfrm>
            <a:off x="826920" y="3716280"/>
            <a:ext cx="6874200" cy="19447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5"/>
          <a:stretch/>
        </p:blipFill>
        <p:spPr>
          <a:xfrm>
            <a:off x="971640" y="5734080"/>
            <a:ext cx="62881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6918480" cy="5796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6829560" cy="143964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6829560" cy="174312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1386360" y="5083560"/>
            <a:ext cx="51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澄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èng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清混水易，澄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éng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清问题难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50920" y="5734080"/>
            <a:ext cx="85406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泊：小船漂泊（</a:t>
            </a:r>
            <a:r>
              <a:rPr b="1" lang="en-US" sz="3600" spc="-1" strike="noStrike">
                <a:solidFill>
                  <a:srgbClr val="e40000"/>
                </a:solidFill>
                <a:latin typeface="Arial"/>
              </a:rPr>
              <a:t>bó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）在湖泊（</a:t>
            </a:r>
            <a:r>
              <a:rPr b="1" lang="en-US" sz="3600" spc="-1" strike="noStrike">
                <a:solidFill>
                  <a:srgbClr val="e40000"/>
                </a:solidFill>
                <a:latin typeface="Arial"/>
              </a:rPr>
              <a:t>pō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）里。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4"/>
          <a:stretch/>
        </p:blipFill>
        <p:spPr>
          <a:xfrm>
            <a:off x="900000" y="981000"/>
            <a:ext cx="705348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mj</cp:lastModifiedBy>
  <dcterms:modified xsi:type="dcterms:W3CDTF">2010-08-01T03:37:16Z</dcterms:modified>
  <cp:revision>98</cp:revision>
  <dc:subject/>
  <dc:title>PowerPoint Presentation</dc:title>
</cp:coreProperties>
</file>