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4A1-EED1-400A-B183-07DB2CA0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7B8-03EA-46E0-834F-8F9B73D1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A86-D708-41F9-BBB2-37BD0813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B62-7E2A-4E08-B80B-6FF4A2CC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D042-07CF-4037-A787-94EEB047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26F2-1A41-4954-B84E-424D7830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6AA7-57E3-493C-903A-9FC5F92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1321-5E39-4B82-8937-FF8D753B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80AC-9F97-4CC2-B8C9-1A9604FD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F36A-4397-4281-8CE5-1ADD55C4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F906-4644-4328-A754-ACA43B9C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4D4-8B21-4443-A83E-73DF583D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D394-B239-4A22-A0EA-45E3A29B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3D54-BFC6-4475-A608-544F1CC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65E2-1B45-4495-83FB-DE60B385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A8E8-861E-4EF1-8DE8-F8DC8E13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1A12-48B0-4203-A799-D1AFAAD7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CC7-5A94-4DE0-9F71-218028FD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123-9142-43C5-AB8A-42D8FCE3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B21-DAF8-4174-9D1B-ABDA6C2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D60-005B-4401-BB79-FAA185E9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107-6C60-4102-A871-1CEE3ABF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56A-33FF-4680-A4C7-974C76E4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C04-EA5D-443C-B226-F17DE66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50C-E621-45D8-8B95-1A48DE7EB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868C-8F2A-40D5-B191-E477B12BA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photo.xylv.com/uploadimage/2006_6_26/2758picimg20060626095353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iaojia.cn/jingdian/show.asp?id=20157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1547640" y="117360"/>
            <a:ext cx="57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过小孤山大孤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04" name=""/>
          <p:cNvSpPr/>
          <p:nvPr/>
        </p:nvSpPr>
        <p:spPr>
          <a:xfrm>
            <a:off x="6084720" y="2117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0920" y="50068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江州（庐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57261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鄱阳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43280" y="26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安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4000" y="4149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武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35280" y="4494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彭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36000" y="1916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镇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08360" y="24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771280" y="2924280"/>
            <a:ext cx="2592360" cy="2376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936360" cy="1297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395280" y="189000"/>
            <a:ext cx="820728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0000"/>
                </a:solidFill>
                <a:latin typeface="Arial"/>
                <a:ea typeface="华文中宋"/>
              </a:rPr>
              <a:t>抢答：（每组限答一处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0000"/>
                </a:solidFill>
                <a:latin typeface="Arial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fe0000"/>
                </a:solidFill>
                <a:latin typeface="Arial"/>
                <a:ea typeface="华文中宋"/>
              </a:rPr>
              <a:t>本文作为一篇游记，主要内容是写景。阅读全文，找出文章中描写了哪些景物？这些景物有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4" descr="小孤山">
            <a:hlinkClick r:id="rId2"/>
          </p:cNvPr>
          <p:cNvPicPr/>
          <p:nvPr/>
        </p:nvPicPr>
        <p:blipFill>
          <a:blip r:embed="rId3"/>
          <a:srcRect l="0" t="0" r="0" b="18948"/>
          <a:stretch/>
        </p:blipFill>
        <p:spPr>
          <a:xfrm>
            <a:off x="179280" y="2997360"/>
            <a:ext cx="4032360" cy="3500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4716360" y="2997360"/>
            <a:ext cx="4103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0000"/>
                </a:solidFill>
                <a:latin typeface="Arial"/>
              </a:rPr>
              <a:t>文章描写景物运用了哪些手法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妙用</a:t>
            </a: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对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对比，使景物特征更为鲜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从</a:t>
            </a: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多角度写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角度和观察点灵活多变，充分展现了山水景物的千姿百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fe0000"/>
                </a:solidFill>
                <a:latin typeface="Arial"/>
              </a:rPr>
              <a:t>引用诗文典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景物添彩生色，丰富作品内容，增强文化底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451640" y="1341360"/>
            <a:ext cx="15130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4356000" cy="595008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6"/>
          <p:cNvSpPr/>
          <p:nvPr/>
        </p:nvSpPr>
        <p:spPr>
          <a:xfrm>
            <a:off x="4427640" y="2531520"/>
            <a:ext cx="4716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思训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江绝岛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释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山色苍翠，烟水迷茫，大小二孤，矗立江水中央。崖高险绝，猿鸟不度，乔木凌空。有客舟从何处而来？桨声流水间船歌抑扬。沙岸平整，轻风徐来，望客不见，唯浪涌船高，孤山低首，此起彼伏。两山如发髻高耸，正对江水之镜，二美梳弄新妆。舟中商贾，切莫轻狂，小姑前年，已嫁彭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8360" y="2746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3763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隶书"/>
                <a:ea typeface="隶书"/>
              </a:rPr>
              <a:t>创造形象   诗文有别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964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e0000"/>
                </a:solidFill>
                <a:latin typeface="宋体"/>
              </a:rPr>
              <a:t>诗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展现的形象和具体事物间的距离比较大，上下句之间多有跳跃和省略，能让我们的</a:t>
            </a:r>
            <a:r>
              <a:rPr b="1" lang="zh-CN" sz="3200" spc="-1" strike="noStrike">
                <a:solidFill>
                  <a:srgbClr val="fe0000"/>
                </a:solidFill>
                <a:latin typeface="宋体"/>
              </a:rPr>
              <a:t>想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飞得更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e0000"/>
                </a:solidFill>
                <a:latin typeface="宋体"/>
              </a:rPr>
              <a:t>散文描写细致真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给人具体逼真的感受，让人身临其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9640" y="1413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乔：“意喻之米，文喻之炊而为饭， 诗喻之酿而为酒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5076720" y="0"/>
            <a:ext cx="40672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希望同学们选取自己在校园中所见之景，运用本课所学写一段百余字的散文，再试着用几句小诗描绘此景，深入体会“创造形象，诗文有别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620640"/>
            <a:ext cx="85345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、教学目标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通过反复诵读，学习游记写景的方法。 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区分散文与诗歌形象美的不同。 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掌握文中的重要实词、虚词和特殊句式。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 </a:t>
            </a:r>
            <a:br>
              <a:rPr sz="32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教学重难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习游记写景的方法。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-126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405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先和作者一起热热身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游，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一生坚持抗金主张，虽多次遭受投降派的打击，但爱国之志始终不渝，死时还念念不忘国家的统一，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大的爱国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游山西村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柳暗花明又一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书愤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楼船夜雪瓜洲渡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书愤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出师一表真名世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示儿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家祭无忘告乃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57160" cy="9363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059280" y="155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务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718160" y="1557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放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16000" y="299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南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384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71640" y="357336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重水复疑无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03640" y="40766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铁马秋风大散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03640" y="4581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载谁堪伯仲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24000" y="5084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师北定中原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81532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列读音有错的一项（    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俊鹘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禽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án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 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洲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苇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ā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缩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áo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岸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ēng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192720" y="1628640"/>
            <a:ext cx="6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620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复 习 检 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9647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列各项解释有误的一项（   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信造化之尤物   造化：指天地、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；尤物：美好的事物，这里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漂亮的女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杰然特起：高峻雄伟地拔地而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舟中估客莫漫狂。估客：贩货的行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渺弥：形容水势浩淼，广阔无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732000" y="6922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文言句式的角度，选出不同类的一项（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坡先生所谓“舟人指点岸如赪”者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稍饰以楼观亭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自湖口分一支为南江，盖江西路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谓小孤庙有彭郎像，澎浪庙有小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，实不然也。</a:t>
            </a:r>
            <a:br>
              <a:rPr sz="20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8360" y="260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000"/>
                </a:solidFill>
                <a:latin typeface="Arial"/>
              </a:rPr>
              <a:t>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解释下列一词多义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起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峭拔秀丽皆不可与小孤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实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　　　　　　　　　　　　　　　　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碧峰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孤起</a:t>
            </a:r>
            <a:br>
              <a:rPr sz="36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4360" y="4365720"/>
            <a:ext cx="76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的样子  （</a:t>
            </a:r>
            <a:r>
              <a:rPr b="1" lang="en-US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）但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）这样              （</a:t>
            </a:r>
            <a:r>
              <a:rPr b="1" lang="en-US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fe0000"/>
                </a:solidFill>
                <a:latin typeface="Times New Roman"/>
                <a:ea typeface="Times New Roman"/>
              </a:rPr>
              <a:t>的样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42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指出下列词类活用现象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泊沙夹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岸土赤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掠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东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装屏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26920" y="2924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e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）晚：在晚上，名作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e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）壁：象墙壁一样，名作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e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）东南：向东南方，名作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e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e0000"/>
                </a:solidFill>
                <a:latin typeface="Arial"/>
              </a:rPr>
              <a:t>）宝：用宝石，名作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翻译下列句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又有一石，不附山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杰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起，高百余尺，丹藤翠蔓，罗络其上，如宝装屏风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5280" y="328464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愈近愈秀，冬夏晴雨，姿态万变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造化之尤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17938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又有一块巨石，与烽火矶不相连。</a:t>
            </a:r>
            <a:r>
              <a:rPr b="1" lang="zh-CN" sz="2800" spc="-1" strike="noStrike" u="sng">
                <a:solidFill>
                  <a:srgbClr val="fe0000"/>
                </a:solidFill>
                <a:uFillTx/>
                <a:latin typeface="Arial"/>
              </a:rPr>
              <a:t>高峻雄伟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地拔地而起，高一百多尺，有红藤绿蔓分布缠绕在它上面，像宝石镶嵌的屏风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4508640"/>
            <a:ext cx="87138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越近（看）越秀丽，冬天、夏天、晴天、雨天，姿态变化万千，</a:t>
            </a:r>
            <a:r>
              <a:rPr b="1" lang="zh-CN" sz="2800" spc="-1" strike="noStrike" u="sng">
                <a:solidFill>
                  <a:srgbClr val="fe0000"/>
                </a:solidFill>
                <a:uFillTx/>
                <a:latin typeface="Arial"/>
              </a:rPr>
              <a:t>诚然</a:t>
            </a:r>
            <a:r>
              <a:rPr b="1" lang="zh-CN" sz="2800" spc="-1" strike="noStrike">
                <a:solidFill>
                  <a:srgbClr val="fe0000"/>
                </a:solidFill>
                <a:latin typeface="Arial"/>
              </a:rPr>
              <a:t>是自然界风景最优美的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方。</a:t>
            </a:r>
            <a:br>
              <a:rPr sz="2800"/>
            </a:br>
            <a:br>
              <a:rPr sz="20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1T11:56:16Z</dcterms:modified>
  <cp:revision>165</cp:revision>
  <dc:subject/>
  <dc:title>幻灯片 1</dc:title>
</cp:coreProperties>
</file>