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11.jpeg" ContentType="image/jpeg"/>
  <Override PartName="/ppt/media/image8.wmf" ContentType="image/x-wmf"/>
  <Override PartName="/ppt/media/image13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0A90-B33A-488D-9F2F-03FE84DAD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D058-6CF9-4521-B2D1-A98CF3F49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A9EA-F0BC-4ADA-A988-48E16A018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ACF0-B5E8-478C-A652-3AEB30800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AA28-D614-4F04-A7E3-E093B99B8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6D51-E100-4DB1-B559-203B5415C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84A2-451E-451C-818D-3C6135410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CF73-1ABE-42E2-96F7-1A9EABC66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1F7E-931C-4C46-9792-E898D162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462F-6A40-47E4-B4D6-FFBD4986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3724-98FD-4795-AEF2-8B0EC7DA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FBC9-1727-40CB-BAD2-CED4B169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58D28-74F0-4837-936B-54AC750BDB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2705040"/>
            <a:ext cx="9144000" cy="4152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547640" y="404640"/>
            <a:ext cx="6048720" cy="27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隶书"/>
              </a:rPr>
              <a:t>过小孤山大孤山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43" name=""/>
          <p:cNvSpPr/>
          <p:nvPr/>
        </p:nvSpPr>
        <p:spPr>
          <a:xfrm>
            <a:off x="4643280" y="3500280"/>
            <a:ext cx="1800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</a:rPr>
              <a:t>陆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36352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、大孤山（大姑山）：在鄱阳湖上，其状如鞋，俗称鞋山。民间传说此名为玉女大姑在云中落下的绣鞋变化而成，因而又名大姑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0" y="476280"/>
            <a:ext cx="41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564000" y="0"/>
            <a:ext cx="558000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059280" y="476280"/>
            <a:ext cx="2520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课文注音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89388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矶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j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燧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su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窦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dò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潦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lǎ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巉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chá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上干云霄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gā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榭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xi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鹘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h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抟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tuá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蠡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l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葭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ji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赪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chē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湓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pé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汲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j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1"/>
          <p:cNvSpPr/>
          <p:nvPr/>
        </p:nvSpPr>
        <p:spPr>
          <a:xfrm>
            <a:off x="539640" y="765000"/>
            <a:ext cx="820908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词语释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嵌岩窦穴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杰然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戍兵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巉然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造化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尤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发挥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营葺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徙倚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引绳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27"/>
          <p:cNvSpPr/>
          <p:nvPr/>
        </p:nvSpPr>
        <p:spPr>
          <a:xfrm>
            <a:off x="2916360" y="1052640"/>
            <a:ext cx="44640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裂缝的岩石和各式岩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28"/>
          <p:cNvSpPr/>
          <p:nvPr/>
        </p:nvSpPr>
        <p:spPr>
          <a:xfrm>
            <a:off x="755640" y="1628640"/>
            <a:ext cx="50403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嵌，形容山石如张口的样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29"/>
          <p:cNvSpPr/>
          <p:nvPr/>
        </p:nvSpPr>
        <p:spPr>
          <a:xfrm>
            <a:off x="2124000" y="2060640"/>
            <a:ext cx="33321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形容高大的样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30"/>
          <p:cNvSpPr/>
          <p:nvPr/>
        </p:nvSpPr>
        <p:spPr>
          <a:xfrm>
            <a:off x="3119040" y="2421000"/>
            <a:ext cx="35748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防守的士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31"/>
          <p:cNvSpPr/>
          <p:nvPr/>
        </p:nvSpPr>
        <p:spPr>
          <a:xfrm>
            <a:off x="2124000" y="2833560"/>
            <a:ext cx="40356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高耸险峻的样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32"/>
          <p:cNvSpPr/>
          <p:nvPr/>
        </p:nvSpPr>
        <p:spPr>
          <a:xfrm>
            <a:off x="2124000" y="3284640"/>
            <a:ext cx="43196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这里指天地、自然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33"/>
          <p:cNvSpPr/>
          <p:nvPr/>
        </p:nvSpPr>
        <p:spPr>
          <a:xfrm>
            <a:off x="1979640" y="3716280"/>
            <a:ext cx="676908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指特异之物，这里指风景最优美的地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34"/>
          <p:cNvSpPr/>
          <p:nvPr/>
        </p:nvSpPr>
        <p:spPr>
          <a:xfrm>
            <a:off x="2535840" y="4149720"/>
            <a:ext cx="35748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辉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35"/>
          <p:cNvSpPr/>
          <p:nvPr/>
        </p:nvSpPr>
        <p:spPr>
          <a:xfrm>
            <a:off x="2939040" y="4581360"/>
            <a:ext cx="35748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建造修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36"/>
          <p:cNvSpPr/>
          <p:nvPr/>
        </p:nvSpPr>
        <p:spPr>
          <a:xfrm>
            <a:off x="3119040" y="5013360"/>
            <a:ext cx="35748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徘徊不忍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37"/>
          <p:cNvSpPr/>
          <p:nvPr/>
        </p:nvSpPr>
        <p:spPr>
          <a:xfrm>
            <a:off x="2050920" y="5425920"/>
            <a:ext cx="61153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拉直一条绳子，比喻界限分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Object 2"/>
          <p:cNvGraphicFramePr/>
          <p:nvPr/>
        </p:nvGraphicFramePr>
        <p:xfrm>
          <a:off x="176040" y="255600"/>
          <a:ext cx="8967960" cy="589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040" y="255600"/>
                    <a:ext cx="8967960" cy="58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TextBox 17"/>
          <p:cNvSpPr/>
          <p:nvPr/>
        </p:nvSpPr>
        <p:spPr>
          <a:xfrm>
            <a:off x="5364000" y="836640"/>
            <a:ext cx="26640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隶属，归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8"/>
          <p:cNvSpPr/>
          <p:nvPr/>
        </p:nvSpPr>
        <p:spPr>
          <a:xfrm>
            <a:off x="4716360" y="1557360"/>
            <a:ext cx="30956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通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嘱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嘱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9"/>
          <p:cNvSpPr/>
          <p:nvPr/>
        </p:nvSpPr>
        <p:spPr>
          <a:xfrm>
            <a:off x="7236000" y="2276640"/>
            <a:ext cx="13683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跟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0"/>
          <p:cNvSpPr/>
          <p:nvPr/>
        </p:nvSpPr>
        <p:spPr>
          <a:xfrm>
            <a:off x="4788000" y="3429000"/>
            <a:ext cx="30956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应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1"/>
          <p:cNvSpPr/>
          <p:nvPr/>
        </p:nvSpPr>
        <p:spPr>
          <a:xfrm>
            <a:off x="5724360" y="4076640"/>
            <a:ext cx="26640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占着，把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2"/>
          <p:cNvSpPr/>
          <p:nvPr/>
        </p:nvSpPr>
        <p:spPr>
          <a:xfrm>
            <a:off x="4859280" y="4797360"/>
            <a:ext cx="26640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对着，面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Object 2"/>
          <p:cNvGraphicFramePr/>
          <p:nvPr/>
        </p:nvGraphicFramePr>
        <p:xfrm>
          <a:off x="0" y="0"/>
          <a:ext cx="8893080" cy="702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893080" cy="70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TextBox 20"/>
          <p:cNvSpPr/>
          <p:nvPr/>
        </p:nvSpPr>
        <p:spPr>
          <a:xfrm>
            <a:off x="6012000" y="189000"/>
            <a:ext cx="27367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副词，幸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1"/>
          <p:cNvSpPr/>
          <p:nvPr/>
        </p:nvSpPr>
        <p:spPr>
          <a:xfrm>
            <a:off x="3851280" y="907920"/>
            <a:ext cx="27352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副词，希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2"/>
          <p:cNvSpPr/>
          <p:nvPr/>
        </p:nvSpPr>
        <p:spPr>
          <a:xfrm>
            <a:off x="3851280" y="1916280"/>
            <a:ext cx="27352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动词，宠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3"/>
          <p:cNvSpPr/>
          <p:nvPr/>
        </p:nvSpPr>
        <p:spPr>
          <a:xfrm>
            <a:off x="4572000" y="3573360"/>
            <a:ext cx="3097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副词，确实，诚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4"/>
          <p:cNvSpPr/>
          <p:nvPr/>
        </p:nvSpPr>
        <p:spPr>
          <a:xfrm>
            <a:off x="5292720" y="4437000"/>
            <a:ext cx="3095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形容词，言语真实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5"/>
          <p:cNvSpPr/>
          <p:nvPr/>
        </p:nvSpPr>
        <p:spPr>
          <a:xfrm>
            <a:off x="4572000" y="5373720"/>
            <a:ext cx="3960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动词，通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伸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”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伸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Object 2"/>
          <p:cNvGraphicFramePr/>
          <p:nvPr/>
        </p:nvGraphicFramePr>
        <p:xfrm>
          <a:off x="250920" y="189000"/>
          <a:ext cx="9866160" cy="640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89000"/>
                    <a:ext cx="9866160" cy="64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TextBox 17"/>
          <p:cNvSpPr/>
          <p:nvPr/>
        </p:nvSpPr>
        <p:spPr>
          <a:xfrm>
            <a:off x="3059280" y="692280"/>
            <a:ext cx="46083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形容词作动词，尽情欣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8"/>
          <p:cNvSpPr/>
          <p:nvPr/>
        </p:nvSpPr>
        <p:spPr>
          <a:xfrm>
            <a:off x="4356000" y="1413000"/>
            <a:ext cx="39261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名词作状语，向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9"/>
          <p:cNvSpPr/>
          <p:nvPr/>
        </p:nvSpPr>
        <p:spPr>
          <a:xfrm>
            <a:off x="684360" y="2852640"/>
            <a:ext cx="39240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形容词作名词，妙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0"/>
          <p:cNvSpPr/>
          <p:nvPr/>
        </p:nvSpPr>
        <p:spPr>
          <a:xfrm>
            <a:off x="3492360" y="3284640"/>
            <a:ext cx="39243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名词作状语，像墙一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1"/>
          <p:cNvSpPr/>
          <p:nvPr/>
        </p:nvSpPr>
        <p:spPr>
          <a:xfrm>
            <a:off x="1692360" y="5229360"/>
            <a:ext cx="39243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高耸的样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9036000" cy="67420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当堂练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与其他三句不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句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一项（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东坡先生所谓“舟人指点岸如赪”者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若稍饰以楼观亭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江自湖口分一支为南江，盖江西路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因谓小孤庙有彭郎像，澎浪庙有小姑像，实不然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237440" y="141300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9036000" cy="67420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211640" y="1844640"/>
            <a:ext cx="3313080" cy="460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当堂练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-360" y="981000"/>
            <a:ext cx="30970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解释下列一词多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杰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特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峭拔秀丽皆不可与小孤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实不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碧峰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孤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82120" y="2421000"/>
            <a:ext cx="170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的样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84360" y="335772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然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89600" y="3860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这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03480" y="5594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17040" y="4941720"/>
            <a:ext cx="170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的样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11640" y="1844640"/>
            <a:ext cx="35272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钟磬置水中，虽大风浪不能鸣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复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艇游庙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若稍饰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楼观亭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夫夷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近，则游者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物喜，不以己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01080" y="2349360"/>
            <a:ext cx="81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24720" y="335772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用，乘，介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885080" y="3789360"/>
            <a:ext cx="95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820280" y="4437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而，并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050680" y="5229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因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9036000" cy="67420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50920" y="189000"/>
            <a:ext cx="489744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突兀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徙倚久之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岸土赤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壁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青，取之于蓝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青于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母立于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488560" y="5493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助词，无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6720" y="1197000"/>
            <a:ext cx="74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580000" y="177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并列连词，不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086800" y="2349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224680" y="2924280"/>
            <a:ext cx="137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尔”，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3715920"/>
            <a:ext cx="6012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指出下列词类活用现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泊沙夹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岸土赤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掠江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东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去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干云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58800" y="42926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名词作状语，当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76240" y="494172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名词作状语，像墙壁一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167800" y="551664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名词作状语，往东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85720" y="609300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名词作状语，向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50920" y="836640"/>
            <a:ext cx="85690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、八月一日，过烽火矶。南朝自武昌至京口，列置烽燧，此山当是其一也。自舟中望山，突兀而已。及抛江过其下，嵌岩窦穴，怪奇万状，色泽莹润，亦与它石迥异。又有一石，不附山，杰然特起，高百余尺，丹藤翠蔓，罗络其上，如宝装屏风。是日风静，舟行颇迟，又秋深潦缩，故得尽见杜老所谓“幸有舟楫迟，得尽所历妙”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59280" y="0"/>
            <a:ext cx="252072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阅读课文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4149720"/>
            <a:ext cx="8353440" cy="873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幸有舟楫迟，得尽所历妙”是杜甫晚年从四川沿长江而下入洞庭湖，又顺湘江南下到湘潭作的《次空灵岸》中的诗句，诗中叙述了空灵岸（空灵滩，在湘潭一带）的自然风光，抒发了自己愿长期居住在此，吟诗作歌以度晚年的心意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635280" y="40464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一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68360" y="140328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陆母生陆游时，梦见秦观，秦观，字少游，于是陆母给儿子取名陆游，字务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57004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陆游出生的那一年，金兵进攻汴梁（开封）。徽宗慌忙让位，让太子赵恒做了皇帝，是为宋钦宗，改元靖康。不久“靖康之耻”发生，汴梁被金兵攻破，徽钦二宗都成了金人俘虏。这是不是陆游命中注定，他的一生将以抗金为己任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48000" y="3398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陆游出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79280" y="0"/>
            <a:ext cx="885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八月一日，（船）经过烽火矶。南朝以来，从武昌（今鄂城）到京口，都设置了很多（报警的）烽火台，这座山应该是其中之一。从船上看山，只是见到高耸的山峰罢了。等到抛锚停船后，（我）走过山下，（看到）岩石镶嵌在洞穴里，奇形怪状，色彩光亮润泽，也和别的石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30200" y="3048480"/>
            <a:ext cx="846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头不大一样。又有一块巨石，与烽火矶不相连。高峻雄伟地拔地而起，高约一百多尺，有红藤绿蔓蒙络在它上面，象宝石镶嵌的屏风。这一天，风平浪静，船走得很慢，又因为深秋，江水较浅，所以能看到这里的一切美景，（正象）杜甫所说的“幸有舟楫迟，得迟所历妙”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PMingLiU"/>
              </a:rPr>
              <a:t>内容讲解：第一段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PMingLiU"/>
              </a:rPr>
              <a:t>问题一：本段写何处之景？作者给我们介绍烽火矶戍守情况有何作用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PMingLiU"/>
              </a:rPr>
              <a:t>烽火矶；丰富了作品的内容，使写景记游具有思想深度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PMingLiU"/>
              </a:rPr>
              <a:t>勾画出本段写景的句子，突出烽火矶怎样的特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PMingLiU"/>
              </a:rPr>
              <a:t>高峻、怪奇等特点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24720" y="2509920"/>
            <a:ext cx="35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PMingLiU"/>
              </a:rPr>
              <a:t>本段写景采用怎样的顺序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71640" y="3105000"/>
            <a:ext cx="76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PMingLiU"/>
              </a:rPr>
              <a:t>先写远视可见，只不过觉得烽火矶“突兀”罢了，除此之外别无佳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PMingLiU"/>
              </a:rPr>
              <a:t>再写近观，近观之景则异彩纷呈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9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PMingLiU"/>
              </a:rPr>
              <a:t>这种远近对比的写法有何作用？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PMingLiU"/>
              </a:rPr>
              <a:t>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PMingLiU"/>
              </a:rPr>
              <a:t>不仅使人的认识一步步真正认识到烽火矶的佳妙之处，而且能收到曲径通幽的艺术表达效果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24000" y="549360"/>
            <a:ext cx="85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过澎浪矶、小孤山，二山东西相望。小孤属舒州宿松县，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兵。凡江中独山，如金山、焦山、落星之类，皆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天下，然峭拔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黑体"/>
              </a:rPr>
              <a:t>秀丽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皆不可与小孤比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自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数十里外望之，碧峰巉然孤起，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干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云霄，已非它山可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，愈近愈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黑体"/>
              </a:rPr>
              <a:t>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，冬夏晴雨，姿态万变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造化之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尤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也。但祠宇极于荒残，若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Arial"/>
                <a:ea typeface="黑体"/>
              </a:rPr>
              <a:t>稍饰以楼观亭榭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，与江山相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发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，自当高出金山之上矣。庙在山之西麓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曰“惠济”，神曰“安济夫人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72440" y="-3240"/>
            <a:ext cx="11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PMingLiU"/>
              </a:rPr>
              <a:t>第二段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627280" y="-268200"/>
            <a:ext cx="4608720" cy="71262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7737840" y="1125360"/>
            <a:ext cx="1155240" cy="1366920"/>
          </a:xfrm>
          <a:prstGeom prst="rect">
            <a:avLst/>
          </a:prstGeom>
          <a:solidFill>
            <a:srgbClr val="fafd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小孤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08000" y="174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经过澎浪矶、小孤山，这两座山东西相望。 小孤山属于舒州宿松县，山有兵戍守着。所有江中的独山，如金山、焦山、落星山之类，都是名闻天下的，但从峭拔秀丽上看，都不能和小孤山相比。从几十里外看去，小孤山碧绿的山峰高高耸立着，直插云霄，已经不是别的山可以相比的了。越近（看）越秀丽，冬天，夏天，晴天，雨天，姿态变化万千，确实是自然界风景最优美的地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79280" y="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只是（山上的）庙宇太荒凉残破了，如果再增加些楼台亭榭，与山光水色互相辉映，自然会比金山更漂亮了。庙在西边山脚下，匾额上写着“惠济”二字，（里面供奉的）神叫“安济夫人”。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②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绍兴初年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魏国公张浚从湖南回来，曾经修缮过，有座碑记载了这件事。又有另一座庙在澎浪矶，在江州彭泽县境内，三面临着长江，山的倒影映在水中，也是一处名山胜景。船过澎浪矶，即使无风，浪也很大，澎浪矶大概因此而得名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24000" y="0"/>
            <a:ext cx="8569080" cy="2653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              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惠济庙和安济夫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惠济庙，始建于唐代，叫“启秀寺”，很狭小，内朔一男形神象，姓氏不详，也无从考记。庙在盛唐后，日见荒芜。晚唐时，几经战乱，寺庙一度破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北宋时期，庙重建。改名“惠济寺”，始祀海神妈祖，即现在所称的小姑娘娘。据《清一统志》称：“（妈祖）天后，宋莆田林愿第六女，始生有祥光异香，长能乘法席渡海，乘云游岛屿间，升化后常飞翻海上，专司救助海难。宋、元、明、清时，累著灵迹。” 故宋代在此立庙祀之，并对女神一再加封，给她以“助顺安济广济惠济夫人”的称号。如此一来，由马祖变成了妈祖，像由男形变成女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南宋绍兴初，魏国公张俊从湖湘还，曾对小孤山寺庙加以修葺，扩建为六重，规模宏敞。庙前额曰“惠济”，神号“安济夫人”，并有碑载其事。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924360" y="333360"/>
            <a:ext cx="45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陆游一手持剑，一手执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5724000" y="907920"/>
            <a:ext cx="71640" cy="4334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219640" y="126828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抗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524720" y="836640"/>
            <a:ext cx="0" cy="936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170028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作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59280" y="2421000"/>
            <a:ext cx="3097440" cy="37288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衣上征尘杂酒痕，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远游无处不消魂。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此身合是诗人未？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雨骑驴入剑门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《剑门道中遇微雨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399240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95280" y="404640"/>
            <a:ext cx="85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绍兴初，张魏公自湖湘还，尝加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营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，有碑载其事。又有别祠在澎浪矶，属江州彭泽县，三面临江，倒影水中，亦占一山之胜。舟过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黑体"/>
              </a:rPr>
              <a:t>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，虽无风，亦浪涌，盖以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黑体"/>
              </a:rPr>
              <a:t>此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得名也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PMingLiU"/>
              </a:rPr>
              <a:t>问题一：交代小孤山有戍兵把守，说明了什么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PMingLiU"/>
              </a:rPr>
              <a:t>小孤山也是江防要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11280" y="2276640"/>
            <a:ext cx="813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PMingLiU"/>
              </a:rPr>
              <a:t>问题二：勾画本段景色描写的语句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PMingLiU"/>
              </a:rPr>
              <a:t>说说本段作者给我们描绘了哪一水段之景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PMingLiU"/>
              </a:rPr>
              <a:t>描写的重点对象是什么？突出了各自什么特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24000" y="1133640"/>
            <a:ext cx="8820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PMingLiU"/>
              </a:rPr>
              <a:t>（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  <a:ea typeface="PMingLiU"/>
              </a:rPr>
              <a:t>1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PMingLiU"/>
              </a:rPr>
              <a:t>）烽火矶至沙夹衣段所见；（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  <a:ea typeface="PMingLiU"/>
              </a:rPr>
              <a:t>2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PMingLiU"/>
              </a:rPr>
              <a:t>）小孤山和澎浪矶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PMingLiU"/>
              </a:rPr>
              <a:t>（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  <a:ea typeface="PMingLiU"/>
              </a:rPr>
              <a:t>3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PMingLiU"/>
              </a:rPr>
              <a:t>）小孤山峭拔秀丽，澎浪矶浪大等特点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PMingLiU"/>
              </a:rPr>
              <a:t>问题三：文章是怎样表现小孤山峭拔秀丽这一特点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PMingLiU"/>
              </a:rPr>
              <a:t>运用对比手法。将金山、焦山、落星山这些天下名山与小孤山对比，突出小孤山峭拔秀丽这一特点；又用它山与小孤山对比，突出小孤山巉然孤起这一特点；用山上有楼观亭榭的金山与小孤山庙宇的荒凉、残破对比，衬托小孤山的庙宇荒凉残破，更是为了说明小孤山若是以“楼观亭榭”稍加装饰，则会“高出金山上矣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2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PMingLiU"/>
              </a:rPr>
              <a:t>问题四：写小孤山峭拔秀丽这一特点，采用的是什么写景顺序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PMingLiU"/>
              </a:rPr>
              <a:t>由远及近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28" dur="2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411280" y="40464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烽火矶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PK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澎浪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1280" y="126828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烽火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4360" y="3357720"/>
            <a:ext cx="18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澎浪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050920" y="177336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突兀，嵌岩窦穴，怪奇万状，色泽莹润；又有一石，不附山，杰然特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24000" y="407664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面临江，倒影水中，虽无风，亦浪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556000" y="33336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小孤山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PK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金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9640" y="141300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小孤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12720" y="3500280"/>
            <a:ext cx="35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金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8000" y="191628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峭拔秀丽，碧峰巉然孤起，上干云霄，冬夏晴雨，姿态万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835280" y="4076640"/>
            <a:ext cx="69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祠宇楼观亭榭雄伟众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68920" cy="6858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716360" y="0"/>
            <a:ext cx="442764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995640" y="6234120"/>
            <a:ext cx="1440000" cy="581400"/>
          </a:xfrm>
          <a:prstGeom prst="rect">
            <a:avLst/>
          </a:prstGeom>
          <a:solidFill>
            <a:srgbClr val="fafd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烽火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-33480"/>
            <a:ext cx="7848720" cy="68914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7520400" y="1052640"/>
            <a:ext cx="1155240" cy="1296720"/>
          </a:xfrm>
          <a:prstGeom prst="rect">
            <a:avLst/>
          </a:prstGeom>
          <a:solidFill>
            <a:srgbClr val="fafd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澎浪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50920" y="26028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昔人诗有“舟中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估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莫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漫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小姑前年嫁彭郎”之句，传者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谓小孤庙有彭郎像，澎浪庙有小姑像，实不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也。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晚泊沙夹，距小孤一里。微雨，复以小艇游庙中，南望彭泽、都昌诸山，烟雨空濛，鸥鹭灭没，极登临之胜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徙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久之而归。方立庙门，有俊鹘抟水禽，掠江东南去，甚可壮也。庙祝云，山有栖鹘甚多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50920" y="3881520"/>
            <a:ext cx="8496360" cy="520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苏轼《李思训画长江绝岛图》：山苍苍，水茫茫，大孤小孤江中央。崖崩路绝猿鸟去，惟有乔木搀天长。客舟何处来？棹歌中流声抑扬。沙平风软望不到，孤山久与船低昂。峨峨两烟鬟，晓镜开新妆。舟中估客莫漫狂，小姑前年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已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嫁彭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0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629320" y="981000"/>
            <a:ext cx="3514680" cy="5877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619280" y="3398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陆游与梅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1125360"/>
            <a:ext cx="525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陆游号放翁，一生酷爱梅花，咏梅之诗多至百余首，且认为只有节义之士，脱俗之笔才配得上题咏梅花。他在《梅花绝句十首》中说到：子欲作梅诗，当造幽绝境。笔端有纤尘，只恐梅未肯。陆游爱梅之甚，到了痴迷的程度，竟盼望能分身而遍赏天下之梅：何方可化身千亿，一树梅花一放翁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914560" y="189000"/>
            <a:ext cx="30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今日小孤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4000" y="692280"/>
            <a:ext cx="8351640" cy="29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游小孤山诗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小孤山是江西、湖北、安徽交界处长江中流的孤立小山。长江上来往经过的商人、官员、文人雅士数不胜数。留下很多关于小孤山的诗词、笔记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小孤山属安徽宿松县，……终于看到小孤山，真是大失所望。由于长江河床的改变，小孤山已经不再是江上孤山，而是和长江北岸相连了。远望山上的建筑，体积庞大，形体单调，显然是现代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塞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上去的，和秀美的小孤山迥不相称，大煞风景，罪过！罪过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79280" y="0"/>
            <a:ext cx="896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小孤山与对岸澎浪矶隔江相望，在传说中就将小孤讹为“小姑”，澎浪讹为“彭郎”。所以有“舟中估客莫漫狂，小姑前年嫁彭郎”的民谣。但是现在的小孤山，却无法使人联想到俏丽的小姑。我觉得这山更像是一位不堪重负的老妇，独坐江边，无奈而惆怅。于是口占一绝，聊抒感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访古寻幽探小姑，风光已与昔年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江山改易红颜老，烟雨迷蒙闻鹧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由于道路难行，到达小姑山下已经暮色苍茫，迫不及待地仰观山景，远望江天。不知不觉已经是晚上了。附近没有可住宿的地方。距离最近的城镇，是对岸江西的彭泽县，但是晚上已经没有渡船了。没有办法只好往回走，到十公里外的复兴镇住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95280" y="404640"/>
            <a:ext cx="8353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第二天早上起来，又走十公里烂泥路回到小孤山下，登山游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登山方知此行不虚。攀爬上山，江南江北美景如画。山势陡峭高耸，灵秀多姿。使我这爬惯了高层建筑脚手架的老工匠也觉得腿肚颤抖，背脊发凉。切实体验到江天一色，身在虚空的感觉。这可是很多名山所难以体验到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24000" y="54936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二日早，行未二十里，忽风云腾涌，急系缆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复开霁，遂行。泛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彭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口，四望无际，乃知太白“开帆入天镜”之句为妙。始见庐山及大孤。大孤状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类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西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虽不可拟小姑之秀丽，然小孤之旁，颇有沙洲葭苇，大孤则四际渺弥皆大江，望之如浮水面，亦一奇也。江自湖口分一支为南江，盖江西路也。江水浑浊，每汲用，皆以杏仁澄之，过夕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饮。南江则极清澈，合处如引绳，不相乱。晚抵江州。州治德化县，即唐之浔阳县，柴桑、栗里，皆其地也；南唐为奉化军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节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今为定江军。岸上赤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立，东坡先生所谓“舟人指点岸如赪”者也。泊湓浦，水亦甚清，不与江水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5280" y="566100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七月二十六日至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首尾才六日，其间一日阻风不行，实以四日半溯流行七百里云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95640" y="1890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第三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7596360" y="6278400"/>
            <a:ext cx="1512720" cy="581400"/>
          </a:xfrm>
          <a:prstGeom prst="rect">
            <a:avLst/>
          </a:prstGeom>
          <a:solidFill>
            <a:srgbClr val="fafd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大孤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735120" y="1562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2482200"/>
            <a:ext cx="914400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古人有诗：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舟中估客莫漫狂，小姑前年嫁彭郎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。”传说的人说小孤山的庙里有彭郎像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澎浪矶庙里有小姑像，其实并不是这样的。这天晚上，（我的船）就停在沙夹，距小孤山大约一里远。天下着雨，（我）又乘小艇到小孤山的庙中浏览。向南远望，彭泽、都昌一带山峦，烟雨迷茫，沙鸥和白鹭时隐时现。登山临水浏览名胜可算登峰造极了，徘徊了很长时间才回去。刚到庙门口站着，有一只健美的老鹰正在追逐水鸟，掠过江面东南方向飞去，非常壮观。守庙的人说，山上栖息着很多老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24000" y="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第二天早晨，（船）行不到二十里，忽然风起云涌，（于是）急忙系上揽绳。不一会儿，天又转晴，（船又）继续前行。泛舟到彭蠡口，四面望去，没有边际，这时我才领会李白“开帆入天镜”这句诗的妙处。这时才看到庐山和大孤山。大孤山的样子象西梁山，虽然比不上小孤山那样秀丽，但是小孤山的旁边，很有几块沙洲和初生的芦苇；大孤山的四周却是茫茫无际的江水，远望它象浮在水面上一样，也是一种奇观呀！长江从湖口分出一支成为南江，是江西路一带水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这一段）长江的水很浑浊，每逢要汲用江水时，都需用杏仁来澄清，过一个晚上才能喝。南江的水却很清，两江的水合流处象用绳尺划分过一样，不相混淆。晚上到达江州，州府设在德化县，就是唐代的浔阳县。柴桑、栗里，都属于江州地面；南唐时由奉化军管辖，现在是定江军。岸上的土是红色的，象墙一样起直立着，东坡先生所说的“舟人指点岸如赪”，说的就是这个。（船）停泊在湓浦口，水也是很清的，不和江水相混。从七月二十六日到今天，前后才六天，其中有一天因为风阻（船）不能行，实际用了四天半的时间，逆水而上，航行了七百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484360" y="189000"/>
            <a:ext cx="38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小孤山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PK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大孤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95280" y="148428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小孤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8360" y="342900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大孤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692360" y="2060640"/>
            <a:ext cx="56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秀丽，旁边有沙洲葭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763640" y="4076640"/>
            <a:ext cx="53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四周渺弥皆大江，望之如浮水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PMingLiU"/>
              </a:rPr>
              <a:t>问题一：引用李白的诗句是为了说明什么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PMingLiU"/>
              </a:rPr>
              <a:t>彭蠡口江面的宽阔，四望无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358080" y="2414520"/>
            <a:ext cx="21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PMingLiU"/>
              </a:rPr>
              <a:t>该段写景是写哪一路段的景致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PMingLiU"/>
              </a:rPr>
              <a:t>重点落在哪里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928240" y="3687840"/>
            <a:ext cx="326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PMingLiU"/>
              </a:rPr>
              <a:t>彭蠡口到湓浦口的沿途所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PMingLiU"/>
              </a:rPr>
              <a:t>重点写大孤山的景色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PMingLiU"/>
              </a:rPr>
              <a:t>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348000" y="3398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陆游名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《游山西村》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山重水复疑无路，柳暗花明又一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《书愤》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楼船夜雪瓜洲渡，铁马秋风大散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《书愤》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出师一表真名世，千载谁堪伯仲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《病起书怀》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位卑未敢忘忧国，事定犹须待阖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《临安春雨初霁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小楼一夜听春雨，深巷明朝卖杏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《算子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·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咏梅》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零落成泥碾作尘，只有香如故。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《冬夜读书示子聿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纸上得来终觉浅，绝知此事要躬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《示儿》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王师北定中原日，家祭无忘告乃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PMingLiU"/>
              </a:rPr>
              <a:t>问题三：那么大孤山的景色突出的特点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63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PMingLiU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344680" y="2276640"/>
            <a:ext cx="42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PMingLiU"/>
              </a:rPr>
              <a:t>作者是怎样表现大孤山这一特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72880" y="3022560"/>
            <a:ext cx="833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PMingLiU"/>
              </a:rPr>
              <a:t>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PMingLiU"/>
              </a:rPr>
              <a:t>先用西梁山类比，使人通过西梁山能想象到大孤山的形状，然后与小孤山想对比，从而突出各自特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84360" y="1628640"/>
            <a:ext cx="7632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PMingLiU"/>
              </a:rPr>
              <a:t>望之如浮水面，江水清浊分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1"/>
          <p:cNvSpPr/>
          <p:nvPr/>
        </p:nvSpPr>
        <p:spPr>
          <a:xfrm>
            <a:off x="179280" y="0"/>
            <a:ext cx="78487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整体感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7" descr="4-1.tif"/>
          <p:cNvPicPr/>
          <p:nvPr/>
        </p:nvPicPr>
        <p:blipFill>
          <a:blip r:embed="rId1"/>
          <a:stretch/>
        </p:blipFill>
        <p:spPr>
          <a:xfrm>
            <a:off x="299880" y="549360"/>
            <a:ext cx="8734680" cy="594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36960" y="476280"/>
            <a:ext cx="145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PMingLiU"/>
              </a:rPr>
              <a:t>探究赏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00000" y="1628640"/>
            <a:ext cx="75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PMingLiU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PMingLiU"/>
              </a:rPr>
              <a:t>本文作为一篇游记，主要内容有哪些？其主旨是什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PMingLiU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9036000" cy="674208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700000" y="836280"/>
            <a:ext cx="397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理清作者的行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过烽火矶→过彭浪矶、小孤山→遂行泛彭蠡口→始见庐山及大孤山→晚抵江州，泊湓浦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71640" y="429264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阅读全文，找出文章中描写了哪些景物以及景物的特点？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68360" y="54936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写作特点（一）：线索明了，形散神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1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9036000" cy="67420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0" y="148428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烽火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2781360"/>
            <a:ext cx="18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澎浪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47640" y="148428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突兀，嵌岩窦穴，怪奇万状，色泽莹润；又有一石，不附山，杰然特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440000" y="285264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面临江，倒影水中，虽无风，亦浪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0"/>
            <a:ext cx="8820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本文写了烽火矶、小孤山、澎浪矶和大孤山这四个景点，各有什么特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3860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小孤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763640" y="378936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峭拔秀丽，碧峰巉然孤起，上干云霄，冬夏晴雨，姿态万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2360" y="4941720"/>
            <a:ext cx="64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四际渺弥皆大江，望之如浮水面。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7680" y="49417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大孤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9" dur="2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0"/>
            <a:ext cx="8893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主要内容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（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黑体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）记过烽火矶的所见，突出山之“怪奇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（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黑体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）写过澎浪矶、小孤山所见之景，突出“峭拔秀丽”，且移步换景，由远及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  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（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黑体"/>
              </a:rPr>
              <a:t>3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）记八月二日所见之景，突出大孤山之奇望之如浮水面，江水清浊分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 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（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黑体"/>
              </a:rPr>
              <a:t>4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）结尾处交代六日行程，显现日记体之特色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468360" y="620640"/>
            <a:ext cx="842472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PMingLiU"/>
              </a:rPr>
              <a:t>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PMingLiU"/>
              </a:rPr>
              <a:t>主题思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PMingLiU"/>
              </a:rPr>
              <a:t>  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PMingLiU"/>
              </a:rPr>
              <a:t>本文通过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PMingLiU"/>
              </a:rPr>
              <a:t>作者赴任夔州通判途中沿江溯流而上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PMingLiU"/>
              </a:rPr>
              <a:t>描写所见的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PMingLiU"/>
              </a:rPr>
              <a:t>山川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PMingLiU"/>
              </a:rPr>
              <a:t>景物特色，表达了热爱祖国大好河山的感情，也流露出作者的爱国忠君之情。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PMingLiU"/>
              </a:rPr>
              <a:t>也表达了作者对收复失地志在抗金的历史感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9036000" cy="67420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0" y="0"/>
            <a:ext cx="8820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散文的最大特色是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“形散神聚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。本文所写的烽火矶、小孤山、澎浪矶和大孤山是四个独立的景点，各有各的特点，但它们在陆游笔下，又钩成了一个整体。陆游是如何把它们组成整体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1280" y="227664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用“游踪”（船由长江下游上行）为线索，把四个景点贯穿在一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11280" y="342900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用各景点的共同特点把四个景点联系起来（水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39640" y="450864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注意景点之间的联系和配合（澎浪矶和小孤山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8360" y="558972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运用对比手法把景点结合在一起（大孤山和小孤山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Box 1"/>
          <p:cNvSpPr/>
          <p:nvPr/>
        </p:nvSpPr>
        <p:spPr>
          <a:xfrm>
            <a:off x="179280" y="189000"/>
            <a:ext cx="8729640" cy="40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Courier New"/>
              </a:rPr>
              <a:t>写作特点（二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你认为本文景物描写有何特点？谈谈你的看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zh-CN" sz="33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在写景的过程中，作者善于改变</a:t>
            </a:r>
            <a:r>
              <a:rPr b="1" lang="zh-CN" sz="33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观察角度和观察点</a:t>
            </a:r>
            <a:r>
              <a:rPr b="1" lang="zh-CN" sz="33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来进行描绘，将一幅幅立体可感的图画展现在读者面前。如写烽火矶时，有</a:t>
            </a:r>
            <a:r>
              <a:rPr b="1" lang="zh-CN" sz="3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舟中的远望</a:t>
            </a:r>
            <a:r>
              <a:rPr b="1" lang="zh-CN" sz="33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，有抛江过其下的</a:t>
            </a:r>
            <a:r>
              <a:rPr b="1" lang="zh-CN" sz="3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近观</a:t>
            </a:r>
            <a:r>
              <a:rPr b="1" lang="zh-CN" sz="33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，又有一石</a:t>
            </a:r>
            <a:r>
              <a:rPr b="1" lang="en-US" sz="3300" spc="-1" strike="noStrike">
                <a:solidFill>
                  <a:srgbClr val="0000cc"/>
                </a:solidFill>
                <a:latin typeface="宋体"/>
                <a:ea typeface="Times New Roman"/>
              </a:rPr>
              <a:t>“</a:t>
            </a:r>
            <a:r>
              <a:rPr b="1" lang="zh-CN" sz="3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杰然特起</a:t>
            </a:r>
            <a:r>
              <a:rPr b="1" lang="en-US" sz="3300" spc="-1" strike="noStrike">
                <a:solidFill>
                  <a:srgbClr val="0000cc"/>
                </a:solidFill>
                <a:latin typeface="宋体"/>
                <a:ea typeface="Times New Roman"/>
              </a:rPr>
              <a:t>”</a:t>
            </a:r>
            <a:r>
              <a:rPr b="1" lang="zh-CN" sz="33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的特定镜头。写小孤山亦有</a:t>
            </a:r>
            <a:r>
              <a:rPr b="1" lang="en-US" sz="3300" spc="-1" strike="noStrike">
                <a:solidFill>
                  <a:srgbClr val="0000cc"/>
                </a:solidFill>
                <a:latin typeface="宋体"/>
                <a:ea typeface="Times New Roman"/>
              </a:rPr>
              <a:t>“</a:t>
            </a:r>
            <a:r>
              <a:rPr b="1" lang="zh-CN" sz="33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自数十里外望之</a:t>
            </a:r>
            <a:r>
              <a:rPr b="1" lang="en-US" sz="3300" spc="-1" strike="noStrike">
                <a:solidFill>
                  <a:srgbClr val="0000cc"/>
                </a:solidFill>
                <a:latin typeface="宋体"/>
                <a:ea typeface="Times New Roman"/>
              </a:rPr>
              <a:t>”</a:t>
            </a:r>
            <a:r>
              <a:rPr b="1" lang="zh-CN" sz="33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的</a:t>
            </a:r>
            <a:r>
              <a:rPr b="1" lang="zh-CN" sz="3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远望</a:t>
            </a:r>
            <a:r>
              <a:rPr b="1" lang="zh-CN" sz="33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，</a:t>
            </a:r>
            <a:r>
              <a:rPr b="1" lang="en-US" sz="3300" spc="-1" strike="noStrike">
                <a:solidFill>
                  <a:srgbClr val="0000cc"/>
                </a:solidFill>
                <a:latin typeface="宋体"/>
                <a:ea typeface="Times New Roman"/>
              </a:rPr>
              <a:t>“</a:t>
            </a:r>
            <a:r>
              <a:rPr b="1" lang="zh-CN" sz="33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愈近愈秀</a:t>
            </a:r>
            <a:r>
              <a:rPr b="1" lang="en-US" sz="3300" spc="-1" strike="noStrike">
                <a:solidFill>
                  <a:srgbClr val="0000cc"/>
                </a:solidFill>
                <a:latin typeface="宋体"/>
                <a:ea typeface="Times New Roman"/>
              </a:rPr>
              <a:t>”</a:t>
            </a:r>
            <a:r>
              <a:rPr b="1" lang="zh-CN" sz="33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的</a:t>
            </a:r>
            <a:r>
              <a:rPr b="1" lang="zh-CN" sz="3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近观</a:t>
            </a:r>
            <a:r>
              <a:rPr b="1" lang="zh-CN" sz="33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，</a:t>
            </a:r>
            <a:r>
              <a:rPr b="1" lang="en-US" sz="3300" spc="-1" strike="noStrike">
                <a:solidFill>
                  <a:srgbClr val="0000cc"/>
                </a:solidFill>
                <a:latin typeface="宋体"/>
                <a:ea typeface="Times New Roman"/>
              </a:rPr>
              <a:t>“</a:t>
            </a:r>
            <a:r>
              <a:rPr b="1" lang="zh-CN" sz="33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冬夏晴雨</a:t>
            </a:r>
            <a:r>
              <a:rPr b="1" lang="en-US" sz="3300" spc="-1" strike="noStrike">
                <a:solidFill>
                  <a:srgbClr val="0000cc"/>
                </a:solidFill>
                <a:latin typeface="宋体"/>
                <a:ea typeface="Times New Roman"/>
              </a:rPr>
              <a:t>”</a:t>
            </a:r>
            <a:r>
              <a:rPr b="1" lang="zh-CN" sz="33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不同季节的变化。特别是对小孤山的描写，观察角度和观察点的</a:t>
            </a:r>
            <a:r>
              <a:rPr b="1" lang="zh-CN" sz="3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灵活多变</a:t>
            </a:r>
            <a:r>
              <a:rPr b="1" lang="zh-CN" sz="33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，充分地展现了山水景物的</a:t>
            </a:r>
            <a:r>
              <a:rPr b="1" lang="zh-CN" sz="3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千姿百态</a:t>
            </a:r>
            <a:r>
              <a:rPr b="1" lang="zh-CN" sz="33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Box 1"/>
          <p:cNvSpPr/>
          <p:nvPr/>
        </p:nvSpPr>
        <p:spPr>
          <a:xfrm>
            <a:off x="611280" y="333360"/>
            <a:ext cx="813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描写景物重点突出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。写小孤山着墨最多，作者借登临览胜的机会，较谙练细致地描写景物，而且还写庙宇传说，前人诗咏，近人事迹，内容丰富。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运用对比法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。如写小孤山，则以金山、焦山、落星山比较；写大孤山则以小孤山作比较；写水，则动静、缓急、清浊，对比鲜明，写出了江南与山的特色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1711440"/>
            <a:ext cx="9144000" cy="5146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1547640" y="117360"/>
            <a:ext cx="5761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隶书"/>
              </a:rPr>
              <a:t>过小孤山大孤山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211788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京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050920" y="500688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江州（庐山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87640" y="57261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鄱阳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43280" y="263700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安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4000" y="414972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武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35280" y="44942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彭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22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镇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08360" y="242100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合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771280" y="2924280"/>
            <a:ext cx="2592360" cy="237636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79280" y="0"/>
            <a:ext cx="878544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写作特点（三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作者在记述山川景物、名胜古迹的过程中，随时融合抒情和议论，并将有关的传闻轶事、前人诗句都信手捏来，还随笔写出郡县沿革、地形防戍等情况，这样写有什么作用？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丰富了作品的内容，使写景记游具有思想深度，同时亦为景物添彩生色，使一景一物似乎都带有了诗的灵气，文的雅致，神话的氛围，历史的积淀，诗文传说与胜景相互映发，更为引人入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穿插的材料有：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①引用前人名诗，增强了游记的生动性形象性趣味性，引起读者的阅读兴趣；②历史人文掌故，借他人抗金事迹以增强抒发自己立志抗金收复失地的决心，表达了作者实现生平志向的愿望；③民间神话传说，增强游记神奇浪漫色彩；④郡县政区沿革，表明祖国山河一寸不能丢历史与现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对比阅读：苏轼《李思训画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长江绝岛图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&gt;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》区分散文与诗歌形象美的不同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              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【诗】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山苍苍，水茫茫，大孤小孤江中央。 崖崩路绝猿鸟去，唯有乔木参天长。客舟何处来？棹歌中流声抑扬。沙平风软望不到，孤山久与船低昂。峨峨两烟鬟，晓镜开新妆。舟中贾客莫漫狂，小姑前年嫁彭郎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           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【释义】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山色苍翠，烟水迷茫，大小二孤，矗立江水中央。崖高险绝，猿鸟不度，乔木破空。有客舟从何处而来？桨声流水间船歌抑扬。沙岸平整，轻风徐来，望客不见，唯浪涌船高，孤山低首，此起彼伏。两山如发髻高耸，正对江水之镜，二美梳弄新妆。舟中商贾，切莫轻狂，小姑前年，已嫁彭郎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【对比分析】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清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]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吴乔：“意喻之米，文喻之炊而为饭，诗喻之酿而为酒。”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诗歌展现的形象和具体事物间的距离比较大，多有跳跃和省略，能让我们想象飞得更高。散文交待具体，描写细致真实，给人具体逼真的感受，能让人身临其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826920" y="3284640"/>
            <a:ext cx="7775640" cy="26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既各有特点，又成为一个整体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547640" y="693720"/>
            <a:ext cx="5761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隶书"/>
              </a:rPr>
              <a:t>过小孤山大孤山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256" name=""/>
          <p:cNvSpPr/>
          <p:nvPr/>
        </p:nvSpPr>
        <p:spPr>
          <a:xfrm>
            <a:off x="2700360" y="2060640"/>
            <a:ext cx="352728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彩云"/>
              </a:rPr>
              <a:t>的艺术特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956720" cy="688356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7737840" y="1125360"/>
            <a:ext cx="1155240" cy="1366920"/>
          </a:xfrm>
          <a:prstGeom prst="rect">
            <a:avLst/>
          </a:prstGeom>
          <a:solidFill>
            <a:srgbClr val="fafd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小孤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7596360" y="6278400"/>
            <a:ext cx="1512720" cy="581400"/>
          </a:xfrm>
          <a:prstGeom prst="rect">
            <a:avLst/>
          </a:prstGeom>
          <a:solidFill>
            <a:srgbClr val="fafd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大孤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435880" cy="59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PMingLiU"/>
              </a:rPr>
              <a:t>               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PMingLiU"/>
              </a:rPr>
              <a:t>写作背景：</a:t>
            </a:r>
            <a:br>
              <a:rPr sz="4000"/>
            </a:b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PMingLiU"/>
              </a:rPr>
              <a:t>     陆游主张抗金，恢复中原，被罢官。至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PMingLiU"/>
              </a:rPr>
              <a:t>1169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PMingLiU"/>
              </a:rPr>
              <a:t>年，起用为夔州通判，由故乡山阴出发赴任。一路沿长江逆流而上，历尽两岸奇山异景。途中作者以日记纪行，集成日记体游记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PMingLiU"/>
              </a:rPr>
              <a:t>《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PMingLiU"/>
              </a:rPr>
              <a:t>入蜀记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PMingLiU"/>
              </a:rPr>
              <a:t>》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PMingLiU"/>
              </a:rPr>
              <a:t>，以记其胜。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PMingLiU"/>
              </a:rPr>
              <a:t>《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PMingLiU"/>
              </a:rPr>
              <a:t>过小孤山大孤山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PMingLiU"/>
              </a:rPr>
              <a:t>》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PMingLiU"/>
              </a:rPr>
              <a:t>是作者路过小孤山和大孤山时所写的两则日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96200" y="5307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题     解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 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《过小孤山大孤山》选自《入蜀记》，是作者在宋孝宗乾道六年（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1170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）八月一日和八月二日的两则日记。是时，陆游被起用为夔州（今四川奉节）通判，由故乡山阴（今浙江绍兴）出发赴任。一路沿长江逆流而上，历尽两岸奇山异景，因作《入蜀记》以记其胜。</a:t>
            </a:r>
            <a:br>
              <a:rPr sz="4000"/>
            </a:b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3276360" cy="56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PMingLiU"/>
              </a:rPr>
              <a:t>解题：</a:t>
            </a:r>
            <a:br>
              <a:rPr sz="24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PMingLiU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PMingLiU"/>
              </a:rPr>
              <a:t>、小孤山（小姑山）：位于安徽宿松县复兴镇境内，与江西省彭泽县城隔江相望。山高约一百米，方圆一里，被誉为“长江绝岛”。相传大禹治水在次刻石记功，秦始皇刻“中流砥柱”于石上。由于此山形像一位云髻髙琯的美女，人们又将此山称为“小姑山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260280"/>
            <a:ext cx="47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小孤山"/>
          <p:cNvPicPr/>
          <p:nvPr/>
        </p:nvPicPr>
        <p:blipFill>
          <a:blip r:embed="rId1"/>
          <a:stretch/>
        </p:blipFill>
        <p:spPr>
          <a:xfrm>
            <a:off x="3924360" y="0"/>
            <a:ext cx="521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0T02:47:56Z</dcterms:created>
  <dc:creator>wang</dc:creator>
  <dc:description/>
  <dc:language>en-US</dc:language>
  <cp:lastModifiedBy>zmj</cp:lastModifiedBy>
  <dcterms:modified xsi:type="dcterms:W3CDTF">2012-11-01T11:22:59Z</dcterms:modified>
  <cp:revision>56</cp:revision>
  <dc:subject/>
  <dc:title>幻灯片 1</dc:title>
</cp:coreProperties>
</file>