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gif" ContentType="image/gif"/>
  <Override PartName="/ppt/media/image11.jpeg" ContentType="image/jpeg"/>
  <Override PartName="/ppt/media/image13.png" ContentType="image/pn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50FF-ACBC-44CF-8EFB-24CE8B9791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33"/>
                </a:solidFill>
                <a:latin typeface="Arial"/>
              </a:rPr>
              <a:t>山一程、水一程，身在异乡忍独行？风一更、雪一更，故园乡音可曾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59E-414B-4182-9DCD-E1DBF2A7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522-AB1C-4BFE-BD1A-707112A3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CB3-62B8-42C2-8072-729C53DC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12D-EFE5-4B70-94CA-0168041B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5749-31FF-4758-A32A-E1A8ABEA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E6E4-20DC-4099-8A09-D478506E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6102-FFC5-4A79-9968-B021AAA2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C93E-D4BB-40B4-AB03-173835AD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E7ED-2798-4E36-9EEA-B8B485C9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76DD-379B-4E73-98CB-C08CE5D7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89AE-0FAA-4856-BA02-C89022F5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34C-7CC4-4929-AEAA-DDA76119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80F7-B76D-416F-A7BC-00BDB324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90D6-B8A7-4E04-98F7-0B49B686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3D46-906E-4603-844F-57F7A471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4655-A194-4474-9ACB-47A43276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E202-602D-4F72-AD79-563DF44E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5C7C-89E0-44A6-935E-B3A6D91F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14E9D-9A9E-4086-B556-FD3379F9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6A59-5BF9-4555-A422-31886935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EBE9-4334-476C-8AEA-E5D645C4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62128-778F-4315-839D-CA1B9535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B1D-F7B8-4A5C-82A2-CB6DF183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2779-3ED2-4FDA-B63A-F9D7CDE4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6907B-97B1-4FBC-AEA5-2E2E20A4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B3EA-1A74-4EB7-A7D0-656922D4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562E3-15A9-4E9B-92AD-80983931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70028-75E2-4C7B-89C9-CCBF7512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953C-801C-493B-99FA-E7604EC9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16C4-94A1-4F61-B7F1-DBBABEFF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81BE8-0BDA-430A-9B82-5E37248A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DC455-0894-4E11-88A8-36CB39B1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EFC3C-1A5C-4C81-80D9-369A31F3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F54-2445-4C85-816B-1B67B20D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6CB5B-5D44-455E-8E22-FAE685D1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2DA02-17C5-4248-91BA-3263F04E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7AA90-9DA9-4017-A5D1-F3497241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A3AA-E004-4384-8873-E3C1AD6A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411D9-E53D-4F7A-A8AA-CD4F61EF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2F38-4F20-48C0-BF09-1CCABCA9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BC21A-D758-43D8-A55E-98ACF2B9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112E9-4DC1-475D-8D04-E2509842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A8205-331A-4E0D-ACA3-2AE05FFD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4C4-FB2B-4638-B380-8E5724DD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E23-C287-4926-831C-410A30A4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3A9-422E-4A20-8EE5-205FEEA4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A8D-9017-4BE7-A997-62841906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E99-0FDF-4B0A-A6FF-9459C6F9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8FA1-2450-45B0-AF8C-3150CFA957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1b8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2DD3-2C2A-4E2C-88DA-934C191FB0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370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370ee4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70ee4"/>
                </a:gs>
                <a:gs pos="100000">
                  <a:srgbClr val="190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70ee4"/>
                </a:gs>
                <a:gs pos="100000">
                  <a:srgbClr val="190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370e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370ee4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D295-D6B0-4C92-85B8-0BEC06C5DC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370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370ee4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70ee4"/>
                </a:gs>
                <a:gs pos="100000">
                  <a:srgbClr val="190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70ee4"/>
                </a:gs>
                <a:gs pos="100000">
                  <a:srgbClr val="190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370e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370ee4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370e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B970-35DA-4870-A82F-F0A478F4B8F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4797360"/>
            <a:ext cx="91440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榕树是一种生命力旺盛的树种，其主干一般难以存活２００年以上，但其身上不断萌生的气根入地后会长成新的枝干，以取代老朽的主干，因而在历经沧桑后仍能显出勃勃生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05012911247619"/>
          <p:cNvPicPr/>
          <p:nvPr/>
        </p:nvPicPr>
        <p:blipFill>
          <a:blip r:embed="rId1"/>
          <a:stretch/>
        </p:blipFill>
        <p:spPr>
          <a:xfrm>
            <a:off x="0" y="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5219640" y="3139920"/>
            <a:ext cx="1008000" cy="57636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908000" y="198900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住所的榕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835280" y="313992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故乡的榕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908000" y="429264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住所的榕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148360" y="2060640"/>
            <a:ext cx="16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眼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7"/>
          <p:cNvGrpSpPr/>
          <p:nvPr/>
        </p:nvGrpSpPr>
        <p:grpSpPr>
          <a:xfrm>
            <a:off x="5148360" y="2852640"/>
            <a:ext cx="1622160" cy="844200"/>
            <a:chOff x="5148360" y="2852640"/>
            <a:chExt cx="1622160" cy="844200"/>
          </a:xfrm>
        </p:grpSpPr>
        <p:sp>
          <p:nvSpPr>
            <p:cNvPr id="239" name="Text Box 8"/>
            <p:cNvSpPr/>
            <p:nvPr/>
          </p:nvSpPr>
          <p:spPr>
            <a:xfrm>
              <a:off x="5148360" y="3054240"/>
              <a:ext cx="162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回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>
              <a:off x="5499000" y="285264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0"/>
          <p:cNvGrpSpPr/>
          <p:nvPr/>
        </p:nvGrpSpPr>
        <p:grpSpPr>
          <a:xfrm>
            <a:off x="5219640" y="4076640"/>
            <a:ext cx="1623960" cy="768600"/>
            <a:chOff x="5219640" y="4076640"/>
            <a:chExt cx="1623960" cy="768600"/>
          </a:xfrm>
        </p:grpSpPr>
        <p:sp>
          <p:nvSpPr>
            <p:cNvPr id="242" name="Text Box 11"/>
            <p:cNvSpPr/>
            <p:nvPr/>
          </p:nvSpPr>
          <p:spPr>
            <a:xfrm>
              <a:off x="5219640" y="4263840"/>
              <a:ext cx="162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眼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2"/>
            <p:cNvSpPr/>
            <p:nvPr/>
          </p:nvSpPr>
          <p:spPr>
            <a:xfrm>
              <a:off x="5556240" y="407664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3"/>
          <p:cNvGrpSpPr/>
          <p:nvPr/>
        </p:nvGrpSpPr>
        <p:grpSpPr>
          <a:xfrm>
            <a:off x="6372360" y="2421000"/>
            <a:ext cx="2771280" cy="2231640"/>
            <a:chOff x="6372360" y="2421000"/>
            <a:chExt cx="2771280" cy="2231640"/>
          </a:xfrm>
        </p:grpSpPr>
        <p:sp>
          <p:nvSpPr>
            <p:cNvPr id="245" name="AutoShape 14"/>
            <p:cNvSpPr/>
            <p:nvPr/>
          </p:nvSpPr>
          <p:spPr>
            <a:xfrm>
              <a:off x="6372360" y="2421000"/>
              <a:ext cx="144360" cy="223164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57960 h 2231640"/>
                <a:gd name="textAreaBottom" fmla="*/ 2173680 h 22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5"/>
            <p:cNvSpPr/>
            <p:nvPr/>
          </p:nvSpPr>
          <p:spPr>
            <a:xfrm>
              <a:off x="6629040" y="302040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基本思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16"/>
          <p:cNvSpPr/>
          <p:nvPr/>
        </p:nvSpPr>
        <p:spPr>
          <a:xfrm>
            <a:off x="0" y="11592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一、课文写了哪些地方的榕树？据此可以将文章分为几个层次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2195640" y="2637000"/>
            <a:ext cx="25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2124000" y="3716280"/>
            <a:ext cx="25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9"/>
          <p:cNvSpPr/>
          <p:nvPr/>
        </p:nvSpPr>
        <p:spPr>
          <a:xfrm>
            <a:off x="2124000" y="4869000"/>
            <a:ext cx="25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4920" y="550440"/>
            <a:ext cx="90741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围绕故乡的榕树，作者回忆了与之相关的哪些事情？作者用什么将这些事情连缀起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820080" y="4221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小溪及周围景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409040" y="3286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树船的乐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00280" y="234936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驼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传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409040" y="1270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烧香求树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5729400" y="2349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折枝祭祖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5369760" y="1270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用汁液治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801760" y="3286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榕树下纳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5441400" y="4149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愉快的夏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未知"/>
          <p:cNvSpPr/>
          <p:nvPr/>
        </p:nvSpPr>
        <p:spPr>
          <a:xfrm>
            <a:off x="2987640" y="4653000"/>
            <a:ext cx="600120" cy="2087640"/>
          </a:xfrm>
          <a:custGeom>
            <a:avLst/>
            <a:gdLst/>
            <a:ahLst/>
            <a:rect l="l" t="t" r="r" b="b"/>
            <a:pathLst>
              <a:path w="378" h="1315">
                <a:moveTo>
                  <a:pt x="91" y="0"/>
                </a:moveTo>
                <a:cubicBezTo>
                  <a:pt x="234" y="117"/>
                  <a:pt x="378" y="234"/>
                  <a:pt x="363" y="453"/>
                </a:cubicBezTo>
                <a:cubicBezTo>
                  <a:pt x="348" y="672"/>
                  <a:pt x="60" y="1186"/>
                  <a:pt x="0" y="13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未知"/>
          <p:cNvSpPr/>
          <p:nvPr/>
        </p:nvSpPr>
        <p:spPr>
          <a:xfrm>
            <a:off x="5040360" y="4653000"/>
            <a:ext cx="826920" cy="2087640"/>
          </a:xfrm>
          <a:custGeom>
            <a:avLst/>
            <a:gdLst/>
            <a:ahLst/>
            <a:rect l="l" t="t" r="r" b="b"/>
            <a:pathLst>
              <a:path w="340" h="1315">
                <a:moveTo>
                  <a:pt x="204" y="0"/>
                </a:moveTo>
                <a:cubicBezTo>
                  <a:pt x="102" y="94"/>
                  <a:pt x="0" y="189"/>
                  <a:pt x="23" y="408"/>
                </a:cubicBezTo>
                <a:cubicBezTo>
                  <a:pt x="46" y="627"/>
                  <a:pt x="193" y="971"/>
                  <a:pt x="340" y="13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未知"/>
          <p:cNvSpPr/>
          <p:nvPr/>
        </p:nvSpPr>
        <p:spPr>
          <a:xfrm>
            <a:off x="457200" y="3141720"/>
            <a:ext cx="369720" cy="1366920"/>
          </a:xfrm>
          <a:custGeom>
            <a:avLst/>
            <a:gdLst/>
            <a:ahLst/>
            <a:rect l="l" t="t" r="r" b="b"/>
            <a:pathLst>
              <a:path w="233" h="861">
                <a:moveTo>
                  <a:pt x="233" y="861"/>
                </a:moveTo>
                <a:cubicBezTo>
                  <a:pt x="123" y="728"/>
                  <a:pt x="14" y="596"/>
                  <a:pt x="7" y="453"/>
                </a:cubicBezTo>
                <a:cubicBezTo>
                  <a:pt x="0" y="310"/>
                  <a:pt x="158" y="75"/>
                  <a:pt x="1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未知"/>
          <p:cNvSpPr/>
          <p:nvPr/>
        </p:nvSpPr>
        <p:spPr>
          <a:xfrm>
            <a:off x="673200" y="1628640"/>
            <a:ext cx="369720" cy="1366920"/>
          </a:xfrm>
          <a:custGeom>
            <a:avLst/>
            <a:gdLst/>
            <a:ahLst/>
            <a:rect l="l" t="t" r="r" b="b"/>
            <a:pathLst>
              <a:path w="233" h="861">
                <a:moveTo>
                  <a:pt x="233" y="861"/>
                </a:moveTo>
                <a:cubicBezTo>
                  <a:pt x="123" y="728"/>
                  <a:pt x="14" y="596"/>
                  <a:pt x="7" y="453"/>
                </a:cubicBezTo>
                <a:cubicBezTo>
                  <a:pt x="0" y="310"/>
                  <a:pt x="158" y="75"/>
                  <a:pt x="1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未知"/>
          <p:cNvSpPr/>
          <p:nvPr/>
        </p:nvSpPr>
        <p:spPr>
          <a:xfrm>
            <a:off x="1546200" y="189000"/>
            <a:ext cx="5113440" cy="1008000"/>
          </a:xfrm>
          <a:custGeom>
            <a:avLst/>
            <a:gdLst/>
            <a:ahLst/>
            <a:rect l="l" t="t" r="r" b="b"/>
            <a:pathLst>
              <a:path w="2631" h="522">
                <a:moveTo>
                  <a:pt x="0" y="386"/>
                </a:moveTo>
                <a:cubicBezTo>
                  <a:pt x="461" y="193"/>
                  <a:pt x="923" y="0"/>
                  <a:pt x="1361" y="23"/>
                </a:cubicBezTo>
                <a:cubicBezTo>
                  <a:pt x="1799" y="46"/>
                  <a:pt x="2465" y="431"/>
                  <a:pt x="2631" y="5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未知"/>
          <p:cNvSpPr/>
          <p:nvPr/>
        </p:nvSpPr>
        <p:spPr>
          <a:xfrm rot="10800000">
            <a:off x="7155000" y="1341360"/>
            <a:ext cx="441360" cy="1511280"/>
          </a:xfrm>
          <a:custGeom>
            <a:avLst/>
            <a:gdLst/>
            <a:ahLst/>
            <a:rect l="l" t="t" r="r" b="b"/>
            <a:pathLst>
              <a:path w="233" h="861">
                <a:moveTo>
                  <a:pt x="233" y="861"/>
                </a:moveTo>
                <a:cubicBezTo>
                  <a:pt x="123" y="728"/>
                  <a:pt x="14" y="596"/>
                  <a:pt x="7" y="453"/>
                </a:cubicBezTo>
                <a:cubicBezTo>
                  <a:pt x="0" y="310"/>
                  <a:pt x="158" y="75"/>
                  <a:pt x="1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未知"/>
          <p:cNvSpPr/>
          <p:nvPr/>
        </p:nvSpPr>
        <p:spPr>
          <a:xfrm rot="10800000">
            <a:off x="7370640" y="3070080"/>
            <a:ext cx="441360" cy="1511280"/>
          </a:xfrm>
          <a:custGeom>
            <a:avLst/>
            <a:gdLst/>
            <a:ahLst/>
            <a:rect l="l" t="t" r="r" b="b"/>
            <a:pathLst>
              <a:path w="233" h="861">
                <a:moveTo>
                  <a:pt x="233" y="861"/>
                </a:moveTo>
                <a:cubicBezTo>
                  <a:pt x="123" y="728"/>
                  <a:pt x="14" y="596"/>
                  <a:pt x="7" y="453"/>
                </a:cubicBezTo>
                <a:cubicBezTo>
                  <a:pt x="0" y="310"/>
                  <a:pt x="158" y="75"/>
                  <a:pt x="1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3975480" y="46411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思乡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928680" y="155700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故乡的榕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8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同学们找出自己喜欢的句子或段落，有感情地朗读，并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内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形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情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个方面加以赏析。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小组讨论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0537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种修辞手法的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象的运用，虚实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华丽的词语（摹形状物，绘声绘色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句式的选用和变化（长短、整散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注人称的运用（第二人称“你”的作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第二人称一般都兼有拟人的意味，因此能使语言生动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表情达意方面，便于直抒胸臆，或直接对话，增强感染力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360" y="1600200"/>
            <a:ext cx="900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这篇文章作者写于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79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，当时香港还是英国的殖民地。作者作为炎黄子孙，却不能自由地来往于香港与故乡之间，因此思乡之情尤为浓烈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，我国成功对香港恢复行使主权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99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，澳门也回归祖国的怀抱，只有台湾还漂泊在外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江南小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4498920" y="260280"/>
            <a:ext cx="432108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小时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乡愁是一枚小小的邮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我在这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母亲在那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长大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乡愁是一张窄窄的船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我在这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新娘在那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后来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乡愁是一方矮矮的坟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我在外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母亲在里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而现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乡愁是一湾浅浅的海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我在这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大陆在那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-1494360" y="404640"/>
            <a:ext cx="4112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乡 愁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2365200" y="3782160"/>
            <a:ext cx="9115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余光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图片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250920" y="33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扩展： 假如你离开家乡，哪些景物、哪些事情会让你深深怀念？仿照课文例句写一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24000" y="155736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课文例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我怀念从故乡的后山流下来、流过榕树旁的清澈的小溪，溪水中的彩色的鹅卵石，到溪畔洗衣和汲水的少女，在水面嘎嘎嘎地僻静欢笑的鸭子；我怀念榕树下洁白的石桥，桥头兀立的刻字的石碑，桥栏杆上被人抚摸光滑了的小石狮子。那汩汩的溪水流走了我童年的岁月，那古老的石桥镌刻着我深深的记忆，记忆里的故事有榕树的叶子一样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00937200937371"/>
          <p:cNvPicPr/>
          <p:nvPr/>
        </p:nvPicPr>
        <p:blipFill>
          <a:blip r:embed="rId1"/>
          <a:stretch/>
        </p:blipFill>
        <p:spPr>
          <a:xfrm>
            <a:off x="-34920" y="27000"/>
            <a:ext cx="914256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08000" y="1050840"/>
            <a:ext cx="84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我怀念家乡那并不挺拔的山峰，上面高耸的电视塔，山坡上姹紫嫣红的杜娟，以及山腰上碧波粼粼的人工湖；我怀念家乡秋季的天朗气清，晴空下浩浩荡荡的长江水，十里绿堤的滨江路，岸边开怀畅谈的人们。那江对岸茂密的桂圆林里散落着的童年的欢笑和那金黄的梧桐树叶，飘洒在我这远行的游子心头，酿成的思念却比天空的秋雨还要密，还要稠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826920" y="115920"/>
            <a:ext cx="72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例句仿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1037684142"/>
          <p:cNvPicPr/>
          <p:nvPr/>
        </p:nvPicPr>
        <p:blipFill>
          <a:blip r:embed="rId1"/>
          <a:stretch/>
        </p:blipFill>
        <p:spPr>
          <a:xfrm>
            <a:off x="108000" y="1484280"/>
            <a:ext cx="8964720" cy="5327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3095280" y="698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乡情如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乡愁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席幕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7702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故乡的歌是一支清远的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总在有月亮的晚上响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故乡的面貌却是一种模糊的怅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仿佛雾里的挥手别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离别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乡愁是一棵没有年轮的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永不老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142346299"/>
          <p:cNvPicPr/>
          <p:nvPr/>
        </p:nvPicPr>
        <p:blipFill>
          <a:blip r:embed="rId1"/>
          <a:stretch/>
        </p:blipFill>
        <p:spPr>
          <a:xfrm>
            <a:off x="5724360" y="3429000"/>
            <a:ext cx="30416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611280" y="476280"/>
            <a:ext cx="772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我国古代乡情诗歌中的明月短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609480" y="1447920"/>
            <a:ext cx="80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亮具有母性情结，寄托了人们对故乡和亲人的思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笛声在诗歌中的作用：衬悲情，引乡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-103320" y="3357720"/>
            <a:ext cx="859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我国古代乡情诗歌中常见的意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17680" y="3970440"/>
            <a:ext cx="82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晨霜、明月、笛声、泪、山、水、风、雪、树、寒江、玉、碧色、落日、暮色、黄昏、酒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736560" y="457200"/>
            <a:ext cx="3475080" cy="6140520"/>
          </a:xfrm>
          <a:prstGeom prst="rect">
            <a:avLst/>
          </a:prstGeom>
          <a:solidFill>
            <a:srgbClr val="f0f6f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_x000b__x000c_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_x000b__x000c_"/>
              </a:rPr>
              <a:t>月   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杜 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今夜鄜州</a:t>
            </a:r>
            <a:r>
              <a:rPr b="1" lang="zh-CN" sz="3600" spc="-1" strike="noStrike">
                <a:solidFill>
                  <a:srgbClr val="ff0000"/>
                </a:solidFill>
                <a:latin typeface="_x000b__x000c_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闺中只独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遥怜小儿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未解忆长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香雾云鬟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_x000b__x000c_"/>
              </a:rPr>
              <a:t>清辉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玉臂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何时倚虚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双照泪痕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3182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4859280" y="476280"/>
            <a:ext cx="3384720" cy="6121440"/>
          </a:xfrm>
          <a:prstGeom prst="rect">
            <a:avLst/>
          </a:prstGeom>
          <a:solidFill>
            <a:srgbClr val="f0f6f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_x000b__x000c_"/>
              </a:rPr>
              <a:t>月夜忆舍弟</a:t>
            </a:r>
            <a:br>
              <a:rPr sz="40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 杜 甫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戍鼓断人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秋边一雁声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露从今</a:t>
            </a:r>
            <a:r>
              <a:rPr b="1" lang="zh-CN" sz="3600" spc="-1" strike="noStrike">
                <a:solidFill>
                  <a:srgbClr val="ff0000"/>
                </a:solidFill>
                <a:latin typeface="_x000b__x000c_"/>
              </a:rPr>
              <a:t>夜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_x000b__x000c_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是故乡明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有弟皆分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无家问死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寄书长不达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况乃未休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请仿照这样的方式写一个句子。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我怀念从故乡的后山流下来、流过榕树旁的清澈的小溪，溪水中彩色的鹅卵石，到溪畔洗衣和汲水的少女，在水面嘎嘎嘎地追逐欢笑的鸭子；我怀念榕树下洁白的石桥，桥头兀立的刻字的石碑，桥栏杆上被人抚摸光滑了的小石狮子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故乡的亲切的榕树啊，我是在你绿荫的怀抱中长大的，如果你有知觉，会知道我在遥远的异乡怀念你么？如果你有思想，你会象慈母一样，思念我这漂泊天涯的游子么？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200"/>
            </a:b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Picture 4" descr="70"/>
          <p:cNvPicPr/>
          <p:nvPr/>
        </p:nvPicPr>
        <p:blipFill>
          <a:blip r:embed="rId1"/>
          <a:stretch/>
        </p:blipFill>
        <p:spPr>
          <a:xfrm>
            <a:off x="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a28"/>
          <p:cNvPicPr/>
          <p:nvPr/>
        </p:nvPicPr>
        <p:blipFill>
          <a:blip r:embed="rId1"/>
          <a:stretch/>
        </p:blipFill>
        <p:spPr>
          <a:xfrm>
            <a:off x="3635280" y="4149720"/>
            <a:ext cx="2737080" cy="24717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1231920" y="1125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睹物思故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74600" y="2781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子忆故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47880" y="53388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复思绪抒发感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908000" y="17002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1835280" y="3573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8"/>
          <p:cNvSpPr/>
          <p:nvPr/>
        </p:nvSpPr>
        <p:spPr>
          <a:xfrm>
            <a:off x="2987640" y="2276640"/>
            <a:ext cx="216000" cy="16002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3319560" y="1989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乡的山、水、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3162240" y="34862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村头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榕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1"/>
          <p:cNvSpPr/>
          <p:nvPr/>
        </p:nvSpPr>
        <p:spPr>
          <a:xfrm>
            <a:off x="5076720" y="2852640"/>
            <a:ext cx="358920" cy="1828800"/>
          </a:xfrm>
          <a:custGeom>
            <a:avLst/>
            <a:gdLst>
              <a:gd name="textAreaLeft" fmla="*/ 229320 w 358920"/>
              <a:gd name="textAreaRight" fmla="*/ 359280 w 358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5508720" y="2637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在形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5364000" y="4363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榕树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4"/>
          <p:cNvSpPr/>
          <p:nvPr/>
        </p:nvSpPr>
        <p:spPr>
          <a:xfrm>
            <a:off x="6877080" y="3605040"/>
            <a:ext cx="243000" cy="2210040"/>
          </a:xfrm>
          <a:custGeom>
            <a:avLst/>
            <a:gdLst>
              <a:gd name="textAreaLeft" fmla="*/ 155160 w 243000"/>
              <a:gd name="textAreaRight" fmla="*/ 243360 w 24300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7120080" y="33764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7120080" y="40622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祈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7120080" y="47480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乘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7120080" y="5357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童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2843280" y="112536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香港榕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0"/>
          <p:cNvSpPr/>
          <p:nvPr/>
        </p:nvSpPr>
        <p:spPr>
          <a:xfrm>
            <a:off x="7740720" y="1268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7580160" y="5877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2"/>
          <p:cNvSpPr/>
          <p:nvPr/>
        </p:nvSpPr>
        <p:spPr>
          <a:xfrm>
            <a:off x="8459640" y="1989000"/>
            <a:ext cx="0" cy="165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WordArt 23" descr=""/>
          <p:cNvPicPr/>
          <p:nvPr/>
        </p:nvPicPr>
        <p:blipFill>
          <a:blip r:embed="rId2"/>
          <a:stretch/>
        </p:blipFill>
        <p:spPr>
          <a:xfrm>
            <a:off x="5303880" y="420840"/>
            <a:ext cx="2408040" cy="1657080"/>
          </a:xfrm>
          <a:prstGeom prst="rect">
            <a:avLst/>
          </a:prstGeom>
          <a:ln w="0">
            <a:noFill/>
          </a:ln>
        </p:spPr>
      </p:pic>
      <p:sp>
        <p:nvSpPr>
          <p:cNvPr id="325" name="Line 24"/>
          <p:cNvSpPr/>
          <p:nvPr/>
        </p:nvSpPr>
        <p:spPr>
          <a:xfrm>
            <a:off x="284328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5"/>
          <p:cNvSpPr/>
          <p:nvPr/>
        </p:nvSpPr>
        <p:spPr>
          <a:xfrm>
            <a:off x="774072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6"/>
          <p:cNvSpPr/>
          <p:nvPr/>
        </p:nvSpPr>
        <p:spPr>
          <a:xfrm>
            <a:off x="8459640" y="436572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7"/>
          <p:cNvSpPr/>
          <p:nvPr/>
        </p:nvSpPr>
        <p:spPr>
          <a:xfrm>
            <a:off x="250920" y="189000"/>
            <a:ext cx="2700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华文新魏"/>
              </a:rPr>
              <a:t>写作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a90eb42e43"/>
          <p:cNvPicPr/>
          <p:nvPr/>
        </p:nvPicPr>
        <p:blipFill>
          <a:blip r:embed="rId1"/>
          <a:stretch/>
        </p:blipFill>
        <p:spPr>
          <a:xfrm>
            <a:off x="-34920" y="46080"/>
            <a:ext cx="9178920" cy="68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榕树5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593520" y="1418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：黄河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20050616213325588"/>
          <p:cNvPicPr/>
          <p:nvPr/>
        </p:nvPicPr>
        <p:blipFill>
          <a:blip r:embed="rId1"/>
          <a:stretch/>
        </p:blipFill>
        <p:spPr>
          <a:xfrm>
            <a:off x="826920" y="2246400"/>
            <a:ext cx="7596360" cy="4351320"/>
          </a:xfrm>
          <a:prstGeom prst="rect">
            <a:avLst/>
          </a:prstGeom>
          <a:ln w="0">
            <a:noFill/>
          </a:ln>
        </p:spPr>
      </p:pic>
      <p:sp>
        <p:nvSpPr>
          <p:cNvPr id="216" name="WordArt 4"/>
          <p:cNvSpPr txBox="1"/>
          <p:nvPr/>
        </p:nvSpPr>
        <p:spPr>
          <a:xfrm>
            <a:off x="1116000" y="333360"/>
            <a:ext cx="6985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故乡的榕树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125280"/>
            <a:ext cx="4140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华文行楷"/>
              </a:rPr>
              <a:t>         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华文行楷"/>
              </a:rPr>
              <a:t>认识作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912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浪，原名黄世连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生于福建省长乐县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7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赴香港定居，从事绘画工作，坚持业余文学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主要文学作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集：《海外浪花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大地诗情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说：《失落的珍珠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大乡里进医院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香港式的烦恼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散文：《故乡的榕树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两代人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华文行楷"/>
              </a:rPr>
              <a:t>《故乡的榕树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3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79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黄河浪的散文《故乡的榕树》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荣获香港第一届中文文学奖散文组冠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获奖后，被海外十多家报刊转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264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同学们思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682560" y="2332080"/>
            <a:ext cx="82090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作者写作重点是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行楷"/>
              </a:rPr>
              <a:t>生长在故乡的榕树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53820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根据课文的标题，可以推测出作者写作的重点是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BD21313_"/>
          <p:cNvPicPr/>
          <p:nvPr/>
        </p:nvPicPr>
        <p:blipFill>
          <a:blip r:embed="rId1"/>
          <a:stretch/>
        </p:blipFill>
        <p:spPr>
          <a:xfrm>
            <a:off x="4498920" y="6308640"/>
            <a:ext cx="3870360" cy="1494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538200" y="2997360"/>
            <a:ext cx="77770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、根据作者的生平，可以推测出他会以怎样的心情来写？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55640" y="4365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作者客居他乡，所以他很有可能会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思乡怀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情来创作本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2266920" y="537372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7020000" y="285264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755640" y="333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思乡怀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散文常见的主题。人们常借别具深意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或富有特色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抒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乡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的作家黄河浪，因为生于榕树之乡福建，而把思乡之情寄托在榕树这种景上。他故乡的榕树有什么独特之处，使他激情澎湃、文思涌动，写下本文呢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"/>
          <p:cNvSpPr/>
          <p:nvPr/>
        </p:nvSpPr>
        <p:spPr>
          <a:xfrm>
            <a:off x="5508720" y="4076640"/>
            <a:ext cx="23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2340000" y="5589720"/>
            <a:ext cx="6049800" cy="1079280"/>
          </a:xfrm>
          <a:prstGeom prst="rightArrow">
            <a:avLst>
              <a:gd name="adj1" fmla="val 50000"/>
              <a:gd name="adj2" fmla="val 1401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5"/>
          <p:cNvSpPr txBox="1"/>
          <p:nvPr/>
        </p:nvSpPr>
        <p:spPr>
          <a:xfrm>
            <a:off x="2843280" y="5877000"/>
            <a:ext cx="3889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请同学们仔细阅读本文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47:19Z</dcterms:created>
  <dc:creator/>
  <dc:description/>
  <cp:keywords/>
  <dc:language>en-US</dc:language>
  <cp:lastModifiedBy>ABC</cp:lastModifiedBy>
  <dcterms:modified xsi:type="dcterms:W3CDTF">2015-12-23T05:47:03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