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comments/comment7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新课标第一网" initials="新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<Relationship Id="rId23" Type="http://schemas.openxmlformats.org/officeDocument/2006/relationships/commentAuthors" Target="commentAuthors.xml"/>
</Relationships>
</file>

<file path=ppt/comments/comment7.xml><?xml version="1.0" encoding="utf-8"?>
<p:cmLst xmlns:p="http://schemas.openxmlformats.org/presentationml/2006/main">
  <p:cm authorId="0" dt="2011-09-27T13:33:12.899000000" idx="1">
    <p:pos x="4295" y="631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3AFD-866D-400F-92A6-2D6F28C91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A0F8-FC3B-441E-849A-83088A176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828E-34FE-4A1C-A1F6-F40F636AD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44C1-4C39-4849-A09D-A5C3CBDC5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4E2F-F2C1-48F2-9061-C65BBC121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D8AD-7837-4016-A648-A4B7D4D8A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E31B-525B-4E13-A0E6-042B4EDBB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0CDD-FD19-4F8B-A13B-5815B990C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C8D6-9EF6-414A-9E2A-9710F90C9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209C-3A6F-4327-8724-42D6445B9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E886-F70C-41C1-AF98-E1459C29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8EBE-6203-4FD0-8BBE-AE6520D39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7A241-9095-4300-B15E-5EC1EEF4F5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" Target="slide11.xml"/><Relationship Id="rId6" Type="http://schemas.openxmlformats.org/officeDocument/2006/relationships/slide" Target="slide12.xml"/><Relationship Id="rId7" Type="http://schemas.openxmlformats.org/officeDocument/2006/relationships/slideLayout" Target="../slideLayouts/slideLayout3.xml"/><Relationship Id="rId8" Type="http://schemas.openxmlformats.org/officeDocument/2006/relationships/comments" Target="../comments/commen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250560" y="2276280"/>
            <a:ext cx="8713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7200" spc="-1" strike="noStrike">
                <a:solidFill>
                  <a:srgbClr val="ffff00"/>
                </a:solidFill>
                <a:latin typeface="Arial"/>
                <a:ea typeface="华文行楷"/>
              </a:rPr>
              <a:t>钢铁是怎样炼成的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95640" y="479736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—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奥斯特洛夫斯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50920" y="263664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　冬尼娅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　天真、纯朴，醉心于爱情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　最后由小资产阶级小姐完全变成时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　落伍者和寄生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2" action="ppaction://hlinksldjump"/>
          </p:cNvPr>
          <p:cNvSpPr/>
          <p:nvPr/>
        </p:nvSpPr>
        <p:spPr>
          <a:xfrm>
            <a:off x="6804000" y="5950080"/>
            <a:ext cx="792360" cy="574560"/>
          </a:xfrm>
          <a:custGeom>
            <a:avLst/>
            <a:gdLst>
              <a:gd name="textAreaLeft" fmla="*/ 37080 w 792360"/>
              <a:gd name="textAreaRight" fmla="*/ 755280 w 79236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29783" h="21600">
                <a:moveTo>
                  <a:pt x="0" y="0"/>
                </a:moveTo>
                <a:lnTo>
                  <a:pt x="29783" y="0"/>
                </a:lnTo>
                <a:lnTo>
                  <a:pt x="29783" y="21600"/>
                </a:lnTo>
                <a:lnTo>
                  <a:pt x="0" y="21600"/>
                </a:lnTo>
                <a:close/>
              </a:path>
              <a:path fill="lightenLess" w="29783" h="21600">
                <a:moveTo>
                  <a:pt x="0" y="0"/>
                </a:moveTo>
                <a:lnTo>
                  <a:pt x="29783" y="0"/>
                </a:lnTo>
                <a:lnTo>
                  <a:pt x="28383" y="1400"/>
                </a:lnTo>
                <a:lnTo>
                  <a:pt x="1400" y="1400"/>
                </a:lnTo>
                <a:close/>
              </a:path>
              <a:path fill="darken" w="29783" h="21600">
                <a:moveTo>
                  <a:pt x="29783" y="0"/>
                </a:moveTo>
                <a:lnTo>
                  <a:pt x="29783" y="21600"/>
                </a:lnTo>
                <a:lnTo>
                  <a:pt x="28383" y="20200"/>
                </a:lnTo>
                <a:lnTo>
                  <a:pt x="28383" y="1400"/>
                </a:lnTo>
                <a:close/>
              </a:path>
              <a:path fill="darkenLess" w="29783" h="21600">
                <a:moveTo>
                  <a:pt x="297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83" y="20200"/>
                </a:lnTo>
                <a:close/>
              </a:path>
              <a:path fill="lighten" w="297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83" h="21600">
                <a:moveTo>
                  <a:pt x="7885" y="7493"/>
                </a:moveTo>
                <a:lnTo>
                  <a:pt x="11393" y="7493"/>
                </a:lnTo>
                <a:lnTo>
                  <a:pt x="11393" y="12828"/>
                </a:lnTo>
                <a:cubicBezTo>
                  <a:pt x="11393" y="13751"/>
                  <a:pt x="12193" y="14482"/>
                  <a:pt x="13229" y="14482"/>
                </a:cubicBezTo>
                <a:lnTo>
                  <a:pt x="14891" y="14482"/>
                </a:lnTo>
                <a:cubicBezTo>
                  <a:pt x="15927" y="14482"/>
                  <a:pt x="16728" y="13751"/>
                  <a:pt x="16728" y="12828"/>
                </a:cubicBezTo>
                <a:lnTo>
                  <a:pt x="16728" y="7493"/>
                </a:lnTo>
                <a:lnTo>
                  <a:pt x="14891" y="7493"/>
                </a:lnTo>
                <a:lnTo>
                  <a:pt x="18399" y="3985"/>
                </a:lnTo>
                <a:lnTo>
                  <a:pt x="22072" y="7493"/>
                </a:lnTo>
                <a:lnTo>
                  <a:pt x="20235" y="7493"/>
                </a:lnTo>
                <a:lnTo>
                  <a:pt x="20235" y="12828"/>
                </a:lnTo>
                <a:cubicBezTo>
                  <a:pt x="20235" y="15596"/>
                  <a:pt x="17659" y="18155"/>
                  <a:pt x="14891" y="18155"/>
                </a:cubicBezTo>
                <a:lnTo>
                  <a:pt x="13229" y="18155"/>
                </a:lnTo>
                <a:cubicBezTo>
                  <a:pt x="10461" y="18155"/>
                  <a:pt x="7885" y="15596"/>
                  <a:pt x="7885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94920" y="2060640"/>
            <a:ext cx="821844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　丽达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　保尔的真爱，她漂亮、机智、干练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　勇敢，心地善良，爱憎分明，有着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　强的革命意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2" action="ppaction://hlinksldjump"/>
          </p:cNvPr>
          <p:cNvSpPr/>
          <p:nvPr/>
        </p:nvSpPr>
        <p:spPr>
          <a:xfrm>
            <a:off x="7164360" y="566100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7493"/>
                </a:moveTo>
                <a:lnTo>
                  <a:pt x="8519" y="7493"/>
                </a:lnTo>
                <a:lnTo>
                  <a:pt x="8519" y="12828"/>
                </a:lnTo>
                <a:cubicBezTo>
                  <a:pt x="8519" y="13751"/>
                  <a:pt x="9320" y="14482"/>
                  <a:pt x="10356" y="14482"/>
                </a:cubicBezTo>
                <a:lnTo>
                  <a:pt x="12018" y="14482"/>
                </a:lnTo>
                <a:cubicBezTo>
                  <a:pt x="13054" y="14482"/>
                  <a:pt x="13854" y="13751"/>
                  <a:pt x="13854" y="12828"/>
                </a:cubicBezTo>
                <a:lnTo>
                  <a:pt x="13854" y="7493"/>
                </a:lnTo>
                <a:lnTo>
                  <a:pt x="12018" y="7493"/>
                </a:lnTo>
                <a:lnTo>
                  <a:pt x="15526" y="3985"/>
                </a:lnTo>
                <a:lnTo>
                  <a:pt x="19199" y="7493"/>
                </a:lnTo>
                <a:lnTo>
                  <a:pt x="17362" y="7493"/>
                </a:lnTo>
                <a:lnTo>
                  <a:pt x="17362" y="12828"/>
                </a:lnTo>
                <a:cubicBezTo>
                  <a:pt x="17362" y="15596"/>
                  <a:pt x="14786" y="18155"/>
                  <a:pt x="12018" y="18155"/>
                </a:cubicBezTo>
                <a:lnTo>
                  <a:pt x="10356" y="18155"/>
                </a:lnTo>
                <a:cubicBezTo>
                  <a:pt x="7588" y="18155"/>
                  <a:pt x="5012" y="15596"/>
                  <a:pt x="501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cc"/>
                </a:solidFill>
                <a:latin typeface="黑体"/>
                <a:ea typeface="黑体"/>
              </a:rPr>
              <a:t>保尔•柯察金经历的人生阶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6920" y="1699920"/>
            <a:ext cx="728352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一阶段：少年保尔的生活与反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二阶段：战士保尔在战场上奋勇杀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三阶段：建设者保尔的忘我工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　　　　（最动人心弦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四阶段：钢铁战士保尔与疾病顽强斗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8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8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8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cc"/>
                </a:solidFill>
                <a:latin typeface="Arial"/>
                <a:ea typeface="黑体"/>
              </a:rPr>
              <a:t>钢铁是什么含义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钢铁”指信念、意志和毅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钢铁是在烈火和骤冷中炼成的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这“烈火和骤冷”指特殊的、艰苦的环境和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件，在小说中具体体现为残酷的战争环境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恶劣的自然环境、艰苦的劳动条件以及常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难以忍受的病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ffcc"/>
                </a:solidFill>
                <a:latin typeface="Arial"/>
                <a:ea typeface="黑体"/>
              </a:rPr>
              <a:t>感　受　保　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在《钢铁是怎样炼成的》这本书众多形象中，你认为谁的形象最伟大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保尔的哪些事迹让你深受感动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③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人们一直以来是如何来看待这个人物形象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④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请你来评价保尔，说出你喜欢或者不喜欢的理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8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8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8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cc"/>
                </a:solidFill>
                <a:latin typeface="Arial"/>
                <a:ea typeface="黑体"/>
              </a:rPr>
              <a:t>体会作品主题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22960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　　　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当一位英国记者问作者为什么以《钢铁是怎样炼成的》为书名时，奥斯特洛夫斯基回答说：“钢是在烈火与骤冷中铸造而成的。只有这样它才能成为坚硬的，什么都不惧怕，我们这一代人也是在这样的斗争中、在艰苦的考验中锻炼出来的，并且学会了在生活面前不颓废。”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ffcc"/>
                </a:solidFill>
                <a:latin typeface="Arial"/>
              </a:rPr>
              <a:t>请结合这段材料提炼《钢铁是怎样炼成的》的主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9280" y="206028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明确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小说告诉人们，一个人只有在革命的艰难困苦中战胜敌人也战胜自己，只有在把自己的追求和祖国、人民的利益联系在一起的时候，才会创造出奇迹，才会成长为钢铁战士。</a:t>
            </a:r>
            <a:r>
              <a:rPr b="1" i="1" lang="zh-CN" sz="3600" spc="-1" strike="noStrike">
                <a:solidFill>
                  <a:srgbClr val="00ffcc"/>
                </a:solidFill>
                <a:latin typeface="Arial"/>
              </a:rPr>
              <a:t>革命者在斗争中百炼成钢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这是小说的重要主题。</a:t>
            </a:r>
            <a:r>
              <a:rPr b="0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ffcc"/>
                </a:solidFill>
                <a:latin typeface="Arial"/>
                <a:ea typeface="黑体"/>
              </a:rPr>
              <a:t>朗读材料，理解主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　　　人最宝贵的东西是生命，生命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　于人只有一次。人的一生应该是这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　度过的：当他回首往事的时候，他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　会因为虚度年华而悔恨，也不会因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　碌碌无为而羞耻；这样，在临死的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　候，他就能够说： “我的整个生命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　全部精力，都已经献给世界上最壮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　的事业——为人类的解放而斗争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8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8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8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8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8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8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8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cc"/>
                </a:solidFill>
                <a:latin typeface="Arial"/>
                <a:ea typeface="黑体"/>
              </a:rPr>
              <a:t>拓　展　训　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5280" y="2349000"/>
            <a:ext cx="8229600" cy="31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利用课余时间观看影视作品《钢铁是怎样炼成的》，试比较影视作品与书本作品的异同之处，并形成一篇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600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字文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 rot="21297000">
            <a:off x="1525320" y="2082960"/>
            <a:ext cx="5688000" cy="28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239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华文行楷"/>
              </a:rPr>
              <a:t>再见！</a:t>
            </a:r>
            <a:endParaRPr b="1" lang="en-US" sz="6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81" name=""/>
          <p:cNvSpPr/>
          <p:nvPr/>
        </p:nvSpPr>
        <p:spPr>
          <a:xfrm>
            <a:off x="4572000" y="6165720"/>
            <a:ext cx="10796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6666ff"/>
                </a:solidFill>
                <a:latin typeface="Arial"/>
              </a:rPr>
              <a:t>制作者：於洪伟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6666ff"/>
                </a:solidFill>
                <a:latin typeface="Arial"/>
              </a:rPr>
              <a:t>2010</a:t>
            </a:r>
            <a:r>
              <a:rPr b="0" lang="zh-CN" sz="800" spc="-1" strike="noStrike">
                <a:solidFill>
                  <a:srgbClr val="6666ff"/>
                </a:solidFill>
                <a:latin typeface="Arial"/>
              </a:rPr>
              <a:t>年</a:t>
            </a:r>
            <a:r>
              <a:rPr b="0" lang="zh-CN" sz="800" spc="-1" strike="noStrike">
                <a:solidFill>
                  <a:srgbClr val="6666ff"/>
                </a:solidFill>
                <a:latin typeface="Arial"/>
              </a:rPr>
              <a:t>7</a:t>
            </a:r>
            <a:r>
              <a:rPr b="0" lang="zh-CN" sz="800" spc="-1" strike="noStrike">
                <a:solidFill>
                  <a:srgbClr val="6666ff"/>
                </a:solidFill>
                <a:latin typeface="Arial"/>
              </a:rPr>
              <a:t>月</a:t>
            </a:r>
            <a:r>
              <a:rPr b="0" lang="zh-CN" sz="800" spc="-1" strike="noStrike">
                <a:solidFill>
                  <a:srgbClr val="6666ff"/>
                </a:solidFill>
                <a:latin typeface="Arial"/>
              </a:rPr>
              <a:t>25</a:t>
            </a:r>
            <a:r>
              <a:rPr b="0" lang="zh-CN" sz="800" spc="-1" strike="noStrike">
                <a:solidFill>
                  <a:srgbClr val="6666ff"/>
                </a:solidFill>
                <a:latin typeface="Arial"/>
              </a:rPr>
              <a:t>日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Arial"/>
                <a:ea typeface="黑体"/>
              </a:rPr>
              <a:t>教学目标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、指导学生提高读整本书的能力；引导学生用粗读和细读相结合的方法，了解全书的内容，熟悉精彩片断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、根据阅读需要参阅有关资料，了解作者经历、创作背景，理解作品的重要思想和重点内容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、从名著中汲取养分，形成钢铁般的意志，具有勇于献身的精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50920" y="1341000"/>
            <a:ext cx="8229600" cy="46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cc"/>
                </a:solidFill>
                <a:latin typeface="Arial"/>
                <a:ea typeface="楷体_GB2312"/>
              </a:rPr>
              <a:t>有这么一个人：做过小工，参加红军打过仗，负过伤，后来双目失明，全身瘫痪。在身陷绝境的情况下，他不甘心于等死，于是拿起唯一还能利用的武器——笔，不，说笔也不准确，因为后来他连笔也拿不动了，而是靠口述，请亲友笔录，历时三载，克服难以想象的困难，创作了一部不朽的杰作实现了重返战斗岗位的理想。大家知道这部书的名字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238560" y="333360"/>
            <a:ext cx="590544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　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奥斯特洛夫斯基，前苏联著名作家。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1927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年底，他着手创作一篇关于柯托夫斯基师团的“历史抒情英雄故事”即《暴风雨所诞生的》。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1929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年他全身瘫痪，双目失明。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1930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年，他用自己的战斗经历作素材，以顽强的意志开始创作长篇小说《钢铁是怎样炼成的》。小说获得了巨大的成功，受到同时代人的真诚而热烈的赞扬。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1935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年底，苏联政府授予他列宁勋章，以表彰他在文学方面的创造性劳动和卓越的贡献。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1936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年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12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月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22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日，奥斯特洛夫斯基在墨斯科逝世。但他塑造的保尔•柯察金形象却永远地留在了后人的心目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1268280"/>
            <a:ext cx="3467160" cy="52578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333360"/>
            <a:ext cx="30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cc"/>
                </a:solidFill>
                <a:latin typeface="Arial"/>
                <a:ea typeface="黑体"/>
              </a:rPr>
              <a:t>作者介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cc"/>
                </a:solidFill>
                <a:latin typeface="Arial"/>
                <a:ea typeface="黑体"/>
              </a:rPr>
              <a:t>整　体　感　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思考以下几个问题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A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、书中主要描写了哪几个人物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B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、保尔•柯察金一生经历了哪几个阶段？你认为小说中最动人心弦的是哪个篇章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C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、《钢铁是怎样炼成的》这个书名是不是真的讲“炼钢铁”的故事？如果不是，它到底指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900"/>
                            </p:stCondLst>
                            <p:childTnLst>
                              <p:par>
                                <p:cTn id="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540"/>
                            </p:stCondLst>
                            <p:childTnLst>
                              <p:par>
                                <p:cTn id="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060"/>
                            </p:stCondLst>
                            <p:childTnLst>
                              <p:par>
                                <p:cTn id="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cc"/>
                </a:solidFill>
                <a:latin typeface="Arial"/>
                <a:ea typeface="黑体"/>
              </a:rPr>
              <a:t>主　要　人　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050560" y="2492280"/>
            <a:ext cx="46198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保尔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·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柯察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朱赫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冬妮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丽达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2" action="ppaction://hlinksldjump"/>
          </p:cNvPr>
          <p:cNvSpPr/>
          <p:nvPr/>
        </p:nvSpPr>
        <p:spPr>
          <a:xfrm>
            <a:off x="6012000" y="2708280"/>
            <a:ext cx="647640" cy="433440"/>
          </a:xfrm>
          <a:custGeom>
            <a:avLst/>
            <a:gdLst>
              <a:gd name="textAreaLeft" fmla="*/ 28080 w 647640"/>
              <a:gd name="textAreaRight" fmla="*/ 619560 w 6476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32266" h="21600">
                <a:moveTo>
                  <a:pt x="0" y="0"/>
                </a:moveTo>
                <a:lnTo>
                  <a:pt x="32266" y="0"/>
                </a:lnTo>
                <a:lnTo>
                  <a:pt x="32266" y="21600"/>
                </a:lnTo>
                <a:lnTo>
                  <a:pt x="0" y="21600"/>
                </a:lnTo>
                <a:close/>
              </a:path>
              <a:path fill="lightenLess" w="32266" h="21600">
                <a:moveTo>
                  <a:pt x="0" y="0"/>
                </a:moveTo>
                <a:lnTo>
                  <a:pt x="32266" y="0"/>
                </a:lnTo>
                <a:lnTo>
                  <a:pt x="30866" y="1400"/>
                </a:lnTo>
                <a:lnTo>
                  <a:pt x="1400" y="1400"/>
                </a:lnTo>
                <a:close/>
              </a:path>
              <a:path fill="darken" w="32266" h="21600">
                <a:moveTo>
                  <a:pt x="32266" y="0"/>
                </a:moveTo>
                <a:lnTo>
                  <a:pt x="32266" y="21600"/>
                </a:lnTo>
                <a:lnTo>
                  <a:pt x="30866" y="20200"/>
                </a:lnTo>
                <a:lnTo>
                  <a:pt x="30866" y="1400"/>
                </a:lnTo>
                <a:close/>
              </a:path>
              <a:path fill="darkenLess" w="32266" h="21600">
                <a:moveTo>
                  <a:pt x="32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66" y="20200"/>
                </a:lnTo>
                <a:close/>
              </a:path>
              <a:path fill="lighten" w="32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66" h="21600">
                <a:moveTo>
                  <a:pt x="9126" y="3794"/>
                </a:moveTo>
                <a:lnTo>
                  <a:pt x="23139" y="10800"/>
                </a:lnTo>
                <a:lnTo>
                  <a:pt x="912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3" action="ppaction://hlinksldjump"/>
          </p:cNvPr>
          <p:cNvSpPr/>
          <p:nvPr/>
        </p:nvSpPr>
        <p:spPr>
          <a:xfrm>
            <a:off x="5508720" y="342900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3794"/>
                </a:moveTo>
                <a:lnTo>
                  <a:pt x="23206" y="10800"/>
                </a:lnTo>
                <a:lnTo>
                  <a:pt x="91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4" action="ppaction://hlinksldjump"/>
          </p:cNvPr>
          <p:cNvSpPr/>
          <p:nvPr/>
        </p:nvSpPr>
        <p:spPr>
          <a:xfrm>
            <a:off x="5435640" y="4149720"/>
            <a:ext cx="649080" cy="431640"/>
          </a:xfrm>
          <a:custGeom>
            <a:avLst/>
            <a:gdLst>
              <a:gd name="textAreaLeft" fmla="*/ 27720 w 649080"/>
              <a:gd name="textAreaRight" fmla="*/ 621360 w 649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72" h="21600">
                <a:moveTo>
                  <a:pt x="0" y="0"/>
                </a:moveTo>
                <a:lnTo>
                  <a:pt x="32472" y="0"/>
                </a:lnTo>
                <a:lnTo>
                  <a:pt x="32472" y="21600"/>
                </a:lnTo>
                <a:lnTo>
                  <a:pt x="0" y="21600"/>
                </a:lnTo>
                <a:close/>
              </a:path>
              <a:path fill="lightenLess" w="32472" h="21600">
                <a:moveTo>
                  <a:pt x="0" y="0"/>
                </a:moveTo>
                <a:lnTo>
                  <a:pt x="32472" y="0"/>
                </a:lnTo>
                <a:lnTo>
                  <a:pt x="31072" y="1400"/>
                </a:lnTo>
                <a:lnTo>
                  <a:pt x="1400" y="1400"/>
                </a:lnTo>
                <a:close/>
              </a:path>
              <a:path fill="darken" w="32472" h="21600">
                <a:moveTo>
                  <a:pt x="32472" y="0"/>
                </a:moveTo>
                <a:lnTo>
                  <a:pt x="32472" y="21600"/>
                </a:lnTo>
                <a:lnTo>
                  <a:pt x="31072" y="20200"/>
                </a:lnTo>
                <a:lnTo>
                  <a:pt x="31072" y="1400"/>
                </a:lnTo>
                <a:close/>
              </a:path>
              <a:path fill="darkenLess" w="32472" h="21600">
                <a:moveTo>
                  <a:pt x="32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72" y="20200"/>
                </a:lnTo>
                <a:close/>
              </a:path>
              <a:path fill="lighten" w="32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72" h="21600">
                <a:moveTo>
                  <a:pt x="9230" y="3794"/>
                </a:moveTo>
                <a:lnTo>
                  <a:pt x="23242" y="10800"/>
                </a:lnTo>
                <a:lnTo>
                  <a:pt x="923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5" action="ppaction://hlinksldjump"/>
          </p:cNvPr>
          <p:cNvSpPr/>
          <p:nvPr/>
        </p:nvSpPr>
        <p:spPr>
          <a:xfrm>
            <a:off x="5292720" y="4869000"/>
            <a:ext cx="649440" cy="433080"/>
          </a:xfrm>
          <a:custGeom>
            <a:avLst/>
            <a:gdLst>
              <a:gd name="textAreaLeft" fmla="*/ 28080 w 649440"/>
              <a:gd name="textAreaRight" fmla="*/ 621360 w 649440"/>
              <a:gd name="textAreaTop" fmla="*/ 28080 h 433080"/>
              <a:gd name="textAreaBottom" fmla="*/ 405000 h 433080"/>
            </a:gdLst>
            <a:ahLst/>
            <a:rect l="textAreaLeft" t="textAreaTop" r="textAreaRight" b="textAreaBottom"/>
            <a:pathLst>
              <a:path w="32382" h="21600">
                <a:moveTo>
                  <a:pt x="0" y="0"/>
                </a:moveTo>
                <a:lnTo>
                  <a:pt x="32382" y="0"/>
                </a:lnTo>
                <a:lnTo>
                  <a:pt x="32382" y="21600"/>
                </a:lnTo>
                <a:lnTo>
                  <a:pt x="0" y="21600"/>
                </a:lnTo>
                <a:close/>
              </a:path>
              <a:path fill="lightenLess" w="32382" h="21600">
                <a:moveTo>
                  <a:pt x="0" y="0"/>
                </a:moveTo>
                <a:lnTo>
                  <a:pt x="32382" y="0"/>
                </a:lnTo>
                <a:lnTo>
                  <a:pt x="30982" y="1400"/>
                </a:lnTo>
                <a:lnTo>
                  <a:pt x="1400" y="1400"/>
                </a:lnTo>
                <a:close/>
              </a:path>
              <a:path fill="darken" w="32382" h="21600">
                <a:moveTo>
                  <a:pt x="32382" y="0"/>
                </a:moveTo>
                <a:lnTo>
                  <a:pt x="32382" y="21600"/>
                </a:lnTo>
                <a:lnTo>
                  <a:pt x="30982" y="20200"/>
                </a:lnTo>
                <a:lnTo>
                  <a:pt x="30982" y="1400"/>
                </a:lnTo>
                <a:close/>
              </a:path>
              <a:path fill="darkenLess" w="32382" h="21600">
                <a:moveTo>
                  <a:pt x="323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2" y="20200"/>
                </a:lnTo>
                <a:close/>
              </a:path>
              <a:path fill="lighten" w="323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2" h="21600">
                <a:moveTo>
                  <a:pt x="9185" y="3794"/>
                </a:moveTo>
                <a:lnTo>
                  <a:pt x="23198" y="10800"/>
                </a:lnTo>
                <a:lnTo>
                  <a:pt x="918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6" action="ppaction://hlinksldjump"/>
          </p:cNvPr>
          <p:cNvSpPr/>
          <p:nvPr/>
        </p:nvSpPr>
        <p:spPr>
          <a:xfrm>
            <a:off x="7164360" y="5734080"/>
            <a:ext cx="936720" cy="574560"/>
          </a:xfrm>
          <a:custGeom>
            <a:avLst/>
            <a:gdLst>
              <a:gd name="textAreaLeft" fmla="*/ 37080 w 936720"/>
              <a:gd name="textAreaRight" fmla="*/ 899640 w 93672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35207" h="21600">
                <a:moveTo>
                  <a:pt x="0" y="0"/>
                </a:moveTo>
                <a:lnTo>
                  <a:pt x="35207" y="0"/>
                </a:lnTo>
                <a:lnTo>
                  <a:pt x="35207" y="21600"/>
                </a:lnTo>
                <a:lnTo>
                  <a:pt x="0" y="21600"/>
                </a:lnTo>
                <a:close/>
              </a:path>
              <a:path fill="lightenLess" w="35207" h="21600">
                <a:moveTo>
                  <a:pt x="0" y="0"/>
                </a:moveTo>
                <a:lnTo>
                  <a:pt x="35207" y="0"/>
                </a:lnTo>
                <a:lnTo>
                  <a:pt x="33807" y="1400"/>
                </a:lnTo>
                <a:lnTo>
                  <a:pt x="1400" y="1400"/>
                </a:lnTo>
                <a:close/>
              </a:path>
              <a:path fill="darken" w="35207" h="21600">
                <a:moveTo>
                  <a:pt x="35207" y="0"/>
                </a:moveTo>
                <a:lnTo>
                  <a:pt x="35207" y="21600"/>
                </a:lnTo>
                <a:lnTo>
                  <a:pt x="33807" y="20200"/>
                </a:lnTo>
                <a:lnTo>
                  <a:pt x="33807" y="1400"/>
                </a:lnTo>
                <a:close/>
              </a:path>
              <a:path fill="darkenLess" w="35207" h="21600">
                <a:moveTo>
                  <a:pt x="352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807" y="20200"/>
                </a:lnTo>
                <a:close/>
              </a:path>
              <a:path fill="lighten" w="352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207" h="21600">
                <a:moveTo>
                  <a:pt x="21102" y="10800"/>
                </a:moveTo>
                <a:lnTo>
                  <a:pt x="10597" y="17806"/>
                </a:lnTo>
                <a:lnTo>
                  <a:pt x="10597" y="3794"/>
                </a:lnTo>
                <a:close/>
              </a:path>
              <a:path fill="darken" w="35207" h="21600">
                <a:moveTo>
                  <a:pt x="22947" y="3794"/>
                </a:moveTo>
                <a:lnTo>
                  <a:pt x="22947" y="17806"/>
                </a:lnTo>
                <a:lnTo>
                  <a:pt x="24610" y="17806"/>
                </a:lnTo>
                <a:lnTo>
                  <a:pt x="24610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780"/>
                            </p:stCondLst>
                            <p:childTnLst>
                              <p:par>
                                <p:cTn id="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940"/>
                            </p:stCondLst>
                            <p:childTnLst>
                              <p:par>
                                <p:cTn id="1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100"/>
                            </p:stCondLst>
                            <p:childTnLst>
                              <p:par>
                                <p:cTn id="1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220"/>
                            </p:stCondLst>
                            <p:childTnLst>
                              <p:par>
                                <p:cTn id="1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720"/>
                            </p:stCondLst>
                            <p:childTnLst>
                              <p:par>
                                <p:cTn id="1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220"/>
                            </p:stCondLst>
                            <p:childTnLst>
                              <p:par>
                                <p:cTn id="1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720"/>
                            </p:stCondLst>
                            <p:childTnLst>
                              <p:par>
                                <p:cTn id="1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220"/>
                            </p:stCondLst>
                            <p:childTnLst>
                              <p:par>
                                <p:cTn id="1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250560" y="2349360"/>
            <a:ext cx="84978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　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保尔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·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柯察金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　个性倔强，充满青春活力，不畏困难，勇敢坚强，意志坚定。对共产主义事业抱着坚定不移的信念，的在革命斗争中锻炼和党的教育下成长的共产主义战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2" action="ppaction://hlinksldjump"/>
          </p:cNvPr>
          <p:cNvSpPr/>
          <p:nvPr/>
        </p:nvSpPr>
        <p:spPr>
          <a:xfrm>
            <a:off x="6948360" y="5661000"/>
            <a:ext cx="719280" cy="576360"/>
          </a:xfrm>
          <a:custGeom>
            <a:avLst/>
            <a:gdLst>
              <a:gd name="textAreaLeft" fmla="*/ 37080 w 719280"/>
              <a:gd name="textAreaRight" fmla="*/ 682200 w 719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6953" h="21600">
                <a:moveTo>
                  <a:pt x="0" y="0"/>
                </a:moveTo>
                <a:lnTo>
                  <a:pt x="26953" y="0"/>
                </a:lnTo>
                <a:lnTo>
                  <a:pt x="26953" y="21600"/>
                </a:lnTo>
                <a:lnTo>
                  <a:pt x="0" y="21600"/>
                </a:lnTo>
                <a:close/>
              </a:path>
              <a:path fill="lightenLess" w="26953" h="21600">
                <a:moveTo>
                  <a:pt x="0" y="0"/>
                </a:moveTo>
                <a:lnTo>
                  <a:pt x="26953" y="0"/>
                </a:lnTo>
                <a:lnTo>
                  <a:pt x="25553" y="1400"/>
                </a:lnTo>
                <a:lnTo>
                  <a:pt x="1400" y="1400"/>
                </a:lnTo>
                <a:close/>
              </a:path>
              <a:path fill="darken" w="26953" h="21600">
                <a:moveTo>
                  <a:pt x="26953" y="0"/>
                </a:moveTo>
                <a:lnTo>
                  <a:pt x="26953" y="21600"/>
                </a:lnTo>
                <a:lnTo>
                  <a:pt x="25553" y="20200"/>
                </a:lnTo>
                <a:lnTo>
                  <a:pt x="25553" y="1400"/>
                </a:lnTo>
                <a:close/>
              </a:path>
              <a:path fill="darkenLess" w="26953" h="21600">
                <a:moveTo>
                  <a:pt x="2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3" y="20200"/>
                </a:lnTo>
                <a:close/>
              </a:path>
              <a:path fill="lighten" w="2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3" h="21600">
                <a:moveTo>
                  <a:pt x="6470" y="7493"/>
                </a:moveTo>
                <a:lnTo>
                  <a:pt x="9978" y="7493"/>
                </a:lnTo>
                <a:lnTo>
                  <a:pt x="9978" y="12828"/>
                </a:lnTo>
                <a:cubicBezTo>
                  <a:pt x="9978" y="13751"/>
                  <a:pt x="10778" y="14482"/>
                  <a:pt x="11814" y="14482"/>
                </a:cubicBezTo>
                <a:lnTo>
                  <a:pt x="13476" y="14482"/>
                </a:lnTo>
                <a:cubicBezTo>
                  <a:pt x="14512" y="14482"/>
                  <a:pt x="15313" y="13751"/>
                  <a:pt x="15313" y="12828"/>
                </a:cubicBezTo>
                <a:lnTo>
                  <a:pt x="15313" y="7493"/>
                </a:lnTo>
                <a:lnTo>
                  <a:pt x="13476" y="7493"/>
                </a:lnTo>
                <a:lnTo>
                  <a:pt x="16984" y="3985"/>
                </a:lnTo>
                <a:lnTo>
                  <a:pt x="20657" y="7493"/>
                </a:lnTo>
                <a:lnTo>
                  <a:pt x="18820" y="7493"/>
                </a:lnTo>
                <a:lnTo>
                  <a:pt x="18820" y="12828"/>
                </a:lnTo>
                <a:cubicBezTo>
                  <a:pt x="18820" y="15596"/>
                  <a:pt x="16244" y="18155"/>
                  <a:pt x="13476" y="18155"/>
                </a:cubicBezTo>
                <a:lnTo>
                  <a:pt x="11814" y="18155"/>
                </a:lnTo>
                <a:cubicBezTo>
                  <a:pt x="9046" y="18155"/>
                  <a:pt x="6470" y="15596"/>
                  <a:pt x="6470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250920" y="1557000"/>
            <a:ext cx="8362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　朱赫来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　关心他人，勇于承认自己的错误，遇　事沉着，有主见，认真负责，雷厉风行，组织能力强，善解人意，对自己所走的道路十分了解，对敌人有火一般的愤怒与憎恨，不屈不挠地和剥削者作顽强的斗争。和保尔一起生活的时间里给他讲了许多革命道理，传授了许多革命知识，对保尔思想的成长起到了决定性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2" action="ppaction://hlinksldjump"/>
          </p:cNvPr>
          <p:cNvSpPr/>
          <p:nvPr/>
        </p:nvSpPr>
        <p:spPr>
          <a:xfrm>
            <a:off x="7236000" y="5950080"/>
            <a:ext cx="720720" cy="57456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27091" h="21600">
                <a:moveTo>
                  <a:pt x="0" y="0"/>
                </a:moveTo>
                <a:lnTo>
                  <a:pt x="27091" y="0"/>
                </a:lnTo>
                <a:lnTo>
                  <a:pt x="27091" y="21600"/>
                </a:lnTo>
                <a:lnTo>
                  <a:pt x="0" y="21600"/>
                </a:lnTo>
                <a:close/>
              </a:path>
              <a:path fill="lightenLess" w="27091" h="21600">
                <a:moveTo>
                  <a:pt x="0" y="0"/>
                </a:moveTo>
                <a:lnTo>
                  <a:pt x="27091" y="0"/>
                </a:lnTo>
                <a:lnTo>
                  <a:pt x="25691" y="1400"/>
                </a:lnTo>
                <a:lnTo>
                  <a:pt x="1400" y="1400"/>
                </a:lnTo>
                <a:close/>
              </a:path>
              <a:path fill="darken" w="27091" h="21600">
                <a:moveTo>
                  <a:pt x="27091" y="0"/>
                </a:moveTo>
                <a:lnTo>
                  <a:pt x="27091" y="21600"/>
                </a:lnTo>
                <a:lnTo>
                  <a:pt x="25691" y="20200"/>
                </a:lnTo>
                <a:lnTo>
                  <a:pt x="25691" y="1400"/>
                </a:lnTo>
                <a:close/>
              </a:path>
              <a:path fill="darkenLess" w="27091" h="21600">
                <a:moveTo>
                  <a:pt x="270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91" y="20200"/>
                </a:lnTo>
                <a:close/>
              </a:path>
              <a:path fill="lighten" w="270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91" h="21600">
                <a:moveTo>
                  <a:pt x="6539" y="7493"/>
                </a:moveTo>
                <a:lnTo>
                  <a:pt x="10047" y="7493"/>
                </a:lnTo>
                <a:lnTo>
                  <a:pt x="10047" y="12828"/>
                </a:lnTo>
                <a:cubicBezTo>
                  <a:pt x="10047" y="13751"/>
                  <a:pt x="10847" y="14482"/>
                  <a:pt x="11883" y="14482"/>
                </a:cubicBezTo>
                <a:lnTo>
                  <a:pt x="13546" y="14482"/>
                </a:lnTo>
                <a:cubicBezTo>
                  <a:pt x="14581" y="14482"/>
                  <a:pt x="15382" y="13751"/>
                  <a:pt x="15382" y="12828"/>
                </a:cubicBezTo>
                <a:lnTo>
                  <a:pt x="15382" y="7493"/>
                </a:lnTo>
                <a:lnTo>
                  <a:pt x="13546" y="7493"/>
                </a:lnTo>
                <a:lnTo>
                  <a:pt x="17053" y="3985"/>
                </a:lnTo>
                <a:lnTo>
                  <a:pt x="20726" y="7493"/>
                </a:lnTo>
                <a:lnTo>
                  <a:pt x="18890" y="7493"/>
                </a:lnTo>
                <a:lnTo>
                  <a:pt x="18890" y="12828"/>
                </a:lnTo>
                <a:cubicBezTo>
                  <a:pt x="18890" y="15596"/>
                  <a:pt x="16313" y="18155"/>
                  <a:pt x="13546" y="18155"/>
                </a:cubicBezTo>
                <a:lnTo>
                  <a:pt x="11883" y="18155"/>
                </a:lnTo>
                <a:cubicBezTo>
                  <a:pt x="9115" y="18155"/>
                  <a:pt x="6539" y="15596"/>
                  <a:pt x="6539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30T07:33:11Z</dcterms:created>
  <dc:creator>why</dc:creator>
  <dc:description/>
  <dc:language>en-US</dc:language>
  <cp:lastModifiedBy>新课标第一网</cp:lastModifiedBy>
  <dcterms:modified xsi:type="dcterms:W3CDTF">2011-09-27T05:33:14Z</dcterms:modified>
  <cp:revision>15</cp:revision>
  <dc:subject/>
  <dc:title>幻灯片 1</dc:title>
</cp:coreProperties>
</file>