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654-45B8-4381-B5D5-FF130E34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92B-81B8-40F9-9E9F-75FB5D3C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6B9-FF82-4B80-AE77-16436D30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79F-4535-4DC8-AA33-6C7E8FDC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F70-5EAF-4C62-B617-307E7E24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23DD-395D-424D-B669-0FC50345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31A5-A03A-4731-9C14-EBD6DD2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9D14-3405-461F-8630-2580322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6E2-D49D-4543-BDE5-053B3B4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3B4F-0F87-4B46-B3E3-219F7428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6B7C-4AED-45C6-A49E-193C975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0AC-50FA-4766-9C43-BDB4B227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AC7-25A6-4B30-AC0A-7404FA2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379C-B7D8-4171-B23A-C059CEF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DC5-4A92-4737-AF0C-9EB026A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16C4-9F6E-405F-B6BF-D2E7F5E6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643-C3F2-40B2-A4C7-EE6D4AA3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6E15-0FA5-479F-8936-1376576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6D62-3888-4737-887D-DE63B12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BFB6-4D55-4695-970E-DBC5146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D298-04C8-4D80-88A2-CD900AE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9A31-C7B2-483F-8A28-FFC8911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D24-3FD5-4F52-B63D-50FF2A9C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CF70-095B-4FE4-8A18-2D4DF71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93C0-2F54-4274-B6DB-8442859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1510-B024-4532-AC48-7BBD664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9A81-AB8C-451F-9E5D-420FB4F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6F16-E8AC-4DEC-8241-5C38E1CB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E8CE-26DA-4E1B-8D40-8FD5C4A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119F-90D8-4EB1-9B40-935300E9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A90C-32B0-4491-BDFE-85D9FD3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FEE8-216E-4999-BCD1-3942C9C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E794-9026-4B4D-B4D6-D18C094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C1C-D575-48CE-B96A-E2238E3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C41C-C931-48EE-8E4B-999E75C9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03C1-58C9-411D-934C-2569C9F2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44BA-178B-46B7-B178-69BF2A1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CCD5-F07E-4B87-B342-FF589C0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2B68-0855-4227-A651-A9D2FE6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54AB-4103-45AA-9C0A-CE7A553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9087-04C1-4E23-9D22-F6E8303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2D91-05B7-47A7-9BCD-726F0C5A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AC0B-B929-4EAB-A07A-794B2921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026-0C00-48EC-89C9-6DDCC43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DC9-37DD-4B18-ABD4-67E9440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A95-A7D9-4D5A-8B06-13B55DC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F1-2723-4E12-B8FB-8CE16F0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1E7-1867-48E8-8936-B3E1451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215-86E0-4055-A4BF-85979C9B9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D30-F9C6-42F6-969A-5F3656D52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BA8-40FA-4CCC-B13A-5E2AE3D576C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312-4216-45BC-A98E-E3AE7FFBBE4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7,12,&#24187;&#28783;&#29255; 12" TargetMode="External"/><Relationship Id="rId3" Type="http://schemas.openxmlformats.org/officeDocument/2006/relationships/hyperlink" Target="257,13,&#24187;&#28783;&#29255; 13" TargetMode="External"/><Relationship Id="rId4" Type="http://schemas.openxmlformats.org/officeDocument/2006/relationships/hyperlink" Target="257,14,&#24187;&#28783;&#29255; 14" TargetMode="External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baike.baidu.com/view/437022.htm" TargetMode="External"/><Relationship Id="rId3" Type="http://schemas.openxmlformats.org/officeDocument/2006/relationships/hyperlink" Target="http://baike.baidu.com/view/366287.htm" TargetMode="External"/><Relationship Id="rId4" Type="http://schemas.openxmlformats.org/officeDocument/2006/relationships/hyperlink" Target="http://baike.baidu.com/view/4380.htm" TargetMode="External"/><Relationship Id="rId5" Type="http://schemas.openxmlformats.org/officeDocument/2006/relationships/hyperlink" Target="http://baike.baidu.com/view/3694.htm" TargetMode="External"/><Relationship Id="rId6" Type="http://schemas.openxmlformats.org/officeDocument/2006/relationships/hyperlink" Target="http://baike.baidu.com/view/20375.htm" TargetMode="External"/><Relationship Id="rId7" Type="http://schemas.openxmlformats.org/officeDocument/2006/relationships/hyperlink" Target="http://baike.baidu.com/view/66794.htm" TargetMode="External"/><Relationship Id="rId8" Type="http://schemas.openxmlformats.org/officeDocument/2006/relationships/hyperlink" Target="http://baike.baidu.com/view/45083.htm" TargetMode="External"/><Relationship Id="rId9" Type="http://schemas.openxmlformats.org/officeDocument/2006/relationships/hyperlink" Target="http://baike.baidu.com/view/66893.htm" TargetMode="External"/><Relationship Id="rId10" Type="http://schemas.openxmlformats.org/officeDocument/2006/relationships/hyperlink" Target="http://baike.baidu.com/view/15168.htm" TargetMode="External"/><Relationship Id="rId11" Type="http://schemas.openxmlformats.org/officeDocument/2006/relationships/hyperlink" Target="http://baike.baidu.com/view/50143.htm" TargetMode="External"/><Relationship Id="rId12" Type="http://schemas.openxmlformats.org/officeDocument/2006/relationships/hyperlink" Target="http://baike.baidu.com/view/5199.htm" TargetMode="External"/><Relationship Id="rId13" Type="http://schemas.openxmlformats.org/officeDocument/2006/relationships/hyperlink" Target="http://baike.baidu.com/view/6255.htm" TargetMode="External"/><Relationship Id="rId14" Type="http://schemas.openxmlformats.org/officeDocument/2006/relationships/hyperlink" Target="http://baike.baidu.com/view/44520.htm" TargetMode="External"/><Relationship Id="rId15" Type="http://schemas.openxmlformats.org/officeDocument/2006/relationships/hyperlink" Target="http://baike.baidu.com/view/16652.htm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7,4,&#24187;&#28783;&#29255; 4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197000"/>
            <a:ext cx="8076960" cy="28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162920" cy="2438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1052640"/>
            <a:ext cx="304560" cy="32004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32720" y="1052640"/>
            <a:ext cx="304920" cy="32004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05120" y="1828800"/>
            <a:ext cx="51814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龟虽寿</a:t>
            </a:r>
            <a:endParaRPr b="1" lang="en-US" sz="8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1280" y="4508640"/>
            <a:ext cx="1542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曹操</a:t>
            </a:r>
            <a:endParaRPr b="1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-54000" y="6811920"/>
            <a:ext cx="54000" cy="92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43640" y="616572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0"/>
            <a:ext cx="280836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诵读欣赏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51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476280"/>
            <a:ext cx="799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全诗抒发作者何种思想感情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198900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本诗表现了作者达观、积极的人生态度和自强不息的奋斗精神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0" y="1557360"/>
            <a:ext cx="8543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260280"/>
            <a:ext cx="3391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探讨研究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1341360"/>
            <a:ext cx="720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探讨诗歌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写作思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2492280"/>
            <a:ext cx="7272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全诗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核心句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是哪几句？表现了诗人怎样的精神气概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005360"/>
            <a:ext cx="74170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这首咏志诗在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写法上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有什么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0" y="1557360"/>
            <a:ext cx="8543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2360" y="476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行楷"/>
              </a:rPr>
              <a:t>写作思路：</a:t>
            </a:r>
            <a:endParaRPr b="1" i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333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人生哲理的感叹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2492280"/>
            <a:ext cx="0" cy="79236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2720" y="1197000"/>
            <a:ext cx="45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壮怀激烈的高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4000" y="4149720"/>
            <a:ext cx="0" cy="79200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1125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哲理的思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2360" y="1917720"/>
            <a:ext cx="83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全诗的核心句</a:t>
            </a: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老骥伏枥，志在千里；烈士暮年，壮心不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720" y="3284640"/>
            <a:ext cx="83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达了诗人为统一全国而继续奋斗的雄心壮志，抒发了老当益壮，积极进取的情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1557360"/>
            <a:ext cx="8543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160" y="351000"/>
            <a:ext cx="75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写法上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先比喻后直抒胸臆</a:t>
            </a:r>
            <a:r>
              <a:rPr b="1" lang="en-US" sz="4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197000"/>
            <a:ext cx="82850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表现了诗人自强不息，老当益壮的进取精神和豪迈气概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艺术特色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：气魄雄伟，语言质朴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1219320"/>
            <a:ext cx="259092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神龟、腾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1219320"/>
            <a:ext cx="259056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Times New Roman"/>
                <a:ea typeface="黑体"/>
              </a:rPr>
              <a:t>寿命有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514600"/>
            <a:ext cx="259092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老骥、暮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514600"/>
            <a:ext cx="259056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Times New Roman"/>
                <a:ea typeface="黑体"/>
              </a:rPr>
              <a:t>继续奋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809880"/>
            <a:ext cx="259092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性命在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3809880"/>
            <a:ext cx="2590560" cy="91440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Times New Roman"/>
                <a:ea typeface="黑体"/>
              </a:rPr>
              <a:t>延年益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1905120"/>
            <a:ext cx="1600200" cy="304560"/>
          </a:xfrm>
          <a:prstGeom prst="rightArrow">
            <a:avLst>
              <a:gd name="adj1" fmla="val 50000"/>
              <a:gd name="adj2" fmla="val 13135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3200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44956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56200" y="1258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黑体"/>
              </a:rPr>
              <a:t>为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56200" y="2575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黑体"/>
              </a:rPr>
              <a:t>自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6200" y="388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黑体"/>
              </a:rPr>
              <a:t>否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4267080"/>
            <a:ext cx="4572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10480" y="1828800"/>
            <a:ext cx="0" cy="243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1828800"/>
            <a:ext cx="4572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2084400"/>
            <a:ext cx="6379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呼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应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8288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828800"/>
            <a:ext cx="0" cy="10666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895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514600"/>
            <a:ext cx="3808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514600"/>
            <a:ext cx="0" cy="388620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6400800"/>
            <a:ext cx="70102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67480" y="4724280"/>
            <a:ext cx="0" cy="16765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47280" y="502920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幼圆"/>
              </a:rPr>
              <a:t>千里之志，建筑在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幼圆"/>
              </a:rPr>
              <a:t>极进取的人生态度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00400" y="304920"/>
            <a:ext cx="278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龟虽寿</a:t>
            </a:r>
            <a:endParaRPr b="1" lang="en-US" sz="7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00" y="44280"/>
            <a:ext cx="3286440" cy="9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隶书"/>
              </a:rPr>
              <a:t>作者简介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87280" y="333000"/>
            <a:ext cx="626580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曹操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（公元</a:t>
            </a:r>
            <a:r>
              <a:rPr b="1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155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</a:t>
            </a:r>
            <a:r>
              <a:rPr b="1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月</a:t>
            </a:r>
            <a:r>
              <a:rPr b="1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18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日～公元</a:t>
            </a:r>
            <a:r>
              <a:rPr b="1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220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），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孟德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，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2"/>
              </a:rPr>
              <a:t>沛国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3"/>
              </a:rPr>
              <a:t>谯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（今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4"/>
              </a:rPr>
              <a:t>安徽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5"/>
              </a:rPr>
              <a:t>亳州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）人。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6"/>
              </a:rPr>
              <a:t>东汉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末年杰出的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7"/>
              </a:rPr>
              <a:t>政治家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8"/>
              </a:rPr>
              <a:t>军事家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9"/>
              </a:rPr>
              <a:t>文学家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0"/>
              </a:rPr>
              <a:t>诗人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2400" spc="-1" strike="noStrike" u="sng">
                <a:solidFill>
                  <a:srgbClr val="003399"/>
                </a:solidFill>
                <a:uFillTx/>
                <a:latin typeface="华文新魏"/>
                <a:ea typeface="华文新魏"/>
              </a:rPr>
              <a:t>汉族人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。在政治军事方面，曹操消灭了众多割据势力，统一了中国北方大部分区域，并实行一系列政策恢复经济生产和社会秩序，奠定了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1"/>
              </a:rPr>
              <a:t>曹魏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立国的基础。文学方面，在曹操父子的推动下形成了以“三曹”</a:t>
            </a:r>
            <a:r>
              <a:rPr b="1" lang="zh-CN" sz="2400" spc="-1" strike="noStrike">
                <a:solidFill>
                  <a:srgbClr val="3366ff"/>
                </a:solidFill>
                <a:latin typeface="华文新魏"/>
                <a:ea typeface="华文新魏"/>
              </a:rPr>
              <a:t>（曹操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2"/>
              </a:rPr>
              <a:t>曹丕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3"/>
              </a:rPr>
              <a:t>曹植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为代表的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4"/>
              </a:rPr>
              <a:t>建安文学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，史称“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新魏"/>
                <a:ea typeface="华文新魏"/>
                <a:hlinkClick r:id="rId15"/>
              </a:rPr>
              <a:t>建安风骨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”，在文学史上留下了光辉的一笔。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其诗今存二十一首，都是乐府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风格悲凉慷慨，气韵沉雄，古直悲凉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。四言诗成就尤其突出，今有曹操集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问世。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曹魏建立后，曹操被追尊为“武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帝”，庙号“太祖”，史称魏武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0" y="1125360"/>
            <a:ext cx="295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5900"/>
                </a:solidFill>
                <a:latin typeface="隶书"/>
                <a:ea typeface="隶书"/>
              </a:rPr>
              <a:t>写作背景 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02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首诗是曹操的乐府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步出夏门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最后一章，写在他平定乌桓叛乱、消灭袁绍残余势力之后，南下征讨荆、吴之前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曹操以统一天下为己任。他一生南征北战，历尽艰辛，既有过胜利的喜悦，也尝过失败的痛苦。但他从不消极，总是主动进取，虽届暮年，还是老当益壮，不失雄心壮志。这是他写这首诗的思想基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4936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微软简隶书"/>
              </a:rPr>
              <a:t>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微软简隶书"/>
              </a:rPr>
              <a:t>《龟虽寿》的体裁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微软简隶书"/>
              </a:rPr>
              <a:t>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微软简隶书"/>
              </a:rPr>
              <a:t>乐府诗，四言古风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42100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微软简隶书"/>
              </a:rPr>
              <a:t>古今意义差别较大的字词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bf7ff"/>
                </a:solidFill>
                <a:latin typeface="Arial"/>
              </a:rPr>
              <a:t>　  </a:t>
            </a:r>
            <a:r>
              <a:rPr b="0" lang="zh-CN" sz="4800" spc="-1" strike="noStrike">
                <a:solidFill>
                  <a:srgbClr val="0000ff"/>
                </a:solidFill>
                <a:latin typeface="微软简隶书"/>
                <a:ea typeface="微软简隶书"/>
              </a:rPr>
              <a:t>烈士：有雄心壮志的人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微软简隶书"/>
                <a:ea typeface="微软简隶书"/>
              </a:rPr>
              <a:t>　 不但</a:t>
            </a:r>
            <a:r>
              <a:rPr b="0" lang="en-US" sz="4800" spc="-1" strike="noStrike">
                <a:solidFill>
                  <a:srgbClr val="0000ff"/>
                </a:solidFill>
                <a:latin typeface="微软简隶书"/>
                <a:ea typeface="微软简隶书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微软简隶书"/>
                <a:ea typeface="微软简隶书"/>
              </a:rPr>
              <a:t>不仅仅，不只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7720" y="351000"/>
            <a:ext cx="79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神龟虽寿，犹有竟时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腾蛇乘雾，终为土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205000"/>
            <a:ext cx="85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以神龟和腾蛇为喻，极言生命有限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四句话的言外之意是，像神龟和腾蛇这样的神物都不能不受自然规律的限制，更何况人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人生哲理的感叹 ：人生必须尊重自然规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0"/>
            <a:ext cx="63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老骥伏枥，志在千里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烈士暮年，壮心不已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584360"/>
            <a:ext cx="9144000" cy="33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26f8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4426f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4426f8"/>
                </a:solidFill>
                <a:latin typeface="Arial"/>
              </a:rPr>
              <a:t>运用比喻的修辞，表达了诗人为统一全国而继续奋斗的雄心壮志，抒发了老当益壮，积极进取的情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全诗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核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诗人写此诗时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，故以“老骥”自况，又称暮年，但他还要继续奋斗，所以又说“志在千里”“壮心不已”。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他的“志”就是决心为此奋斗终生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壮怀激烈的高唱：积极进取，自强不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1557360"/>
            <a:ext cx="8543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0"/>
            <a:ext cx="820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盈缩之期，不但在天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养怡之福，可得永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7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人的寿命的长短，不完全决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于天。只要保持身心健康，就能延年益寿。这里可见诗人对“天命”持否定态度，而对事在人为抱有信心和乐观精神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哲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既要尊重自然规律，又要积极进取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曹操所云“养怡之福”指什么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56144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个人精神状态是最重要的，不应因年暮而消沉，而要“壮心不已”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要有永不停止的理想追求和积极进取精神，永远乐观奋发，自强不息，保持思想上的青春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2421000"/>
            <a:ext cx="860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1557360"/>
            <a:ext cx="8543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476280"/>
            <a:ext cx="792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幸甚至哉，歌以咏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628640"/>
            <a:ext cx="784872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这是配乐时加上去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每章结尾都有，一般与诗的内容联系不紧密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ccff"/>
                </a:solidFill>
                <a:uFillTx/>
                <a:latin typeface="Arial"/>
              </a:rPr>
              <a:t>起到画龙点睛的作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28:32Z</dcterms:created>
  <dc:creator>txh</dc:creator>
  <dc:description/>
  <dc:language>en-US</dc:language>
  <cp:lastModifiedBy>User</cp:lastModifiedBy>
  <cp:lastPrinted>1899-12-30T00:00:00Z</cp:lastPrinted>
  <dcterms:modified xsi:type="dcterms:W3CDTF">2013-11-28T14:04:3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