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2.gif" ContentType="image/gif"/>
  <Override PartName="/ppt/media/image11.gif" ContentType="image/gif"/>
  <Override PartName="/ppt/media/image9.gif" ContentType="image/gif"/>
  <Override PartName="/ppt/media/%E6%8C%89%E9%92%AE%E9%9F%B3%E6%95%88.wav" ContentType="audio/x-wav"/>
  <Override PartName="/ppt/media/image8.jpeg" ContentType="image/jpeg"/>
  <Override PartName="/ppt/media/image10.gif" ContentType="image/gif"/>
  <Override PartName="/ppt/media/image5.gif" ContentType="image/gif"/>
  <Override PartName="/ppt/media/image19.gif" ContentType="image/gif"/>
  <Override PartName="/ppt/media/image1.gif" ContentType="image/gif"/>
  <Override PartName="/ppt/media/image6.jpeg" ContentType="image/jpeg"/>
  <Override PartName="/ppt/media/glass.wav" ContentType="audio/x-wav"/>
  <Override PartName="/ppt/media/image3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7.png" ContentType="image/png"/>
  <Override PartName="/ppt/media/image14.gif" ContentType="image/gif"/>
  <Override PartName="/ppt/media/image2.jpeg" ContentType="image/jpeg"/>
  <Override PartName="/ppt/media/image7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B60-5F5F-4B5B-A8A9-56652886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B1D-DA1E-4B98-8541-97D465E9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39C-FDC1-4116-A0EC-CC4FC545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616-909F-4785-89D1-27E19E66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52E-EFDF-47A7-93E6-01D1422C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4F0-DE5A-4295-BBAC-155B5E05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497-188A-4587-BB57-57CA3DA0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425-7F90-474E-B49C-22D6025C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0F8-8D3C-4ECE-8E20-102EFC2D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A01-354F-4F8F-B585-AD5C3CB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916-D1B1-4C72-A3EB-1BED75A5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7C3-B6D9-4039-9205-CB10D0A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4ABD-A8E1-4AD3-BE7D-B20E29B932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audio" Target="../media/&#25353;&#38062;&#38899;&#25928;.wav"/><Relationship Id="rId4" Type="http://schemas.openxmlformats.org/officeDocument/2006/relationships/audio" Target="../media/chimes.wav"/><Relationship Id="rId5" Type="http://schemas.openxmlformats.org/officeDocument/2006/relationships/audio" Target="../media/&#25353;&#38062;&#38899;&#25928;.wav"/><Relationship Id="rId6" Type="http://schemas.openxmlformats.org/officeDocument/2006/relationships/audio" Target="../media/chimes.wav"/><Relationship Id="rId7" Type="http://schemas.openxmlformats.org/officeDocument/2006/relationships/audio" Target="../media/&#25353;&#38062;&#38899;&#25928;.wav"/><Relationship Id="rId8" Type="http://schemas.openxmlformats.org/officeDocument/2006/relationships/audio" Target="../media/chimes.wav"/><Relationship Id="rId9" Type="http://schemas.openxmlformats.org/officeDocument/2006/relationships/audio" Target="../media/glas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诗选自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乐府诗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步出夏门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最后一章即第四章。其他三章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观沧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冬十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土不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龟虽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现了作者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雄心壮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积极进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精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75" descr="t01a6f49c48dd073d41"/>
          <p:cNvPicPr/>
          <p:nvPr/>
        </p:nvPicPr>
        <p:blipFill>
          <a:blip r:embed="rId1"/>
          <a:stretch/>
        </p:blipFill>
        <p:spPr>
          <a:xfrm>
            <a:off x="3708360" y="4581360"/>
            <a:ext cx="543564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但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仅，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养怡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调养身心，保持身心健康。怡，愉快、和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久。永年：长寿，活得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幸甚至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庆幸得很，好极了。幸，庆幸。至，极点。最后两句每章都有，应为合乐时的套语，与正文内容没有直接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3315" descr="t01791e969b9c2aa868"/>
          <p:cNvPicPr/>
          <p:nvPr/>
        </p:nvPicPr>
        <p:blipFill>
          <a:blip r:embed="rId1"/>
          <a:stretch/>
        </p:blipFill>
        <p:spPr>
          <a:xfrm>
            <a:off x="4572000" y="5345280"/>
            <a:ext cx="457200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神龟虽然十分长寿，但生命终究会有结束的一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腾蛇尽管能腾云乘雾飞行，但终究也会死亡化为土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老的千里马虽然伏在马槽旁，雄心壮志仍是驰骋千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4339" descr="A3_063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壮志凌云的人士即便到了晚年，奋发思进的心也永不止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寿命长短，不只是由上天决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调养好身心，就定可以益寿延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真是幸运极了，用歌唱来表达自己的思想感情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5363" descr="t01111c265b0c57e2ae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层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——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句，苍生伟大，然盛衰更替，令人悲怆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层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——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句，豪情壮志，向往未来，高亢激昂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层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——1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句，修身养性，身心和乐，永葆青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6387" descr="4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龟虽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什么体裁的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乐府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老骥伏枥，志在千里．”所采用的写作手法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7411" descr="大门"/>
          <p:cNvPicPr/>
          <p:nvPr/>
        </p:nvPicPr>
        <p:blipFill>
          <a:blip r:embed="rId1"/>
          <a:stretch/>
        </p:blipFill>
        <p:spPr>
          <a:xfrm>
            <a:off x="5724360" y="4149720"/>
            <a:ext cx="341964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“烈士”是什么意思？本诗表达了作者的什么思想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⑴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烈士：指能建功立业的人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⑵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表达了作者不服老、不信天、奋发有为、老当益壮的雄心壮志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8435" descr="t0177c2012190e46588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4577"/>
          <p:cNvSpPr/>
          <p:nvPr/>
        </p:nvSpPr>
        <p:spPr>
          <a:xfrm>
            <a:off x="1116000" y="1197000"/>
            <a:ext cx="2590920" cy="91440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神龟腾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4578"/>
          <p:cNvSpPr/>
          <p:nvPr/>
        </p:nvSpPr>
        <p:spPr>
          <a:xfrm>
            <a:off x="5651640" y="1341360"/>
            <a:ext cx="2681280" cy="1057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寿命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4579"/>
          <p:cNvSpPr/>
          <p:nvPr/>
        </p:nvSpPr>
        <p:spPr>
          <a:xfrm>
            <a:off x="1116000" y="2492280"/>
            <a:ext cx="2590920" cy="91440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老骥暮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4580"/>
          <p:cNvSpPr/>
          <p:nvPr/>
        </p:nvSpPr>
        <p:spPr>
          <a:xfrm>
            <a:off x="5508720" y="2565360"/>
            <a:ext cx="2665440" cy="100800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继续奋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4581"/>
          <p:cNvSpPr/>
          <p:nvPr/>
        </p:nvSpPr>
        <p:spPr>
          <a:xfrm>
            <a:off x="1042920" y="3716280"/>
            <a:ext cx="2737080" cy="144144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性命在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4582"/>
          <p:cNvSpPr/>
          <p:nvPr/>
        </p:nvSpPr>
        <p:spPr>
          <a:xfrm>
            <a:off x="5580000" y="3789360"/>
            <a:ext cx="2592360" cy="13683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延年益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4583"/>
          <p:cNvSpPr/>
          <p:nvPr/>
        </p:nvSpPr>
        <p:spPr>
          <a:xfrm>
            <a:off x="144792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右箭头 24584"/>
          <p:cNvSpPr/>
          <p:nvPr/>
        </p:nvSpPr>
        <p:spPr>
          <a:xfrm>
            <a:off x="3851280" y="1916280"/>
            <a:ext cx="1600200" cy="304560"/>
          </a:xfrm>
          <a:prstGeom prst="rightArrow">
            <a:avLst>
              <a:gd name="adj1" fmla="val 50000"/>
              <a:gd name="adj2" fmla="val 1313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右箭头 24585"/>
          <p:cNvSpPr/>
          <p:nvPr/>
        </p:nvSpPr>
        <p:spPr>
          <a:xfrm>
            <a:off x="3886200" y="32004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右箭头 24586"/>
          <p:cNvSpPr/>
          <p:nvPr/>
        </p:nvSpPr>
        <p:spPr>
          <a:xfrm>
            <a:off x="3809880" y="449568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4587"/>
          <p:cNvSpPr/>
          <p:nvPr/>
        </p:nvSpPr>
        <p:spPr>
          <a:xfrm>
            <a:off x="4152960" y="1258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为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4588"/>
          <p:cNvSpPr/>
          <p:nvPr/>
        </p:nvSpPr>
        <p:spPr>
          <a:xfrm>
            <a:off x="4152960" y="2575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自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4589"/>
          <p:cNvSpPr/>
          <p:nvPr/>
        </p:nvSpPr>
        <p:spPr>
          <a:xfrm>
            <a:off x="4152960" y="3886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否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24590"/>
          <p:cNvSpPr/>
          <p:nvPr/>
        </p:nvSpPr>
        <p:spPr>
          <a:xfrm>
            <a:off x="8153280" y="4267080"/>
            <a:ext cx="457200" cy="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4591"/>
          <p:cNvSpPr/>
          <p:nvPr/>
        </p:nvSpPr>
        <p:spPr>
          <a:xfrm>
            <a:off x="8610480" y="1828800"/>
            <a:ext cx="0" cy="243828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24592"/>
          <p:cNvSpPr/>
          <p:nvPr/>
        </p:nvSpPr>
        <p:spPr>
          <a:xfrm>
            <a:off x="8153280" y="1828800"/>
            <a:ext cx="457200" cy="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4593"/>
          <p:cNvSpPr/>
          <p:nvPr/>
        </p:nvSpPr>
        <p:spPr>
          <a:xfrm>
            <a:off x="8231400" y="2084400"/>
            <a:ext cx="63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24594"/>
          <p:cNvSpPr/>
          <p:nvPr/>
        </p:nvSpPr>
        <p:spPr>
          <a:xfrm>
            <a:off x="838080" y="18288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24595"/>
          <p:cNvSpPr/>
          <p:nvPr/>
        </p:nvSpPr>
        <p:spPr>
          <a:xfrm>
            <a:off x="838080" y="1828800"/>
            <a:ext cx="0" cy="106668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24596"/>
          <p:cNvSpPr/>
          <p:nvPr/>
        </p:nvSpPr>
        <p:spPr>
          <a:xfrm>
            <a:off x="838080" y="28954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4597"/>
          <p:cNvSpPr/>
          <p:nvPr/>
        </p:nvSpPr>
        <p:spPr>
          <a:xfrm>
            <a:off x="457200" y="2514600"/>
            <a:ext cx="380880" cy="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24598"/>
          <p:cNvSpPr/>
          <p:nvPr/>
        </p:nvSpPr>
        <p:spPr>
          <a:xfrm>
            <a:off x="457200" y="2514600"/>
            <a:ext cx="0" cy="388620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24599"/>
          <p:cNvSpPr/>
          <p:nvPr/>
        </p:nvSpPr>
        <p:spPr>
          <a:xfrm>
            <a:off x="457200" y="6400800"/>
            <a:ext cx="7010280" cy="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24600"/>
          <p:cNvSpPr/>
          <p:nvPr/>
        </p:nvSpPr>
        <p:spPr>
          <a:xfrm>
            <a:off x="7467480" y="4724280"/>
            <a:ext cx="0" cy="167652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24601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4602"/>
          <p:cNvSpPr/>
          <p:nvPr/>
        </p:nvSpPr>
        <p:spPr>
          <a:xfrm>
            <a:off x="7467480" y="2133720"/>
            <a:ext cx="0" cy="380880"/>
          </a:xfrm>
          <a:prstGeom prst="line">
            <a:avLst/>
          </a:prstGeom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4603"/>
          <p:cNvSpPr/>
          <p:nvPr/>
        </p:nvSpPr>
        <p:spPr>
          <a:xfrm>
            <a:off x="1476360" y="522936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千里之志，建筑在积极进取的人生态度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4604"/>
          <p:cNvSpPr txBox="1"/>
          <p:nvPr/>
        </p:nvSpPr>
        <p:spPr>
          <a:xfrm>
            <a:off x="3200400" y="304920"/>
            <a:ext cx="2781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龟虽寿</a:t>
            </a:r>
            <a:endParaRPr b="1" lang="en-US" sz="7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%E9%9F%B3%E6%95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%E9%9F%B3%E6%95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C%89%E9%92%AE%E9%9F%B3%E6%95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是一首抒发人生感慨的咏志诗，诗中指出生命是有限而宝贵的，所以人们应当不断的发扬积极进取的朝气建功立业。在结语中，作者还指出事在人为，命运可以改变。这种积极奋发、老当益壮的精神是很可贵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9459" descr="t015a59fd5f70bd88f8"/>
          <p:cNvPicPr/>
          <p:nvPr/>
        </p:nvPicPr>
        <p:blipFill>
          <a:blip r:embed="rId1"/>
          <a:stretch/>
        </p:blipFill>
        <p:spPr>
          <a:xfrm>
            <a:off x="5796000" y="5705640"/>
            <a:ext cx="334800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9460" descr="t0103cfeb69d83c7e86"/>
          <p:cNvPicPr/>
          <p:nvPr/>
        </p:nvPicPr>
        <p:blipFill>
          <a:blip r:embed="rId2"/>
          <a:stretch/>
        </p:blipFill>
        <p:spPr>
          <a:xfrm>
            <a:off x="0" y="0"/>
            <a:ext cx="114300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 品从哲学角度表现了作者对人生的看法。他否定了方士们关于神仙的妄谈，也否定了当时社会上流行的那种消极颓废和及时行乐的风气，表达了自己的一种自强不息、老当益壮的进取精神与豪迈气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20483" descr="t016d69497a48f62178"/>
          <p:cNvPicPr/>
          <p:nvPr/>
        </p:nvPicPr>
        <p:blipFill>
          <a:blip r:embed="rId1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6778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龟虽寿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曹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文本占位符 4099" descr="神龟"/>
          <p:cNvPicPr/>
          <p:nvPr/>
        </p:nvPicPr>
        <p:blipFill>
          <a:blip r:embed="rId1"/>
          <a:stretch/>
        </p:blipFill>
        <p:spPr>
          <a:xfrm>
            <a:off x="977760" y="1052640"/>
            <a:ext cx="8166240" cy="580536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"/>
          <p:cNvSpPr/>
          <p:nvPr/>
        </p:nvSpPr>
        <p:spPr>
          <a:xfrm>
            <a:off x="-573840" y="939960"/>
            <a:ext cx="139932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禄丰县彩云中学何春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与曹操有关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文言词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诗歌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诗人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雄心壮志和积极进取的精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5123" descr="t01223dcb4b9a11f3f1"/>
          <p:cNvPicPr/>
          <p:nvPr/>
        </p:nvPicPr>
        <p:blipFill>
          <a:blip r:embed="rId1"/>
          <a:stretch/>
        </p:blipFill>
        <p:spPr>
          <a:xfrm>
            <a:off x="6300720" y="4005360"/>
            <a:ext cx="284328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是东汉末年著名的政治家、军事家曹操，此诗约作于公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初。曹操当时击败袁绍父子，平定了北方乌桓，踌躇满志，乐观自信，便写下这组诗，抒写胸怀，表现了建功立业的豪情壮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7171" descr="t0199adfd4ee74624f3"/>
          <p:cNvPicPr/>
          <p:nvPr/>
        </p:nvPicPr>
        <p:blipFill>
          <a:blip r:embed="rId1"/>
          <a:stretch/>
        </p:blipFill>
        <p:spPr>
          <a:xfrm>
            <a:off x="3924360" y="4437000"/>
            <a:ext cx="521964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曹操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正月庚子），字孟德，一名吉利，小字阿瞒，沛国谯（今安徽亳州）人，汉族。东汉末年杰出的政治家、军事家、文学家、书法家。三国中曹魏政权的缔造者，其子曹丕称帝后，追尊为武皇帝，庙号太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9219" descr="t0110b9a21b18e3b621"/>
          <p:cNvPicPr/>
          <p:nvPr/>
        </p:nvPicPr>
        <p:blipFill>
          <a:blip r:embed="rId1"/>
          <a:stretch/>
        </p:blipFill>
        <p:spPr>
          <a:xfrm>
            <a:off x="4572000" y="4653000"/>
            <a:ext cx="4572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龟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虽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曹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神龟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虽寿，犹有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竟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腾蛇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雾，终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土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骥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伏枥，志在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千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烈士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暮年，壮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盈缩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期，不但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天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养怡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福，可得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永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幸甚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至哉，歌以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咏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8195" descr="t01a0e476fbf64dfda5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zmj-8082-24246.mp3" descr=""/>
          <p:cNvPicPr/>
          <p:nvPr/>
        </p:nvPicPr>
        <p:blipFill>
          <a:blip r:embed="rId2"/>
          <a:stretch/>
        </p:blipFill>
        <p:spPr>
          <a:xfrm>
            <a:off x="0" y="0"/>
            <a:ext cx="93492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6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484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文本占位符 10243" descr="曹操"/>
          <p:cNvPicPr/>
          <p:nvPr/>
        </p:nvPicPr>
        <p:blipFill>
          <a:blip r:embed="rId1"/>
          <a:stretch/>
        </p:blipFill>
        <p:spPr>
          <a:xfrm>
            <a:off x="0" y="1268280"/>
            <a:ext cx="2411280" cy="558972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10244"/>
          <p:cNvSpPr/>
          <p:nvPr/>
        </p:nvSpPr>
        <p:spPr>
          <a:xfrm>
            <a:off x="2700360" y="0"/>
            <a:ext cx="64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曹操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正月庚子），字孟德，一名吉利，小字阿瞒，沛国谯（今安徽亳州）人，汉族。东汉末年杰出的政治家、军事家、文学家、书法家。三国中曹魏政权的缔造者，其子曹丕称帝后，追尊为武皇帝，庙号太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龟虽寿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曹操所作乐府组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步出夏门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的第四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神龟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说中的通灵之龟，能活几千岁。寿，长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竟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终结，这里指死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腾蛇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说中龙的一种，能乘云雾升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1267" descr="t01ce14b42748697428"/>
          <p:cNvPicPr/>
          <p:nvPr/>
        </p:nvPicPr>
        <p:blipFill>
          <a:blip r:embed="rId1"/>
          <a:stretch/>
        </p:blipFill>
        <p:spPr>
          <a:xfrm>
            <a:off x="3059280" y="5157720"/>
            <a:ext cx="590544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骥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良马，千里马。伏：趴，卧。枥：马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烈士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操有远大抱负的男子。暮年：晚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已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停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盈缩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原指岁星的长短变化，这里指人的寿命长短。盈，增长。缩，亏，引申为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2291" descr="t01dd4c6d80aca58938"/>
          <p:cNvPicPr/>
          <p:nvPr/>
        </p:nvPicPr>
        <p:blipFill>
          <a:blip r:embed="rId1"/>
          <a:stretch/>
        </p:blipFill>
        <p:spPr>
          <a:xfrm>
            <a:off x="3924360" y="5013360"/>
            <a:ext cx="521964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1T12:04:06Z</dcterms:created>
  <dc:creator>未知用户</dc:creator>
  <dc:description/>
  <dc:language>en-US</dc:language>
  <cp:lastModifiedBy>Administrator</cp:lastModifiedBy>
  <dcterms:modified xsi:type="dcterms:W3CDTF">2018-10-09T15:40:17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