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303-0D9A-458E-AE41-29BAC8BD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A1C-A365-49E7-A2CF-6C01AB9F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675-4ABA-4E44-BBCB-683AC3D4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EBB-FE4A-42F2-96AF-6C0732EB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AB8-5A98-495B-823A-F4CB1B0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E4E-5502-452E-825F-01818AF3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250-D329-40EC-BD64-0864E633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BBE-44D4-4A7F-9DE9-4ADF1B9D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554-4C0C-499C-9DAB-3DEB07E8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02C-61ED-4129-A041-074EFFE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BB6-7596-47E1-9D09-C508A27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24B-3B07-4130-8C74-D293EB4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FA81-6742-40E5-A6B7-1A37BFDAB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30720" y="841320"/>
            <a:ext cx="27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龟  虽  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03560" y="243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曹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故人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唐）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邀我至田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树村边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山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酒话桑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待到重阳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来就菊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译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朋友准备好了丰盛饭食，邀请我到他的农舍做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翠绿的树木环绕着小村子，村子城墙外面青山横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窗子面对着谷场和菜园，我们举杯欢饮，谈论着今年庄稼的长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到九月初九重阳节的那一天，我还要再来与你品酒看菊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二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首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句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应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起，“故人”说明不是第一次做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四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颔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句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描写山村风光的名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绿树环绕，青山横斜，犹如一幅清淡的水墨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六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颈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句写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山村生活情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面对场院菜圃，把酒谈论庄稼，亲切自然，富有生活气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尾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尾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两句以重阳节还来相聚写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友情之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言有尽而意无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53452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五言律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写的是诗人应邀到一位农村老朋友家做客的经过。在淳朴自然的田园风光之中，举杯饮酒，闲谈家常，充满了乐趣，抒发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诗人和朋友之间真挚的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诗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景、事、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美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结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起，具有强烈的艺术感染力，成为自唐代以来田园诗中的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首田园诗，描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农家恬静闲适的生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景，也写老朋友的情谊。通过写田园生活的风光，写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作者对这种生活的向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语言朴实无华，意境清新隽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写了从往访到告别的过程。其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田园风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新恬静，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朋友情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挚深厚，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田家生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朴亲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22536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检   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067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《龟虽寿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比喻有志的人虽年老而仍有雄心壮志时，常用的句子是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比喻表明自然规律不以人的意志为转移的句子是：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有志的人虽年老而仍有雄心壮志时，常用的成语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《过故人庄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绘优美宁静的田园风光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农家劳动生活的句子是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对朋友、对乡村的依恋之情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-22536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检   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067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《龟虽寿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人虽年老但仍有雄心壮志的句子是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老骥伏枥，志在千里；烈士暮年，壮心不已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比喻表明自然规律不以人的意志为转移的句子是：</a:t>
            </a:r>
            <a:br>
              <a:rPr sz="2800"/>
            </a:b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神龟虽寿，尤有竟时。螣蛇乘雾，终为土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有志的人虽年老而仍有雄心壮志时，常用的成语是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老骥伏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《过故人庄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绘优美宁静的田园风光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绿树村边合，青山郭外斜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农家劳动生活的句子是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开轩面场圃，把酒话桑麻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对朋友、对乡村的依恋之情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待到重阳日，还来就菊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29000" y="99036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曹操，字孟德。东汉末年著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政治家、军事家、文学家、书法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三国中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曹魏政权的缔造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为统一中国北方做出重大贡献，同时在北方屯田，对农业生产恢复有很大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诗作具有创新精神，开启并繁荣了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建安文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给后人留下了宝贵的精神财富，史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建安风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0"/>
            <a:ext cx="5638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龟 虽 寿</a:t>
            </a: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曹操</a:t>
            </a:r>
            <a:br>
              <a:rPr sz="4000"/>
            </a:br>
            <a:br>
              <a:rPr sz="28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神龟虽寿，犹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。</a:t>
            </a:r>
            <a:br>
              <a:rPr sz="4000"/>
            </a:b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蛇乘雾，终为土灰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伏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志在千里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烈士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壮心不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盈缩之期，不但在天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养怡之福，可得永年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幸甚至哉，歌以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73440" y="0"/>
            <a:ext cx="921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译  文</a:t>
            </a:r>
            <a:br>
              <a:rPr sz="48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神龟的寿命即使十分长久，但也还有生命终结的时候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螣蛇尽管能乘雾飞行，终究也会死亡化为土灰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年老的千里马躺在马棚里，它的雄心壮志仍然是能够驰骋千里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有远大抱负的人士到了晚年，奋发思进的雄心不会止息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人的寿命长短，不只是由上天所决定的；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只要自己调养好身心，也可以益寿延年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赏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歌一开头，就用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两个形象的比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明世间万物都不是永恒存在的，新陈代谢是大自然的根本规律。表现了作者朴素的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唯物辩证思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无神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着四句是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千古传诵的名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全诗的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点题之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曹操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自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匹上了年纪的千里马，虽形老体衰，屈居枥下，但胸中仍然激荡着驰骋千里的豪情。表达了曹操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老当益壮、锐意进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精神面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，诗人又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进一步发挥主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人的寿命的或长或短，不完全出于天定，只要调养有方，是可以保持身心健康、延年益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85800"/>
            <a:ext cx="541008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首诗是抒发人生的咏志诗。曹操以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神龟，腾蛇，老骥作为比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表明宇宙万物生必有死，是自然的规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应该利用有限之年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建功立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始终保持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昂扬乐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积极进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505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全诗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形象的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明快的语言表达了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人定胜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的思想，体现了诗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达观、积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人生态度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昂扬、进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激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们，不要哀叹时光的流逝，丢弃那种人到暮年无所作为的悲观消极思想，要象那匹老马一样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老当益壮，奋斗不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78000"/>
            <a:ext cx="9296280" cy="723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57400" y="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过 故 人 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1523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孟浩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33920" y="9907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浩然，唐代诗人，本名浩，字浩然。襄州襄阳（今湖北襄樊）人，世称孟襄阳。未曾入仕，以隐士终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唐代第一个倾力写作山水诗的诗人，是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</a:rPr>
              <a:t>山水田园诗派代表之一，与王维合称“王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565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08:52:55Z</dcterms:created>
  <dc:creator/>
  <dc:description/>
  <dc:language>en-US</dc:language>
  <cp:lastModifiedBy>User</cp:lastModifiedBy>
  <dcterms:modified xsi:type="dcterms:W3CDTF">2013-09-15T12:33:0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  <property fmtid="{D5CDD505-2E9C-101B-9397-08002B2CF9AE}" pid="3" name="Version">
    <vt:r8>1</vt:r8>
  </property>
</Properties>
</file>