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109-9532-4423-B4E7-75EBB574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8F4-F2E8-4152-8C85-1471841B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60E-199B-424E-8EFA-7B9BFCAD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A4A-CF64-4961-95EF-EBB50010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C3B-9227-4445-B19B-22F2E728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1A5-4E86-4384-AFCF-0EF0C324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6C3-D760-4E47-9A11-061EEA79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702-A01D-40E8-89F5-D6DB0B0D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71D-0123-4493-BDC3-1F0C66B0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5C8-E01F-4968-8B31-FE26EFAE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070-2D39-4124-8964-DC43931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E1C-8F19-4853-8325-E893E061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D3F5-2ACD-41CC-9960-D4C22CC101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0440" y="93600"/>
            <a:ext cx="621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过   秦   论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82400" y="16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贾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648320"/>
            <a:ext cx="426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授课教师</a:t>
            </a: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:   </a:t>
            </a: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王利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授课班级</a:t>
            </a: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:   </a:t>
            </a: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高一</a:t>
            </a: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457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本段文言知识归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通假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通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20968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“不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珍器重宝肥饶之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爱”：古义是“爱惜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今义是“喜欢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57336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0"/>
            <a:ext cx="876312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词类活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名词作状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汉中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举巴、蜀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割膏腴之地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收要害之郡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名词用作动词：  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会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谋弱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动词用作名词：“于是纵散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败”      “追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逐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数词用作名词：“相与为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动用法：“会盟而谋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”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约从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散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文言句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省略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倒装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60680" y="5791320"/>
            <a:ext cx="549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8672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80920" y="586728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有余力而制其弊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6094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贾      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752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毛泽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743200"/>
            <a:ext cx="6172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贾生才调世无伦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哭泣情怀吊屈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梁王堕马寻常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何须哀伤付一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背景简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1337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战国末期与秦朝的社会历史                                                          概况，以明确“过秦”深刻含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8098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西汉初期，贾谊生活的社会                          历史概况，以明确作者撰写此                  文的针对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762120"/>
            <a:ext cx="792468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讨论赏析“有席卷天下，包举宇内，囊括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海之意，并吞八荒之心”，解决以下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这种铺叙的译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表达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“席”、“包”、“囊”三词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762120"/>
            <a:ext cx="739116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本段文言知识归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假字：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通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今异义：秦人拱手而取西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河：古义是黄河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义泛指一切河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0666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8600"/>
            <a:ext cx="7620120" cy="64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词类活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名词作状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卷天下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举宇内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括四海之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立法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衡而斗诸侯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形容词用作名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据崤函之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动词使动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连衡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诸侯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457200"/>
            <a:ext cx="7925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讨论赏析“南取汉中，西举巴蜀，东割膏腴之地，北收要害之郡”，解决以下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此四句翻译能否浓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四词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43000" y="533520"/>
            <a:ext cx="61722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重点词语提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业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遗策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西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巴蜀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属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之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徒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之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秦人开关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敌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0:10:04Z</dcterms:created>
  <dc:creator>aa</dc:creator>
  <dc:description/>
  <dc:language>en-US</dc:language>
  <cp:lastModifiedBy>wlj</cp:lastModifiedBy>
  <dcterms:modified xsi:type="dcterms:W3CDTF">2007-01-02T06:56:06Z</dcterms:modified>
  <cp:revision>13</cp:revision>
  <dc:subject/>
  <dc:title>PowerPoint 演示文稿</dc:title>
</cp:coreProperties>
</file>