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gif" ContentType="image/gif"/>
  <Override PartName="/ppt/media/image3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41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png" ContentType="image/png"/>
  <Override PartName="/ppt/media/image4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0.jpeg" ContentType="image/jpe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65DF-4A97-412A-989C-C43D63BB7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7DA5-F6F4-4846-8234-0C4C28AE9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174C-5453-4B24-B631-D0FD13B55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4AD1-9A1C-4EF0-954B-FEF73FF6E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3890-A8EE-4471-8E48-4C8962AC2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39E9-E2A8-4DFC-9E5E-BCBBAAE7C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3456-44CD-4963-887A-783B3DDAC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6A8D-42C7-4711-A5C7-22C1457C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65C7-89B7-44CA-8B66-E1FBA84AA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AE06-CDC0-4CC6-8FC7-C41B5A70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EC0E-D9DD-40E8-B4D4-D41326E9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A825-8455-4885-99C6-4FF497C6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4351-4D23-4CD6-BFF8-F096E94BBF4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477120" y="0"/>
            <a:ext cx="2666880" cy="2300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80880" y="4572000"/>
            <a:ext cx="1981440" cy="2021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600200" y="228600"/>
            <a:ext cx="4648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蝈蝈与蛐蛐 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5" name=""/>
          <p:cNvSpPr/>
          <p:nvPr/>
        </p:nvSpPr>
        <p:spPr>
          <a:xfrm>
            <a:off x="5257800" y="27432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浪漫主义诗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9880" y="45720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十四行诗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438280" y="1752480"/>
            <a:ext cx="1143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济慈 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4594,1c522ab,11b1,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3526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886200" y="685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3413160"/>
            <a:ext cx="76964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大地的诗歌呀，从来没有停息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在寂寞的冬天夜晚，当严霜凝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一片宁静。从炉边就弹起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09480" y="3200400"/>
            <a:ext cx="7848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蛐蛐的歌儿，在逐渐升高的暖气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昏昏欲睡中，人们感到那声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仿佛就是蝈蝈在草茸茸的山上鸣叫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4680,29fdf3e,d04,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1092219012" descr=""/>
          <p:cNvPicPr/>
          <p:nvPr/>
        </p:nvPicPr>
        <p:blipFill>
          <a:blip r:embed="rId1"/>
          <a:stretch/>
        </p:blipFill>
        <p:spPr>
          <a:xfrm>
            <a:off x="0" y="0"/>
            <a:ext cx="1981080" cy="3429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666880" y="60156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362320" y="380880"/>
            <a:ext cx="62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有感情地朗读诗文，找出主旨句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23880" y="358128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大地的诗歌从来不会死亡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47242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大地的诗歌呀，从来没有停息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497,2174389,14b5,1" descr=""/>
          <p:cNvPicPr/>
          <p:nvPr/>
        </p:nvPicPr>
        <p:blipFill>
          <a:blip r:embed="rId1"/>
          <a:stretch/>
        </p:blipFill>
        <p:spPr>
          <a:xfrm>
            <a:off x="5105520" y="3809880"/>
            <a:ext cx="4038480" cy="30117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04920" y="1219320"/>
            <a:ext cx="83818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第一层：用动静相称的手法描写盛夏时蝈蝈的乐音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28954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第二层：用动静相称的手法描写冬日蛐蛐的歌儿，并将前一节的画面叠加起来，交织成大地的诗歌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297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划分层次并概括层意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4376,12d4738,c3e,1" descr=""/>
          <p:cNvPicPr/>
          <p:nvPr/>
        </p:nvPicPr>
        <p:blipFill>
          <a:blip r:embed="rId1"/>
          <a:stretch/>
        </p:blipFill>
        <p:spPr>
          <a:xfrm>
            <a:off x="0" y="0"/>
            <a:ext cx="2666880" cy="22417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572000" y="2286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重点研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1905120"/>
            <a:ext cx="822960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这首诗在构思上有什么特点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理解虫鸣的象征意义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尾声：“从蛐蛐的歌中仿佛听到了蝈蝈的呜叫”。理解盛夏的蛔蝈和冬天的蛐蛐是怎样联系起来的。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9718,1d7a74b,b25,1" descr=""/>
          <p:cNvPicPr/>
          <p:nvPr/>
        </p:nvPicPr>
        <p:blipFill>
          <a:blip r:embed="rId1"/>
          <a:stretch/>
        </p:blipFill>
        <p:spPr>
          <a:xfrm>
            <a:off x="0" y="0"/>
            <a:ext cx="3276720" cy="30132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352680" y="228600"/>
            <a:ext cx="556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这首诗在构思上有什么特点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3192480"/>
            <a:ext cx="8076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（提示：开头一句与“大地的诗歌呀，从来没有停息“相对应分为两部分；动静相衬，意境优美。）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7172,297c383,1181,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3623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43000" y="2666880"/>
            <a:ext cx="71629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盛夏——蝈蝈的乐音 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大地的诗歌 充满生机 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严冬——蛐蛐的歌儿 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8881,248c8ef,a85,1" descr=""/>
          <p:cNvPicPr/>
          <p:nvPr/>
        </p:nvPicPr>
        <p:blipFill>
          <a:blip r:embed="rId1"/>
          <a:stretch/>
        </p:blipFill>
        <p:spPr>
          <a:xfrm>
            <a:off x="5715000" y="4286160"/>
            <a:ext cx="3429000" cy="2571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57200" y="53352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理解虫鸣的象征意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16002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诗人创造蝈蝈和蛐蛐的意象，表露了济慈的创作思想，即诗应该给人以安慰，并提高人们的思想。蝈蝈和蛐蛐充满活力，它们的鸣声周而复始，永不停息，那就是大地的诗歌从来不会死亡，鼓舞人们乐观地对待生活。 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2352,101d658,bc9,1" descr=""/>
          <p:cNvPicPr/>
          <p:nvPr/>
        </p:nvPicPr>
        <p:blipFill>
          <a:blip r:embed="rId1"/>
          <a:stretch/>
        </p:blipFill>
        <p:spPr>
          <a:xfrm>
            <a:off x="228600" y="4419720"/>
            <a:ext cx="2514600" cy="21715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57200" y="220680"/>
            <a:ext cx="84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尾声：“从蛐蛐的歌中仿佛听到了蝈蝈的呜叫”。理解盛夏的蛔蝈和冬天的蛐蛐是怎样联系起来的？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213372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这是诗人的联想，将冬天的蛐蛐的歌儿呼应盛夏的蝈蝈的乐音。点出起伏不停，点明中心：从来不会死亡，从来没有停息的大地的诗歌。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716500141" descr=""/>
          <p:cNvPicPr/>
          <p:nvPr/>
        </p:nvPicPr>
        <p:blipFill>
          <a:blip r:embed="rId1"/>
          <a:stretch/>
        </p:blipFill>
        <p:spPr>
          <a:xfrm>
            <a:off x="6807240" y="0"/>
            <a:ext cx="2336760" cy="2438280"/>
          </a:xfrm>
          <a:prstGeom prst="rect">
            <a:avLst/>
          </a:prstGeom>
          <a:ln w="0">
            <a:noFill/>
          </a:ln>
        </p:spPr>
      </p:pic>
      <p:pic>
        <p:nvPicPr>
          <p:cNvPr id="99" name="7198,2aeff26,f11,1" descr=""/>
          <p:cNvPicPr/>
          <p:nvPr/>
        </p:nvPicPr>
        <p:blipFill>
          <a:blip r:embed="rId2"/>
          <a:stretch/>
        </p:blipFill>
        <p:spPr>
          <a:xfrm>
            <a:off x="0" y="5105520"/>
            <a:ext cx="2819520" cy="1752480"/>
          </a:xfrm>
          <a:prstGeom prst="rect">
            <a:avLst/>
          </a:prstGeom>
          <a:ln w="0">
            <a:noFill/>
          </a:ln>
        </p:spPr>
      </p:pic>
      <p:pic>
        <p:nvPicPr>
          <p:cNvPr id="100" name="5376,1f9c8a6,c4d,1" descr=""/>
          <p:cNvPicPr/>
          <p:nvPr/>
        </p:nvPicPr>
        <p:blipFill>
          <a:blip r:embed="rId3"/>
          <a:stretch/>
        </p:blipFill>
        <p:spPr>
          <a:xfrm>
            <a:off x="6705720" y="4952880"/>
            <a:ext cx="2438280" cy="1905120"/>
          </a:xfrm>
          <a:prstGeom prst="rect">
            <a:avLst/>
          </a:prstGeom>
          <a:ln w="0">
            <a:noFill/>
          </a:ln>
        </p:spPr>
      </p:pic>
      <p:pic>
        <p:nvPicPr>
          <p:cNvPr id="101" name="8223,1a7bde1,9aa,1" descr=""/>
          <p:cNvPicPr/>
          <p:nvPr/>
        </p:nvPicPr>
        <p:blipFill>
          <a:blip r:embed="rId4"/>
          <a:stretch/>
        </p:blipFill>
        <p:spPr>
          <a:xfrm>
            <a:off x="0" y="0"/>
            <a:ext cx="2895480" cy="2241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505320" y="380880"/>
            <a:ext cx="3504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主旨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23623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这首诗通过对盛夏“蝈蝈的乐音”和“冬日蛐蛐的歌儿”的描写，赞美“大地的诗歌从来不会死亡”，歌颂大自然美好如诗，永远歌声不断，永远充满生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蝈蝈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蛐蛐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20011203001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20011203003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913440"/>
          </a:xfrm>
          <a:prstGeom prst="rect">
            <a:avLst/>
          </a:prstGeom>
          <a:ln w="0">
            <a:noFill/>
          </a:ln>
        </p:spPr>
      </p:pic>
      <p:pic>
        <p:nvPicPr>
          <p:cNvPr id="52" name="20011204001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9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1481,27f49e7,cc7,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80880" y="762120"/>
            <a:ext cx="8305920" cy="19371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浪漫主义</a:t>
            </a:r>
            <a:r>
              <a:rPr b="1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的基本特征是理想主义，就是按照作家认为生活应当有的样式来反映生活，因而总是理想地描写对象或者描写理想化的对象。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3227,14fdcf5,18b1,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85800" y="533520"/>
            <a:ext cx="8001000" cy="40683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由于要反映“人类所应当有的”生活，浪漫义义作家的主观情感就特别强烈，爱憎异常分明；为了表达强烈的感情，浪漫主义作家经常借助于热烈的幻想和大胆的夸张，用奇特的想象和瑰丽的语言描绘色彩斑斓的理想世界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5649,20cfc5d,e0c,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143000" y="762120"/>
            <a:ext cx="7010280" cy="19371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屈原的《离骚》，李白的诗歌，吴承恩的《西游记》，郭沫若的《女神》，就是我国这类浪漫主义的代表作。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4661,219cf37,1d32,1" descr=""/>
          <p:cNvPicPr/>
          <p:nvPr/>
        </p:nvPicPr>
        <p:blipFill>
          <a:blip r:embed="rId1"/>
          <a:stretch/>
        </p:blipFill>
        <p:spPr>
          <a:xfrm>
            <a:off x="7772400" y="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11" name="8484,1685f14,b09,1" descr=""/>
          <p:cNvPicPr/>
          <p:nvPr/>
        </p:nvPicPr>
        <p:blipFill>
          <a:blip r:embed="rId2"/>
          <a:stretch/>
        </p:blipFill>
        <p:spPr>
          <a:xfrm>
            <a:off x="0" y="5643720"/>
            <a:ext cx="1676520" cy="1214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85800" y="685800"/>
            <a:ext cx="76960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现实主义</a:t>
            </a:r>
            <a:r>
              <a:rPr b="1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的基本特征，就是按照实际生活所固有的样式来再现生活；通过典型形象的塑造，揭示社会生活的某些本质规律。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4538,103abf0,db1,1" descr=""/>
          <p:cNvPicPr/>
          <p:nvPr/>
        </p:nvPicPr>
        <p:blipFill>
          <a:blip r:embed="rId1"/>
          <a:stretch/>
        </p:blipFill>
        <p:spPr>
          <a:xfrm>
            <a:off x="0" y="4495680"/>
            <a:ext cx="9144000" cy="23623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4920" y="380880"/>
            <a:ext cx="8610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现实主义作品偏重于描绘客观现实生活的精确的图画，描写那些生活中已经存在或按照生活的逻辑可能存在的事物，而不是以作家的好恶和愿望来取代客观事物。因此一般说来，现实主义作品有三个特点：细节的真实性、形象的典型性 、描写的客观性 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371600" y="685800"/>
            <a:ext cx="55627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1862,b60b68,529,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09480" y="1066680"/>
            <a:ext cx="7696440" cy="61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_x000b__x000c_"/>
              </a:rPr>
              <a:t>我的心在痛，困顿和麻木</a:t>
            </a:r>
            <a:br>
              <a:rPr sz="3200"/>
            </a:b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_x000b__x000c_"/>
              </a:rPr>
              <a:t>　　　刺进了感官，有如饮过毒鸠，</a:t>
            </a:r>
            <a:br>
              <a:rPr sz="3200"/>
            </a:b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_x000b__x000c_"/>
              </a:rPr>
              <a:t>　　又象是刚刚把鸦片吞服，</a:t>
            </a:r>
            <a:br>
              <a:rPr sz="3200"/>
            </a:b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_x000b__x000c_"/>
              </a:rPr>
              <a:t>　　　于是向着列斯忘川下沉：</a:t>
            </a:r>
            <a:br>
              <a:rPr sz="3200"/>
            </a:b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_x000b__x000c_"/>
              </a:rPr>
              <a:t>　　并不是我嫉妒你的好运，</a:t>
            </a:r>
            <a:br>
              <a:rPr sz="3200"/>
            </a:b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_x000b__x000c_"/>
              </a:rPr>
              <a:t>　　　而是你的快乐使我太欢欣－－</a:t>
            </a:r>
            <a:br>
              <a:rPr sz="3200"/>
            </a:b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_x000b__x000c_"/>
              </a:rPr>
              <a:t>　　　　因为在林间嘹亮的天地里，</a:t>
            </a:r>
            <a:br>
              <a:rPr sz="3200"/>
            </a:b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_x000b__x000c_"/>
              </a:rPr>
              <a:t>　　　　　你呵，轻翅的仙灵，</a:t>
            </a:r>
            <a:br>
              <a:rPr sz="3200"/>
            </a:b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_x000b__x000c_"/>
              </a:rPr>
              <a:t>　　　你躲进山毛榉的葱绿和荫影，</a:t>
            </a:r>
            <a:br>
              <a:rPr sz="3200"/>
            </a:b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_x000b__x000c_"/>
              </a:rPr>
              <a:t>　　　　放开歌喉，歌唱着夏季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971800" y="0"/>
            <a:ext cx="1371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夜莺颂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3876,c2c507,989,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990720" y="533520"/>
            <a:ext cx="7467480" cy="61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_x000b__x000c_"/>
              </a:rPr>
              <a:t>哎，要是有一口酒！那冷藏</a:t>
            </a:r>
            <a:br>
              <a:rPr sz="3200"/>
            </a:b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_x000b__x000c_"/>
              </a:rPr>
              <a:t>　　　在地下多年的清醇饮料，</a:t>
            </a:r>
            <a:br>
              <a:rPr sz="3200"/>
            </a:b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_x000b__x000c_"/>
              </a:rPr>
              <a:t>　　一尝就令人想起绿色之邦，</a:t>
            </a:r>
            <a:br>
              <a:rPr sz="3200"/>
            </a:b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_x000b__x000c_"/>
              </a:rPr>
              <a:t>　　　想起花神，恋歌，阳光和舞蹈！</a:t>
            </a:r>
            <a:br>
              <a:rPr sz="3200"/>
            </a:b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_x000b__x000c_"/>
              </a:rPr>
              <a:t>　　要是有一杯南国的温暖</a:t>
            </a:r>
            <a:br>
              <a:rPr sz="3200"/>
            </a:b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_x000b__x000c_"/>
              </a:rPr>
              <a:t>　　　充满了鲜红的灵感之泉，</a:t>
            </a:r>
            <a:br>
              <a:rPr sz="3200"/>
            </a:b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_x000b__x000c_"/>
              </a:rPr>
              <a:t>　　　　杯沿明灭着珍珠的泡沫，</a:t>
            </a:r>
            <a:br>
              <a:rPr sz="3200"/>
            </a:b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_x000b__x000c_"/>
              </a:rPr>
              <a:t>　　　　　给嘴唇染上紫斑；</a:t>
            </a:r>
            <a:br>
              <a:rPr sz="3200"/>
            </a:b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_x000b__x000c_"/>
              </a:rPr>
              <a:t>　　哦，我要一饮而离开尘寰，</a:t>
            </a:r>
            <a:br>
              <a:rPr sz="3200"/>
            </a:b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_x000b__x000c_"/>
              </a:rPr>
              <a:t>　　　和你同去幽暗的林中隐没：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3127,113fbfe,b1b,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143000" y="457200"/>
            <a:ext cx="7238880" cy="61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_x000b__x000c_"/>
              </a:rPr>
              <a:t>去吧！去吧！我要朝你飞去，</a:t>
            </a:r>
            <a:br>
              <a:rPr sz="3200"/>
            </a:b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_x000b__x000c_"/>
              </a:rPr>
              <a:t>　　　不用和酒神坐文豹的车驾，</a:t>
            </a:r>
            <a:br>
              <a:rPr sz="3200"/>
            </a:b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_x000b__x000c_"/>
              </a:rPr>
              <a:t>　　我要展开诗歌底无形羽翼，</a:t>
            </a:r>
            <a:br>
              <a:rPr sz="3200"/>
            </a:b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_x000b__x000c_"/>
              </a:rPr>
              <a:t>　　　尽管这头脑已经困顿、疲乏；</a:t>
            </a:r>
            <a:br>
              <a:rPr sz="3200"/>
            </a:b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_x000b__x000c_"/>
              </a:rPr>
              <a:t>　　去了！呵，我已经和你同往！</a:t>
            </a:r>
            <a:br>
              <a:rPr sz="3200"/>
            </a:b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_x000b__x000c_"/>
              </a:rPr>
              <a:t>　　　夜这般温柔，月后正登上宝座，</a:t>
            </a:r>
            <a:br>
              <a:rPr sz="3200"/>
            </a:b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_x000b__x000c_"/>
              </a:rPr>
              <a:t>　　　　周围是侍卫她的一群星星；</a:t>
            </a:r>
            <a:br>
              <a:rPr sz="3200"/>
            </a:b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_x000b__x000c_"/>
              </a:rPr>
              <a:t>　　　　　但这儿却不甚明亮，</a:t>
            </a:r>
            <a:br>
              <a:rPr sz="3200"/>
            </a:b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_x000b__x000c_"/>
              </a:rPr>
              <a:t>　　除了有一线天光，被微风带过，</a:t>
            </a:r>
            <a:br>
              <a:rPr sz="3200"/>
            </a:b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_x000b__x000c_"/>
              </a:rPr>
              <a:t>　　　葱绿的幽暗，和苔藓的曲径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5321,add130,8a2,1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762120" y="304920"/>
            <a:ext cx="7696080" cy="61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_x000b__x000c_"/>
              </a:rPr>
              <a:t>远远地、远远隐没，让我忘掉</a:t>
            </a:r>
            <a:br>
              <a:rPr sz="3200"/>
            </a:b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_x000b__x000c_"/>
              </a:rPr>
              <a:t>　　　你在树叶间从不知道的一切，</a:t>
            </a:r>
            <a:br>
              <a:rPr sz="3200"/>
            </a:b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_x000b__x000c_"/>
              </a:rPr>
              <a:t>　　忘记这疲劳、热病、和焦躁，</a:t>
            </a:r>
            <a:br>
              <a:rPr sz="3200"/>
            </a:b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_x000b__x000c_"/>
              </a:rPr>
              <a:t>　　　这使人对坐而悲叹的世界；</a:t>
            </a:r>
            <a:br>
              <a:rPr sz="3200"/>
            </a:b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_x000b__x000c_"/>
              </a:rPr>
              <a:t>　　在这里，青春苍白、消瘦、死亡，</a:t>
            </a:r>
            <a:br>
              <a:rPr sz="3200"/>
            </a:b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_x000b__x000c_"/>
              </a:rPr>
              <a:t>　　　而“瘫痪”有几根白发在摇摆；</a:t>
            </a:r>
            <a:br>
              <a:rPr sz="3200"/>
            </a:b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_x000b__x000c_"/>
              </a:rPr>
              <a:t>　　　　在这里，稍一思索就充满了</a:t>
            </a:r>
            <a:br>
              <a:rPr sz="3200"/>
            </a:b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_x000b__x000c_"/>
              </a:rPr>
              <a:t>　　　　　忧伤和灰色的绝望，</a:t>
            </a:r>
            <a:br>
              <a:rPr sz="3200"/>
            </a:b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_x000b__x000c_"/>
              </a:rPr>
              <a:t>　　　而“美”保持不住明眸的光彩，</a:t>
            </a:r>
            <a:br>
              <a:rPr sz="3200"/>
            </a:b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_x000b__x000c_"/>
              </a:rPr>
              <a:t>　　　　新生的爱情活不到明天就枯凋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5850,217a715,1518,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838080" y="185760"/>
            <a:ext cx="6629400" cy="61974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我看不出是哪种花草在脚旁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　　　什么清香的花挂在树枝上；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　　在温馨的幽暗里，我只能猜想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　　　这个时令该把哪种芬芳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　　赋予这果树，林莽，和草丛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　　　这白枳花，和田野的玫瑰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　　　　这绿叶堆中易谢的紫罗兰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　　　　　还有五月中旬的娇宠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　　　这缀满了露酒的麝香蔷薇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　　　　它成了夏夜蚊蚋的嗡萦的港湾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3662,22003af,c8b,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143000" y="533520"/>
            <a:ext cx="6934320" cy="5317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学习目标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浪漫主义与现实主义的特点 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分析写景诗的意境 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欣赏和热爱大自然，培养生活的情趣 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8324,1831f76,d10,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295280" y="990720"/>
            <a:ext cx="655344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_x000b__x000c_"/>
              </a:rPr>
              <a:t>我在黑暗里倾听：呵，多少次</a:t>
            </a:r>
            <a:br>
              <a:rPr sz="3200"/>
            </a:b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_x000b__x000c_"/>
              </a:rPr>
              <a:t>　　　我几乎爱上了静谧的死亡，</a:t>
            </a:r>
            <a:br>
              <a:rPr sz="3200"/>
            </a:b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_x000b__x000c_"/>
              </a:rPr>
              <a:t>　　我在诗思里用尽了好的言辞，</a:t>
            </a:r>
            <a:br>
              <a:rPr sz="3200"/>
            </a:b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_x000b__x000c_"/>
              </a:rPr>
              <a:t>　　　求他把我的一息散入空茫；</a:t>
            </a:r>
            <a:br>
              <a:rPr sz="3200"/>
            </a:b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_x000b__x000c_"/>
              </a:rPr>
              <a:t>　　而现在，哦，死更是多么富丽：</a:t>
            </a:r>
            <a:br>
              <a:rPr sz="3200"/>
            </a:b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_x000b__x000c_"/>
              </a:rPr>
              <a:t>　　　在午夜里溘然魂离人间，</a:t>
            </a:r>
            <a:br>
              <a:rPr sz="3200"/>
            </a:b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_x000b__x000c_"/>
              </a:rPr>
              <a:t>　　　　当你正倾泻着你的心怀</a:t>
            </a:r>
            <a:br>
              <a:rPr sz="3200"/>
            </a:b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_x000b__x000c_"/>
              </a:rPr>
              <a:t>　　　　　发出这般的狂喜！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8104,1707ccf,9f1,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990720" y="609480"/>
            <a:ext cx="7086600" cy="57099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你仍将歌唱，但我却不再听见－－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　　　　你的葬歌只能唱给泥草一块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　　永生的鸟呵，你不会死去！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　　　饥饿的世代无法将你蹂躏；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　　今夜，我偶然听到的歌曲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　　　曾使古代的帝王和村夫喜悦；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　　或许这同样的歌也曾激荡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　　　露丝忧郁的心，使她不禁落泪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　　　　站在异邦的谷田里想着家；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7372,1a7df62,b74,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295280" y="990720"/>
            <a:ext cx="7086600" cy="47350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就是这声音常常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　　　在失掉了的仙域里引动窗扉：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　　　　一个美女望着大海险恶的浪花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　　呵，失掉了！这句话好比一声钟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　　　使我猛醒到我站脚的地方！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　　别了！幻想，这骗人的妖童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　　　不能老耍弄它盛传的伎俩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6493,577812,bb6,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62120" y="533520"/>
            <a:ext cx="7543800" cy="37602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别了！别了！你怨诉的歌声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　　　流过草坪，越过幽静的溪水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　　　　溜上山坡；而此时，它正深深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　　　　　埋在附近的溪谷中：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　　　噫，这是个幻觉，还是梦寐？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　　　　那歌声去了：－－我是睡？是醒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441,1d70889,20e4,1" descr=""/>
          <p:cNvPicPr/>
          <p:nvPr/>
        </p:nvPicPr>
        <p:blipFill>
          <a:blip r:embed="rId1"/>
          <a:stretch/>
        </p:blipFill>
        <p:spPr>
          <a:xfrm>
            <a:off x="0" y="0"/>
            <a:ext cx="3657600" cy="2367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114800" y="3049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简介作者和时代背景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237168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济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(1795—1821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英国诗人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79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日生于伦敦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岁时父亲去世，母亲改嫁，济慈和两个弟弟由外祖母收养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岁时母亲又病故，外祖母委托两名保护人经营他们兄弟的财产。起初济慈是学医的，他喜好文学，但对医学并不厌弃，通过考试获得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内科医生执照，还继续学习外科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0"/>
            <a:ext cx="8839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直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81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月间，济慈才决心放弃医学，从事文学创作。他的诗诗中有画，色彩感和立体感都很强。他认为，一个大诗人对美的感受能压倒或抵消一切其他的考虑，这就是他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天然接受力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思想。他曾说，他可以深入到一只麻雀的性格中去，同样可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瓦砾中啄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济慈是英国浪漫主义诗人中最有才气的诗人之一，他的诗对后世的影响很大，维多利亚时代诗人、唯美派诗人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意象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诗人都受到他的影响。可惜正当他初展宏才的时候，就不幸与世长辞，时年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岁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42187111" descr=""/>
          <p:cNvPicPr/>
          <p:nvPr/>
        </p:nvPicPr>
        <p:blipFill>
          <a:blip r:embed="rId1"/>
          <a:stretch/>
        </p:blipFill>
        <p:spPr>
          <a:xfrm>
            <a:off x="6172200" y="5029200"/>
            <a:ext cx="2743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1401,2cae0fb,4550,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62120" y="2819520"/>
            <a:ext cx="7619760" cy="91692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“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这里安息着一个把名字写在水上的人。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609480"/>
            <a:ext cx="5410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济慈墓志铭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3690,3079ca,f5d,1" descr=""/>
          <p:cNvPicPr/>
          <p:nvPr/>
        </p:nvPicPr>
        <p:blipFill>
          <a:blip r:embed="rId1"/>
          <a:stretch/>
        </p:blipFill>
        <p:spPr>
          <a:xfrm>
            <a:off x="5105520" y="0"/>
            <a:ext cx="4038480" cy="4005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0"/>
            <a:ext cx="396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朗读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440000"/>
            <a:ext cx="426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整体把握诗歌的基调，注意处理朗读语调，注意音步和轻重音的正确掌握。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359,ae621a,f5b,1" descr=""/>
          <p:cNvPicPr/>
          <p:nvPr/>
        </p:nvPicPr>
        <p:blipFill>
          <a:blip r:embed="rId1"/>
          <a:stretch/>
        </p:blipFill>
        <p:spPr>
          <a:xfrm>
            <a:off x="0" y="3809880"/>
            <a:ext cx="9144000" cy="30481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04920" y="228600"/>
            <a:ext cx="853416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那就是蝈蝈的乐音啊！它争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沉醉于盛夏的豪华，它从未感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自己 的喜悦消逝，一旦唱得疲劳了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便舒适地栖息在可喜的草丛中间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2250,1c80d83,fd8,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5909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80880" y="2819520"/>
            <a:ext cx="84582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大地的诗歌从来不会死亡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当所有的鸟儿因骄阳而昏晕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隐藏在阴凉的林中，就有一种声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在新割的草地周围的树篱上飘荡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11:28:13Z</dcterms:created>
  <dc:creator>Lenovo User</dc:creator>
  <dc:description/>
  <dc:language>en-US</dc:language>
  <cp:lastModifiedBy>user</cp:lastModifiedBy>
  <dcterms:modified xsi:type="dcterms:W3CDTF">2006-07-20T14:43:53Z</dcterms:modified>
  <cp:revision>31</cp:revision>
  <dc:subject/>
  <dc:title>PowerPoint 演示文稿</dc:title>
</cp:coreProperties>
</file>