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473-DCF8-4987-AD56-6D74687B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453-7D37-431B-A21A-AB4D07C9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D2A-73A8-456F-8115-8DC3E6A6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C5A-C1A1-4C2B-8A5B-8B42F881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E90-8304-4C2D-95B1-51E9E49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5C5-CDAD-4D6E-969D-BDC0368C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483-1393-42E9-81D2-BC4124A0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CAE-DDC7-4567-A863-CBAF63C7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FB5-F48D-43E0-8D29-27C418FD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84E-3F1F-403E-A98C-283574E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EB3-2F7E-4AD0-9CCF-65500112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8D9-65DB-4108-AA1E-6CD58A9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BE10-4DD7-4107-9F4A-6CB857D07D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杜  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87640" y="1700280"/>
            <a:ext cx="367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阁  夜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55640" y="189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鉴赏指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052640"/>
            <a:ext cx="8280360" cy="1191240"/>
          </a:xfrm>
          <a:prstGeom prst="rect">
            <a:avLst/>
          </a:prstGeom>
          <a:solidFill>
            <a:srgbClr val="00cc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“卧龙跃马终黄土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人事音书漫寂寥”这一联运用了什么表现手法？表达了诗人怎样的悲慨？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781360"/>
            <a:ext cx="8280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典：①卧龙：指诸葛亮。《蜀书•诸葛亮传》：“徐庶……谓先主曰：‘诸葛孔明者，卧龙也。’ 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4319640"/>
            <a:ext cx="8280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跃马：指公孙述。王莽篡汉时，他自立为蜀王。述在西汉末曾乘乱据蜀，自称白帝。这里用晋左思《蜀都赋》“公孙跃马而称帝”意。诸葛亮和公孙述在夔州都有祠庙，故诗中及之。这句是贤愚同尽之意。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640" y="189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鉴赏指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268280"/>
            <a:ext cx="82803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人用事之妙在于，将眼前景、古时事与心中情巧妙地合而为一，而使人不觉得这是用事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2997360"/>
            <a:ext cx="828036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人极目远望夔州西郊的武侯庙和白帝庙，而引起无限感慨。卧龙先生神机妙算一世英名，跃马称帝的公孙述叱咤风云一代枭雄，这些成就千秋功业的人最终都掩埋于黄土，化为历史的尘埃，今日你争我战的各路人马也终将淡出历史舞台，表达了诗人对宇宙永恒和人生无常的悲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189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鉴赏总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341360"/>
            <a:ext cx="8280360" cy="3567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诗写冬夜景色，有伤乱思乡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首联点明冬夜寒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颔联写夜中所闻所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颈联写拂晓所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联写极目武侯、白帝两庙而引出的感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诸葛亮和公孙述为例，说明贤愚忠逆都同归于尽，个人的寂寞就更无所谓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诗气象雄阔，大有上天下地，俯仰古今之概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55640" y="189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艺术手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052640"/>
            <a:ext cx="8280360" cy="4786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《阁夜》的写作特点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善用典故：“星河影动” “卧龙跃马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活用对比：以“野哭”的萧杀死气，对比“夷歌”的田野生气；以“诸葛亮”对“公孙述”，一贤一愚，两相对举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仗工切：四联均对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修辞手法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偶：五更鼓角声悲壮，三峡星河影动摇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问：野哭千家闻战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拟人：岁暮阴阳催短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《阁夜》的主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诗人在夔州西阁中独对长夜之所见，所闻和所感，表达诗人忧国伤时的情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197000"/>
            <a:ext cx="8229600" cy="5257800"/>
          </a:xfrm>
          <a:prstGeom prst="rect">
            <a:avLst/>
          </a:prstGeom>
          <a:solidFill>
            <a:srgbClr val="ffffff">
              <a:alpha val="58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杜甫，字子美，他授检校工部员外郎，故称杜工部，又授左拾遗（谏官），故又称“杜拾遗”。他的诗反映唐安史之乱前后的社会现实，故有“诗史”之称。他的诗表达悲天悯人情怀，济世安民思想，以及其高尚人格和完美技巧，故又有“诗圣”之称，并被推崇为现实主义诗派的代表。他与李白并称为“李杜”，他更被宗代江西派奉为鼻祖，著有《杜工部集》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1636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诗人回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91636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写作背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268280"/>
            <a:ext cx="7561440" cy="1191240"/>
          </a:xfrm>
          <a:prstGeom prst="rect">
            <a:avLst/>
          </a:prstGeom>
          <a:solidFill>
            <a:srgbClr val="ffffff">
              <a:alpha val="84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阁夜”，即西阁之夜。这首七言律诗是杜甫于大历元年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6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冬寓居夔州西阁时所作，是诗人感时、伤乱、忆旧、思乡心情的真实写照。当时，蜀中发生了崔旰、郭英乂、 杨子琳等军阀的连年混战，吐蕃也不断侵袭蜀地，加之杜甫好友郑虔、苏源明、李白、严武、高适等人相继亡故，所以杜甫深感寂寞悲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2060640"/>
            <a:ext cx="7128000" cy="642600"/>
          </a:xfrm>
          <a:prstGeom prst="rect">
            <a:avLst/>
          </a:prstGeom>
          <a:solidFill>
            <a:srgbClr val="ffffff">
              <a:alpha val="76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《阁夜》的体裁：从诗体看，属七言律诗；从内容看，是一首抒情诗；律诗属近体诗，又名今体诗，格律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052640"/>
            <a:ext cx="4105080" cy="558036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阁   夜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杜甫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岁暮阴阳催短景，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涯霜雪霁寒宵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五更鼓角声悲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峡星河影动摇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野哭千家闻战伐，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夷歌数处起渔樵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卧龙跃马终黄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事音书漫寂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189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朗读提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0"/>
            <a:ext cx="4716360" cy="10688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首诗系因感伤时事而作，很可能是诗人在彻夜不眠之后写的，结尾还表达了消极的感情。全诗当用低沉的调子来读，速度要慢一些。八个诗句的节奏皆作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X—XX—X—XX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为避免单调起见，读时对节拍的长短可适当加以调整，使整齐之中略有变化。此诗四联皆对仗，出句与对句之间应有明显间隔，如一气读出，就听不出对联的意味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73320"/>
            <a:ext cx="9144000" cy="44830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阁   夜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杜甫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岁暮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阴阳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短景，天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霜雪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霁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寒宵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五更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鼓角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声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悲壮，三峡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星河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影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动摇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野哭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千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战伐，夷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数处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起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渔樵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卧龙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跃马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黄土，人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音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漫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寂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5640" y="189000"/>
            <a:ext cx="172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朗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200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55640" y="189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鉴赏指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8280360" cy="1191240"/>
          </a:xfrm>
          <a:prstGeom prst="rect">
            <a:avLst/>
          </a:prstGeom>
          <a:solidFill>
            <a:srgbClr val="00cc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“岁暮阴阳催短影，天涯霜雪霁寒宵”这一联交代了什么要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?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565360"/>
            <a:ext cx="828036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岁暮”，交代时间转眼一年将尽，有韶光易逝人生短暂之感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稍稍流露出凄苦的心境。“天涯”，称所在地资州，有客居天涯自伤飘泊凄寒，“宵”这里指黎明前， 暗示诗人彻夜未眠，可见忧心之重，为下文写听到当地驻军的鼓角声作铺垫。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55640" y="189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鉴赏指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197000"/>
            <a:ext cx="8280360" cy="1191240"/>
          </a:xfrm>
          <a:prstGeom prst="rect">
            <a:avLst/>
          </a:prstGeom>
          <a:solidFill>
            <a:srgbClr val="00cc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“五更鼓角声悲壮，三峡星河影动摇”这一联写了几种感觉？表达了诗人什么样的感情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3213000"/>
            <a:ext cx="828036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听觉、视觉。借听觉写出了兵草未息、战局紧张的悲壮气氛，音调铿锵；下句借视觉写出了山川美景的秀丽， 音调转柔。一份爱我神州、痛我神州的悲壮情怀萦绕诗人的心头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55640" y="189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鉴赏指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197000"/>
            <a:ext cx="8280360" cy="1191240"/>
          </a:xfrm>
          <a:prstGeom prst="rect">
            <a:avLst/>
          </a:prstGeom>
          <a:solidFill>
            <a:srgbClr val="00cc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“野哭千家闻战伐，夷歌数处起渔樵”这一联你读懂了什么？上下句运用了什么表现手法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213000"/>
            <a:ext cx="8280360" cy="1739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“野哭”而多至“千家”，这是战乱造成的，何至“千家”皆哭？反映了人民的深重灾难；“夷歌”，显示了地方风情。 上下句形成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对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有人忧有人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4:22:18Z</dcterms:created>
  <dc:creator>User</dc:creator>
  <dc:description/>
  <dc:language>en-US</dc:language>
  <cp:lastModifiedBy>番茄花园</cp:lastModifiedBy>
  <dcterms:modified xsi:type="dcterms:W3CDTF">2008-05-14T06:47:06Z</dcterms:modified>
  <cp:revision>28</cp:revision>
  <dc:subject/>
  <dc:title>阁 夜</dc:title>
</cp:coreProperties>
</file>