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71C7-151B-4EDF-964E-01ABB6C2D8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AEBC-97B9-4E12-A96A-3FC4204215C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A86-F950-444F-A776-E604FDF6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CFA-FC6C-4A21-886A-A52CE536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4C14C-2BA4-4E70-8704-ED313BCC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EFCF3-5F6E-4367-93C1-023ECEA6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62332-1674-44CE-B247-3F8E6A44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D38B0-4698-4FF6-89D7-949A108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0C13D-6375-4C5C-8FCC-C7FC98A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78352-FE78-47D6-8109-2A39DEFB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4FB60-D5A7-44BB-A2FC-5973B24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6E67B-2801-40AF-B9F3-D2143963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0AF87-C96B-48B8-A232-77CF972D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056-6863-4D13-BFC9-AC09BA2B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300-2A0A-487D-8ED3-BB7F98BC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BFED-1B85-47AB-BA8A-10913247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7F7E-D3B9-4362-8795-2BA8406C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3533-08E3-46A8-8082-FA5AA57D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F0C5-5DB7-427F-9C95-DB3766C7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231-FEE8-47D5-A10A-0F75E0EF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65FD-261A-4143-ABFA-41E63BDD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1951-6C4A-43A3-B427-8D4583CC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2F2-D67F-4A03-BB33-37A4A5ED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4887-14A8-467F-A21D-C2AA2AA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5F4D-2BC0-429F-BB21-C4231D3D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C963-D4C9-4FF7-8726-4E243A69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5A3F-E87A-437D-BEC0-73FA1870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E8C4-1B11-4288-AC45-EFB6AACD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E6993-A605-4805-BF92-E73B988B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7A08-2689-4E8B-826A-46216F06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9764-75B4-4B92-BD5B-54EDA6B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D9CD-8F4A-4A4D-8026-0D90C650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3EA8-B026-458C-A224-21894C4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108-5E17-4BB0-B698-64347E38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B24C-3D13-424B-AD9E-B9D69EFD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3357-9DF5-448D-94FE-11AB3065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7C3F-5B7C-492F-BB3C-7FC1BC2E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6CCA-A3D9-47BB-8653-FA214AED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5F69-9E29-40FA-BFF3-17E7F0DE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0031E-2AD3-4F2B-BA64-12B35797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5229-233D-4088-B4F8-38480652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0CE6-6EA9-4B0D-84C1-79A44884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1694-55BA-4487-A097-4D3452E7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77FD-DDCE-496E-9E1E-AC88FCC1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43D-BFFA-453B-8F05-6538F19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C139-30D3-4C54-AF2F-2DBFC44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A1C65-DC33-4486-B7C9-F6E1B6BB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EB87-E850-4F0C-8AE2-CA338B83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C52E-AD23-45E5-A7E8-9E79F3A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25623-0DDC-4E1E-A686-CAEF6A7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BA131-ADE7-4C15-80FF-BF054CC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435CA-C90C-46A6-A014-E1851F8A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A5F8-E71C-48FE-8564-95661E1D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9942-BD3D-411A-8C0F-9CCE3F2F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B921-0ECB-41A7-809B-92D1E7DE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FE6-02AC-463E-BB4A-ACE46B6B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6634D-7018-4A28-B82D-CA9450CB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6295-9BAA-401E-BD22-8AF69CB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2CDED-B708-498A-B44F-9FC2DEDB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27A9-5FF3-4F4F-9461-9D9D88C0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383C-BB22-4487-971C-3FC1DC0F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96AE-2470-4BC5-9BB2-FF60974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965F0-59D8-448A-BC11-3F2A3D9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BC15D-5FA3-4927-965B-7943532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37BA-02FE-471A-AB58-09F84FAC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5963-5CE9-4913-BA80-331CDE9A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975-2088-4E34-ADBE-3F808EBB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0EA50-C464-446B-BD1B-F2314DF8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41791-4648-48F0-963B-2C213852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4753-7377-4B32-8A92-F499A848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51C2-F972-43D3-B804-0EC12918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06298-E8E2-4262-A96C-60C84828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5BB79-CC36-49D1-9619-3960A24A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4B190-3646-44FD-A483-3118C4E6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ADB70-6FA7-4E7C-A15F-1FE0910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C4C43-0875-44D8-AA7F-48B7D43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DE300-45C4-48B6-BFFE-55369C56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9E6-17A5-4536-B354-212B4471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43807-190F-44ED-889B-9CE88A3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763F-C48B-491B-9534-E39A3D4C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C130F-A934-443D-88CD-1FEFA770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7B81B-E8C1-41A8-9EAA-32AE0AF5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F040-7A7C-45CE-B3D1-CE0C7B3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4D887-2625-4CAC-96F8-503D492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3D965-2C8B-4024-9273-209F98AC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061E4-99EC-4617-A347-E0CDD4E7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94BFB-E4CB-4F93-840C-139223EC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4C042-A9E8-4DE8-8AB9-5F219281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ACE5-42E7-4F4E-9427-A309B8A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3721C-F81F-4455-A154-B204AA98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F3F0E-0B93-4196-AA92-90F7771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671D3-1E63-4EAF-AFCA-71471362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947A6-575D-460E-BAE3-0BF9EF18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7CE20-0BC0-4D4D-8658-4FD06F2B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68CE9-D2AD-4208-9CDF-DAA7E9F4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0A17F-E861-46C5-A2C6-DC5B419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287B2-B8B0-4042-A1A7-753ACD80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CF829-B2C0-4305-9A30-5709CC2F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F1AB7-0B7D-4606-85AA-DB970F7B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412-C0EC-4377-BC90-E863FFD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96CFB-D093-407D-A204-408D4EDA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12E97-31F3-4040-A94C-46BAEB8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D0779-8125-42EB-886D-89DA541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150A-3C36-40FE-8823-294AF645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99750-9990-461B-BED8-85841AB0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C37B6-53DE-4BEC-8387-4B2CCFE0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E34D0-9BBB-4161-B264-940A0DCD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6B31C-3011-46BE-A36D-729CD53F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ED3A1-38C4-4D69-9A17-B2536A1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E18DB-60CD-4158-B185-81A3A53A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FAA8-E6DB-492C-8EDC-77BF0CD4817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30C8-DF3B-430A-B291-B675051328E8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CBA6-BFC1-4DC2-8A77-DBADA667B65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A847-0253-4905-AC47-C3B180D9F70C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E0F8-2ADD-4B1A-BE5F-4D060266CE95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7248-AEFF-4A72-9A47-5379B55BB41F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DE78-3621-45D5-B4FB-2781CCC3719E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B0F3-F03F-4D4C-B62F-F7EC3C2608C4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711A-24C8-4AA2-81A8-EA848524837B}" type="slidenum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3"/>
          <p:cNvSpPr/>
          <p:nvPr/>
        </p:nvSpPr>
        <p:spPr>
          <a:xfrm>
            <a:off x="1752480" y="1219320"/>
            <a:ext cx="114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beec9"/>
                </a:solidFill>
                <a:latin typeface="Times New Roman"/>
                <a:ea typeface="方正舒体"/>
              </a:rPr>
              <a:t>观沧海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234648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1221840" y="3927600"/>
            <a:ext cx="911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隶书"/>
                <a:ea typeface="隶书"/>
              </a:rPr>
              <a:t>曹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Picture 1030" descr="2006418154240"/>
          <p:cNvPicPr/>
          <p:nvPr/>
        </p:nvPicPr>
        <p:blipFill>
          <a:blip r:embed="rId1"/>
          <a:stretch/>
        </p:blipFill>
        <p:spPr>
          <a:xfrm>
            <a:off x="0" y="-306360"/>
            <a:ext cx="9325080" cy="71643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031"/>
          <p:cNvSpPr/>
          <p:nvPr/>
        </p:nvSpPr>
        <p:spPr>
          <a:xfrm>
            <a:off x="395280" y="260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宋体"/>
                <a:ea typeface="楷体_GB2312"/>
              </a:rPr>
              <a:t>观  沧  海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1032"/>
          <p:cNvSpPr/>
          <p:nvPr/>
        </p:nvSpPr>
        <p:spPr>
          <a:xfrm>
            <a:off x="1619280" y="177336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曹 操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405640" cy="12254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0" y="1773360"/>
            <a:ext cx="94680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1332000" y="242100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3333ff"/>
                </a:solidFill>
                <a:latin typeface="Verdana"/>
              </a:rPr>
              <a:t>1</a:t>
            </a:r>
            <a:r>
              <a:rPr b="1" lang="zh-CN" sz="4800" spc="-1" strike="noStrike">
                <a:solidFill>
                  <a:srgbClr val="3333ff"/>
                </a:solidFill>
                <a:latin typeface="Verdana"/>
              </a:rPr>
              <a:t>、诗中描写了哪些景象？这些景物有何特点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116000" y="260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Verdana"/>
              </a:rPr>
              <a:t>找美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8894880" cy="11224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Franklin Gothic Book"/>
                <a:ea typeface="华文楷体"/>
              </a:rPr>
              <a:t>     </a:t>
            </a:r>
            <a:r>
              <a:rPr b="1" lang="zh-CN" sz="4800" spc="-1" strike="noStrike">
                <a:solidFill>
                  <a:srgbClr val="3333ff"/>
                </a:solidFill>
                <a:latin typeface="Franklin Gothic Book"/>
                <a:ea typeface="华文楷体"/>
              </a:rPr>
              <a:t>眼前之景会触动诗人怎样的情怀呢？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55600" y="255600"/>
            <a:ext cx="8894880" cy="11224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Franklin Gothic Book"/>
                <a:ea typeface="华文楷体"/>
              </a:rPr>
              <a:t>请将诗中描写的画面用自己的语言描绘出来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55600" y="255600"/>
            <a:ext cx="8894880" cy="1139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写景技巧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A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方法：定点观察、移步换景、特写镜头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B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顺序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: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由高到低、由远及近、先实后虚、以时间为序、以行踪为序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C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目的、选择：渲染气氛，抒发作者情感，推动故事情节的发展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在具体运用这些方法写景时，必须充分调动联想和想象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val 23"/>
          <p:cNvSpPr/>
          <p:nvPr/>
        </p:nvSpPr>
        <p:spPr>
          <a:xfrm>
            <a:off x="5791320" y="228600"/>
            <a:ext cx="3124080" cy="129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0338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d8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3333ff"/>
                </a:solidFill>
                <a:latin typeface="黑体"/>
                <a:ea typeface="黑体"/>
              </a:rPr>
              <a:t>观沧海</a:t>
            </a:r>
            <a:br>
              <a:rPr sz="3000"/>
            </a:br>
            <a:r>
              <a:rPr b="1" lang="zh-CN" sz="25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br>
              <a:rPr sz="2500"/>
            </a:br>
            <a:r>
              <a:rPr b="1" lang="zh-CN" sz="2500" spc="-1" strike="noStrike">
                <a:solidFill>
                  <a:srgbClr val="3333ff"/>
                </a:solidFill>
                <a:latin typeface="黑体"/>
                <a:ea typeface="黑体"/>
              </a:rPr>
              <a:t>          </a:t>
            </a:r>
            <a:r>
              <a:rPr b="1" lang="zh-CN" sz="2100" spc="-1" strike="noStrike">
                <a:solidFill>
                  <a:srgbClr val="3333ff"/>
                </a:solidFill>
                <a:latin typeface="黑体"/>
                <a:ea typeface="黑体"/>
              </a:rPr>
              <a:t>曹操</a:t>
            </a:r>
            <a:endParaRPr b="0" lang="en-US" sz="21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457200" y="1523880"/>
            <a:ext cx="45720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东临碣石，以观沧海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水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何澹澹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山岛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竦峙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树木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丛生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百草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丰茂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秋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萧瑟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洪波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涌起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日月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之行，若出其中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星汉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灿烂，若出其里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幸甚至哉，歌以咏志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6400800" y="99072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              </a:t>
            </a: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总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5257800" y="1523880"/>
            <a:ext cx="228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     </a:t>
            </a: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     </a:t>
            </a: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4876920" y="3886200"/>
            <a:ext cx="15238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7"/>
          <p:cNvSpPr/>
          <p:nvPr/>
        </p:nvSpPr>
        <p:spPr>
          <a:xfrm>
            <a:off x="4952880" y="2209680"/>
            <a:ext cx="457200" cy="144792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0a22e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AutoShape 8"/>
          <p:cNvSpPr/>
          <p:nvPr/>
        </p:nvSpPr>
        <p:spPr>
          <a:xfrm>
            <a:off x="5029200" y="3962520"/>
            <a:ext cx="457200" cy="1143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0a22e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AutoShape 9"/>
          <p:cNvSpPr/>
          <p:nvPr/>
        </p:nvSpPr>
        <p:spPr>
          <a:xfrm>
            <a:off x="6477120" y="2743200"/>
            <a:ext cx="609480" cy="2286000"/>
          </a:xfrm>
          <a:custGeom>
            <a:avLst/>
            <a:gdLst>
              <a:gd name="textAreaLeft" fmla="*/ 81360 w 609480"/>
              <a:gd name="textAreaRight" fmla="*/ 528120 w 609480"/>
              <a:gd name="textAreaTop" fmla="*/ 399960 h 2286000"/>
              <a:gd name="textAreaBottom" fmla="*/ 1657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0a22e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7391520" y="32767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0000"/>
                </a:solidFill>
                <a:latin typeface="Times New Roman"/>
                <a:ea typeface="隶书"/>
              </a:rPr>
              <a:t>分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3809880" y="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468360" y="5791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主旨：借写大海的雄伟壮阔之景，抒发自己统一天下、建功立业的雄心壮志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AutoShape 17"/>
          <p:cNvSpPr/>
          <p:nvPr/>
        </p:nvSpPr>
        <p:spPr>
          <a:xfrm>
            <a:off x="4572000" y="1752480"/>
            <a:ext cx="1600200" cy="1526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Rectangle 20"/>
          <p:cNvSpPr/>
          <p:nvPr/>
        </p:nvSpPr>
        <p:spPr>
          <a:xfrm>
            <a:off x="6400800" y="457200"/>
            <a:ext cx="457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644e"/>
                </a:solidFill>
                <a:latin typeface="Times New Roman"/>
                <a:ea typeface="华文行楷"/>
              </a:rPr>
              <a:t>背读方法</a:t>
            </a:r>
            <a:r>
              <a:rPr b="1" lang="zh-CN" sz="2800" spc="-1" strike="noStrike">
                <a:solidFill>
                  <a:srgbClr val="a5644e"/>
                </a:solidFill>
                <a:latin typeface="Times New Roman"/>
                <a:ea typeface="华文行楷"/>
              </a:rPr>
              <a:t>：</a:t>
            </a:r>
            <a:r>
              <a:rPr b="1" lang="zh-CN" sz="2400" spc="-1" strike="noStrike">
                <a:solidFill>
                  <a:srgbClr val="a5644e"/>
                </a:solidFill>
                <a:latin typeface="Times New Roman"/>
                <a:ea typeface="华文行楷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明确作者思路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大声朗读背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0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11"/>
          <p:cNvSpPr/>
          <p:nvPr/>
        </p:nvSpPr>
        <p:spPr>
          <a:xfrm>
            <a:off x="1676520" y="6172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1162080" y="20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a5644e"/>
                </a:solidFill>
                <a:uFillTx/>
                <a:latin typeface="Times New Roman"/>
              </a:rPr>
              <a:t>巧总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395280" y="1484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小结</a:t>
            </a:r>
            <a:r>
              <a:rPr b="0" lang="zh-CN" sz="3600" spc="-1" strike="noStrike">
                <a:solidFill>
                  <a:srgbClr val="3333ff"/>
                </a:solidFill>
                <a:latin typeface="Verdana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Verdana"/>
              </a:rPr>
              <a:t>        </a:t>
            </a:r>
            <a:r>
              <a:rPr b="0" lang="zh-CN" sz="3600" spc="-1" strike="noStrike">
                <a:solidFill>
                  <a:srgbClr val="3333ff"/>
                </a:solidFill>
                <a:latin typeface="Verdana"/>
              </a:rPr>
              <a:t>本节课所学的《观沧海》前六句写的是实景，后四句写的是虚景。这首诗借景抒情，将眼前海上景色和自己的雄心壮志融合在一起，诗人以沧海自比，开阔的意境，雄浑的气势，也是诗人宽广的胸怀和豪迈的气魄的表现，诗里洋溢着饱满的激情，思想又很含蓄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堂清检测：阅读下面一首古诗，回答问题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沧海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曹 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试对“日月之行，若出其中，星汉灿烂，若出其里。”两句作简要赏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矩形 2"/>
          <p:cNvSpPr/>
          <p:nvPr/>
        </p:nvSpPr>
        <p:spPr>
          <a:xfrm>
            <a:off x="755640" y="1582560"/>
            <a:ext cx="7848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诗人运用想象与夸张的手法，描绘大海吞吐日月、包容星汉的壮阔景象，表现诗人开阔的胸怀和宏大的抱负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矩形 3"/>
          <p:cNvSpPr/>
          <p:nvPr/>
        </p:nvSpPr>
        <p:spPr>
          <a:xfrm>
            <a:off x="250920" y="256536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诗中描写的沧海景色有什么特点？通过写景表现诗人怎样的心态？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矩形 4"/>
          <p:cNvSpPr/>
          <p:nvPr/>
        </p:nvSpPr>
        <p:spPr>
          <a:xfrm>
            <a:off x="503280" y="35002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诗人眼中的沧海波澜壮阔、生机勃勃，映衬出诗人雄心勃勃、渴望建功立业、统一天下的积极向上的心态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矩形 5"/>
          <p:cNvSpPr/>
          <p:nvPr/>
        </p:nvSpPr>
        <p:spPr>
          <a:xfrm>
            <a:off x="179280" y="4437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分析“日月之行，若出其中；星汉灿烂，若出其里”所表现的意境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矩形 6"/>
          <p:cNvSpPr/>
          <p:nvPr/>
        </p:nvSpPr>
        <p:spPr>
          <a:xfrm>
            <a:off x="395280" y="5516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四句是诗人奇特的想象，描写了大海吞吐日月、包容星汉的壮阔景象，使我们从中领略到诗人开阔的胸怀和宏大的抱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   </a:t>
            </a:r>
            <a:r>
              <a:rPr b="1" lang="zh-CN" sz="4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两汉所谓乐府是官署名称，指音乐机关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.</a:t>
            </a:r>
            <a:r>
              <a:rPr b="1" lang="zh-CN" sz="4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它主要负责制作国家典礼音乐，也就是将文人歌功颂德的诗制成曲谱并制作、演奏新的歌舞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, </a:t>
            </a:r>
            <a:r>
              <a:rPr b="1" lang="zh-CN" sz="4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此外还要收集民间的歌谣入乐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. </a:t>
            </a:r>
            <a:endParaRPr b="0" lang="en-US" sz="4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539640" y="227664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汉代乐府诗一般无标题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观沧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这个题目是后人加的。乐府诗原来是可以歌唱的。诗的最后两句“幸甚至哉，歌以咏志”是合乐时加上的，是诗的附文，跟诗的内容没有联系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WordArt 3"/>
          <p:cNvSpPr txBox="1"/>
          <p:nvPr/>
        </p:nvSpPr>
        <p:spPr>
          <a:xfrm>
            <a:off x="685800" y="762120"/>
            <a:ext cx="30862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关于体裁</a:t>
            </a:r>
            <a:endParaRPr b="1" lang="en-US" sz="60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4284720" y="836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乐府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0" y="298440"/>
            <a:ext cx="8997840" cy="1566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你心目中的曹操是一个怎样的人？</a:t>
            </a:r>
            <a:endParaRPr b="0" lang="en-US" sz="3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0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6"/>
          <p:cNvSpPr/>
          <p:nvPr/>
        </p:nvSpPr>
        <p:spPr>
          <a:xfrm>
            <a:off x="250920" y="260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曹操（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155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年－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220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15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日</a:t>
            </a:r>
            <a:r>
              <a:rPr b="1" lang="en-US" sz="3600" spc="-1" strike="noStrike" baseline="30000">
                <a:solidFill>
                  <a:srgbClr val="ff0000"/>
                </a:solidFill>
                <a:latin typeface="Verdana"/>
              </a:rPr>
              <a:t>[1]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 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），字孟德，一名吉利，小字阿瞒，沛国谯县（今安徽亳州）人，汉族。东汉末年杰出的政治家、军事家、诗人  。三国中曹魏政权的缔造者，以汉天子的名义征讨四方，对内消灭二袁、吕布、刘表、韩遂等割据势力，对外降服南匈奴、乌桓、鲜卑等，统一了中国北方，并实行一系列政策恢复经济生产和社会秩序，奠定了曹魏立国的基础。曹操在世时，担任东汉丞相，后为魏王，去世后谥号为武王。其子曹丕称帝后，追尊为武皇帝，庙号太祖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534960" y="64263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曹操精兵法，善诗歌，抒发自己的政抱负，并反映汉末人民的苦难生活，气魄雄伟，慷慨悲凉；散文亦清峻整洁，开启并繁荣了建安文学，给后人留下了宝贵的精神财富，史称建安风骨，鲁迅评价其为“改造文章的祖师”。同时曹操也擅长书法，尤工章草，唐朝张怀瓘在</a:t>
            </a:r>
            <a:r>
              <a:rPr b="1" lang="en-US" sz="44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书断</a:t>
            </a:r>
            <a:r>
              <a:rPr b="1" lang="en-US" sz="44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Franklin Gothic Book"/>
                <a:ea typeface="华文楷体"/>
              </a:rPr>
              <a:t>中评其为“妙品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84"/>
          <p:cNvPicPr/>
          <p:nvPr/>
        </p:nvPicPr>
        <p:blipFill>
          <a:blip r:embed="rId2"/>
          <a:stretch/>
        </p:blipFill>
        <p:spPr>
          <a:xfrm>
            <a:off x="324000" y="1197000"/>
            <a:ext cx="3868560" cy="5334120"/>
          </a:xfrm>
          <a:prstGeom prst="rect">
            <a:avLst/>
          </a:prstGeom>
          <a:ln w="0">
            <a:noFill/>
          </a:ln>
        </p:spPr>
      </p:pic>
      <p:pic>
        <p:nvPicPr>
          <p:cNvPr id="425" name="Rectangle 4" descr=""/>
          <p:cNvPicPr/>
          <p:nvPr/>
        </p:nvPicPr>
        <p:blipFill>
          <a:blip r:embed="rId3"/>
          <a:stretch/>
        </p:blipFill>
        <p:spPr>
          <a:xfrm>
            <a:off x="4992840" y="378000"/>
            <a:ext cx="4157640" cy="5992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468360" y="15552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cc0000"/>
                </a:solidFill>
                <a:uFillTx/>
                <a:latin typeface="Times New Roman"/>
              </a:rPr>
              <a:t>诵诗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50920" y="1628640"/>
            <a:ext cx="843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观沧海</a:t>
            </a:r>
            <a:r>
              <a:rPr b="1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曹操的名篇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汉建安年间，曹操击退了他在北方的主要对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袁绍。袁绍残部逃到乌桓（当时辽东半岛上的一个少数民族政权），想得到乌桓的支持，以求东山再起。曹操乘胜追击，征讨乌桓。东汉建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即公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曹操挥鞭北指，所向披靡，大败乌桓。归途中，曹操登上碣石山，观看沧海壮丽景色。此时，曹操踌躇满志，意气昂扬，挥笔即书，便有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沧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826920" y="4762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Verdana"/>
              </a:rPr>
              <a:t>知背景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603360" y="1768320"/>
            <a:ext cx="8004240" cy="509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24000" y="3212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     </a:t>
            </a:r>
            <a:r>
              <a:rPr b="1" lang="zh-CN" sz="3400" spc="-1" strike="noStrike">
                <a:solidFill>
                  <a:srgbClr val="003399"/>
                </a:solidFill>
                <a:latin typeface="Franklin Gothic Book"/>
                <a:ea typeface="华文楷体"/>
              </a:rPr>
              <a:t>    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826920" y="18900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Verdana"/>
              </a:rPr>
              <a:t>解文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53960" y="111924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东行登上碣石山，来观赏大海。 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海水多么宽阔浩荡，碣石山高高耸立在海边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碣石山上树木丛生，各种草长得很繁茂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秋风飒飒，海上涌起巨大的波涛。 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日月的运行，好象是从这浩淼的海洋中出发的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银河星光灿烂，好象是从这浩淼的海洋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中产生出来的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真是幸运极了，用歌唱来表达自己的思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想感情吧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utao</dc:creator>
  <dc:description/>
  <dc:language>en-US</dc:language>
  <cp:lastModifiedBy>Administrator</cp:lastModifiedBy>
  <dcterms:modified xsi:type="dcterms:W3CDTF">2014-12-23T00:26:13Z</dcterms:modified>
  <cp:revision>115</cp:revision>
  <dc:subject/>
  <dc:title>PowerPoint Presentation</dc:title>
</cp:coreProperties>
</file>