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3DFEF-B276-40E1-A82F-3CB00D54421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0000"/>
                </a:solidFill>
                <a:latin typeface="Arial"/>
                <a:ea typeface="华文行楷"/>
              </a:rPr>
              <a:t>；星汉灿烂，若出其里。幸甚至哉，歌以咏志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27DD-F4A0-43BA-8615-2FD8D343B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619B-AE36-463D-846B-EA0070BE5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B9A2-8DA4-4CA6-9041-EFDFEFD03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C78C-0BA7-4D23-868A-3987D471C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A7ED-48E7-4CDE-8C19-5C50631C3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99A8-94C3-4C23-8499-12A89785C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E826-342B-4ACA-A5C1-5FC29D0B4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97CD-2F2D-4E5A-8C69-7E1611A6E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0357-72DD-4570-926B-F673150F2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3E85-442C-4B32-AB8E-8B9A893F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78E3-974D-4844-82D7-3BE2569D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EC88-8012-4A38-87FC-E7D403B4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302F3-D574-422C-AE36-2E0AC31E5E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35266;&#27815;&#28023;.mp3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94240" y="838080"/>
            <a:ext cx="54936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267480" y="914400"/>
            <a:ext cx="22042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 u="sng">
                <a:solidFill>
                  <a:srgbClr val="009999"/>
                </a:solidFill>
                <a:uFillTx/>
                <a:latin typeface="Times New Roman"/>
                <a:ea typeface="华文新魏"/>
                <a:hlinkClick r:id="rId2"/>
              </a:rPr>
              <a:t>观沧海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685800"/>
            <a:ext cx="1067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曹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600200" y="2362320"/>
            <a:ext cx="704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星汉灿烂，若出其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 flipH="1">
            <a:off x="4495680" y="762120"/>
            <a:ext cx="4648320" cy="50292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1066680"/>
            <a:ext cx="421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3300"/>
                </a:solidFill>
                <a:latin typeface="Times New Roman"/>
                <a:ea typeface="华文行楷"/>
              </a:rPr>
              <a:t>幸甚至哉，歌以咏志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新宋体"/>
              </a:rPr>
              <a:t>翻译诗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华文新魏"/>
                <a:ea typeface="华文新魏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新宋体"/>
                <a:ea typeface="新宋体"/>
              </a:rPr>
              <a:t>策马东来，登上碣石。我要饱览这大海的壮观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新宋体"/>
                <a:ea typeface="新宋体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新宋体"/>
                <a:ea typeface="新宋体"/>
              </a:rPr>
              <a:t>海面浩淼，水波激荡。突兀耸立的山岛呀</a:t>
            </a:r>
            <a:r>
              <a:rPr b="1" lang="zh-CN" sz="4800" spc="-1" strike="noStrike">
                <a:solidFill>
                  <a:srgbClr val="000000"/>
                </a:solidFill>
                <a:latin typeface="新宋体"/>
                <a:ea typeface="新宋体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新宋体"/>
                <a:ea typeface="新宋体"/>
              </a:rPr>
              <a:t>最先跃入眼帘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新宋体"/>
                <a:ea typeface="新宋体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新宋体"/>
                <a:ea typeface="新宋体"/>
              </a:rPr>
              <a:t>山岛上—百草丰美，树木繁多。虽然到了秋天，它们仍生机勃勃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新宋体"/>
                <a:ea typeface="新宋体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新宋体"/>
                <a:ea typeface="新宋体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新宋体"/>
                <a:ea typeface="新宋体"/>
              </a:rPr>
              <a:t>看大海—在萧瑟秋风中，汹涌澎湃，波澜壮阔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新宋体"/>
                <a:ea typeface="新宋体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新宋体"/>
                <a:ea typeface="新宋体"/>
              </a:rPr>
              <a:t>太阳和月亮，昼夜不停运转，都是大海吐纳的小小弹丸；天上的银河呀，星光灿烂，它们都出于大海的广阔胸怀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新宋体"/>
                <a:ea typeface="新宋体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新宋体"/>
                <a:ea typeface="新宋体"/>
              </a:rPr>
              <a:t>啊，今天我看到了大海，真是幸运到了极点且让我高歌一曲，倾吐我宏伟的志向吧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95280" y="333360"/>
            <a:ext cx="7993080" cy="76428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新宋体"/>
                <a:ea typeface="新宋体"/>
              </a:rPr>
              <a:t>         </a:t>
            </a:r>
            <a:r>
              <a:rPr b="1" lang="zh-CN" sz="4400" spc="-1" strike="noStrike">
                <a:solidFill>
                  <a:srgbClr val="ff0000"/>
                </a:solidFill>
                <a:latin typeface="新宋体"/>
                <a:ea typeface="新宋体"/>
              </a:rPr>
              <a:t>分析诗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14400" y="141912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1280" y="1484280"/>
            <a:ext cx="61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一层（开头两句）： 交代观海的地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1280" y="2924280"/>
            <a:ext cx="63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二层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3—8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句）：描写海水与山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4149720"/>
            <a:ext cx="61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三层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句）：表现大海吞吐日月星辰的气概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4360" y="5546880"/>
            <a:ext cx="81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最后两句是附文，是为和乐而加，与诗的内容无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1341360"/>
            <a:ext cx="87480" cy="4068720"/>
          </a:xfrm>
          <a:custGeom>
            <a:avLst/>
            <a:gdLst>
              <a:gd name="textAreaLeft" fmla="*/ 55800 w 87480"/>
              <a:gd name="textAreaRight" fmla="*/ 87480 w 87480"/>
              <a:gd name="textAreaTop" fmla="*/ 105840 h 4068720"/>
              <a:gd name="textAreaBottom" fmla="*/ 3962880 h 40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443640" y="2565360"/>
            <a:ext cx="24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新宋体"/>
              </a:rPr>
              <a:t>（实景）＿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604360" y="3357720"/>
            <a:ext cx="164880" cy="1269720"/>
          </a:xfrm>
          <a:custGeom>
            <a:avLst/>
            <a:gdLst>
              <a:gd name="textAreaLeft" fmla="*/ 21960 w 164880"/>
              <a:gd name="textAreaRight" fmla="*/ 142920 w 164880"/>
              <a:gd name="textAreaTop" fmla="*/ 222120 h 1269720"/>
              <a:gd name="textAreaBottom" fmla="*/ 920520 h 126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84720" y="429264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新宋体"/>
              </a:rPr>
              <a:t>（想象）＿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思考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新宋体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新宋体"/>
              </a:rPr>
              <a:t>、全诗是以哪个字展开来写的？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新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新宋体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新宋体"/>
              </a:rPr>
              <a:t>、《观 沧 海》中哪些诗句最能体现作者的博大胸怀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新宋体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新宋体"/>
              </a:rPr>
              <a:t>、说一说你最喜欢哪两句？为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"/>
                <a:ea typeface="新宋体"/>
              </a:rPr>
              <a:t>《观沧海》赏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新宋体"/>
                <a:ea typeface="新宋体"/>
              </a:rPr>
              <a:t>《观沧海》是曹操的名篇。公元</a:t>
            </a:r>
            <a:r>
              <a:rPr b="1" lang="zh-CN" sz="4400" spc="-1" strike="noStrike">
                <a:solidFill>
                  <a:srgbClr val="000000"/>
                </a:solidFill>
                <a:latin typeface="新宋体"/>
                <a:ea typeface="新宋体"/>
              </a:rPr>
              <a:t>207</a:t>
            </a:r>
            <a:r>
              <a:rPr b="1" lang="zh-CN" sz="4400" spc="-1" strike="noStrike">
                <a:solidFill>
                  <a:srgbClr val="000000"/>
                </a:solidFill>
                <a:latin typeface="新宋体"/>
                <a:ea typeface="新宋体"/>
              </a:rPr>
              <a:t>年，曹操亲率大军北上。追歼袁绍残部，五月誓师北伐，七月出卢龙寨，登临碣石山。他面对洪波涌起的大海，触景生情，写下了这首壮丽的诗篇。写景的十句，前六句写的是实景，后四句写的是虚景。这首诗借景抒情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新宋体"/>
                <a:ea typeface="新宋体"/>
              </a:rPr>
              <a:t>将眼前海上景色和自已的雄心壮志融合在一起，诗人以沧海自比，开阔的意境，雄浑的气势，也是诗人宽广的胸怀和豪迈的气魄的表现。诗中洋溢着饱含的激情。</a:t>
            </a:r>
            <a:r>
              <a:rPr b="1" lang="zh-CN" sz="4800" spc="-1" strike="noStrike">
                <a:solidFill>
                  <a:srgbClr val="ff0000"/>
                </a:solidFill>
                <a:latin typeface="新宋体"/>
                <a:ea typeface="新宋体"/>
              </a:rPr>
              <a:t>诗人勾画了大海吞吐日月，包蕴万千的壮丽景象，表现了开阔的胸襟，抒发了统一中国建功立业的抱负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新宋体"/>
              </a:rPr>
              <a:t>小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  <a:ea typeface="新宋体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新宋体"/>
              </a:rPr>
              <a:t>这首乐府诗表现了诗人博大的胸怀，奋发昂扬的精神。抒发了统一中国，建功立业的宏伟抱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  <a:ea typeface="新宋体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新宋体"/>
              </a:rPr>
              <a:t>这首诗意境开阔，气势雄浑，这与一个雄心勃勃的政治家和军事家的风度是一致的，真是读其诗如见其人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859280" y="620640"/>
            <a:ext cx="720720" cy="10080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46476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1557360"/>
            <a:ext cx="96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树木丛生，百草丰茂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55640" y="1773360"/>
            <a:ext cx="7042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1676520"/>
            <a:ext cx="784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秋风萧瑟，洪波涌起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04920" y="4869000"/>
            <a:ext cx="883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日月之行，若出其中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7T01:26:08Z</dcterms:created>
  <dc:creator>雨林木风</dc:creator>
  <dc:description/>
  <dc:language>en-US</dc:language>
  <cp:lastModifiedBy>未知用户</cp:lastModifiedBy>
  <dcterms:modified xsi:type="dcterms:W3CDTF">2016-10-17T14:57:09Z</dcterms:modified>
  <cp:revision>11</cp:revision>
  <dc:subject/>
  <dc:title>幻灯片 1</dc:title>
</cp:coreProperties>
</file>