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8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E2CB-E5B6-4ABF-A4E6-D2CAF3623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6D51-E9F1-4C73-A625-DE133CC6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5F06-5682-401D-94A6-23A976072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B20F-7668-4730-A65E-AA5A85724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F35A-D370-4FC0-BB2D-92C21F8E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8791-FB96-4720-8F3E-9143A3C4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6AFD-69B7-4E89-B821-6985963F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6FC9-F9C3-4C71-82BA-C61ADEFB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4D2E-470A-48FE-A35B-1D4B9794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83DE-75D1-47E5-9C51-BDE98A60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5535-D65E-492F-86A7-3B2933A3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9143-AF34-4762-9CD3-6AAE8339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3492-9615-4DFE-8EBD-8D43E7E1AB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8193"/>
          <p:cNvSpPr/>
          <p:nvPr/>
        </p:nvSpPr>
        <p:spPr>
          <a:xfrm>
            <a:off x="2133720" y="990720"/>
            <a:ext cx="45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隶书"/>
              </a:rPr>
              <a:t>发问的精神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文本框 8194"/>
          <p:cNvSpPr/>
          <p:nvPr/>
        </p:nvSpPr>
        <p:spPr>
          <a:xfrm>
            <a:off x="6095880" y="23623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作者：启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文本框 20481"/>
          <p:cNvSpPr/>
          <p:nvPr/>
        </p:nvSpPr>
        <p:spPr>
          <a:xfrm>
            <a:off x="457200" y="304920"/>
            <a:ext cx="72388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说明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第</a:t>
            </a:r>
            <a:r>
              <a:rPr b="0" lang="en-US" sz="3200" spc="-1" strike="noStrike">
                <a:solidFill>
                  <a:srgbClr val="3333cc"/>
                </a:solidFill>
                <a:latin typeface="隶书"/>
                <a:ea typeface="隶书"/>
              </a:rPr>
              <a:t>4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张幻灯片中每个问题均有链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第</a:t>
            </a:r>
            <a:r>
              <a:rPr b="0" lang="en-US" sz="3200" spc="-1" strike="noStrike">
                <a:solidFill>
                  <a:srgbClr val="3333cc"/>
                </a:solidFill>
                <a:latin typeface="隶书"/>
                <a:ea typeface="隶书"/>
              </a:rPr>
              <a:t>5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张幻灯片“列举事例证明论点”的文本框有链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第</a:t>
            </a:r>
            <a:r>
              <a:rPr b="0" lang="en-US" sz="3200" spc="-1" strike="noStrike">
                <a:solidFill>
                  <a:srgbClr val="3333cc"/>
                </a:solidFill>
                <a:latin typeface="隶书"/>
                <a:ea typeface="隶书"/>
              </a:rPr>
              <a:t>14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张幻灯片中脚印图案为“返回”链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第</a:t>
            </a:r>
            <a:r>
              <a:rPr b="0" lang="en-US" sz="3200" spc="-1" strike="noStrike">
                <a:solidFill>
                  <a:srgbClr val="3333cc"/>
                </a:solidFill>
                <a:latin typeface="隶书"/>
                <a:ea typeface="隶书"/>
              </a:rPr>
              <a:t>5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、</a:t>
            </a:r>
            <a:r>
              <a:rPr b="0" lang="en-US" sz="3200" spc="-1" strike="noStrike">
                <a:solidFill>
                  <a:srgbClr val="3333cc"/>
                </a:solidFill>
                <a:latin typeface="隶书"/>
                <a:ea typeface="隶书"/>
              </a:rPr>
              <a:t>6</a:t>
            </a: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张幻灯片右下角有链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十字星 20482">
            <a:hlinkClick r:id="" action="ppaction://hlinkshowjump?jump=endshow"/>
          </p:cNvPr>
          <p:cNvSpPr/>
          <p:nvPr/>
        </p:nvSpPr>
        <p:spPr>
          <a:xfrm>
            <a:off x="5562720" y="3429000"/>
            <a:ext cx="3581280" cy="3429000"/>
          </a:xfrm>
          <a:custGeom>
            <a:avLst/>
            <a:gdLst>
              <a:gd name="textAreaLeft" fmla="*/ 1475640 w 3581280"/>
              <a:gd name="textAreaRight" fmla="*/ 2105640 w 3581280"/>
              <a:gd name="textAreaTop" fmla="*/ 1413000 h 3429000"/>
              <a:gd name="textAreaBottom" fmla="*/ 201600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9217" descr="牛顿（1642──1727年）"/>
          <p:cNvPicPr/>
          <p:nvPr/>
        </p:nvPicPr>
        <p:blipFill>
          <a:blip r:embed="rId1"/>
          <a:stretch/>
        </p:blipFill>
        <p:spPr>
          <a:xfrm>
            <a:off x="0" y="2590920"/>
            <a:ext cx="3162240" cy="3581280"/>
          </a:xfrm>
          <a:prstGeom prst="rect">
            <a:avLst/>
          </a:prstGeom>
          <a:ln w="0">
            <a:noFill/>
          </a:ln>
        </p:spPr>
      </p:pic>
      <p:pic>
        <p:nvPicPr>
          <p:cNvPr id="91" name="图片 9224" descr="苹果落地，牛顿思考它的原因"/>
          <p:cNvPicPr/>
          <p:nvPr/>
        </p:nvPicPr>
        <p:blipFill>
          <a:blip r:embed="rId2"/>
          <a:stretch/>
        </p:blipFill>
        <p:spPr>
          <a:xfrm>
            <a:off x="3124080" y="2624040"/>
            <a:ext cx="6019920" cy="423396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9225"/>
          <p:cNvSpPr/>
          <p:nvPr/>
        </p:nvSpPr>
        <p:spPr>
          <a:xfrm>
            <a:off x="304920" y="3175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苹果落地，是多么平常的事情，牛顿看见了，却要问出个所以然来，结果创立了“万有引力”说，支配了人类思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5362" descr="cj"/>
          <p:cNvPicPr/>
          <p:nvPr/>
        </p:nvPicPr>
        <p:blipFill>
          <a:blip r:embed="rId1"/>
          <a:stretch/>
        </p:blipFill>
        <p:spPr>
          <a:xfrm>
            <a:off x="0" y="3981600"/>
            <a:ext cx="8305920" cy="287640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5361" descr="瓦特"/>
          <p:cNvPicPr/>
          <p:nvPr/>
        </p:nvPicPr>
        <p:blipFill>
          <a:blip r:embed="rId2"/>
          <a:stretch/>
        </p:blipFill>
        <p:spPr>
          <a:xfrm>
            <a:off x="0" y="0"/>
            <a:ext cx="3689280" cy="4343400"/>
          </a:xfrm>
          <a:prstGeom prst="rect">
            <a:avLst/>
          </a:prstGeom>
          <a:ln w="0">
            <a:noFill/>
          </a:ln>
        </p:spPr>
      </p:pic>
      <p:sp>
        <p:nvSpPr>
          <p:cNvPr id="95" name="云形标注 15364"/>
          <p:cNvSpPr/>
          <p:nvPr/>
        </p:nvSpPr>
        <p:spPr>
          <a:xfrm>
            <a:off x="2819520" y="0"/>
            <a:ext cx="3504960" cy="1828800"/>
          </a:xfrm>
          <a:prstGeom prst="cloudCallout">
            <a:avLst>
              <a:gd name="adj1" fmla="val -61958"/>
              <a:gd name="adj2" fmla="val -15625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图片 15366" descr="009948"/>
          <p:cNvPicPr/>
          <p:nvPr/>
        </p:nvPicPr>
        <p:blipFill>
          <a:blip r:embed="rId3"/>
          <a:stretch/>
        </p:blipFill>
        <p:spPr>
          <a:xfrm>
            <a:off x="3962520" y="-15228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97" name="文本框 15367"/>
          <p:cNvSpPr/>
          <p:nvPr/>
        </p:nvSpPr>
        <p:spPr>
          <a:xfrm>
            <a:off x="3581280" y="159696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壶水滚沸，谁不常常见到？只有瓦特把它当作问题研究，因而发明了蒸汽机，使人类至今蒙受其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6385" descr="buddha001"/>
          <p:cNvPicPr/>
          <p:nvPr/>
        </p:nvPicPr>
        <p:blipFill>
          <a:blip r:embed="rId1"/>
          <a:stretch/>
        </p:blipFill>
        <p:spPr>
          <a:xfrm>
            <a:off x="0" y="0"/>
            <a:ext cx="38862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图片 16386" descr="释迦牟尼像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227340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16387"/>
          <p:cNvSpPr/>
          <p:nvPr/>
        </p:nvSpPr>
        <p:spPr>
          <a:xfrm>
            <a:off x="4114800" y="238752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生、老、病、死，都是极普遍的人生现象，释迦牟尼偏偏要寻根究底，求个解答。他因此抛弃尊位和家庭，独自去潜修静想，终于创立了佛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28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17409" descr="孔子"/>
          <p:cNvPicPr/>
          <p:nvPr/>
        </p:nvPicPr>
        <p:blipFill>
          <a:blip r:embed="rId1"/>
          <a:stretch/>
        </p:blipFill>
        <p:spPr>
          <a:xfrm>
            <a:off x="5380200" y="0"/>
            <a:ext cx="3763800" cy="464832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7410" descr="images"/>
          <p:cNvPicPr/>
          <p:nvPr/>
        </p:nvPicPr>
        <p:blipFill>
          <a:blip r:embed="rId2"/>
          <a:stretch/>
        </p:blipFill>
        <p:spPr>
          <a:xfrm>
            <a:off x="1143000" y="3809880"/>
            <a:ext cx="2895480" cy="2705400"/>
          </a:xfrm>
          <a:prstGeom prst="rect">
            <a:avLst/>
          </a:prstGeom>
          <a:ln w="0">
            <a:noFill/>
          </a:ln>
        </p:spPr>
      </p:pic>
      <p:sp>
        <p:nvSpPr>
          <p:cNvPr id="103" name="文本框 17411"/>
          <p:cNvSpPr/>
          <p:nvPr/>
        </p:nvSpPr>
        <p:spPr>
          <a:xfrm>
            <a:off x="457200" y="30492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孔子到太庙去，看见每样事物都要问。他知道老子熟悉典籍，就去向老子问礼。他能够成为万世景仰的圣人，难道真是天生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图片 17413" descr=""/>
          <p:cNvPicPr/>
          <p:nvPr/>
        </p:nvPicPr>
        <p:blipFill>
          <a:blip r:embed="rId3"/>
          <a:stretch/>
        </p:blipFill>
        <p:spPr>
          <a:xfrm>
            <a:off x="5181480" y="4952880"/>
            <a:ext cx="2819520" cy="1451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文本框 10241"/>
          <p:cNvSpPr/>
          <p:nvPr/>
        </p:nvSpPr>
        <p:spPr>
          <a:xfrm>
            <a:off x="1600200" y="609480"/>
            <a:ext cx="7086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学习本文引出论题后，从正面提出论点和从反面提出论点进行论证的特色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学习层次清晰，顺序前后照应，语言表达周密的方法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文本框 7169"/>
          <p:cNvSpPr/>
          <p:nvPr/>
        </p:nvSpPr>
        <p:spPr>
          <a:xfrm>
            <a:off x="1066680" y="114300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作者简介</a:t>
            </a: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启凡 ，是覃必陶的笔名。覃必陶（</a:t>
            </a: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913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—</a:t>
            </a: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986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），湖南省宁乡人，长期担任开明书店、中国青年出版社编辑工作。曾同叶圣陶、郭绍虞等合编</a:t>
            </a: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开明新编国文读本</a:t>
            </a: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，</a:t>
            </a: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年代前后，常有文章在</a:t>
            </a: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中学生</a:t>
            </a: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杂志等刊物发表，本文就是其中的一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文本框 11265">
            <a:hlinkClick r:id="" action="ppaction://hlinkshowjump?jump=nextslide"/>
          </p:cNvPr>
          <p:cNvSpPr/>
          <p:nvPr/>
        </p:nvSpPr>
        <p:spPr>
          <a:xfrm>
            <a:off x="533520" y="6858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幼圆"/>
              </a:rPr>
              <a:t>文章可以分为几个部分，概括大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文本框 11266">
            <a:hlinkClick r:id="" action="ppaction://hlinkshowjump?jump=nextslide"/>
          </p:cNvPr>
          <p:cNvSpPr/>
          <p:nvPr/>
        </p:nvSpPr>
        <p:spPr>
          <a:xfrm>
            <a:off x="533520" y="129528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幼圆"/>
              </a:rPr>
              <a:t>本文的论题是什么，是怎样引出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文本框 11267">
            <a:hlinkClick r:id="" action="ppaction://hlinkshowjump?jump=nextslide"/>
          </p:cNvPr>
          <p:cNvSpPr/>
          <p:nvPr/>
        </p:nvSpPr>
        <p:spPr>
          <a:xfrm>
            <a:off x="533520" y="18748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幼圆"/>
              </a:rPr>
              <a:t>默读第二部分，思考这部分的论点是什么？课文举了古今中外哪些事例来论证？列举的事例是怎样与上下文紧密联系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文本框 11268"/>
          <p:cNvSpPr/>
          <p:nvPr/>
        </p:nvSpPr>
        <p:spPr>
          <a:xfrm>
            <a:off x="609480" y="3429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幼圆"/>
              </a:rPr>
              <a:t>课文第三部分提出怎样的反面论点？从几个方面论证的？使用了什么论证方法？论证的内容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文本框 11269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幼圆"/>
              </a:rPr>
              <a:t>思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文本框 11270"/>
          <p:cNvSpPr/>
          <p:nvPr/>
        </p:nvSpPr>
        <p:spPr>
          <a:xfrm>
            <a:off x="609480" y="50292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幼圆"/>
              </a:rPr>
              <a:t>本文是作者当年写给谁的？从哪些语句可以看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文本框 12289"/>
          <p:cNvSpPr/>
          <p:nvPr/>
        </p:nvSpPr>
        <p:spPr>
          <a:xfrm>
            <a:off x="609480" y="685800"/>
            <a:ext cx="2743200" cy="947160"/>
          </a:xfrm>
          <a:prstGeom prst="rect">
            <a:avLst/>
          </a:prstGeom>
          <a:solidFill>
            <a:srgbClr val="00cc99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引出论题（第</a:t>
            </a:r>
            <a:r>
              <a:rPr b="1" lang="en-US" sz="2800" spc="-1" strike="noStrike">
                <a:solidFill>
                  <a:srgbClr val="ff3300"/>
                </a:solidFill>
                <a:latin typeface="幼圆"/>
                <a:ea typeface="幼圆"/>
              </a:rPr>
              <a:t>1---3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段</a:t>
            </a:r>
            <a:r>
              <a:rPr b="1" lang="en-US" sz="2800" spc="-1" strike="noStrike">
                <a:solidFill>
                  <a:srgbClr val="ff3300"/>
                </a:solidFill>
                <a:latin typeface="幼圆"/>
                <a:ea typeface="幼圆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文本框 12290"/>
          <p:cNvSpPr/>
          <p:nvPr/>
        </p:nvSpPr>
        <p:spPr>
          <a:xfrm>
            <a:off x="609480" y="1828800"/>
            <a:ext cx="4038840" cy="520560"/>
          </a:xfrm>
          <a:prstGeom prst="rect">
            <a:avLst/>
          </a:prstGeom>
          <a:solidFill>
            <a:srgbClr val="00cc99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正面论证（第</a:t>
            </a:r>
            <a:r>
              <a:rPr b="1" lang="en-US" sz="2800" spc="-1" strike="noStrike">
                <a:solidFill>
                  <a:srgbClr val="ff3300"/>
                </a:solidFill>
                <a:latin typeface="幼圆"/>
                <a:ea typeface="幼圆"/>
              </a:rPr>
              <a:t>4---9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文本框 12292"/>
          <p:cNvSpPr/>
          <p:nvPr/>
        </p:nvSpPr>
        <p:spPr>
          <a:xfrm>
            <a:off x="4038480" y="928800"/>
            <a:ext cx="274320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发问的精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文本框 12293"/>
          <p:cNvSpPr/>
          <p:nvPr/>
        </p:nvSpPr>
        <p:spPr>
          <a:xfrm>
            <a:off x="3581280" y="2467080"/>
            <a:ext cx="586764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论点，发问是思想的初步，研究的动机。一切知识的获得，大都从发问而来；新发明、新创造也常常由发问开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文本框 12294"/>
          <p:cNvSpPr/>
          <p:nvPr/>
        </p:nvSpPr>
        <p:spPr>
          <a:xfrm>
            <a:off x="609480" y="2895480"/>
            <a:ext cx="2743200" cy="947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提出正面论点：（第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文本框 12295"/>
          <p:cNvSpPr/>
          <p:nvPr/>
        </p:nvSpPr>
        <p:spPr>
          <a:xfrm>
            <a:off x="533520" y="4159080"/>
            <a:ext cx="2895480" cy="947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列举事例证明论点：（第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5-8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文本框 12296"/>
          <p:cNvSpPr/>
          <p:nvPr/>
        </p:nvSpPr>
        <p:spPr>
          <a:xfrm>
            <a:off x="533520" y="5257800"/>
            <a:ext cx="327636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归纳小结（第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文本框 12297"/>
          <p:cNvSpPr/>
          <p:nvPr/>
        </p:nvSpPr>
        <p:spPr>
          <a:xfrm>
            <a:off x="6858000" y="914400"/>
            <a:ext cx="1981080" cy="520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（讲道理、设比喻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文本框 12298"/>
          <p:cNvSpPr/>
          <p:nvPr/>
        </p:nvSpPr>
        <p:spPr>
          <a:xfrm>
            <a:off x="6629400" y="4890960"/>
            <a:ext cx="2209680" cy="520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（举例论证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文本框 12299"/>
          <p:cNvSpPr/>
          <p:nvPr/>
        </p:nvSpPr>
        <p:spPr>
          <a:xfrm>
            <a:off x="3581280" y="4343400"/>
            <a:ext cx="571500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牛顿、瓦特、释迦牟尼、孔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左大括号 12300"/>
          <p:cNvSpPr/>
          <p:nvPr/>
        </p:nvSpPr>
        <p:spPr>
          <a:xfrm>
            <a:off x="228600" y="3124080"/>
            <a:ext cx="304920" cy="2438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400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文本框 12301"/>
          <p:cNvSpPr/>
          <p:nvPr/>
        </p:nvSpPr>
        <p:spPr>
          <a:xfrm>
            <a:off x="457200" y="6019920"/>
            <a:ext cx="4419720" cy="520560"/>
          </a:xfrm>
          <a:prstGeom prst="rect">
            <a:avLst/>
          </a:prstGeom>
          <a:solidFill>
            <a:srgbClr val="00cc99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反面论证（第</a:t>
            </a:r>
            <a:r>
              <a:rPr b="1" lang="en-US" sz="2800" spc="-1" strike="noStrike">
                <a:solidFill>
                  <a:srgbClr val="ff3300"/>
                </a:solidFill>
                <a:latin typeface="幼圆"/>
                <a:ea typeface="幼圆"/>
              </a:rPr>
              <a:t>10---14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直接箭头连接符 12302"/>
          <p:cNvCxnSpPr>
            <a:stCxn id="55" idx="3"/>
            <a:endCxn id="54" idx="1"/>
          </p:cNvCxnSpPr>
          <p:nvPr/>
        </p:nvCxnSpPr>
        <p:spPr>
          <a:xfrm flipV="1">
            <a:off x="3352320" y="3366720"/>
            <a:ext cx="229320" cy="216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64" name="直接箭头连接符 12303"/>
          <p:cNvCxnSpPr>
            <a:stCxn id="51" idx="3"/>
            <a:endCxn id="53" idx="1"/>
          </p:cNvCxnSpPr>
          <p:nvPr/>
        </p:nvCxnSpPr>
        <p:spPr>
          <a:xfrm>
            <a:off x="3378240" y="1184040"/>
            <a:ext cx="660600" cy="540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65" name="直接箭头连接符 12305"/>
          <p:cNvCxnSpPr>
            <a:stCxn id="56" idx="3"/>
            <a:endCxn id="60" idx="1"/>
          </p:cNvCxnSpPr>
          <p:nvPr/>
        </p:nvCxnSpPr>
        <p:spPr>
          <a:xfrm flipV="1">
            <a:off x="3428640" y="4603320"/>
            <a:ext cx="153000" cy="2952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sp>
        <p:nvSpPr>
          <p:cNvPr id="66" name="动作按钮: 自定义 12306"/>
          <p:cNvSpPr/>
          <p:nvPr/>
        </p:nvSpPr>
        <p:spPr>
          <a:xfrm>
            <a:off x="8305920" y="647712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13313"/>
          <p:cNvSpPr/>
          <p:nvPr/>
        </p:nvSpPr>
        <p:spPr>
          <a:xfrm>
            <a:off x="3581280" y="942840"/>
            <a:ext cx="5257800" cy="947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论点，知识和道理，可以从书上读到，老师也会给我们讲解，只要努力学习，牢牢记住就成了，何必多问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文本框 13314"/>
          <p:cNvSpPr/>
          <p:nvPr/>
        </p:nvSpPr>
        <p:spPr>
          <a:xfrm>
            <a:off x="685800" y="1371600"/>
            <a:ext cx="2666880" cy="947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引出反面论点（第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文本框 13316"/>
          <p:cNvSpPr/>
          <p:nvPr/>
        </p:nvSpPr>
        <p:spPr>
          <a:xfrm>
            <a:off x="685800" y="3321000"/>
            <a:ext cx="3505320" cy="947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分析说明反面论点错误（第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1---13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段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文本框 13317"/>
          <p:cNvSpPr/>
          <p:nvPr/>
        </p:nvSpPr>
        <p:spPr>
          <a:xfrm>
            <a:off x="685800" y="5043600"/>
            <a:ext cx="342900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归纳小结（第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文本框 13318"/>
          <p:cNvSpPr/>
          <p:nvPr/>
        </p:nvSpPr>
        <p:spPr>
          <a:xfrm>
            <a:off x="4419720" y="3581280"/>
            <a:ext cx="251460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从三方面论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文本框 13319"/>
          <p:cNvSpPr/>
          <p:nvPr/>
        </p:nvSpPr>
        <p:spPr>
          <a:xfrm>
            <a:off x="380880" y="228600"/>
            <a:ext cx="4419720" cy="520560"/>
          </a:xfrm>
          <a:prstGeom prst="rect">
            <a:avLst/>
          </a:prstGeom>
          <a:solidFill>
            <a:srgbClr val="00cc99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反面论证（第</a:t>
            </a:r>
            <a:r>
              <a:rPr b="1" lang="en-US" sz="2800" spc="-1" strike="noStrike">
                <a:solidFill>
                  <a:srgbClr val="ff3300"/>
                </a:solidFill>
                <a:latin typeface="幼圆"/>
                <a:ea typeface="幼圆"/>
              </a:rPr>
              <a:t>10---14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左大括号 13320"/>
          <p:cNvSpPr/>
          <p:nvPr/>
        </p:nvSpPr>
        <p:spPr>
          <a:xfrm>
            <a:off x="304920" y="1523880"/>
            <a:ext cx="228600" cy="3962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02960 h 3962520"/>
              <a:gd name="textAreaBottom" fmla="*/ 385956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400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文本框 13321"/>
          <p:cNvSpPr/>
          <p:nvPr/>
        </p:nvSpPr>
        <p:spPr>
          <a:xfrm>
            <a:off x="4419720" y="4281480"/>
            <a:ext cx="2514600" cy="520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（道理论证。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直接箭头连接符 13322"/>
          <p:cNvCxnSpPr>
            <a:stCxn id="68" idx="3"/>
            <a:endCxn id="67" idx="1"/>
          </p:cNvCxnSpPr>
          <p:nvPr/>
        </p:nvCxnSpPr>
        <p:spPr>
          <a:xfrm flipV="1">
            <a:off x="3352320" y="1842840"/>
            <a:ext cx="229320" cy="216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76" name="直接箭头连接符 13323"/>
          <p:cNvCxnSpPr>
            <a:stCxn id="69" idx="3"/>
            <a:endCxn id="71" idx="1"/>
          </p:cNvCxnSpPr>
          <p:nvPr/>
        </p:nvCxnSpPr>
        <p:spPr>
          <a:xfrm>
            <a:off x="4190760" y="3793680"/>
            <a:ext cx="229320" cy="4860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sp>
        <p:nvSpPr>
          <p:cNvPr id="77" name="动作按钮: 自定义 13324"/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文本框 18433"/>
          <p:cNvSpPr/>
          <p:nvPr/>
        </p:nvSpPr>
        <p:spPr>
          <a:xfrm>
            <a:off x="1066680" y="380880"/>
            <a:ext cx="807732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幼圆"/>
              </a:rPr>
              <a:t>      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幼圆"/>
              </a:rPr>
              <a:t>从课文内“课本的文字，教师的讲解”，“知识和道理，可以从书上读到，老师也会给我们讲解，只要努力学习，牢牢记住就成了”，“书本上看到的，从教师那里听到的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幼圆"/>
              </a:rPr>
              <a:t>             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幼圆"/>
              </a:rPr>
              <a:t>等语句，了解本文是作者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幼圆"/>
              </a:rPr>
              <a:t>               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幼圆"/>
              </a:rPr>
              <a:t>在当年专 门为中学生写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幼圆"/>
              </a:rPr>
              <a:t>             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幼圆"/>
              </a:rPr>
              <a:t>。希望学了这篇课文以后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幼圆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幼圆"/>
              </a:rPr>
              <a:t>               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幼圆"/>
              </a:rPr>
              <a:t>让“发问”在我们每位同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幼圆"/>
              </a:rPr>
              <a:t>               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幼圆"/>
              </a:rPr>
              <a:t>的头脑中扎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文本框 14337"/>
          <p:cNvSpPr/>
          <p:nvPr/>
        </p:nvSpPr>
        <p:spPr>
          <a:xfrm>
            <a:off x="533520" y="183204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   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幼圆"/>
              </a:rPr>
              <a:t>这篇课文的层次分明，作者提出论题后，列举事例从正面论述，用讲道理的方法从反面论述，这样正反结合，既强调了发问的重要、发问精神的可贵，又提高了人们对“发问精神”的认识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文本框 14338"/>
          <p:cNvSpPr/>
          <p:nvPr/>
        </p:nvSpPr>
        <p:spPr>
          <a:xfrm>
            <a:off x="3886200" y="3808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幼圆"/>
              </a:rPr>
              <a:t>小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文本框 19457"/>
          <p:cNvSpPr/>
          <p:nvPr/>
        </p:nvSpPr>
        <p:spPr>
          <a:xfrm>
            <a:off x="304920" y="0"/>
            <a:ext cx="8305560" cy="65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幼圆"/>
                <a:ea typeface="幼圆"/>
              </a:rPr>
              <a:t>作业：完成下列句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如切如磋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幼圆"/>
                <a:ea typeface="幼圆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------&lt;&lt;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诗经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卫风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淇奥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学非探其花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幼圆"/>
                <a:ea typeface="幼圆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唐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杜牧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&lt;&lt;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留诲曹师等诗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故书不厌百回读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幼圆"/>
                <a:ea typeface="幼圆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宋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苏轼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&lt;&lt;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送安惊落第诗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问渠那得清如许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幼圆"/>
                <a:ea typeface="幼圆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宋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朱熹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&lt;&lt;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观书有感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欲穷千里目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幼圆"/>
                <a:ea typeface="幼圆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唐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王之焕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&lt;&lt;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登鹳雀楼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幼圆"/>
                <a:ea typeface="幼圆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绝知此事要躬行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宋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陆游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&lt;&lt;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冬夜读书示子聿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文本框 19458"/>
          <p:cNvSpPr/>
          <p:nvPr/>
        </p:nvSpPr>
        <p:spPr>
          <a:xfrm>
            <a:off x="2209680" y="6094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如琢如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文本框 19459"/>
          <p:cNvSpPr/>
          <p:nvPr/>
        </p:nvSpPr>
        <p:spPr>
          <a:xfrm>
            <a:off x="2743200" y="12193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要自拨其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19460"/>
          <p:cNvSpPr/>
          <p:nvPr/>
        </p:nvSpPr>
        <p:spPr>
          <a:xfrm>
            <a:off x="3352680" y="2209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熟读深思子自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文本框 19461"/>
          <p:cNvSpPr/>
          <p:nvPr/>
        </p:nvSpPr>
        <p:spPr>
          <a:xfrm>
            <a:off x="3505320" y="329076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为有源头活水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文本框 19462"/>
          <p:cNvSpPr/>
          <p:nvPr/>
        </p:nvSpPr>
        <p:spPr>
          <a:xfrm>
            <a:off x="2955960" y="4419720"/>
            <a:ext cx="275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更上一层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文本框 19463"/>
          <p:cNvSpPr/>
          <p:nvPr/>
        </p:nvSpPr>
        <p:spPr>
          <a:xfrm>
            <a:off x="762120" y="548640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纸上得来终觉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2T11:47:06Z</dcterms:created>
  <dc:creator>zty</dc:creator>
  <dc:description/>
  <dc:language>en-US</dc:language>
  <cp:lastModifiedBy>admin</cp:lastModifiedBy>
  <dcterms:modified xsi:type="dcterms:W3CDTF">2019-04-23T04:12:42Z</dcterms:modified>
  <cp:revision>14</cp:revision>
  <dc:subject/>
  <dc:title>没有幻灯片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12</vt:lpwstr>
  </property>
</Properties>
</file>