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22.png" ContentType="image/png"/>
  <Override PartName="/ppt/media/image21.jpeg" ContentType="image/jpeg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  <p:custShowLst>
    <p:custShow name="自定义放映1" id="0">
      <p:sldLst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B24D-B98D-4B51-BCC0-E9350C7B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4F43-FFDA-4ECA-A5CF-BAA44B99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5544-46BD-4D63-A1A7-B363E708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C1B-6797-410C-8497-2478AA33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6099-469A-468E-A36E-AE728E37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F5F-1317-416D-81FE-A4174633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0FCD-4687-495C-A948-7F474B62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1D1C-DE25-4ED0-A0FA-D36E4620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3BA1-D2FA-4AF1-98FB-5A1E5D01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3C5-E0D3-46F7-B6B0-550AC0AE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475B-7FA3-4174-9B9E-B55EF271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D63E-0C1D-4F23-B98F-C424DD2B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8D98-0FD1-458E-B7C7-4C41BB9CEA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file:///../J02.r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6.jpeg"/><Relationship Id="rId3" Type="http://schemas.openxmlformats.org/officeDocument/2006/relationships/image" Target="../media/image7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富饶的西沙群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学语文第五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23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66680" y="53352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看到这样美丽富饶，充满神奇的西沙群岛，你想对它说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27432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用你的笔把你最喜欢的西沙群岛的景物画下来山溪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.m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g3" descr=""/>
          <p:cNvPicPr/>
          <p:nvPr/>
        </p:nvPicPr>
        <p:blipFill>
          <a:blip r:embed="rId1"/>
          <a:stretch/>
        </p:blipFill>
        <p:spPr>
          <a:xfrm>
            <a:off x="2819520" y="1066680"/>
            <a:ext cx="3924360" cy="3606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46280" y="1509840"/>
            <a:ext cx="7886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235240" y="1509840"/>
            <a:ext cx="6164280" cy="3840120"/>
            <a:chOff x="2235240" y="1509840"/>
            <a:chExt cx="6164280" cy="3840120"/>
          </a:xfrm>
        </p:grpSpPr>
        <p:sp>
          <p:nvSpPr>
            <p:cNvPr id="47" name=""/>
            <p:cNvSpPr/>
            <p:nvPr/>
          </p:nvSpPr>
          <p:spPr>
            <a:xfrm>
              <a:off x="2235240" y="1509840"/>
              <a:ext cx="6161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35240" y="1509840"/>
              <a:ext cx="6164280" cy="38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img1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2182680" cy="3063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40" y="2292480"/>
            <a:ext cx="7886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54000" y="2292480"/>
            <a:ext cx="7237440" cy="2225520"/>
            <a:chOff x="954000" y="2292480"/>
            <a:chExt cx="7237440" cy="2225520"/>
          </a:xfrm>
        </p:grpSpPr>
        <p:sp>
          <p:nvSpPr>
            <p:cNvPr id="52" name=""/>
            <p:cNvSpPr/>
            <p:nvPr/>
          </p:nvSpPr>
          <p:spPr>
            <a:xfrm>
              <a:off x="954000" y="2292480"/>
              <a:ext cx="6161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54000" y="2292480"/>
              <a:ext cx="7237440" cy="22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14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img4" descr=""/>
          <p:cNvPicPr/>
          <p:nvPr/>
        </p:nvPicPr>
        <p:blipFill>
          <a:blip r:embed="rId3"/>
          <a:stretch/>
        </p:blipFill>
        <p:spPr>
          <a:xfrm>
            <a:off x="4038480" y="4629240"/>
            <a:ext cx="1920960" cy="2838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40" y="2835360"/>
            <a:ext cx="7886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492200" y="2835360"/>
            <a:ext cx="6161040" cy="1189080"/>
            <a:chOff x="1492200" y="2835360"/>
            <a:chExt cx="6161040" cy="1189080"/>
          </a:xfrm>
        </p:grpSpPr>
        <p:sp>
          <p:nvSpPr>
            <p:cNvPr id="57" name=""/>
            <p:cNvSpPr/>
            <p:nvPr/>
          </p:nvSpPr>
          <p:spPr>
            <a:xfrm>
              <a:off x="1492200" y="2835360"/>
              <a:ext cx="6161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2200" y="2835360"/>
              <a:ext cx="6159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7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img2" descr=""/>
          <p:cNvPicPr/>
          <p:nvPr/>
        </p:nvPicPr>
        <p:blipFill>
          <a:blip r:embed="rId4"/>
          <a:stretch/>
        </p:blipFill>
        <p:spPr>
          <a:xfrm>
            <a:off x="4800600" y="0"/>
            <a:ext cx="1771560" cy="1143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46280" y="2314440"/>
            <a:ext cx="7886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36680" y="2314440"/>
            <a:ext cx="6161040" cy="2228760"/>
            <a:chOff x="2236680" y="2314440"/>
            <a:chExt cx="6161040" cy="2228760"/>
          </a:xfrm>
        </p:grpSpPr>
        <p:sp>
          <p:nvSpPr>
            <p:cNvPr id="62" name=""/>
            <p:cNvSpPr/>
            <p:nvPr/>
          </p:nvSpPr>
          <p:spPr>
            <a:xfrm>
              <a:off x="2236680" y="2314440"/>
              <a:ext cx="6161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36680" y="2314440"/>
              <a:ext cx="6161040" cy="22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line1" descr=""/>
          <p:cNvPicPr/>
          <p:nvPr/>
        </p:nvPicPr>
        <p:blipFill>
          <a:blip r:embed="rId5"/>
          <a:stretch/>
        </p:blipFill>
        <p:spPr>
          <a:xfrm>
            <a:off x="838080" y="4343400"/>
            <a:ext cx="1508400" cy="2228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46280" y="2314440"/>
            <a:ext cx="7886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236680" y="2314440"/>
            <a:ext cx="6161040" cy="2228760"/>
            <a:chOff x="2236680" y="2314440"/>
            <a:chExt cx="6161040" cy="2228760"/>
          </a:xfrm>
        </p:grpSpPr>
        <p:sp>
          <p:nvSpPr>
            <p:cNvPr id="67" name=""/>
            <p:cNvSpPr/>
            <p:nvPr/>
          </p:nvSpPr>
          <p:spPr>
            <a:xfrm>
              <a:off x="2236680" y="2314440"/>
              <a:ext cx="6161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36680" y="2314440"/>
              <a:ext cx="6161040" cy="22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" name="line1" descr=""/>
          <p:cNvPicPr/>
          <p:nvPr/>
        </p:nvPicPr>
        <p:blipFill>
          <a:blip r:embed="rId6"/>
          <a:stretch/>
        </p:blipFill>
        <p:spPr>
          <a:xfrm>
            <a:off x="685800" y="4267080"/>
            <a:ext cx="1508040" cy="2229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46280" y="2314440"/>
            <a:ext cx="7886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236680" y="2314440"/>
            <a:ext cx="6161040" cy="2228760"/>
            <a:chOff x="2236680" y="2314440"/>
            <a:chExt cx="6161040" cy="2228760"/>
          </a:xfrm>
        </p:grpSpPr>
        <p:sp>
          <p:nvSpPr>
            <p:cNvPr id="72" name=""/>
            <p:cNvSpPr/>
            <p:nvPr/>
          </p:nvSpPr>
          <p:spPr>
            <a:xfrm>
              <a:off x="2236680" y="2314440"/>
              <a:ext cx="6161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36680" y="2314440"/>
              <a:ext cx="6161040" cy="22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地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2-2y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4343400" cy="2941560"/>
          </a:xfrm>
          <a:prstGeom prst="rect">
            <a:avLst/>
          </a:prstGeom>
          <a:ln w="0">
            <a:noFill/>
          </a:ln>
        </p:spPr>
      </p:pic>
      <p:pic>
        <p:nvPicPr>
          <p:cNvPr id="76" name="xs3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4343400" cy="3008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海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23120" y="1066680"/>
            <a:ext cx="2111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1828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西沙群岛一带海水五光十色，瑰丽无比：有深蓝的，淡青的，绿的淡绿的，杏黄的。一块块，一条条，相互交错着。因为海底高低不平，有山崖，有狭谷，海水有深有浅，从海面看，色彩就不同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shanhu&amp;yu" descr=""/>
          <p:cNvPicPr/>
          <p:nvPr/>
        </p:nvPicPr>
        <p:blipFill>
          <a:blip r:embed="rId1"/>
          <a:stretch/>
        </p:blipFill>
        <p:spPr>
          <a:xfrm>
            <a:off x="0" y="58680"/>
            <a:ext cx="3124080" cy="1730520"/>
          </a:xfrm>
          <a:prstGeom prst="rect">
            <a:avLst/>
          </a:prstGeom>
          <a:ln w="0">
            <a:noFill/>
          </a:ln>
        </p:spPr>
      </p:pic>
      <p:pic>
        <p:nvPicPr>
          <p:cNvPr id="81" name="shanhu2b" descr=""/>
          <p:cNvPicPr/>
          <p:nvPr/>
        </p:nvPicPr>
        <p:blipFill>
          <a:blip r:embed="rId2"/>
          <a:stretch/>
        </p:blipFill>
        <p:spPr>
          <a:xfrm>
            <a:off x="0" y="2057400"/>
            <a:ext cx="3124080" cy="2081160"/>
          </a:xfrm>
          <a:prstGeom prst="rect">
            <a:avLst/>
          </a:prstGeom>
          <a:ln w="0">
            <a:noFill/>
          </a:ln>
        </p:spPr>
      </p:pic>
      <p:pic>
        <p:nvPicPr>
          <p:cNvPr id="82" name="haishen2" descr=""/>
          <p:cNvPicPr/>
          <p:nvPr/>
        </p:nvPicPr>
        <p:blipFill>
          <a:blip r:embed="rId3"/>
          <a:stretch/>
        </p:blipFill>
        <p:spPr>
          <a:xfrm>
            <a:off x="0" y="4343400"/>
            <a:ext cx="3124080" cy="2133720"/>
          </a:xfrm>
          <a:prstGeom prst="rect">
            <a:avLst/>
          </a:prstGeom>
          <a:ln w="0">
            <a:noFill/>
          </a:ln>
        </p:spPr>
      </p:pic>
      <p:pic>
        <p:nvPicPr>
          <p:cNvPr id="83" name="JP14" descr=""/>
          <p:cNvPicPr/>
          <p:nvPr/>
        </p:nvPicPr>
        <p:blipFill>
          <a:blip r:embed="rId4"/>
          <a:stretch/>
        </p:blipFill>
        <p:spPr>
          <a:xfrm>
            <a:off x="5943600" y="0"/>
            <a:ext cx="3200400" cy="2122560"/>
          </a:xfrm>
          <a:prstGeom prst="rect">
            <a:avLst/>
          </a:prstGeom>
          <a:ln w="0">
            <a:noFill/>
          </a:ln>
        </p:spPr>
      </p:pic>
      <p:pic>
        <p:nvPicPr>
          <p:cNvPr id="84" name="yxja023" descr=""/>
          <p:cNvPicPr/>
          <p:nvPr/>
        </p:nvPicPr>
        <p:blipFill>
          <a:blip r:embed="rId5"/>
          <a:stretch/>
        </p:blipFill>
        <p:spPr>
          <a:xfrm>
            <a:off x="6095880" y="4419720"/>
            <a:ext cx="3048120" cy="1914480"/>
          </a:xfrm>
          <a:prstGeom prst="rect">
            <a:avLst/>
          </a:prstGeom>
          <a:ln w="0">
            <a:noFill/>
          </a:ln>
        </p:spPr>
      </p:pic>
      <p:pic>
        <p:nvPicPr>
          <p:cNvPr id="85" name="15" descr=""/>
          <p:cNvPicPr/>
          <p:nvPr/>
        </p:nvPicPr>
        <p:blipFill>
          <a:blip r:embed="rId6"/>
          <a:stretch/>
        </p:blipFill>
        <p:spPr>
          <a:xfrm>
            <a:off x="6019920" y="2286000"/>
            <a:ext cx="3124080" cy="18241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海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12193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海底的岩石上长着各种各样的珊瑚，有的像绽开的花朵，有的像分枝的鹿角。海参到处都是，在海底懒洋洋地蠕动。大龙虾全身披甲，划过来，划过去，样子挺威武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:\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宋文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J03.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cai" descr=""/>
          <p:cNvPicPr/>
          <p:nvPr/>
        </p:nvPicPr>
        <p:blipFill>
          <a:blip r:embed="rId1"/>
          <a:stretch/>
        </p:blipFill>
        <p:spPr>
          <a:xfrm>
            <a:off x="304920" y="0"/>
            <a:ext cx="2857320" cy="1981080"/>
          </a:xfrm>
          <a:prstGeom prst="rect">
            <a:avLst/>
          </a:prstGeom>
          <a:ln w="0">
            <a:noFill/>
          </a:ln>
        </p:spPr>
      </p:pic>
      <p:pic>
        <p:nvPicPr>
          <p:cNvPr id="89" name="ciyu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90" name="shangzib" descr=""/>
          <p:cNvPicPr/>
          <p:nvPr/>
        </p:nvPicPr>
        <p:blipFill>
          <a:blip r:embed="rId3"/>
          <a:stretch/>
        </p:blipFill>
        <p:spPr>
          <a:xfrm>
            <a:off x="457200" y="472428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91" name="zl24%5B1%5D" descr=""/>
          <p:cNvPicPr/>
          <p:nvPr/>
        </p:nvPicPr>
        <p:blipFill>
          <a:blip r:embed="rId4"/>
          <a:stretch/>
        </p:blipFill>
        <p:spPr>
          <a:xfrm>
            <a:off x="380880" y="2362320"/>
            <a:ext cx="2895840" cy="2057400"/>
          </a:xfrm>
          <a:prstGeom prst="rect">
            <a:avLst/>
          </a:prstGeom>
          <a:ln w="0">
            <a:noFill/>
          </a:ln>
        </p:spPr>
      </p:pic>
      <p:pic>
        <p:nvPicPr>
          <p:cNvPr id="92" name="quanyu2" descr=""/>
          <p:cNvPicPr/>
          <p:nvPr/>
        </p:nvPicPr>
        <p:blipFill>
          <a:blip r:embed="rId5"/>
          <a:stretch/>
        </p:blipFill>
        <p:spPr>
          <a:xfrm>
            <a:off x="6477120" y="3809880"/>
            <a:ext cx="2361960" cy="2743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6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鱼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6858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鱼成群结队地珊瑚丛中穿来穿去，好看极了。有的全身不满彩色的条纹；有的头上长着一簇红缨；有的周身像插者好些扇子，游动的时候飘飘摇摇；有的眼睛圆溜溜的，身上长满刺儿，鼓起气来像皮球一样圆。各种各样的鱼多得数不清。正像人们说的那样，西沙群岛的海里一半上水一半上鱼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:\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宋文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J04.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6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533520"/>
            <a:ext cx="7924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、选择题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西沙群岛的海里，一半是水一半是鱼。”这句话的意思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水和鱼正好各一半。（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水很多。（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鱼很多。（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36576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4114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你能找到一个比喻句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4724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有的眼睛圆溜溜的，身上长满刺儿，鼓起气来像皮球一样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beikeb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3581640" cy="2590920"/>
          </a:xfrm>
          <a:prstGeom prst="rect">
            <a:avLst/>
          </a:prstGeom>
          <a:ln w="0">
            <a:noFill/>
          </a:ln>
        </p:spPr>
      </p:pic>
      <p:pic>
        <p:nvPicPr>
          <p:cNvPr id="100" name="dm" descr=""/>
          <p:cNvPicPr/>
          <p:nvPr/>
        </p:nvPicPr>
        <p:blipFill>
          <a:blip r:embed="rId3"/>
          <a:stretch/>
        </p:blipFill>
        <p:spPr>
          <a:xfrm>
            <a:off x="457200" y="3200400"/>
            <a:ext cx="3505320" cy="28954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00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海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19810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海滩上有捡不完的美丽的贝壳，大的，小的，颜色不一，形状千奇百怪。最有趣的要算海龟了。每年四五月间，庞大的海龟爬到沙滩上来长来产卵。鱼业工人把海龟翻一个身，它就四脚朝天，没法逃跑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niao3b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3581640" cy="2810160"/>
          </a:xfrm>
          <a:prstGeom prst="rect">
            <a:avLst/>
          </a:prstGeom>
          <a:ln w="0">
            <a:noFill/>
          </a:ln>
        </p:spPr>
      </p:pic>
      <p:pic>
        <p:nvPicPr>
          <p:cNvPr id="104" name="niaodanb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3581280" cy="2974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海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9907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西沙群岛也是鸟的天下。岛上有一片片茂密的树林，树林里栖息着各种海鸟。遍地都是鸟蛋。树下堆积着一层厚厚的鸟粪，这是非常宝贵的肥料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:\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宋文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J06.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29718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3200400"/>
            <a:ext cx="4800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学提纲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第二句话的意思是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第三句话的意思是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第四句话的意思是——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这几句话都是围绕第—句来写的，最能说明鸟多的词是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38880" y="3657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海鸟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41148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鸟蛋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38880" y="4724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鸟粪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5638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鸟的天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144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岛上的英雄儿女日夜守卫着祖国的南大门。随着社会主义建设事业的发展，可爱的西沙群岛必将变得更加美丽，更加富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XiSa-002%5B1%5D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4267080" cy="2590920"/>
          </a:xfrm>
          <a:prstGeom prst="rect">
            <a:avLst/>
          </a:prstGeom>
          <a:ln w="0">
            <a:noFill/>
          </a:ln>
        </p:spPr>
      </p:pic>
      <p:pic>
        <p:nvPicPr>
          <p:cNvPr id="115" name="1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16" name="20021219101744" descr=""/>
          <p:cNvPicPr/>
          <p:nvPr/>
        </p:nvPicPr>
        <p:blipFill>
          <a:blip r:embed="rId4"/>
          <a:stretch/>
        </p:blipFill>
        <p:spPr>
          <a:xfrm>
            <a:off x="304920" y="4343400"/>
            <a:ext cx="3886200" cy="2514600"/>
          </a:xfrm>
          <a:prstGeom prst="rect">
            <a:avLst/>
          </a:prstGeom>
          <a:ln w="0">
            <a:noFill/>
          </a:ln>
        </p:spPr>
      </p:pic>
      <p:pic>
        <p:nvPicPr>
          <p:cNvPr id="117" name="20021219101748" descr=""/>
          <p:cNvPicPr/>
          <p:nvPr/>
        </p:nvPicPr>
        <p:blipFill>
          <a:blip r:embed="rId5"/>
          <a:stretch/>
        </p:blipFill>
        <p:spPr>
          <a:xfrm>
            <a:off x="4572000" y="4343400"/>
            <a:ext cx="4267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08:17:17Z</dcterms:created>
  <dc:creator>湟源县城关第一小学</dc:creator>
  <dc:description/>
  <dc:language>en-US</dc:language>
  <cp:lastModifiedBy>湟源县城关第一小学</cp:lastModifiedBy>
  <dcterms:modified xsi:type="dcterms:W3CDTF">2004-11-24T07:18:09Z</dcterms:modified>
  <cp:revision>21</cp:revision>
  <dc:subject/>
  <dc:title>富饶的西沙群岛</dc:title>
</cp:coreProperties>
</file>