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applause.wav" ContentType="audio/x-wav"/>
  <Override PartName="/ppt/media/image14.png" ContentType="image/png"/>
  <Override PartName="/ppt/media/image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E6E-B11E-413F-923E-39009ADE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6FC-445A-4549-B827-A8AD535F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B04-C7C6-4E5D-8C5E-937638BF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3B8-BF4E-4704-A3DC-84B36B04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B0B-8B6B-45BE-A072-DA1E254F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306E-4BA8-42A5-BA94-063B0F40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2C9D-E88D-4DCD-9E86-6649E19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9CCD-AE65-4009-9A71-289F6B2C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35D-1ED2-450E-95B7-BC0FCE6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AA58-5D1A-464D-85BB-93892F10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0E9-B5F9-45FC-BE05-29C1907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ACB-5558-4A9A-8F2B-82DA1392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243F-B96E-466C-9B2D-46E1C82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E019-43E8-42E6-81C1-2FB8E67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A0C3-4923-48BE-92B5-97AE6F65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3535-53C2-4515-8393-09CE6542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318-5999-4C28-AC90-52F9A421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DEB-D32B-4E9E-B1C7-8FC67FD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2AD-0B52-4FEB-9034-1740799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6D4-94E4-4D17-B58A-3BCEE36B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3DA-9BE1-4016-B503-F52F4CE3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591-723B-4A2B-BB1A-EB386A1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7C2-2EBD-40D4-9E96-6A00584F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86E-0475-45A6-8A4A-AF74566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2C8-D920-4762-99B7-0B6F1F1115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3920" y="13644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9200" y="531108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A922-CD17-4D7F-9177-DEDFF81A2D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028"/>
          <p:cNvSpPr txBox="1"/>
          <p:nvPr/>
        </p:nvSpPr>
        <p:spPr>
          <a:xfrm>
            <a:off x="4932360" y="1341360"/>
            <a:ext cx="2952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心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9" name="Picture 1032" descr="D:\My Documents\图片\花\7.jpg"/>
          <p:cNvPicPr/>
          <p:nvPr/>
        </p:nvPicPr>
        <p:blipFill>
          <a:blip r:embed="rId1"/>
          <a:srcRect l="0" t="0" r="0" b="1501"/>
          <a:stretch/>
        </p:blipFill>
        <p:spPr>
          <a:xfrm>
            <a:off x="0" y="0"/>
            <a:ext cx="9372600" cy="6980400"/>
          </a:xfrm>
          <a:prstGeom prst="rect">
            <a:avLst/>
          </a:prstGeom>
          <a:ln w="9360">
            <a:solidFill>
              <a:srgbClr val="b7c1eb"/>
            </a:solidFill>
            <a:miter/>
          </a:ln>
        </p:spPr>
      </p:pic>
      <p:sp>
        <p:nvSpPr>
          <p:cNvPr id="210" name="WordArt 1033"/>
          <p:cNvSpPr txBox="1"/>
          <p:nvPr/>
        </p:nvSpPr>
        <p:spPr>
          <a:xfrm>
            <a:off x="628560" y="504720"/>
            <a:ext cx="415944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父母的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211" name="Picture 1034" descr="E:\my file\My Pictures\新建文件夹 (3)\17108[1].gif"/>
          <p:cNvPicPr/>
          <p:nvPr/>
        </p:nvPicPr>
        <p:blipFill>
          <a:blip r:embed="rId2"/>
          <a:stretch/>
        </p:blipFill>
        <p:spPr>
          <a:xfrm>
            <a:off x="628560" y="289872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036"/>
          <p:cNvSpPr txBox="1"/>
          <p:nvPr/>
        </p:nvSpPr>
        <p:spPr>
          <a:xfrm>
            <a:off x="5477040" y="4616280"/>
            <a:ext cx="2189160" cy="5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川端康成</a:t>
            </a:r>
            <a:endParaRPr b="0" lang="en-US" sz="24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3" name="WordArt 1041"/>
          <p:cNvSpPr txBox="1"/>
          <p:nvPr/>
        </p:nvSpPr>
        <p:spPr>
          <a:xfrm rot="5400000">
            <a:off x="5434560" y="1483200"/>
            <a:ext cx="208908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0066"/>
                  </a:solidFill>
                  <a:round/>
                </a:ln>
                <a:noFill/>
                <a:effectLst>
                  <a:outerShdw dist="53966" dir="2700000" blurRad="0" rotWithShape="0">
                    <a:srgbClr val="cbcbcb"/>
                  </a:outerShdw>
                </a:effectLst>
                <a:latin typeface="华文行楷"/>
              </a:rPr>
              <a:t>心</a:t>
            </a:r>
            <a:endParaRPr b="1" lang="en-US" sz="9600" spc="1" strike="noStrike">
              <a:ln w="12600">
                <a:solidFill>
                  <a:srgbClr val="ff0066"/>
                </a:solidFill>
                <a:round/>
              </a:ln>
              <a:noFill/>
              <a:effectLst>
                <a:outerShdw dist="53966" dir="2700000" blurRad="0" rotWithShape="0">
                  <a:srgbClr val="cbcbcb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WordArt 1044"/>
          <p:cNvSpPr txBox="1"/>
          <p:nvPr/>
        </p:nvSpPr>
        <p:spPr>
          <a:xfrm>
            <a:off x="4457880" y="32004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D:\My Documents\图片\花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380880" y="22860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ahoma"/>
                <a:ea typeface="华文新魏"/>
              </a:rPr>
              <a:t>仿写句子，升华主旨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0" y="21337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爱是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0" y="1295280"/>
            <a:ext cx="21337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爱是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523880" y="12952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一座山，有山的伟大和崇高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1523880" y="21337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一潭水，有水的纯洁和温柔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523880" y="2895480"/>
            <a:ext cx="670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华文彩云"/>
                <a:ea typeface="华文彩云"/>
              </a:rPr>
              <a:t>    </a:t>
            </a:r>
            <a:r>
              <a:rPr b="0" lang="zh-CN" sz="6600" spc="-1" strike="noStrike">
                <a:solidFill>
                  <a:srgbClr val="40458c"/>
                </a:solidFill>
                <a:latin typeface="华文彩云"/>
                <a:ea typeface="华文彩云"/>
              </a:rPr>
              <a:t>仿   仿   仿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0" y="3962520"/>
            <a:ext cx="84582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爱是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爱是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447920" y="4114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一片温暖的云，能抚平儿女的心灵创伤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1600200" y="5241960"/>
            <a:ext cx="8001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一盏闪耀的灯，为远行的儿女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来光明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564000" y="1844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1" name="Picture 5" descr="E:\my file\My Pictures\新建文件夹 (3)\sqhy1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WordArt 8"/>
          <p:cNvSpPr txBox="1"/>
          <p:nvPr/>
        </p:nvSpPr>
        <p:spPr>
          <a:xfrm>
            <a:off x="3352680" y="0"/>
            <a:ext cx="38926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ff66cc"/>
                    </a:gs>
                  </a:gsLst>
                  <a:lin ang="5400000"/>
                </a:gradFill>
                <a:latin typeface="宋体"/>
              </a:rPr>
              <a:t>小试牛刀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b2b2b2"/>
                  </a:gs>
                  <a:gs pos="100000">
                    <a:srgbClr val="ff66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438280" y="3809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446040" y="0"/>
            <a:ext cx="18702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华文新魏"/>
              </a:rPr>
              <a:t>没有爱的灌溉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华文新魏"/>
              </a:rPr>
              <a:t>生活 百无聊赖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2362320" y="5410080"/>
            <a:ext cx="678168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2362320" y="5867280"/>
            <a:ext cx="678168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2362320" y="6324480"/>
            <a:ext cx="678168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2286000" y="4572000"/>
            <a:ext cx="685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收集有关父母爱子女的格言、名句、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诗歌或歌词等做一张卡片送给父母，以表达对他们的理解、感谢。</a:t>
            </a:r>
            <a:r>
              <a:rPr b="1" lang="zh-CN" sz="2800" spc="-1" strike="noStrike">
                <a:solidFill>
                  <a:srgbClr val="40458c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2286000" y="5911920"/>
            <a:ext cx="685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请以“感悟亲情”为话题写一个片断，要有真情实感。（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200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字左右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7543800" y="914400"/>
            <a:ext cx="1600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感恩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的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感受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真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挚爱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D:\My Documents\图片\花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22860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格言、名句示例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娘想儿，长江水；儿想娘，扁担长（中国谚语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、乌鸦认为自己的孩子最优秀（英国谚语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、父母的美德是儿女最大的财富（法国谚语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、父恩比山高，母恩比海深（日本谚语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、一父养十子之至情，较十子对于一父之情为   深（德国谚语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、父母对子女的爱，尤其是母爱，是人类最高尚纯洁的、美好的感情（加莉娜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0" y="52560"/>
            <a:ext cx="9144000" cy="513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是什么原因让我总是惦记你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风风雨雨我都不曾放弃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可是你  总是说没事的尽管放心放心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会平安回家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/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你的声音一直珍藏在心底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寂寞时候我悄悄回忆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出门在外我会保重自己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不用担心我一定会平安回家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/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让妈妈把心放下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给爱我的人擦去泪花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不要把我一个人丢下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这是我梦里都想说的话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/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终于回到家风也罢雨也罢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什么都不害怕这是爱的天下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真爱的天下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/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让妈妈把心放下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给爱我的人擦去泪花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不要把我一个人丢下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这是我梦里都想说的话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//             </a:t>
            </a:r>
            <a:r>
              <a:rPr b="0" lang="zh-CN" sz="2800" spc="-1" strike="noStrike">
                <a:solidFill>
                  <a:srgbClr val="0c0d1a"/>
                </a:solidFill>
                <a:latin typeface="Tahoma"/>
              </a:rPr>
              <a:t>我要回家我要回家</a:t>
            </a:r>
            <a:r>
              <a:rPr b="0" lang="en-US" sz="2800" spc="-1" strike="noStrike">
                <a:solidFill>
                  <a:srgbClr val="0c0d1a"/>
                </a:solidFill>
                <a:latin typeface="Tahoma"/>
              </a:rPr>
              <a:t>///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      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感悟亲情示例：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回家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歌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回家——萨克斯.mp3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1906920" y="1828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380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7" name="Picture 6" descr="Bli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7"/>
          <p:cNvSpPr txBox="1"/>
          <p:nvPr/>
        </p:nvSpPr>
        <p:spPr>
          <a:xfrm>
            <a:off x="304920" y="533520"/>
            <a:ext cx="4724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99"/>
                </a:solidFill>
                <a:latin typeface="宋体"/>
              </a:rPr>
              <a:t>goodbye</a:t>
            </a:r>
            <a:r>
              <a:rPr b="1" i="1" lang="zh-CN" sz="7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99"/>
                </a:solidFill>
                <a:latin typeface="宋体"/>
              </a:rPr>
              <a:t>！</a:t>
            </a:r>
            <a:endParaRPr b="1" i="1" lang="en-US" sz="7200" spc="1" strike="noStrike">
              <a:ln w="9360">
                <a:solidFill>
                  <a:srgbClr val="ff0000"/>
                </a:solidFill>
                <a:round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89" name="Object 8" descr=""/>
          <p:cNvPicPr/>
          <p:nvPr/>
        </p:nvPicPr>
        <p:blipFill>
          <a:blip r:embed="rId2"/>
          <a:stretch/>
        </p:blipFill>
        <p:spPr>
          <a:xfrm>
            <a:off x="1187280" y="3086280"/>
            <a:ext cx="4800600" cy="37382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10"/>
          <p:cNvSpPr/>
          <p:nvPr/>
        </p:nvSpPr>
        <p:spPr>
          <a:xfrm>
            <a:off x="5638680" y="380880"/>
            <a:ext cx="3200400" cy="1905120"/>
          </a:xfrm>
          <a:prstGeom prst="cloudCallout">
            <a:avLst>
              <a:gd name="adj1" fmla="val -144444"/>
              <a:gd name="adj2" fmla="val 123833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5181480" y="60948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下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课啦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---</a:t>
            </a:r>
            <a:r>
              <a:rPr b="1" lang="en-US" sz="80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               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7010280" y="53341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方正舒体"/>
                <a:ea typeface="方正舒体"/>
              </a:rPr>
              <a:t>再见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026"/>
          <p:cNvSpPr/>
          <p:nvPr/>
        </p:nvSpPr>
        <p:spPr>
          <a:xfrm>
            <a:off x="2057400" y="304920"/>
            <a:ext cx="70866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母亲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入学的新书包有人给你拿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雨中的花折伞有人给你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爱吃的（那）三鲜馅有人（他）给你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委屈的泪花有人给你擦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啊，这个人就是娘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啊，这个人就是妈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个人给了我生命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给我一个家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啊，不管你走多远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论你在干啥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到什么时候也离不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咱的妈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身在（那）他乡住有人在牵挂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回到（那）家里边有人沏热茶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躺在（那）病床上有人（他）掉眼泪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露出（那）笑容时有人乐开花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啊，这个人就是娘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啊，这个人就是妈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个人给了我生命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给我一个家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啊，不管你多富有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论你官多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到什么时候也不能忘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咱的妈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1027" descr="E:\my file\My Pictures\新建文件夹 (3)\hudielan.gif"/>
          <p:cNvPicPr/>
          <p:nvPr/>
        </p:nvPicPr>
        <p:blipFill>
          <a:blip r:embed="rId1"/>
          <a:stretch/>
        </p:blipFill>
        <p:spPr>
          <a:xfrm>
            <a:off x="0" y="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217" name="母亲.mp3" descr=""/>
          <p:cNvPicPr/>
          <p:nvPr/>
        </p:nvPicPr>
        <p:blipFill>
          <a:blip r:embed="rId2"/>
          <a:stretch/>
        </p:blipFill>
        <p:spPr>
          <a:xfrm>
            <a:off x="76212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mp3-04.MP3" descr=""/>
          <p:cNvPicPr/>
          <p:nvPr/>
        </p:nvPicPr>
        <p:blipFill>
          <a:blip r:embed="rId1"/>
          <a:stretch/>
        </p:blipFill>
        <p:spPr>
          <a:xfrm>
            <a:off x="824400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D:\My Documents\图片\花\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5"/>
          <p:cNvSpPr/>
          <p:nvPr/>
        </p:nvSpPr>
        <p:spPr>
          <a:xfrm>
            <a:off x="533520" y="3808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ahoma"/>
                <a:ea typeface="华文新魏"/>
              </a:rPr>
              <a:t>整体感知课文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26" descr="I:\川端康成.jpg"/>
          <p:cNvPicPr/>
          <p:nvPr/>
        </p:nvPicPr>
        <p:blipFill>
          <a:blip r:embed="rId3"/>
          <a:stretch/>
        </p:blipFill>
        <p:spPr>
          <a:xfrm>
            <a:off x="304920" y="1828800"/>
            <a:ext cx="3322440" cy="46483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7"/>
          <p:cNvSpPr/>
          <p:nvPr/>
        </p:nvSpPr>
        <p:spPr>
          <a:xfrm>
            <a:off x="4343400" y="685800"/>
            <a:ext cx="4495680" cy="312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b2b2b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057e"/>
                </a:solidFill>
                <a:latin typeface="Times New Roman"/>
              </a:rPr>
              <a:t>作者： 川端康成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川端康成，日本现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当代小说家。出生大阪。幼年父母双亡。后来祖父母和姐姐又陆续病故，孤独忧郁伴其一生。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1968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年因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伊豆的舞女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雪国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千羽鹤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古都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获诺贝尔奖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3" descr="D:\My Documents\图片\花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4"/>
          <p:cNvSpPr/>
          <p:nvPr/>
        </p:nvSpPr>
        <p:spPr>
          <a:xfrm>
            <a:off x="533520" y="53352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用自己喜欢的方式朗读课文，熟悉情节，揣摩人物的心理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380880" y="3505320"/>
            <a:ext cx="37339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11b2e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D:\My Documents\图片\动物\流氓兔4.jpg"/>
          <p:cNvPicPr/>
          <p:nvPr/>
        </p:nvPicPr>
        <p:blipFill>
          <a:blip r:embed="rId1"/>
          <a:srcRect l="0" t="14003" r="0" b="57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22"/>
          <p:cNvSpPr/>
          <p:nvPr/>
        </p:nvSpPr>
        <p:spPr>
          <a:xfrm>
            <a:off x="1066680" y="1219320"/>
            <a:ext cx="76320" cy="3429000"/>
          </a:xfrm>
          <a:custGeom>
            <a:avLst/>
            <a:gdLst>
              <a:gd name="textAreaLeft" fmla="*/ 48960 w 76320"/>
              <a:gd name="textAreaRight" fmla="*/ 7632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5867280" y="0"/>
            <a:ext cx="2667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380880" y="1600200"/>
            <a:ext cx="68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0e"/>
                </a:solidFill>
                <a:latin typeface="Times New Roman"/>
              </a:rPr>
              <a:t>父母的心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1143000" y="1143000"/>
            <a:ext cx="2971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贵夫人要小孩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4114800" y="15238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3240">
            <a:solidFill>
              <a:srgbClr val="fc3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4114800" y="24382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3240">
            <a:solidFill>
              <a:srgbClr val="fc3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4114800" y="32004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0000"/>
          </a:solidFill>
          <a:ln w="3240">
            <a:solidFill>
              <a:srgbClr val="fc3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AutoShape 40"/>
          <p:cNvSpPr/>
          <p:nvPr/>
        </p:nvSpPr>
        <p:spPr>
          <a:xfrm>
            <a:off x="4114800" y="40384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3240">
            <a:solidFill>
              <a:srgbClr val="fc3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AutoShape 41"/>
          <p:cNvSpPr/>
          <p:nvPr/>
        </p:nvSpPr>
        <p:spPr>
          <a:xfrm>
            <a:off x="4114800" y="48006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0000"/>
          </a:solidFill>
          <a:ln w="3240">
            <a:solidFill>
              <a:srgbClr val="fc3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1066680" y="3049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情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5410080" y="304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表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 Box 50"/>
          <p:cNvSpPr/>
          <p:nvPr/>
        </p:nvSpPr>
        <p:spPr>
          <a:xfrm>
            <a:off x="1219320" y="205740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送走长子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1295280" y="2971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送走次子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Text Box 52"/>
          <p:cNvSpPr/>
          <p:nvPr/>
        </p:nvSpPr>
        <p:spPr>
          <a:xfrm>
            <a:off x="1219320" y="373392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送走女儿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1143000" y="44956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要回女儿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54"/>
          <p:cNvSpPr/>
          <p:nvPr/>
        </p:nvSpPr>
        <p:spPr>
          <a:xfrm>
            <a:off x="5562720" y="121932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犹豫不决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55"/>
          <p:cNvSpPr/>
          <p:nvPr/>
        </p:nvSpPr>
        <p:spPr>
          <a:xfrm>
            <a:off x="5486400" y="21337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难割难舍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 Box 56"/>
          <p:cNvSpPr/>
          <p:nvPr/>
        </p:nvSpPr>
        <p:spPr>
          <a:xfrm>
            <a:off x="5562720" y="2895480"/>
            <a:ext cx="2438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无精打采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57"/>
          <p:cNvSpPr/>
          <p:nvPr/>
        </p:nvSpPr>
        <p:spPr>
          <a:xfrm>
            <a:off x="548640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失魂落魄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5562720" y="4572000"/>
            <a:ext cx="2438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失声痛哭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D:\My Documents\图片\动物\流氓兔7.jpg"/>
          <p:cNvPicPr/>
          <p:nvPr/>
        </p:nvPicPr>
        <p:blipFill>
          <a:blip r:embed="rId1"/>
          <a:srcRect l="0" t="6666" r="0" b="0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琥珀"/>
                <a:ea typeface="华文琥珀"/>
              </a:rPr>
              <a:t>仔细体味课文中穷夫妇送走子女时的情感。根据下面的情境，用一两句话写出那位父亲和他妻子的心理活动和感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33520" y="2209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457200" y="2514600"/>
            <a:ext cx="3429000" cy="3980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贵夫人要小孩时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送走长子时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送走次子时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送走女儿时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要回女儿时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  <a:ea typeface="华文琥珀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华文琥珀"/>
              </a:rPr>
              <a:t>穷夫妇的心理活动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11b2e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e11b2e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）那位父亲犹豫不决，要和孩子的妈妈商量后才决定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e11b2e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）贫穷父母认为对方条件优越，送走一个孩子可以让         他过上好日子，自己的负担可以减轻一些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e11b2e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）实在舍不得长子，要把他要回来，怎么要？要老二去换老大吧，就说长子是接班人，不论怎么穷，也不能将长子送人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e11b2e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）次子也舍不得，也要去把他要回来，怎么要？要女儿去换他吧，就说老二长得和去世的婆婆一样，扔了他就如扔了婆婆，这不孝啊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e11b2e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e11b2e"/>
                </a:solidFill>
                <a:latin typeface="宋体"/>
              </a:rPr>
              <a:t>）女儿太小，也舍不得。现在拿了人家的钱怎么办？   如数奉还，我们宁愿全家六口饿死在一起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SzPct val="11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6" descr="D:\My Documents\图片\花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7"/>
          <p:cNvSpPr/>
          <p:nvPr/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ahoma"/>
              </a:rPr>
              <a:t>品味语言，体会感情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380880" y="18745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饱含深情地自由朗读课文，用笔画出你认为最精彩，最表达感情的句子，并予以感受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自由发言，集体评价，并读一读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3564000" y="1844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335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总结全文，体味深深的父母之爱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Picture 7" descr="E:\my file\My Pictures\新建文件夹 (3)\17108[1].gif"/>
          <p:cNvPicPr/>
          <p:nvPr/>
        </p:nvPicPr>
        <p:blipFill>
          <a:blip r:embed="rId1"/>
          <a:stretch/>
        </p:blipFill>
        <p:spPr>
          <a:xfrm>
            <a:off x="685800" y="152388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4572000" y="2666880"/>
            <a:ext cx="434340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是父母的心，似乎不太完整，请你予以补充：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父母的心是＿＿＿＿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小组讨论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2:30:19Z</dcterms:created>
  <dc:creator/>
  <dc:description>第一PPT模板网-WWW.1PPT.COM
</dc:description>
  <dc:language>en-US</dc:language>
  <cp:lastModifiedBy>Administrator</cp:lastModifiedBy>
  <dcterms:modified xsi:type="dcterms:W3CDTF">2017-08-01T01:45:09Z</dcterms:modified>
  <cp:revision>138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