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4.jpeg" ContentType="image/jpeg"/>
  <Override PartName="/ppt/media/image5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791-BEB6-40D6-A54B-ED17CC8D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E04-BDBE-456C-992F-490501D2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963-AF4E-45F8-96D1-78CD356C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F3D-D4FD-4625-A225-AA347C08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E16-7BD4-432A-B3E5-4DB1CAB8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985-00AD-4A6F-88B8-A986D748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2F8-CDB8-41E6-80D4-2BCB8A61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634-1C1C-4D2D-BCD8-4F043885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4AE-CA9D-421F-8DFF-C1096ADB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BCC-7175-491D-97A0-0915F9E8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AD1-9575-40C6-82D0-1D666B82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FF7-5AF5-435B-BEAC-4C7DE07D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5C4A-2BCC-4E45-9A96-E223956DB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user\My Documents\My Pictures\f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352520" y="185904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Times New Roman"/>
                <a:ea typeface="隶书"/>
              </a:rPr>
              <a:t>父母的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771640" y="36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日本    川端康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83664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苏教版八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花之语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380880" y="609480"/>
            <a:ext cx="2286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链接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62120" y="28195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讲讲发生在你身边的亲情故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457200" y="4572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仿写句子，抒写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57200" y="1752480"/>
            <a:ext cx="8686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父母的心是一缕春风，吹暖了我们的心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父母的心是一条溪流，带来了一路的欢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__________________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，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________________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__________________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，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________________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47614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990720" y="1447920"/>
            <a:ext cx="81532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文中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与其舍掉一个孩子，还不如爹妈儿女一家六口饿死在一起好”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设想一下，这家人在团聚以后命运会怎样，为文章续写一个结尾。（字数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50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左右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457200"/>
            <a:ext cx="182880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作  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392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380880" y="685800"/>
            <a:ext cx="845820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拓展延伸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你能找出赞美 父爱母爱的诗歌、 谚语、歌曲吗？说给大家听听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04920" y="304920"/>
            <a:ext cx="6553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世间的爱千万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惟有父母之爱最无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时间的长河可以带走一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但带不走父母的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它已深入我们的骨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溶入我们的血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这爱留在我们的心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时刻温暖我们的生命历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1393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0" y="361800"/>
            <a:ext cx="9144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、娘想儿，长江水；儿想娘，扁担长。（中国谚语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、乌鸦认为自己的孩子最优秀。（英国谚语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、父母的美德是儿女最大的财富。（法国谚语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、父恩比山高，母恩比水深。（日本谚语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393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507960" y="523800"/>
            <a:ext cx="861048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真情反馈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、爱无所不在，无处不有，你感受到了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、做一张卡片给父母，以表示对他们的理解和感谢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川端康成"/>
          <p:cNvPicPr/>
          <p:nvPr/>
        </p:nvPicPr>
        <p:blipFill>
          <a:blip r:embed="rId2"/>
          <a:stretch/>
        </p:blipFill>
        <p:spPr>
          <a:xfrm>
            <a:off x="304920" y="1295280"/>
            <a:ext cx="3322440" cy="4648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3733920" y="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川端康成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    日本现、当代小说家。他是日本文学界“泰斗”级人物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亚洲第二位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获诺贝尔文学奖的人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9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出生在大阪，幼年父母双亡。后来祖父母和姐姐又陆续病故，孤独忧郁伴其一生。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1926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年写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伊豆的舞女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而成名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6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雪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羽鹤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古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诺贝尔文学奖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57200" y="304920"/>
            <a:ext cx="23623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作者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5"/>
          <p:cNvPicPr/>
          <p:nvPr/>
        </p:nvPicPr>
        <p:blipFill>
          <a:blip r:embed="rId1"/>
          <a:stretch/>
        </p:blipFill>
        <p:spPr>
          <a:xfrm>
            <a:off x="-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0" y="376200"/>
            <a:ext cx="86868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川端康成是个很有成就的作家，他的成就是多方面的，包括小说、散文、评论等。在整整半个世纪的创作生涯中，他共写了超过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部（篇）小说（含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多篇掌小说），中长篇小说一般都在八万至十二三万字内，掌小说短者仅有数百字。他一生获得过很多荣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菊池奖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4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艺术院奖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5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5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被选为日本文学艺术最高的荣誉机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艺术院的会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野间文艺奖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5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5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，获西德政府颁发的“歌德金牌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获法国政府授予的艺术文化勋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每日出版文化奖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6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4572000" y="838080"/>
            <a:ext cx="4267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在荣获诺贝尔文学奖三年之后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日，川端康成突然采取含煤气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杀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的形式离开了人世，未留下只字遗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huanduankangcheng"/>
          <p:cNvPicPr/>
          <p:nvPr/>
        </p:nvPicPr>
        <p:blipFill>
          <a:blip r:embed="rId2"/>
          <a:stretch/>
        </p:blipFill>
        <p:spPr>
          <a:xfrm>
            <a:off x="533520" y="685800"/>
            <a:ext cx="3870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5" name="Picture 3" descr="封底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4"/>
            <p:cNvSpPr/>
            <p:nvPr/>
          </p:nvSpPr>
          <p:spPr>
            <a:xfrm>
              <a:off x="762120" y="3962520"/>
              <a:ext cx="77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99"/>
                  </a:solidFill>
                  <a:latin typeface="Times New Roman"/>
                  <a:ea typeface="华文琥珀"/>
                </a:rPr>
                <a:t>      </a:t>
              </a:r>
              <a:r>
                <a:rPr b="1" i="1" lang="zh-CN" sz="5400" spc="-1" strike="noStrike">
                  <a:solidFill>
                    <a:srgbClr val="000099"/>
                  </a:solidFill>
                  <a:latin typeface="Times New Roman"/>
                  <a:ea typeface="华文琥珀"/>
                </a:rPr>
                <a:t>这是发生在日本一艘轮船上的故事</a:t>
              </a:r>
              <a:r>
                <a:rPr b="1" i="1" lang="en-US" sz="5400" spc="-1" strike="noStrike">
                  <a:solidFill>
                    <a:srgbClr val="000099"/>
                  </a:solidFill>
                  <a:latin typeface="Times New Roman"/>
                  <a:ea typeface="华文琥珀"/>
                </a:rPr>
                <a:t>…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5"/>
          <p:cNvSpPr/>
          <p:nvPr/>
        </p:nvSpPr>
        <p:spPr>
          <a:xfrm>
            <a:off x="380880" y="380880"/>
            <a:ext cx="44960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读课文，讲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9" name="Picture 3" descr="封底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4"/>
            <p:cNvSpPr/>
            <p:nvPr/>
          </p:nvSpPr>
          <p:spPr>
            <a:xfrm>
              <a:off x="762120" y="3962520"/>
              <a:ext cx="77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99"/>
                  </a:solidFill>
                  <a:latin typeface="Times New Roman"/>
                  <a:ea typeface="华文琥珀"/>
                </a:rPr>
                <a:t> 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5"/>
          <p:cNvSpPr/>
          <p:nvPr/>
        </p:nvSpPr>
        <p:spPr>
          <a:xfrm>
            <a:off x="0" y="914400"/>
            <a:ext cx="9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破题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交代故事背景和人物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95480" y="17524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想领养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048120" y="2590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三次换送子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200400" y="3505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要回女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200400" y="44197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一家六口团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0" y="18288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开端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0" y="2666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发展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0" y="3581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高潮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0" y="44197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结局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1" name="Picture 3" descr="封底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4"/>
            <p:cNvSpPr/>
            <p:nvPr/>
          </p:nvSpPr>
          <p:spPr>
            <a:xfrm>
              <a:off x="762120" y="3962520"/>
              <a:ext cx="77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99"/>
                  </a:solidFill>
                  <a:latin typeface="Times New Roman"/>
                  <a:ea typeface="华文琥珀"/>
                </a:rPr>
                <a:t> 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5"/>
          <p:cNvSpPr/>
          <p:nvPr/>
        </p:nvSpPr>
        <p:spPr>
          <a:xfrm>
            <a:off x="380880" y="685800"/>
            <a:ext cx="48769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抓线索，理情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8600" y="2286000"/>
            <a:ext cx="8915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送走（      ）    （      ）换（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     ）换（     ）     要回（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1219320" y="4038480"/>
            <a:ext cx="7162560" cy="2133720"/>
          </a:xfrm>
          <a:custGeom>
            <a:avLst/>
            <a:gdLst>
              <a:gd name="textAreaLeft" fmla="*/ 486720 w 7162560"/>
              <a:gd name="textAreaRight" fmla="*/ 7649640 w 7162560"/>
              <a:gd name="textAreaTop" fmla="*/ 554760 h 2133720"/>
              <a:gd name="textAreaBottom" fmla="*/ 1578960 h 2133720"/>
            </a:gdLst>
            <a:ahLst/>
            <a:rect l="textAreaLeft" t="textAreaTop" r="textAreaRight" b="textAreaBottom"/>
            <a:pathLst>
              <a:path w="21600" h="21600">
                <a:moveTo>
                  <a:pt x="1468" y="2809"/>
                </a:moveTo>
                <a:cubicBezTo>
                  <a:pt x="7934" y="-7142"/>
                  <a:pt x="15134" y="12760"/>
                  <a:pt x="21600" y="2809"/>
                </a:cubicBezTo>
                <a:lnTo>
                  <a:pt x="20132" y="18791"/>
                </a:lnTo>
                <a:cubicBezTo>
                  <a:pt x="13666" y="28742"/>
                  <a:pt x="6466" y="8840"/>
                  <a:pt x="0" y="18791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波三折，跌宕起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3200400" y="2590920"/>
            <a:ext cx="990720" cy="152280"/>
          </a:xfrm>
          <a:prstGeom prst="rightArrow">
            <a:avLst>
              <a:gd name="adj1" fmla="val 50000"/>
              <a:gd name="adj2" fmla="val 1626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>
            <a:off x="4952880" y="3657600"/>
            <a:ext cx="990720" cy="152280"/>
          </a:xfrm>
          <a:prstGeom prst="rightArrow">
            <a:avLst>
              <a:gd name="adj1" fmla="val 50000"/>
              <a:gd name="adj2" fmla="val 1626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228600" y="3657600"/>
            <a:ext cx="990720" cy="152280"/>
          </a:xfrm>
          <a:prstGeom prst="rightArrow">
            <a:avLst>
              <a:gd name="adj1" fmla="val 50000"/>
              <a:gd name="adj2" fmla="val 1626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190512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儿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419720" y="2438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儿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010280" y="243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儿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447920" y="3429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女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38098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儿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7620120" y="3429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女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6" name="Picture 3" descr="封底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4"/>
            <p:cNvSpPr/>
            <p:nvPr/>
          </p:nvSpPr>
          <p:spPr>
            <a:xfrm>
              <a:off x="762120" y="3962520"/>
              <a:ext cx="77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99"/>
                  </a:solidFill>
                  <a:latin typeface="Times New Roman"/>
                  <a:ea typeface="华文琥珀"/>
                </a:rPr>
                <a:t> 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5"/>
          <p:cNvSpPr/>
          <p:nvPr/>
        </p:nvSpPr>
        <p:spPr>
          <a:xfrm>
            <a:off x="304920" y="304920"/>
            <a:ext cx="44956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品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细节，细体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80880" y="1447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找出穷夫妇三次换送子女时的表现，细细体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3657600" y="365760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304920" y="5562720"/>
            <a:ext cx="1066680" cy="152280"/>
          </a:xfrm>
          <a:prstGeom prst="rightArrow">
            <a:avLst>
              <a:gd name="adj1" fmla="val 50000"/>
              <a:gd name="adj2" fmla="val 1751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3962520" y="5562720"/>
            <a:ext cx="1066680" cy="152280"/>
          </a:xfrm>
          <a:prstGeom prst="rightArrow">
            <a:avLst>
              <a:gd name="adj1" fmla="val 50000"/>
              <a:gd name="adj2" fmla="val 1751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1143000" y="3200400"/>
            <a:ext cx="251460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眼含热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1"/>
          <p:cNvSpPr/>
          <p:nvPr/>
        </p:nvSpPr>
        <p:spPr>
          <a:xfrm>
            <a:off x="4800600" y="3276720"/>
            <a:ext cx="243828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无精打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1447920" y="5105520"/>
            <a:ext cx="251460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失魂落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3"/>
          <p:cNvSpPr/>
          <p:nvPr/>
        </p:nvSpPr>
        <p:spPr>
          <a:xfrm>
            <a:off x="5029200" y="5105520"/>
            <a:ext cx="266688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痛哭失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3429000" y="3809880"/>
            <a:ext cx="1447920" cy="1524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花之语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28600" y="304920"/>
            <a:ext cx="23623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体会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0880" y="1066680"/>
            <a:ext cx="838224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讨论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穷人夫妇为什么要把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送给富太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1143000" y="3809880"/>
            <a:ext cx="6934320" cy="2057400"/>
          </a:xfrm>
          <a:custGeom>
            <a:avLst/>
            <a:gdLst>
              <a:gd name="textAreaLeft" fmla="*/ 0 w 6934320"/>
              <a:gd name="textAreaRight" fmla="*/ 6934680 w 6934320"/>
              <a:gd name="textAreaTop" fmla="*/ 534960 h 2057400"/>
              <a:gd name="textAreaBottom" fmla="*/ 15224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隶书"/>
                <a:ea typeface="隶书"/>
              </a:rPr>
              <a:t>浓浓的爱心，淡淡的哀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905120" y="2362320"/>
            <a:ext cx="5943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赞成穷人要回孩子的做法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1:33:52Z</dcterms:created>
  <dc:creator/>
  <dc:description>第一PPT模板网-WWW.1PPT.COM
</dc:description>
  <dc:language>en-US</dc:language>
  <cp:lastModifiedBy>Administrator</cp:lastModifiedBy>
  <dcterms:modified xsi:type="dcterms:W3CDTF">2017-08-01T01:37:22Z</dcterms:modified>
  <cp:revision>38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