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19.png" ContentType="image/png"/>
  <Override PartName="/ppt/media/dandrum5.wav" ContentType="audio/x-wav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gif" ContentType="image/gif"/>
  <Override PartName="/ppt/media/image17.png" ContentType="image/png"/>
  <Override PartName="/ppt/media/image2.png" ContentType="image/png"/>
  <Override PartName="/ppt/media/tune1.wav" ContentType="audio/x-wav"/>
  <Override PartName="/ppt/media/image3.wmf" ContentType="image/x-wmf"/>
  <Override PartName="/ppt/media/image4.png" ContentType="image/pn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7515-F929-401C-8CFD-D42F5B0D5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383E-9EF6-4C22-A2D2-2AAC5F301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6FC0-7565-4371-B327-1A1B20070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6485-2D8F-41F5-979F-BBD6ADDC3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A8C6-1028-41A1-9D19-0DED9B96F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DC97-EA36-4CB5-A427-556A2DEE4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93DA-D4F7-4E4F-9339-A30E31793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4D0D-452F-4DE6-AFB0-F7DF51490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9396-74C5-4924-9A31-D4446CB18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5185-E7B4-4555-AF4A-54F2BA2D2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FB26-EBE6-4206-AA81-B44F6D4C3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CE53-FF26-4445-87E8-C07EAA834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2AD8D-1274-4FC7-B30B-6F6BE4203E4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audio" Target="../media/dandrum5.wav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une1.wav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4572000" y="342900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4114800" y="4800600"/>
            <a:ext cx="29718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3333cc"/>
                  </a:solidFill>
                  <a:miter/>
                </a:ln>
                <a:solidFill>
                  <a:srgbClr val="9900cc"/>
                </a:solidFill>
                <a:latin typeface="方正姚体"/>
              </a:rPr>
              <a:t>莫泊桑</a:t>
            </a:r>
            <a:endParaRPr b="1" lang="en-US" sz="2400" spc="1" strike="noStrike">
              <a:ln w="9360">
                <a:solidFill>
                  <a:srgbClr val="3333cc"/>
                </a:solidFill>
                <a:miter/>
              </a:ln>
              <a:solidFill>
                <a:srgbClr val="9900cc"/>
              </a:solidFill>
              <a:latin typeface="方正姚体"/>
              <a:ea typeface="方正姚体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502920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方正姚体"/>
                <a:ea typeface="方正姚体"/>
              </a:rPr>
              <a:t>[</a:t>
            </a:r>
            <a:r>
              <a:rPr b="1" lang="zh-CN" sz="5400" spc="-1" strike="noStrike">
                <a:solidFill>
                  <a:srgbClr val="3333cc"/>
                </a:solidFill>
                <a:latin typeface="方正姚体"/>
                <a:ea typeface="方正姚体"/>
              </a:rPr>
              <a:t>法国</a:t>
            </a:r>
            <a:r>
              <a:rPr b="1" lang="zh-CN" sz="5400" spc="-1" strike="noStrike">
                <a:solidFill>
                  <a:srgbClr val="3333cc"/>
                </a:solidFill>
                <a:latin typeface="方正姚体"/>
                <a:ea typeface="方正姚体"/>
              </a:rPr>
              <a:t>]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143000" y="1752480"/>
            <a:ext cx="6705720" cy="153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福楼拜家的星期天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24000" y="476280"/>
            <a:ext cx="4495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1840—1902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）十九世纪</a:t>
            </a:r>
            <a:r>
              <a:rPr b="1" lang="zh-CN" sz="3200" spc="-1" strike="noStrike">
                <a:solidFill>
                  <a:srgbClr val="993300"/>
                </a:solidFill>
                <a:latin typeface="黑体"/>
                <a:ea typeface="黑体"/>
              </a:rPr>
              <a:t>法国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著名自然主义作家。二十五岁时出版了第一部长篇小说</a:t>
            </a:r>
            <a:r>
              <a:rPr b="1" lang="zh-CN" sz="3200" spc="-1" strike="noStrike">
                <a:solidFill>
                  <a:srgbClr val="993300"/>
                </a:solidFill>
                <a:latin typeface="黑体"/>
                <a:ea typeface="黑体"/>
              </a:rPr>
              <a:t>《克洛德的忏悔》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，主要作品有《小酒店》、《萌芽》、《卢贡——马卡尔家族》等。其作品多以自然主义手法揭露资产阶级的荒淫无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867280" y="5089680"/>
            <a:ext cx="2667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左拉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952880" y="457200"/>
            <a:ext cx="3992760" cy="41911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33520" y="2209680"/>
            <a:ext cx="792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cc"/>
                </a:solidFill>
                <a:latin typeface="Arial Narrow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Arial Narrow"/>
              </a:rPr>
              <a:t>作者是怎样表现他们各自的性格的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62120" y="434340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Arial Narrow"/>
                <a:ea typeface="楷体_GB2312"/>
              </a:rPr>
              <a:t>（提示：从</a:t>
            </a:r>
            <a:r>
              <a:rPr b="1" lang="zh-CN" sz="4000" spc="-1" strike="noStrike">
                <a:solidFill>
                  <a:srgbClr val="3333cc"/>
                </a:solidFill>
                <a:latin typeface="Arial Narrow"/>
                <a:ea typeface="楷体_GB2312"/>
              </a:rPr>
              <a:t>肖像描写</a:t>
            </a:r>
            <a:r>
              <a:rPr b="1" lang="zh-CN" sz="4000" spc="-1" strike="noStrike">
                <a:solidFill>
                  <a:srgbClr val="993300"/>
                </a:solidFill>
                <a:latin typeface="Arial Narrow"/>
                <a:ea typeface="楷体_GB2312"/>
              </a:rPr>
              <a:t>、</a:t>
            </a:r>
            <a:r>
              <a:rPr b="1" lang="zh-CN" sz="4000" spc="-1" strike="noStrike">
                <a:solidFill>
                  <a:srgbClr val="3333cc"/>
                </a:solidFill>
                <a:latin typeface="Arial Narrow"/>
                <a:ea typeface="楷体_GB2312"/>
              </a:rPr>
              <a:t>语言描写</a:t>
            </a:r>
            <a:r>
              <a:rPr b="1" lang="zh-CN" sz="4000" spc="-1" strike="noStrike">
                <a:solidFill>
                  <a:srgbClr val="993300"/>
                </a:solidFill>
                <a:latin typeface="Arial Narrow"/>
                <a:ea typeface="楷体_GB2312"/>
              </a:rPr>
              <a:t>、</a:t>
            </a:r>
            <a:r>
              <a:rPr b="1" lang="zh-CN" sz="4000" spc="-1" strike="noStrike">
                <a:solidFill>
                  <a:srgbClr val="3333cc"/>
                </a:solidFill>
                <a:latin typeface="Arial Narrow"/>
                <a:ea typeface="楷体_GB2312"/>
              </a:rPr>
              <a:t>行动描写</a:t>
            </a:r>
            <a:r>
              <a:rPr b="1" lang="zh-CN" sz="4000" spc="-1" strike="noStrike">
                <a:solidFill>
                  <a:srgbClr val="993300"/>
                </a:solidFill>
                <a:latin typeface="Arial Narrow"/>
                <a:ea typeface="楷体_GB2312"/>
              </a:rPr>
              <a:t>等方面找一找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533520"/>
            <a:ext cx="2057400" cy="16002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1547640" y="836640"/>
            <a:ext cx="16765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思考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隶书"/>
              <a:ea typeface="隶书"/>
            </a:endParaRPr>
          </a:p>
        </p:txBody>
      </p:sp>
    </p:spTree>
  </p:cSld>
  <p:transition>
    <p:strips dir="lu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533520" y="457200"/>
            <a:ext cx="2309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福 楼 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屠格涅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都    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左    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29360" y="76320"/>
            <a:ext cx="436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Arial Narrow"/>
                <a:ea typeface="隶书"/>
              </a:rPr>
              <a:t>热情奔放、和蔼可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Arial Narrow"/>
                <a:ea typeface="隶书"/>
              </a:rPr>
              <a:t>博学睿智、容易激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184800" y="1676520"/>
            <a:ext cx="436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Arial Narrow"/>
                <a:ea typeface="隶书"/>
              </a:rPr>
              <a:t>狂热理想、博学多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Arial Narrow"/>
                <a:ea typeface="隶书"/>
              </a:rPr>
              <a:t>醉心文学、老年持重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70360" y="3276720"/>
            <a:ext cx="527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Arial Narrow"/>
                <a:ea typeface="隶书"/>
              </a:rPr>
              <a:t>活跃、  幽默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Arial Narrow"/>
                <a:ea typeface="隶书"/>
              </a:rPr>
              <a:t>厌恶腐朽、开朗健谈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86200" y="5029200"/>
            <a:ext cx="3710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Arial Narrow"/>
                <a:ea typeface="隶书"/>
              </a:rPr>
              <a:t>温和、寡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Arial Narrow"/>
                <a:ea typeface="隶书"/>
              </a:rPr>
              <a:t>坚毅、聪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92720" y="152280"/>
            <a:ext cx="1018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00cc"/>
                </a:solidFill>
                <a:latin typeface="Times New Roman"/>
              </a:rPr>
              <a:t>—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56000" y="1828800"/>
            <a:ext cx="1018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00cc"/>
                </a:solidFill>
                <a:latin typeface="Times New Roman"/>
              </a:rPr>
              <a:t>—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92720" y="3429000"/>
            <a:ext cx="1018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00cc"/>
                </a:solidFill>
                <a:latin typeface="Times New Roman"/>
              </a:rPr>
              <a:t>—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16400" y="5105520"/>
            <a:ext cx="1018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00cc"/>
                </a:solidFill>
                <a:latin typeface="Times New Roman"/>
              </a:rPr>
              <a:t>—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d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838080" y="167652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 Narrow"/>
              </a:rPr>
              <a:t>         </a:t>
            </a:r>
            <a:r>
              <a:rPr b="1" lang="zh-CN" sz="4000" spc="-1" strike="noStrike">
                <a:solidFill>
                  <a:srgbClr val="0000ff"/>
                </a:solidFill>
                <a:latin typeface="Arial Narrow"/>
              </a:rPr>
              <a:t>你认为作者为何能把人物的性格特征表现得如此鲜明，将人物刻画得那么栩栩如生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09480" y="228600"/>
            <a:ext cx="1905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议一议</a:t>
            </a:r>
            <a:endParaRPr b="1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42670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抓住人物各自的思想、性格特征，对人物进行肖像、行动和语言等方面的描写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04920" y="1371600"/>
            <a:ext cx="84582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福楼拜是主人，性格热情豪放，重点写他的动作；屠格涅夫博学多识，主要写他的语言；都德生性健谈，因此描写时是肖像、语言并重；左拉沉默寡言，重在描写他的肖像和动作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精  于  观  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肖像描写同中有异，各具特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福楼拜：仿佛在他那古高卢斗士式的大胡须下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都德：乌木色的浓密卷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卷曲的胡须连成一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左拉：前额上竖立着很短的头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满浓密胡子的嘴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修得很短的胡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用 词 准 确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两块石头撞击在一起，发出火花—迸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勾画”与“轮廓”搭配得当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只用几句话”与“勾画”前后一致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-304920" y="-22860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0" y="836640"/>
            <a:ext cx="8763120" cy="4161960"/>
          </a:xfrm>
          <a:prstGeom prst="rect">
            <a:avLst/>
          </a:prstGeom>
          <a:solidFill>
            <a:srgbClr val="cc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莫泊桑的人物描写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精于观察：抓住特征，有别他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长于描绘：用词准确，个性鲜明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描写中插入议论的作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助于揭示人物性格特征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加深读者认识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助于表明作者感情倾向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深化文章主题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80880" y="260280"/>
            <a:ext cx="8382240" cy="271476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情  景  想  象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刚才在对这几位作家介绍时，我们已经知道福楼拜比莫泊桑大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9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岁，而且莫泊桑在创造上受福楼拜的影响很大，因此可以说，莫泊桑是福楼拜的学生。我先做一个假设，假设这四位大作家正在谈论着莫泊桑的写作技巧方面的问题，这时门铃响了，都德说：“中国有句古话‘说曹操，曹操就到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!’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你们看，准保是莫泊桑来了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!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门开了，果真是莫泊桑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52280"/>
            <a:ext cx="1371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想一想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6477120" y="3048120"/>
            <a:ext cx="2133000" cy="2589840"/>
            <a:chOff x="6477120" y="3048120"/>
            <a:chExt cx="2133000" cy="2589840"/>
          </a:xfrm>
        </p:grpSpPr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6714360" y="3159000"/>
              <a:ext cx="1730520" cy="247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6477120" y="3048120"/>
              <a:ext cx="2133000" cy="25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3733920" y="1676520"/>
            <a:ext cx="2209320" cy="3200040"/>
            <a:chOff x="3733920" y="1676520"/>
            <a:chExt cx="2209320" cy="3200040"/>
          </a:xfrm>
        </p:grpSpPr>
        <p:pic>
          <p:nvPicPr>
            <p:cNvPr id="50" name="" descr=""/>
            <p:cNvPicPr/>
            <p:nvPr/>
          </p:nvPicPr>
          <p:blipFill>
            <a:blip r:embed="rId3"/>
            <a:stretch/>
          </p:blipFill>
          <p:spPr>
            <a:xfrm>
              <a:off x="3856680" y="1676520"/>
              <a:ext cx="1989360" cy="32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733920" y="1676520"/>
              <a:ext cx="2209320" cy="31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762120" y="457200"/>
            <a:ext cx="2132640" cy="2514240"/>
            <a:chOff x="762120" y="457200"/>
            <a:chExt cx="2132640" cy="2514240"/>
          </a:xfrm>
        </p:grpSpPr>
        <p:pic>
          <p:nvPicPr>
            <p:cNvPr id="53" name="" descr=""/>
            <p:cNvPicPr/>
            <p:nvPr/>
          </p:nvPicPr>
          <p:blipFill>
            <a:blip r:embed="rId4"/>
            <a:stretch/>
          </p:blipFill>
          <p:spPr>
            <a:xfrm>
              <a:off x="878760" y="457200"/>
              <a:ext cx="2016000" cy="25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62120" y="561960"/>
              <a:ext cx="2111400" cy="24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6629400" y="304920"/>
            <a:ext cx="1828440" cy="2666520"/>
            <a:chOff x="6629400" y="304920"/>
            <a:chExt cx="1828440" cy="2666520"/>
          </a:xfrm>
        </p:grpSpPr>
        <p:pic>
          <p:nvPicPr>
            <p:cNvPr id="56" name="" descr=""/>
            <p:cNvPicPr/>
            <p:nvPr/>
          </p:nvPicPr>
          <p:blipFill>
            <a:blip r:embed="rId5"/>
            <a:stretch/>
          </p:blipFill>
          <p:spPr>
            <a:xfrm>
              <a:off x="6730920" y="398880"/>
              <a:ext cx="1726920" cy="257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6629400" y="304920"/>
              <a:ext cx="1828440" cy="266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990720" y="579132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隶书"/>
              </a:rPr>
              <a:t>你知道他们的确切身份和主要作品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882720" y="3124080"/>
            <a:ext cx="20127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0" y="-171360"/>
            <a:ext cx="9372600" cy="70293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85800" y="228600"/>
            <a:ext cx="7772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0"/>
            <a:ext cx="8686800" cy="3302280"/>
          </a:xfrm>
          <a:prstGeom prst="rect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福楼拜打开门，一看是莫泊桑，他一下子抱住了莫泊桑，“啊，莫泊桑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!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真没想到是你呀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!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然后，拉着莫泊桑向里屋跑去，边跑边叫着：“大家快看呀，我们的莫泊桑来了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!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刚刚爬完六层楼还在气喘吁吁的莫泊桑还没等站稳，就被福楼拜拉着做了一次小跑练习。莫泊桑面对着热情的福楼拜，十分高兴，像个小弟弟似的跟在福楼拜的身后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屠格涅夫仰坐在一个沙发上，用一种轻柔的声调慢慢地讲着：“莫泊桑，好久不见了，你还记得以前我们在你家谈论文学史方面的事吗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最近又有什么新作品了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可不可以让我们一饱眼福呀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?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莫泊桑有点不好意思了，“这些日子我确实很忙，我今天来正是想让大家对我新写的这部小说提意见，还希望您对我多加指导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!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屠格涅夫喜爱地看着莫泊桑笑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685960" y="2095560"/>
            <a:ext cx="3772080" cy="26668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33520" y="533520"/>
            <a:ext cx="7924680" cy="327276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莫泊桑拥抱着福楼拜，不住地叫着“老师”。都德回过头来对大家说：“想不到福楼拜竟有这么优秀的弟子，你看他浓眉大眼，气质非凡，像不像当年的我呀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!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大家都哈哈大笑起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左拉歪坐在沙发上，压着一条腿，用手抓着自己的脚腕。莫泊桑走到他的跟前：“最近过得好吗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?”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好，谢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!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说完左拉又恢复了刚才的动作，观察着每一个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041560" y="3373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143000" y="1752480"/>
            <a:ext cx="6705720" cy="189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福楼拜家的星期天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split dir="out" orient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657600" y="152280"/>
            <a:ext cx="1447920" cy="520560"/>
          </a:xfrm>
          <a:prstGeom prst="rect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福楼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76520" y="92880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蓝色的大眼睛”“古高卢斗士式的大胡须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4382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有“他的嗓音特别洪亮，仿佛在他那古高卢士式的大胡须下面，吹响着一把军号”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;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他可以用一句很明了很深刻的话结束一场辩论；一次思想的飞跃纵观几个世纪，并从中找出两个类同的事实或两段类似的格言，再加以比较。于是，就像两块同样的石块碰到一起一样，一束启蒙的火花从他的话语里迸发出来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9080" y="9144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肖像描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15640" y="1752480"/>
            <a:ext cx="130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语言描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24480" y="16002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博学善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-380880" y="1371600"/>
            <a:ext cx="9067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门铃一响……他总是亲自去开门。”“渐渐地，人越来越多……这时只见福楼拜作着大方的动作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就像他要飞起来似的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从这个人面前一步跨到那个人面前，带动得他内裙鼓起来，像一条渔船上的风帆。“门铃一响……他总是亲自去开门。”“渐渐地，人越来越多……这时只见福楼拜作着大方的动作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就像他要飞起来似的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从这个人面前一步跨到那个人面前，带动得他内裙鼓起来，像一条渔船上的风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30120" y="2286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动作描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-228600" y="457200"/>
            <a:ext cx="89917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最后，他的朋友们一个个地陆续走了。他分别送到前厅，最后再单独和每个人讲一小会儿，紧紧握握对方的手，再热情地大笑着用手拍打几下对方的肩头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福楼拜朋友这么多，可他是“分别送”、“单独和每个人讲”、“紧紧握握对方的手”、“再热情地大笑着用手拍打几下对方的肩头”……这些短语说明什么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828800" y="5029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热情好客、开朗豪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0" y="38088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“</a:t>
            </a: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第一个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来到的往往是伊万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·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屠格涅夫。”可见屠格涅夫与福楼拜的关系怎么样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236232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那么他们深厚友谊的基础是什么呢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?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哪些语句可以体现出这一点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90720" y="419112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一系列的相同点，是他们深厚友谊的基础，这样写“一箭双雕”，同时表现了两个人的性格特征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04920" y="162576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“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用一种轻轻的并有点犹豫的声调慢慢地讲着；但是不管什么事情一经他的嘴讲出，就那带上非凡的魅力和极大的趣味……谈话很少涉及日常琐事，总是围绕着文学史方面的事件。屠格涅夫也常常还来一些外文书籍，并非常流利地翻译一些歌德和普希金的诗句。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75360" y="1969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肖像描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743200" y="1969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白皙的脸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51680" y="882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语言描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99040" y="56833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动作描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439520" y="5683320"/>
            <a:ext cx="174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仰坐在一个沙发上”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276800" y="838080"/>
            <a:ext cx="353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博学多识  老年持重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9144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按照客人到来的先后顺序，依次来的是都德和左拉。找出对这两位作家进行肖像、语言、行动描写的地方，在书上画出来，并用短语概括一下二人的思想特征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12680" y="407664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通过这些描写你们看这是两位具有什么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想性格特征的大作家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0" y="0"/>
            <a:ext cx="8839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都德活泼开朗，而且很幽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左拉不太爱说话，沉默寡言，但是坚毅聪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在对左拉的肖像描写中有这样一句话：“他的头……虽然不漂亮，但表现出他的聪慧和坚强性格。” 我们平时随便看一个人，是不能通过他的头看出他是聪慧还是愚蠢、坚强还是软弱，这都不是一眼就能直接看出来的，因此作者的这种肖像描写已不是纯粹的客观描写，而是用议论来发表自己的主观感受了，并把自己对左拉的敬佩之情融入其中。纯客观的自然描写就只能是“肥胖的脸，近视眼”，而在描写中插入议论抒情，能把人物的性格特点表现得更加鲜明，给读者留下深刻的印象。这一点对我们同学作文也很有启发。另外，为什么我们在读完课文之后就能说出四位作家不同的性格特征呢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68360" y="404640"/>
            <a:ext cx="8381880" cy="35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本课重点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1</a:t>
            </a:r>
            <a:r>
              <a:rPr b="1" lang="zh-CN" sz="5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、了解应抓住人物思想性格特征进行描写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2</a:t>
            </a:r>
            <a:r>
              <a:rPr b="1" lang="zh-CN" sz="5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、了解在叙述、描写中插入抒情、议论的写法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762120" y="3808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因为作者莫泊桑抓住了四位作家的不同特点，从肖像、语言、行动等方面进行了描写，把人物形象刻画得栩栩如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1981080"/>
            <a:ext cx="8763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福楼拜是主人，性格热情豪放，重点写他的动作；屠格涅夫博学多识，主要写他的语言；都德生性健谈，因此描写时是肖像、语言并重；左拉沉默寡言，重在描写他的肖像和动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4495680"/>
            <a:ext cx="577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990720" y="152280"/>
            <a:ext cx="259056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华文行楷"/>
              </a:rPr>
              <a:t>练一练</a:t>
            </a:r>
            <a:endParaRPr b="1" lang="en-US" sz="2400" spc="1" strike="noStrike">
              <a:ln w="0">
                <a:noFill/>
              </a:ln>
              <a:solidFill>
                <a:srgbClr val="ff330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1447920"/>
            <a:ext cx="44960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请大家用在描写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中插入</a:t>
            </a:r>
            <a:r>
              <a:rPr b="1" lang="zh-CN" sz="4800" spc="-1" strike="noStrike">
                <a:solidFill>
                  <a:srgbClr val="993300"/>
                </a:solidFill>
                <a:latin typeface="Times New Roman"/>
                <a:ea typeface="华文新魏"/>
              </a:rPr>
              <a:t>议论、抒情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的写法对</a:t>
            </a:r>
            <a:r>
              <a:rPr b="1" i="1" lang="zh-CN" sz="4800" spc="-1" strike="noStrike" u="sng">
                <a:solidFill>
                  <a:srgbClr val="0000ff"/>
                </a:solidFill>
                <a:uFillTx/>
                <a:latin typeface="Times New Roman"/>
                <a:ea typeface="华文新魏"/>
              </a:rPr>
              <a:t>莫泊桑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作</a:t>
            </a:r>
            <a:r>
              <a:rPr b="1" lang="zh-CN" sz="4800" spc="-1" strike="noStrike">
                <a:solidFill>
                  <a:srgbClr val="993300"/>
                </a:solidFill>
                <a:latin typeface="Times New Roman"/>
                <a:ea typeface="华文新魏"/>
              </a:rPr>
              <a:t>肖像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描写（可适当展开想象）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648320" y="609480"/>
            <a:ext cx="4189680" cy="5637960"/>
            <a:chOff x="4648320" y="609480"/>
            <a:chExt cx="4189680" cy="5637960"/>
          </a:xfrm>
        </p:grpSpPr>
        <p:pic>
          <p:nvPicPr>
            <p:cNvPr id="164" name="" descr=""/>
            <p:cNvPicPr/>
            <p:nvPr/>
          </p:nvPicPr>
          <p:blipFill>
            <a:blip r:embed="rId2"/>
            <a:stretch/>
          </p:blipFill>
          <p:spPr>
            <a:xfrm>
              <a:off x="5114520" y="851400"/>
              <a:ext cx="3399120" cy="539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4648320" y="609480"/>
              <a:ext cx="4189680" cy="558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  <p:sndAc>
      <p:stSnd>
        <p:snd r:embed="rId3" name="dandrum5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533520" y="99072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   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莫泊桑一副严肃而又慈祥的面容，一对浓黑的眉毛微锁着，像是在思索着什么问题，又像是对现实充满了不满，一对大而有神的眼睛发出尖锐的目光，厚厚的嘴唇上两撇浓浓的八字胡微微向上翘着，他的脸总是沉着，看起来严肃认真而又和蔼可亲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" name="tune1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85800" y="2286000"/>
            <a:ext cx="769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 Narrow"/>
              </a:rPr>
              <a:t>          </a:t>
            </a:r>
            <a:r>
              <a:rPr b="1" lang="zh-CN" sz="4800" spc="-1" strike="noStrike">
                <a:solidFill>
                  <a:srgbClr val="0000ff"/>
                </a:solidFill>
                <a:latin typeface="Arial Narrow"/>
              </a:rPr>
              <a:t>以教室中的某人为模特，抓住人物的</a:t>
            </a:r>
            <a:r>
              <a:rPr b="1" lang="zh-CN" sz="4800" spc="-1" strike="noStrike">
                <a:solidFill>
                  <a:srgbClr val="993300"/>
                </a:solidFill>
                <a:latin typeface="Arial Narrow"/>
              </a:rPr>
              <a:t>特征</a:t>
            </a:r>
            <a:r>
              <a:rPr b="1" lang="zh-CN" sz="4800" spc="-1" strike="noStrike">
                <a:solidFill>
                  <a:srgbClr val="0000ff"/>
                </a:solidFill>
                <a:latin typeface="Arial Narrow"/>
              </a:rPr>
              <a:t>，加入自己的</a:t>
            </a:r>
            <a:r>
              <a:rPr b="1" lang="zh-CN" sz="4800" spc="-1" strike="noStrike">
                <a:solidFill>
                  <a:srgbClr val="993300"/>
                </a:solidFill>
                <a:latin typeface="Arial Narrow"/>
              </a:rPr>
              <a:t>主观感受</a:t>
            </a:r>
            <a:r>
              <a:rPr b="1" lang="zh-CN" sz="4800" spc="-1" strike="noStrike">
                <a:solidFill>
                  <a:srgbClr val="0000ff"/>
                </a:solidFill>
                <a:latin typeface="Arial Narrow"/>
              </a:rPr>
              <a:t>写一个人物描写的片段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838080" y="609480"/>
            <a:ext cx="21337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写一写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p:transition>
    <p:cover dir="r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066680" y="838080"/>
            <a:ext cx="6172200" cy="17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 u="sng">
                <a:solidFill>
                  <a:srgbClr val="000000"/>
                </a:solidFill>
                <a:uFillTx/>
                <a:latin typeface="Times New Roman"/>
                <a:ea typeface="华文行楷"/>
              </a:rPr>
              <a:t>注意：</a:t>
            </a:r>
            <a:r>
              <a:rPr b="1" i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华文行楷"/>
              </a:rPr>
              <a:t>刻画人物性格特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26920" y="1484280"/>
            <a:ext cx="777744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肖像描写（外貌描写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语言描写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动作描写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3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4920" y="430200"/>
            <a:ext cx="4724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作者莫泊桑（</a:t>
            </a:r>
            <a:r>
              <a:rPr b="1" lang="zh-CN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1850—1893</a:t>
            </a:r>
            <a:r>
              <a:rPr b="1" lang="zh-CN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），十九世纪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法国</a:t>
            </a:r>
            <a:r>
              <a:rPr b="1" lang="zh-CN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著名现实主义作家。受教于福楼拜，</a:t>
            </a:r>
            <a:r>
              <a:rPr b="1" lang="zh-CN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1880</a:t>
            </a:r>
            <a:r>
              <a:rPr b="1" lang="zh-CN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年发表短篇小说《羊脂球》，一跃登上法国文坛，从此专门从事创作。被誉为“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短篇小说巨匠</a:t>
            </a:r>
            <a:r>
              <a:rPr b="1" lang="zh-CN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”，对世界文学影响很大；主要作品有短篇小说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《羊脂球》、《项链》、《我的叔叔于勒》</a:t>
            </a:r>
            <a:r>
              <a:rPr b="1" lang="zh-CN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等，长篇小说《俊友》、《一生》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562720" y="5334120"/>
            <a:ext cx="3124080" cy="1099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莫泊桑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257800" y="762120"/>
            <a:ext cx="3745080" cy="419076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762120" y="2209680"/>
            <a:ext cx="7619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 Narrow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Arial Narrow"/>
              </a:rPr>
              <a:t>浏览课文，找出故事发生的</a:t>
            </a:r>
            <a:r>
              <a:rPr b="1" lang="zh-CN" sz="4400" spc="-1" strike="noStrike">
                <a:solidFill>
                  <a:srgbClr val="0000ff"/>
                </a:solidFill>
                <a:latin typeface="Arial Narrow"/>
              </a:rPr>
              <a:t>时间</a:t>
            </a:r>
            <a:r>
              <a:rPr b="1" lang="zh-CN" sz="4400" spc="-1" strike="noStrike">
                <a:solidFill>
                  <a:srgbClr val="000000"/>
                </a:solidFill>
                <a:latin typeface="Arial Narrow"/>
              </a:rPr>
              <a:t>、</a:t>
            </a:r>
            <a:r>
              <a:rPr b="1" lang="zh-CN" sz="4400" spc="-1" strike="noStrike">
                <a:solidFill>
                  <a:srgbClr val="3333cc"/>
                </a:solidFill>
                <a:latin typeface="Arial Narrow"/>
              </a:rPr>
              <a:t>地点</a:t>
            </a:r>
            <a:r>
              <a:rPr b="1" lang="zh-CN" sz="4400" spc="-1" strike="noStrike">
                <a:solidFill>
                  <a:srgbClr val="000000"/>
                </a:solidFill>
                <a:latin typeface="Arial Narrow"/>
              </a:rPr>
              <a:t>、</a:t>
            </a:r>
            <a:r>
              <a:rPr b="1" lang="zh-CN" sz="4400" spc="-1" strike="noStrike">
                <a:solidFill>
                  <a:srgbClr val="3333cc"/>
                </a:solidFill>
                <a:latin typeface="Arial Narrow"/>
              </a:rPr>
              <a:t>核心人物</a:t>
            </a:r>
            <a:r>
              <a:rPr b="1" lang="zh-CN" sz="4400" spc="-1" strike="noStrike">
                <a:solidFill>
                  <a:srgbClr val="000000"/>
                </a:solidFill>
                <a:latin typeface="Arial Narrow"/>
              </a:rPr>
              <a:t>、</a:t>
            </a:r>
            <a:r>
              <a:rPr b="1" lang="zh-CN" sz="4400" spc="-1" strike="noStrike">
                <a:solidFill>
                  <a:srgbClr val="3333cc"/>
                </a:solidFill>
                <a:latin typeface="Arial Narrow"/>
              </a:rPr>
              <a:t>依次出场的人物</a:t>
            </a:r>
            <a:r>
              <a:rPr b="1" lang="zh-CN" sz="4400" spc="-1" strike="noStrike">
                <a:solidFill>
                  <a:srgbClr val="000000"/>
                </a:solidFill>
                <a:latin typeface="Arial Narrow"/>
              </a:rPr>
              <a:t>以及出场的</a:t>
            </a:r>
            <a:r>
              <a:rPr b="1" lang="zh-CN" sz="4400" spc="-1" strike="noStrike">
                <a:solidFill>
                  <a:srgbClr val="3333cc"/>
                </a:solidFill>
                <a:latin typeface="Arial Narrow"/>
              </a:rPr>
              <a:t>标志性词语</a:t>
            </a:r>
            <a:r>
              <a:rPr b="1" lang="zh-CN" sz="4400" spc="-1" strike="noStrike">
                <a:solidFill>
                  <a:srgbClr val="000000"/>
                </a:solidFill>
                <a:latin typeface="Arial Narrow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762120" y="304920"/>
            <a:ext cx="1981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隶书"/>
              </a:rPr>
              <a:t>读一读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80880" y="304920"/>
            <a:ext cx="33530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仿宋_GB2312"/>
              </a:rPr>
              <a:t>时        间──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仿宋_GB2312"/>
              </a:rPr>
              <a:t>地        点──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仿宋_GB2312"/>
              </a:rPr>
              <a:t>核心人物──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仿宋_GB2312"/>
              </a:rPr>
              <a:t>依次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仿宋_GB2312"/>
              </a:rPr>
              <a:t>场的人物──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仿宋_GB2312"/>
              </a:rPr>
              <a:t>标 志 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仿宋_GB2312"/>
              </a:rPr>
              <a:t>词        语──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57600" y="15228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Arial Narrow"/>
                <a:ea typeface="隶书"/>
              </a:rPr>
              <a:t>星期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29000" y="914400"/>
            <a:ext cx="541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隶书"/>
                <a:ea typeface="隶书"/>
              </a:rPr>
              <a:t> </a:t>
            </a:r>
            <a:r>
              <a:rPr b="1" lang="zh-CN" sz="3600" spc="-1" strike="noStrike">
                <a:solidFill>
                  <a:srgbClr val="3333cc"/>
                </a:solidFill>
                <a:latin typeface="隶书"/>
                <a:ea typeface="隶书"/>
              </a:rPr>
              <a:t>福楼拜家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隶书"/>
                <a:ea typeface="隶书"/>
              </a:rPr>
              <a:t> </a:t>
            </a:r>
            <a:r>
              <a:rPr b="1" lang="zh-CN" sz="3600" spc="-1" strike="noStrike">
                <a:solidFill>
                  <a:srgbClr val="3333cc"/>
                </a:solidFill>
                <a:latin typeface="隶书"/>
                <a:ea typeface="隶书"/>
              </a:rPr>
              <a:t>六层楼的一个单身宿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657600" y="213372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Arial Narrow"/>
                <a:ea typeface="隶书"/>
              </a:rPr>
              <a:t>福楼拜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81280" y="3565440"/>
            <a:ext cx="556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Arial Narrow"/>
                <a:ea typeface="隶书"/>
              </a:rPr>
              <a:t>屠格涅夫、都德、左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191120"/>
            <a:ext cx="7543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    </a:t>
            </a:r>
            <a:r>
              <a:rPr b="1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第一个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    </a:t>
            </a:r>
            <a:r>
              <a:rPr b="1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过了一会儿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    </a:t>
            </a:r>
            <a:r>
              <a:rPr b="1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接着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    </a:t>
            </a:r>
            <a:r>
              <a:rPr b="1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渐渐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57400" y="762120"/>
            <a:ext cx="1600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4495680"/>
            <a:ext cx="152280" cy="2057400"/>
          </a:xfrm>
          <a:custGeom>
            <a:avLst/>
            <a:gdLst>
              <a:gd name="textAreaLeft" fmla="*/ 97200 w 152280"/>
              <a:gd name="textAreaRight" fmla="*/ 152640 w 15228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995640" y="260280"/>
            <a:ext cx="4713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  </a:t>
            </a:r>
            <a:r>
              <a:rPr b="1" lang="zh-CN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（</a:t>
            </a:r>
            <a:r>
              <a:rPr b="1" lang="zh-CN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1821—1880</a:t>
            </a:r>
            <a:r>
              <a:rPr b="1" lang="zh-CN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）十九世纪</a:t>
            </a:r>
            <a:r>
              <a:rPr b="1" lang="zh-CN" sz="3200" spc="-1" strike="noStrike">
                <a:solidFill>
                  <a:srgbClr val="993300"/>
                </a:solidFill>
                <a:latin typeface="仿宋_GB2312"/>
                <a:ea typeface="仿宋_GB2312"/>
              </a:rPr>
              <a:t>法国</a:t>
            </a:r>
            <a:r>
              <a:rPr b="1" lang="zh-CN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著名</a:t>
            </a:r>
            <a:r>
              <a:rPr b="1" lang="zh-CN" sz="3200" spc="-1" strike="noStrike">
                <a:solidFill>
                  <a:srgbClr val="993300"/>
                </a:solidFill>
                <a:latin typeface="仿宋_GB2312"/>
                <a:ea typeface="仿宋_GB2312"/>
              </a:rPr>
              <a:t>批判现实主义作家</a:t>
            </a:r>
            <a:r>
              <a:rPr b="1" lang="zh-CN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。青年时代遵父命到巴黎学习法律，但他毫无兴趣，结识了雨果，决定从事文学创作。三十六岁时第一部长篇小说</a:t>
            </a:r>
            <a:r>
              <a:rPr b="1" lang="zh-CN" sz="3200" spc="-1" strike="noStrike">
                <a:solidFill>
                  <a:srgbClr val="993300"/>
                </a:solidFill>
                <a:latin typeface="仿宋_GB2312"/>
                <a:ea typeface="仿宋_GB2312"/>
              </a:rPr>
              <a:t>《包法利夫人》</a:t>
            </a:r>
            <a:r>
              <a:rPr b="1" lang="zh-CN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出版，这使他名声大振。他的作品大多暴露巴黎上层社会的虚伪和堕落，主要作品有《包法利夫人》、</a:t>
            </a:r>
            <a:r>
              <a:rPr b="1" lang="zh-CN" sz="3200" spc="-1" strike="noStrike">
                <a:solidFill>
                  <a:srgbClr val="993300"/>
                </a:solidFill>
                <a:latin typeface="仿宋_GB2312"/>
                <a:ea typeface="仿宋_GB2312"/>
              </a:rPr>
              <a:t>《情感教育》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38080" y="5181480"/>
            <a:ext cx="2743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福楼拜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304920" y="990720"/>
            <a:ext cx="3670200" cy="36828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64000" y="457200"/>
            <a:ext cx="53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（</a:t>
            </a:r>
            <a:r>
              <a:rPr b="1" lang="zh-CN" sz="36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1818—1883</a:t>
            </a:r>
            <a:r>
              <a:rPr b="1" lang="zh-CN" sz="36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）十九世纪</a:t>
            </a:r>
            <a:r>
              <a:rPr b="1" lang="zh-CN" sz="36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俄国</a:t>
            </a:r>
            <a:r>
              <a:rPr b="1" lang="zh-CN" sz="36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著名现实主义作家。</a:t>
            </a:r>
            <a:r>
              <a:rPr b="1" lang="zh-CN" sz="36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1838</a:t>
            </a:r>
            <a:r>
              <a:rPr b="1" lang="zh-CN" sz="36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年留学德国，研究历史、语文、哲学和古典文学，游历大部分欧洲。他的主要作品有长篇小说</a:t>
            </a:r>
            <a:r>
              <a:rPr b="1" lang="zh-CN" sz="3600" spc="-1" strike="noStrike">
                <a:solidFill>
                  <a:srgbClr val="993300"/>
                </a:solidFill>
                <a:latin typeface="仿宋_GB2312"/>
                <a:ea typeface="仿宋_GB2312"/>
              </a:rPr>
              <a:t>《父与子》、《前夜》</a:t>
            </a:r>
            <a:r>
              <a:rPr b="1" lang="zh-CN" sz="36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等，中篇小说《木木》，短篇小说集《猎人笔记》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4800600"/>
            <a:ext cx="3505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屠格涅夫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80880" y="838080"/>
            <a:ext cx="3108600" cy="36576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09480" y="5335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仿宋_GB2312"/>
                <a:ea typeface="仿宋_GB2312"/>
              </a:rPr>
              <a:t>（</a:t>
            </a:r>
            <a:r>
              <a:rPr b="1" lang="zh-CN" sz="3600" spc="-1" strike="noStrike">
                <a:solidFill>
                  <a:srgbClr val="6600cc"/>
                </a:solidFill>
                <a:latin typeface="仿宋_GB2312"/>
                <a:ea typeface="仿宋_GB2312"/>
              </a:rPr>
              <a:t>1840—1897</a:t>
            </a:r>
            <a:r>
              <a:rPr b="1" lang="zh-CN" sz="3600" spc="-1" strike="noStrike">
                <a:solidFill>
                  <a:srgbClr val="6600cc"/>
                </a:solidFill>
                <a:latin typeface="仿宋_GB2312"/>
                <a:ea typeface="仿宋_GB2312"/>
              </a:rPr>
              <a:t>）十九世纪法国著名现实主义作家。他的短篇小说《最后一课》、《柏林之围》都是表现爱国主义思想的世界名篇。主要作品有长篇小说《小东西》、《富豪》等；短篇小说有《磨坊文札》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324480" y="525780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都德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257800" y="457200"/>
            <a:ext cx="3517920" cy="43909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9T13:41:59Z</dcterms:created>
  <dc:creator/>
  <dc:description>绗竴璇句欢缃�</dc:description>
  <dc:language>en-US</dc:language>
  <cp:lastModifiedBy>深度优化纯净版</cp:lastModifiedBy>
  <dcterms:modified xsi:type="dcterms:W3CDTF">2009-11-21T02:01:51Z</dcterms:modified>
  <cp:revision>65</cp:revision>
  <dc:subject>www.1kejian.com</dc:subject>
  <dc:title/>
</cp:coreProperties>
</file>