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projctor.wav" ContentType="audio/x-wav"/>
  <Override PartName="/ppt/media/image26.png" ContentType="image/png"/>
  <Override PartName="/ppt/media/image17.jpeg" ContentType="image/jpeg"/>
  <Override PartName="/ppt/media/image23.gif" ContentType="image/gif"/>
  <Override PartName="/ppt/media/image3.jpeg" ContentType="image/jpeg"/>
  <Override PartName="/ppt/media/image1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19.jpeg" ContentType="image/jpeg"/>
  <Override PartName="/ppt/media/image20.jpeg" ContentType="image/jpeg"/>
  <Override PartName="/ppt/media/cashreg.wav" ContentType="audio/x-wav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FD2-A9ED-4C80-BC11-AD0423E6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7D5-5605-4319-A8AE-89AD83A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D34-CC24-4660-8F0F-8FF3A199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8AB-0FA5-4E4E-A085-2B97B510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79E-84ED-4E8E-A571-B71DDD37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D0E-DB89-41E6-876A-7C6ADF0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5591-31EF-43C7-9C1B-164DEFD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A81-0168-44A7-8255-37EF297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AEB5-759E-4523-8DFE-E6582660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9C5-1748-49C5-BDB1-E383A39F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8E32-4719-4FF9-B0BC-E6559898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B8A-F82D-45F3-9A19-CF9871D5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3E4-ECC7-4277-8A3D-015AF6D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AE6-D1DD-49B0-862C-FD8BBC3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2AF5-DAC9-4E9D-914D-99CF5808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C75B-E4AB-4B15-A0D0-C765EE6E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408-3971-4B6D-B1B2-77FB19CF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0FE-8D3E-459B-B050-92A8A49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BD7-D5D2-4D00-9A26-0DEB2F9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8EE-A93A-406A-A6AA-611483D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666-95A5-4C79-9DD9-2A0C6642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C1C-FC74-4C35-B40A-460030F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213-EB6D-43DF-B0A4-09CB040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05B-64B2-4B4C-9E04-CC3AE8C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6BA4-2AC9-4EAF-AE71-EB6C46CA6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224-A625-4C48-9379-AD003F3D9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gi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8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jpeg"/><Relationship Id="rId3" Type="http://schemas.openxmlformats.org/officeDocument/2006/relationships/image" Target="../media/image24.gif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image" Target="../media/image24.gif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gif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audio" Target="../media/projctor.wav"/><Relationship Id="rId6" Type="http://schemas.openxmlformats.org/officeDocument/2006/relationships/audio" Target="../media/cashreg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范进封面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04920"/>
            <a:ext cx="8153640" cy="5957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1640" y="774720"/>
            <a:ext cx="4362480" cy="825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与练习 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9480" y="2590920"/>
            <a:ext cx="458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后继续阅读课文，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范进中举前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社会地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经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状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显著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fillforward1" descr=""/>
          <p:cNvPicPr/>
          <p:nvPr/>
        </p:nvPicPr>
        <p:blipFill>
          <a:blip r:embed="rId1"/>
          <a:stretch/>
        </p:blipFill>
        <p:spPr>
          <a:xfrm flipH="1"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1" name="6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6800" y="533520"/>
            <a:ext cx="1826640" cy="9169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91560" y="1676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学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9000" y="2362320"/>
            <a:ext cx="3117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具体分析比较范进中举前后的经济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社会地位（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中举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中举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104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与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257800"/>
            <a:ext cx="32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归纳作品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4800" y="5867280"/>
            <a:ext cx="146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布置作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0000" y="3886200"/>
            <a:ext cx="324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为什么中了举人反而疯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4495680"/>
            <a:ext cx="408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分析人物性格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7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990720" y="304920"/>
          <a:ext cx="7924680" cy="6248160"/>
        </p:xfrm>
        <a:graphic>
          <a:graphicData uri="http://schemas.openxmlformats.org/drawingml/2006/table">
            <a:tbl>
              <a:tblPr/>
              <a:tblGrid>
                <a:gridCol w="685800"/>
                <a:gridCol w="812880"/>
                <a:gridCol w="2235240"/>
                <a:gridCol w="1968480"/>
                <a:gridCol w="1185840"/>
                <a:gridCol w="10364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经  济  状  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社 会 地 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性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形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3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590920" y="14479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143000"/>
            <a:ext cx="22860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住：茅草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穿：破烂衣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吃：小菜饭；不知猪油味；像是饿了两三天，饿得两眼看不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3352680"/>
            <a:ext cx="21337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邻居：有拿鸡蛋送白酒的；有背斗米提两只鸡的；有搬桌 拿凳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胡屠户：送肉送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张乡绅：送银赠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2193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胡屠户骂他：“现世宝”“癞蛤蟆”“尖嘴猴腮”②邻居：家里饿了两三天，邻人无人理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352680"/>
            <a:ext cx="19051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邻居：口口声声称“范老爷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胡屠户：称“文曲星”“贤婿老爷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报录人：献计治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张乡绅：拜会称兄联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1219320"/>
            <a:ext cx="9907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唯唯连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甘受屈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醉心功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51720" y="3497400"/>
            <a:ext cx="104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352680"/>
            <a:ext cx="83808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对“胡”虚伪势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对“张”奉 迎自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13560" y="1844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范进是本文着力刻画的中心人物，是一个热衷功名利禄的下层知识分子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914400" y="304920"/>
          <a:ext cx="7924680" cy="6227640"/>
        </p:xfrm>
        <a:graphic>
          <a:graphicData uri="http://schemas.openxmlformats.org/drawingml/2006/table">
            <a:tbl>
              <a:tblPr/>
              <a:tblGrid>
                <a:gridCol w="1090440"/>
                <a:gridCol w="698760"/>
                <a:gridCol w="1009440"/>
                <a:gridCol w="935280"/>
                <a:gridCol w="2404800"/>
                <a:gridCol w="17859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称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对范进外貌的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贺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性格及形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3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080" y="1447920"/>
            <a:ext cx="733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523880"/>
            <a:ext cx="733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5920" y="1600200"/>
            <a:ext cx="7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前                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523880"/>
            <a:ext cx="733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4038480"/>
            <a:ext cx="733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962520"/>
            <a:ext cx="733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523880"/>
            <a:ext cx="761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尖嘴猴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962520"/>
            <a:ext cx="9907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才学又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品貌又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447920"/>
            <a:ext cx="762120" cy="23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3962520"/>
            <a:ext cx="76176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七八斤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五千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600200"/>
            <a:ext cx="2133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横披了衣服，腆着肚子去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被胡屠户一口啐在脸上，骂了个狗血喷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886200"/>
            <a:ext cx="213372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斟两碗酒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嘴巴打过去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路低头替他扯了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千恩万谢，低着头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228600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截然不同的两副嘴脸，充分表现出胡屠户欺贫爱富、趋炎附势的市侩性格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29000" y="380880"/>
            <a:ext cx="51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进一生热衷科举追求功名利禄，为什么他得知真的中举后却又发疯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209680"/>
            <a:ext cx="7696080" cy="3933360"/>
          </a:xfrm>
          <a:prstGeom prst="rect">
            <a:avLst/>
          </a:prstGeom>
          <a:solidFill>
            <a:srgbClr val="e8e9c7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进中了举，情形就完全不同了。几十年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贫困、屈辱一旦过去，梦寐以求的功名富贵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旦出现，政治、经济、社会地位一旦改变就使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惊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得发了疯。那可憎可笑的疯癫形象被描绘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淋漓尽致。范进的喜疯病被胡屠户一骂一打治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，他回忆疯癫中的情景，别的都“昏昏沉沉”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得，唯独“记得是中的第七名”。课文刻画范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为功名利禄而神魂颠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典型形象，尖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抨击了封建科举制度对知识分子的毒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fillforward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99" name="5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1828800" cy="10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76520" y="2209680"/>
            <a:ext cx="7172280" cy="10080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胡屠户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截然不同的两副嘴脸，充分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出他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欺贫爱富、趋炎附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市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4572000"/>
            <a:ext cx="7086600" cy="18612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张静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作者刻画的次要人物。作者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体描写了“张老爷拜会新贵范老爷”的场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结交新贵，为的是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攀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进宗师周学道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汤知县，来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巩固和扩大自己的权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3808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从胡屠户、乡邻、张 乡绅对范进态度的变化这个角度分析他们的性格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2860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429000"/>
            <a:ext cx="7178760" cy="5814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乡     邻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趋炎附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谴责了封建社会的丑恶的道德风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fillforward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206" name="5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1828800" cy="10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43200" y="762120"/>
            <a:ext cx="3581280" cy="76428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品主题归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057400"/>
            <a:ext cx="7391520" cy="39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品以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范进中举前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中心展开故事情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各种人物搬到生活的舞台上，调动讽刺艺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各种手段，让一幕幕精彩场面展现在观众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前，尤其是通过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范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胡屠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典型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塑造，无情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抨击了封建科举制度对知识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子的精神摧残和对人们思想的腐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活现出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些人物的卑污灵魂，谴责了追求功名富贵的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脏思想和封建社会的丑恶的道德风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0311" descr=""/>
          <p:cNvPicPr/>
          <p:nvPr/>
        </p:nvPicPr>
        <p:blipFill>
          <a:blip r:embed="rId2"/>
          <a:stretch/>
        </p:blipFill>
        <p:spPr>
          <a:xfrm>
            <a:off x="1519200" y="533520"/>
            <a:ext cx="100800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fillforward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projctor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838080"/>
            <a:ext cx="3489120" cy="76428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布置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3372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 范进中举了，家庭经济和社会地位都发生了显著变化，为什么说在他身上还体现了封建科举的罪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讨论：当代应试教育的种种现象与封建科举制度是不是一回事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eike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14" name="fillforward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9120" y="0"/>
            <a:ext cx="85838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商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星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住一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狗血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头（        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（    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（    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轩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8840" y="6858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1880" y="6094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4360" y="60948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63040" y="12952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i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63600" y="1676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ē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7520" y="1828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60280" y="22860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4680" y="22860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9240" y="2819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6960" y="281952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1280" y="342900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8880" y="342900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xuān   ch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27480" y="4267080"/>
            <a:ext cx="262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现世宝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带挈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唯唯连声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浑家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长亲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相公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拙病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兀自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桑梓（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相与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105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5560" y="762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99000" y="194472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①运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圈点勾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法自学课文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感情地朗读课文重点段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5229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理解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对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讽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写法与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3520" y="4245120"/>
            <a:ext cx="65451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2000" y="3879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通过范进及周围人的状态变化，认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封建科举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毒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83000" y="533520"/>
            <a:ext cx="866520" cy="9169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第一课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67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学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209680"/>
            <a:ext cx="2438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743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根据插图，复述课文故事梗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1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课文结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20040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插图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657600"/>
            <a:ext cx="26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插图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11480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插图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510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457200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插图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4840" y="579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与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38120" y="2251080"/>
            <a:ext cx="127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重点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7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7393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4952880" cy="243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7400" y="304920"/>
            <a:ext cx="1642680" cy="26668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0018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3048120"/>
            <a:ext cx="7162560" cy="125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吴敬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0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5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字敏轩，晚年又号文林山人，安微全椒人，出身于没落的官僚地主家庭。青年时生活豪纵，后家业衰落，移居江宁。安微巡抚欲荐他应博学鸿词试，以病不赴。晚年益贫困，卒于扬州。善诗赋，尤以小说著称。所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儒林外史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根据切身体验，从多方面描绘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士大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精神面貌，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科举制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封建礼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深刻的批判，成为我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古典讽刺小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杰出作品。又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文木山房集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fillforward1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0800" y="2797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019920"/>
            <a:ext cx="1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892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llforward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9436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119" name="2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809880" cy="3090960"/>
          </a:xfrm>
          <a:prstGeom prst="rect">
            <a:avLst/>
          </a:prstGeom>
          <a:ln w="0">
            <a:noFill/>
          </a:ln>
        </p:spPr>
      </p:pic>
      <p:pic>
        <p:nvPicPr>
          <p:cNvPr id="120" name="3" descr=""/>
          <p:cNvPicPr/>
          <p:nvPr/>
        </p:nvPicPr>
        <p:blipFill>
          <a:blip r:embed="rId5"/>
          <a:stretch/>
        </p:blipFill>
        <p:spPr>
          <a:xfrm>
            <a:off x="1066680" y="3276720"/>
            <a:ext cx="3886200" cy="3319200"/>
          </a:xfrm>
          <a:prstGeom prst="rect">
            <a:avLst/>
          </a:prstGeom>
          <a:ln w="0">
            <a:noFill/>
          </a:ln>
        </p:spPr>
      </p:pic>
      <p:pic>
        <p:nvPicPr>
          <p:cNvPr id="121" name="4" descr=""/>
          <p:cNvPicPr/>
          <p:nvPr/>
        </p:nvPicPr>
        <p:blipFill>
          <a:blip r:embed="rId6"/>
          <a:stretch/>
        </p:blipFill>
        <p:spPr>
          <a:xfrm>
            <a:off x="4876920" y="3352680"/>
            <a:ext cx="3733560" cy="3189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5780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080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3028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6095880"/>
            <a:ext cx="152640" cy="30492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304920"/>
              <a:gd name="textAreaBottom" fmla="*/ 295200 h 304920"/>
            </a:gdLst>
            <a:ahLst/>
            <a:rect l="textAreaLeft" t="textAreaTop" r="textAreaRight" b="textAreaBottom"/>
            <a:pathLst>
              <a:path w="21600" h="43098">
                <a:moveTo>
                  <a:pt x="0" y="0"/>
                </a:moveTo>
                <a:lnTo>
                  <a:pt x="21600" y="0"/>
                </a:lnTo>
                <a:lnTo>
                  <a:pt x="21600" y="43098"/>
                </a:lnTo>
                <a:lnTo>
                  <a:pt x="0" y="43098"/>
                </a:lnTo>
                <a:close/>
              </a:path>
              <a:path fill="lightenLess" w="21600" h="43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098">
                <a:moveTo>
                  <a:pt x="21600" y="0"/>
                </a:moveTo>
                <a:lnTo>
                  <a:pt x="21600" y="43098"/>
                </a:lnTo>
                <a:lnTo>
                  <a:pt x="20200" y="41698"/>
                </a:lnTo>
                <a:lnTo>
                  <a:pt x="20200" y="1400"/>
                </a:lnTo>
                <a:close/>
              </a:path>
              <a:path fill="darkenLess" w="21600" h="43098">
                <a:moveTo>
                  <a:pt x="21600" y="43098"/>
                </a:moveTo>
                <a:lnTo>
                  <a:pt x="0" y="43098"/>
                </a:lnTo>
                <a:lnTo>
                  <a:pt x="1400" y="41698"/>
                </a:lnTo>
                <a:lnTo>
                  <a:pt x="20200" y="41698"/>
                </a:lnTo>
                <a:close/>
              </a:path>
              <a:path fill="lighten" w="21600" h="43098">
                <a:moveTo>
                  <a:pt x="0" y="43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698"/>
                </a:lnTo>
                <a:close/>
              </a:path>
              <a:path fill="darken" w="21600" h="43098">
                <a:moveTo>
                  <a:pt x="10800" y="14586"/>
                </a:moveTo>
                <a:lnTo>
                  <a:pt x="13376" y="17197"/>
                </a:lnTo>
                <a:lnTo>
                  <a:pt x="13376" y="15457"/>
                </a:lnTo>
                <a:lnTo>
                  <a:pt x="15152" y="15457"/>
                </a:lnTo>
                <a:lnTo>
                  <a:pt x="15152" y="18973"/>
                </a:lnTo>
                <a:lnTo>
                  <a:pt x="17763" y="21549"/>
                </a:lnTo>
                <a:lnTo>
                  <a:pt x="16109" y="21549"/>
                </a:lnTo>
                <a:lnTo>
                  <a:pt x="16109" y="28738"/>
                </a:lnTo>
                <a:lnTo>
                  <a:pt x="5491" y="28738"/>
                </a:lnTo>
                <a:lnTo>
                  <a:pt x="5491" y="21549"/>
                </a:lnTo>
                <a:lnTo>
                  <a:pt x="3837" y="21549"/>
                </a:lnTo>
                <a:close/>
              </a:path>
              <a:path fill="darkenLess" w="21600" h="43098">
                <a:moveTo>
                  <a:pt x="13376" y="17197"/>
                </a:moveTo>
                <a:lnTo>
                  <a:pt x="13376" y="15457"/>
                </a:lnTo>
                <a:lnTo>
                  <a:pt x="15152" y="15457"/>
                </a:lnTo>
                <a:lnTo>
                  <a:pt x="15152" y="18973"/>
                </a:lnTo>
                <a:close/>
              </a:path>
              <a:path fill="darkenLess" w="21600" h="43098">
                <a:moveTo>
                  <a:pt x="9877" y="25048"/>
                </a:moveTo>
                <a:lnTo>
                  <a:pt x="11723" y="25048"/>
                </a:lnTo>
                <a:lnTo>
                  <a:pt x="11723" y="28738"/>
                </a:lnTo>
                <a:lnTo>
                  <a:pt x="16109" y="28738"/>
                </a:lnTo>
                <a:lnTo>
                  <a:pt x="16109" y="21549"/>
                </a:lnTo>
                <a:lnTo>
                  <a:pt x="5491" y="21549"/>
                </a:lnTo>
                <a:lnTo>
                  <a:pt x="5491" y="28738"/>
                </a:lnTo>
                <a:lnTo>
                  <a:pt x="9877" y="2873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7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5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373392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7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5812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8" descr=""/>
          <p:cNvPicPr/>
          <p:nvPr/>
        </p:nvPicPr>
        <p:blipFill>
          <a:blip r:embed="rId3"/>
          <a:stretch/>
        </p:blipFill>
        <p:spPr>
          <a:xfrm>
            <a:off x="1143000" y="358128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9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57800" y="299412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0800" y="601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604188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8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fillforward1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0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65760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11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12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13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81024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8520" y="2768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3960" y="27687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6019920"/>
            <a:ext cx="5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3960" y="5969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fillforward1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1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3809880" cy="3124080"/>
          </a:xfrm>
          <a:prstGeom prst="rect">
            <a:avLst/>
          </a:prstGeom>
          <a:ln w="0">
            <a:noFill/>
          </a:ln>
        </p:spPr>
      </p:pic>
      <p:pic>
        <p:nvPicPr>
          <p:cNvPr id="145" name="16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809880" cy="3108240"/>
          </a:xfrm>
          <a:prstGeom prst="rect">
            <a:avLst/>
          </a:prstGeom>
          <a:ln w="0">
            <a:noFill/>
          </a:ln>
        </p:spPr>
      </p:pic>
      <p:pic>
        <p:nvPicPr>
          <p:cNvPr id="146" name="17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73680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45" descr=""/>
          <p:cNvPicPr/>
          <p:nvPr/>
        </p:nvPicPr>
        <p:blipFill>
          <a:blip r:embed="rId4"/>
          <a:stretch/>
        </p:blipFill>
        <p:spPr>
          <a:xfrm>
            <a:off x="5029200" y="30492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26888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064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88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06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fillforward1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llforward1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17524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进中举》按故事情节的发展，可分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大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0960" y="2995560"/>
            <a:ext cx="326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范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之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7760" y="429084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范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喜极发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以后社会地位显著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609480"/>
            <a:ext cx="3983040" cy="825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结构 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3:07:31Z</dcterms:created>
  <dc:creator>鲍其伟</dc:creator>
  <dc:description/>
  <cp:keywords>范进中举</cp:keywords>
  <dc:language>en-US</dc:language>
  <cp:lastModifiedBy>user</cp:lastModifiedBy>
  <cp:lastPrinted>1900-01-04T05:08:28Z</cp:lastPrinted>
  <dcterms:modified xsi:type="dcterms:W3CDTF">2005-11-16T19:37:15Z</dcterms:modified>
  <cp:revision>88</cp:revision>
  <dc:subject/>
  <dc:title>范进中举</dc:title>
</cp:coreProperties>
</file>