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gif" ContentType="image/gif"/>
  <Override PartName="/ppt/media/image7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20.gif" ContentType="image/gif"/>
  <Override PartName="/ppt/media/image18.gif" ContentType="image/gif"/>
  <Override PartName="/ppt/media/image15.png" ContentType="image/png"/>
  <Override PartName="/ppt/media/image14.jpeg" ContentType="image/jpeg"/>
  <Override PartName="/ppt/media/image25.png" ContentType="image/png"/>
  <Override PartName="/ppt/media/image2.png" ContentType="image/png"/>
  <Override PartName="/ppt/media/image22.gif" ContentType="image/gif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  <p:custShowLst>
    <p:custShow name="自定义放映1" id="0">
      <p:sldLst>
        <p:sld r:id="rId5"/>
        <p:sld r:id="rId6"/>
        <p:sld r:id="rId7"/>
        <p:sld r:id="rId4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990-0251-4B10-A7C2-FEEAC3E6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E9E-F7C4-4352-9638-5CE1E8E4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7A7-E2A0-4EF7-BF8F-16D9CF98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908-DC3B-4343-9B07-DE1ACB80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951F-E907-410F-A643-C576F434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36AB-300B-42DD-977D-060ADEB3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0366-EDD5-424D-83AB-85C833BB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3035-5203-4B65-9761-24E905AF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4463-3ECC-4B8A-9E75-036073CE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1A84-1871-44A5-9682-FD70718B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A365-2850-4145-9727-6EE142F8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DB3-90D7-4386-AF34-97AB070B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CA5D-6E6B-44E5-9DEF-A3D72953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55CB-B645-414D-BAC8-4EF5547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2FAD-9FF9-438A-A925-A7382DD0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A42E-D93F-4BF3-A92F-EA57E9B0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FFB9-A1A2-4835-A408-E15CB73F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C2F-9BCF-4D3F-9FBA-4C6F2E14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687-FB46-4DF7-A4CE-A60804CF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D6B-6E75-422E-AB32-1CFE0FC4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574-C26E-437F-8398-840BFD78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82A-13DB-41EF-B769-61F8F3B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390-9547-4426-811D-713C5B1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B42-901E-444A-B792-A9A13B17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86C6-0BDC-46B7-B622-3AD61DED3EDA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1B03-5BB7-43FC-AE35-202DFAFE3878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van01" descr=""/>
          <p:cNvPicPr/>
          <p:nvPr/>
        </p:nvPicPr>
        <p:blipFill>
          <a:blip r:embed="rId2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23520" y="1600200"/>
            <a:ext cx="20091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梵高传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van11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602040" y="1295280"/>
            <a:ext cx="1246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545472"/>
                </a:solidFill>
                <a:latin typeface="Times New Roman"/>
              </a:rPr>
              <a:t>老农</a:t>
            </a:r>
            <a:endParaRPr b="0" lang="en-US" sz="7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9144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学习重点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828800"/>
            <a:ext cx="76964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545472"/>
                </a:solidFill>
                <a:latin typeface="Times New Roman"/>
                <a:ea typeface="华文中宋"/>
              </a:rPr>
              <a:t>领会传记是遵循“既表达了历史的真相，又注意到表达的艺术水平”这一基本原则进</a:t>
            </a:r>
            <a:br>
              <a:rPr sz="3400"/>
            </a:br>
            <a:r>
              <a:rPr b="1" lang="zh-CN" sz="3400" spc="-1" strike="noStrike">
                <a:solidFill>
                  <a:srgbClr val="545472"/>
                </a:solidFill>
                <a:latin typeface="Times New Roman"/>
                <a:ea typeface="华文中宋"/>
              </a:rPr>
              <a:t>行人物形象塑造的。同时学习梵高克服重重困难，投身艺术的忘我境界与执著精神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shu7" descr=""/>
          <p:cNvPicPr/>
          <p:nvPr/>
        </p:nvPicPr>
        <p:blipFill>
          <a:blip r:embed="rId2"/>
          <a:stretch/>
        </p:blipFill>
        <p:spPr>
          <a:xfrm>
            <a:off x="5348160" y="4648320"/>
            <a:ext cx="2195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66680" y="1295280"/>
            <a:ext cx="74678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素描：单纯用线条描写，不加彩色的画。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全神贯注：全部精神高度集中。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挥洒自如：比喻写文章、画画运笔不拘束。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翌日：次日。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逆来顺受：对恶劣的环境或无理的待遇采取忍受的态度。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摹拟：同“模拟”，模仿的意思。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臆想：主观的想象。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6" name="shu6" descr=""/>
          <p:cNvPicPr/>
          <p:nvPr/>
        </p:nvPicPr>
        <p:blipFill>
          <a:blip r:embed="rId2"/>
          <a:stretch/>
        </p:blipFill>
        <p:spPr>
          <a:xfrm>
            <a:off x="6248520" y="4917960"/>
            <a:ext cx="1885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52560" y="1073160"/>
            <a:ext cx="723888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545472"/>
                </a:solidFill>
                <a:latin typeface="Times New Roman"/>
              </a:rPr>
              <a:t>根据“自读提示”初读课文，思考以下问题</a:t>
            </a:r>
            <a:br>
              <a:rPr sz="3400"/>
            </a:br>
            <a:r>
              <a:rPr b="1" lang="zh-CN" sz="34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3400" spc="-1" strike="noStrike">
                <a:solidFill>
                  <a:srgbClr val="545472"/>
                </a:solidFill>
                <a:latin typeface="Times New Roman"/>
              </a:rPr>
              <a:t>．本文说了一件什么事？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zh-CN" sz="34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3400" spc="-1" strike="noStrike">
                <a:solidFill>
                  <a:srgbClr val="545472"/>
                </a:solidFill>
                <a:latin typeface="Times New Roman"/>
              </a:rPr>
              <a:t>本文是按什么顺序来叙述的？主要用了什么表达方式？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6240" y="2819520"/>
            <a:ext cx="7391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（梵高创作《吃土豆的人》的过程。）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5334120"/>
            <a:ext cx="7162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（时间顺序；大量的心理描写。）</a:t>
            </a:r>
            <a:br>
              <a:rPr sz="3400"/>
            </a:b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219320"/>
            <a:ext cx="761976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阅读（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1-6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）段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．为什么梵高认为再在纽思南呆下去已经没有意义了？他当时的处境如何？</a:t>
            </a:r>
            <a:br>
              <a:rPr sz="3000"/>
            </a:b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．他立即离开了吗？为什么？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在课文中画出有关梵高心理活动的句子，并思考：梵高对自己的创作满意</a:t>
            </a:r>
            <a:br>
              <a:rPr sz="3000"/>
            </a:b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吗？为什么？）</a:t>
            </a:r>
            <a:br>
              <a:rPr sz="3000"/>
            </a:b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114300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默读课文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－－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21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自然段。体会梵高在艺术创作过程中内心世界的情感冲突</a:t>
            </a:r>
            <a:br>
              <a:rPr sz="3000"/>
            </a:b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．请用一句话概括《吃土豆的人》的创作过程。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429000"/>
            <a:ext cx="800100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梵高在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</a:rPr>
              <a:t>天里日夜作画，几易其稿，终于在最后一晚凭着记忆完成了经典名作《吃土豆的人人》</a:t>
            </a:r>
            <a:br>
              <a:rPr sz="3400"/>
            </a:b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van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71800" y="630864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吃土豆的一家人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23960" y="12952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快速地浏览课文，并勾画出有关梵高创作过程中的心理描写的语句，体会梵高是怎样的人；思考：这些情景是不是作者的亲眼所见？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92572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作者在合理的想象下向读者描摹了梵高创作的心路历程。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11480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这样写是否会影响传记的真实性原则？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8" name="jiantao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19600" y="5105520"/>
            <a:ext cx="15048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838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545472"/>
                </a:solidFill>
                <a:latin typeface="Times New Roman"/>
              </a:rPr>
              <a:t>人物传记是记载人物生平事迹的纪实文章。主要叙述传主某一时代、某一历史阶段 的典型事例或一生的经历。以写作主体为划分标准，可分为自传与他传。</a:t>
            </a:r>
            <a:br>
              <a:rPr sz="2800"/>
            </a:br>
            <a:r>
              <a:rPr b="1" lang="zh-CN" sz="2800" spc="-1" strike="noStrike">
                <a:solidFill>
                  <a:srgbClr val="545472"/>
                </a:solidFill>
                <a:latin typeface="Times New Roman"/>
              </a:rPr>
              <a:t>        人物传记的写作，允许而且应该在真实的基础上，对传主作生动形象的描绘，多角度、多侧面展示传主的精神风貌和成功业绩，借以丰富传主的形象，增强亲近感和可读性。对于梵高的生活，作者虽然是不曾亲眼所见，但在忠实于历史真实的基础上，作者为了突出人物形象，可以对人物进行艺术的加工。本文大量的心理描写将梵高在创作《吃土豆的人》过程中的情感冲突、矛盾痛苦、精神追求都作了最生动、形象而又准确的描写，再现了艺术大师追求艺术完美和创新的执著形象。增强了文章的可读性。 </a:t>
            </a:r>
            <a:br>
              <a:rPr sz="2800"/>
            </a:b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11430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梵高是一位善于暴露自我情感，最能叙述自我的人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梵高这位易激动、急躁的荷兰人，有无穷的忍耐力，超越时空的思维和激情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梵高寻求的是一种真情的自我表现方式和艺术的奇异性，同时显示了色彩的繁锐和情感的深度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1" name="BD06784_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25099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11430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219320"/>
            <a:ext cx="807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梵高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26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岁开始学画。在这之前他是一个被社会、被家庭鄙视的失败者，致力于学画后，靠弟弟维持生活。其艰难困苦非常人所能想象。他寻求的是一种真情的自我表现方式和艺术的奇异性。同时显示了色彩的繁锐和情感的浓度。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37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岁时他穷困潦倒、饮弹自尽。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1990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年，纽约克里斯蒂拍卖行爆出新闻，温森特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梵高的一幅名为《加歇医生》的油画，以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8250</a:t>
            </a:r>
            <a:r>
              <a:rPr b="1" lang="zh-CN" sz="3000" spc="-1" strike="noStrike">
                <a:solidFill>
                  <a:srgbClr val="545472"/>
                </a:solidFill>
                <a:latin typeface="Times New Roman"/>
              </a:rPr>
              <a:t>万美元的价格，创下有史以来绘画拍卖的最高记录。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9" name="78" descr=""/>
          <p:cNvPicPr/>
          <p:nvPr/>
        </p:nvPicPr>
        <p:blipFill>
          <a:blip r:embed="rId2"/>
          <a:stretch/>
        </p:blipFill>
        <p:spPr>
          <a:xfrm>
            <a:off x="7162920" y="53341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12952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读课文最后两个自然段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思考：为什么说“在他的笔下，布拉邦特的农民从此获得了不朽的命？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04840" y="3048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画中的人物将会随着艺术大师的不朽的生命而永远在世界各地流传，永放光芒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4" name="PE03166_" descr=""/>
          <p:cNvPicPr/>
          <p:nvPr/>
        </p:nvPicPr>
        <p:blipFill>
          <a:blip r:embed="rId2"/>
          <a:stretch/>
        </p:blipFill>
        <p:spPr>
          <a:xfrm>
            <a:off x="3543480" y="4267080"/>
            <a:ext cx="2057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617840" y="281160"/>
            <a:ext cx="5908320" cy="6296760"/>
            <a:chOff x="1617840" y="281160"/>
            <a:chExt cx="5908320" cy="6296760"/>
          </a:xfrm>
        </p:grpSpPr>
        <p:grpSp>
          <p:nvGrpSpPr>
            <p:cNvPr id="186" name=""/>
            <p:cNvGrpSpPr/>
            <p:nvPr/>
          </p:nvGrpSpPr>
          <p:grpSpPr>
            <a:xfrm>
              <a:off x="1629000" y="316800"/>
              <a:ext cx="5885640" cy="6225120"/>
              <a:chOff x="1629000" y="316800"/>
              <a:chExt cx="5885640" cy="6225120"/>
            </a:xfrm>
          </p:grpSpPr>
          <p:sp>
            <p:nvSpPr>
              <p:cNvPr id="187" name=""/>
              <p:cNvSpPr/>
              <p:nvPr/>
            </p:nvSpPr>
            <p:spPr>
              <a:xfrm>
                <a:off x="1629000" y="316800"/>
                <a:ext cx="5885640" cy="62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  </a:t>
                </a:r>
                <a:r>
                  <a:rPr b="0" lang="zh-CN" sz="17100" spc="-1" strike="noStrike">
                    <a:solidFill>
                      <a:srgbClr val="545472"/>
                    </a:solidFill>
                    <a:latin typeface="Times New Roman"/>
                  </a:rPr>
                  <a:t> </a:t>
                </a: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                             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29000" y="316800"/>
                <a:ext cx="5885640" cy="6225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617840" y="281160"/>
              <a:ext cx="5908320" cy="62967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90" name="03taohua" descr=""/>
          <p:cNvPicPr/>
          <p:nvPr/>
        </p:nvPicPr>
        <p:blipFill>
          <a:blip r:embed="rId2"/>
          <a:stretch/>
        </p:blipFill>
        <p:spPr>
          <a:xfrm>
            <a:off x="1623960" y="361800"/>
            <a:ext cx="5919840" cy="6115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034840" y="1523880"/>
            <a:ext cx="667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《盛开的桃花》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617840" y="0"/>
            <a:ext cx="5908320" cy="6296760"/>
            <a:chOff x="1617840" y="0"/>
            <a:chExt cx="5908320" cy="6296760"/>
          </a:xfrm>
        </p:grpSpPr>
        <p:grpSp>
          <p:nvGrpSpPr>
            <p:cNvPr id="193" name=""/>
            <p:cNvGrpSpPr/>
            <p:nvPr/>
          </p:nvGrpSpPr>
          <p:grpSpPr>
            <a:xfrm>
              <a:off x="1629000" y="45720"/>
              <a:ext cx="5885640" cy="6204960"/>
              <a:chOff x="1629000" y="45720"/>
              <a:chExt cx="5885640" cy="6204960"/>
            </a:xfrm>
          </p:grpSpPr>
          <p:sp>
            <p:nvSpPr>
              <p:cNvPr id="194" name=""/>
              <p:cNvSpPr/>
              <p:nvPr/>
            </p:nvSpPr>
            <p:spPr>
              <a:xfrm>
                <a:off x="1629000" y="45720"/>
                <a:ext cx="5885640" cy="62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  </a:t>
                </a:r>
                <a:r>
                  <a:rPr b="0" lang="zh-CN" sz="12600" spc="-1" strike="noStrike">
                    <a:solidFill>
                      <a:srgbClr val="545472"/>
                    </a:solidFill>
                    <a:latin typeface="Times New Roman"/>
                  </a:rPr>
                  <a:t> </a:t>
                </a: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629000" y="45720"/>
                <a:ext cx="5885640" cy="620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617840" y="0"/>
              <a:ext cx="5908320" cy="62967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97" name="06siduo" descr=""/>
          <p:cNvPicPr/>
          <p:nvPr/>
        </p:nvPicPr>
        <p:blipFill>
          <a:blip r:embed="rId2"/>
          <a:stretch/>
        </p:blipFill>
        <p:spPr>
          <a:xfrm>
            <a:off x="1676520" y="380880"/>
            <a:ext cx="58197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1617840" y="0"/>
            <a:ext cx="5908320" cy="6018840"/>
            <a:chOff x="1617840" y="0"/>
            <a:chExt cx="5908320" cy="6018840"/>
          </a:xfrm>
        </p:grpSpPr>
        <p:grpSp>
          <p:nvGrpSpPr>
            <p:cNvPr id="199" name=""/>
            <p:cNvGrpSpPr/>
            <p:nvPr/>
          </p:nvGrpSpPr>
          <p:grpSpPr>
            <a:xfrm>
              <a:off x="1629000" y="66600"/>
              <a:ext cx="5885640" cy="5885280"/>
              <a:chOff x="1629000" y="66600"/>
              <a:chExt cx="5885640" cy="5885280"/>
            </a:xfrm>
          </p:grpSpPr>
          <p:sp>
            <p:nvSpPr>
              <p:cNvPr id="200" name=""/>
              <p:cNvSpPr/>
              <p:nvPr/>
            </p:nvSpPr>
            <p:spPr>
              <a:xfrm>
                <a:off x="1629000" y="66600"/>
                <a:ext cx="5885640" cy="588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29000" y="66600"/>
                <a:ext cx="5885640" cy="588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617840" y="0"/>
              <a:ext cx="5908320" cy="601884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676520" y="50292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《四朵剪枝的向日葵》  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画中展现的强烈生命力正是梵高的写照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617840" y="281160"/>
            <a:ext cx="5908320" cy="6297120"/>
            <a:chOff x="1617840" y="281160"/>
            <a:chExt cx="5908320" cy="6297120"/>
          </a:xfrm>
        </p:grpSpPr>
        <p:grpSp>
          <p:nvGrpSpPr>
            <p:cNvPr id="205" name=""/>
            <p:cNvGrpSpPr/>
            <p:nvPr/>
          </p:nvGrpSpPr>
          <p:grpSpPr>
            <a:xfrm>
              <a:off x="1629000" y="314640"/>
              <a:ext cx="5885640" cy="6230160"/>
              <a:chOff x="1629000" y="314640"/>
              <a:chExt cx="5885640" cy="6230160"/>
            </a:xfrm>
          </p:grpSpPr>
          <p:sp>
            <p:nvSpPr>
              <p:cNvPr id="206" name=""/>
              <p:cNvSpPr/>
              <p:nvPr/>
            </p:nvSpPr>
            <p:spPr>
              <a:xfrm>
                <a:off x="1629000" y="314640"/>
                <a:ext cx="5885640" cy="623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  </a:t>
                </a:r>
                <a:r>
                  <a:rPr b="0" lang="zh-CN" sz="18500" spc="-1" strike="noStrike">
                    <a:solidFill>
                      <a:srgbClr val="545472"/>
                    </a:solidFill>
                    <a:latin typeface="Times New Roman"/>
                  </a:rPr>
                  <a:t> </a:t>
                </a: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                             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29000" y="314640"/>
                <a:ext cx="5885640" cy="6230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617840" y="281160"/>
              <a:ext cx="5908320" cy="629712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209" name="22xiangri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6548400" cy="6324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33120" y="685800"/>
            <a:ext cx="1682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</a:rPr>
              <a:t>《向日葵》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</a:rPr>
              <a:t>东京安田水灾东乡青儿美术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10tianyua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00200" y="5867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《收割中的田园风景》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8woshi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68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981080" y="5715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《梵高的卧室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4000" cy="6602400"/>
            <a:chOff x="0" y="0"/>
            <a:chExt cx="9144000" cy="6602400"/>
          </a:xfrm>
        </p:grpSpPr>
        <p:grpSp>
          <p:nvGrpSpPr>
            <p:cNvPr id="141" name=""/>
            <p:cNvGrpSpPr/>
            <p:nvPr/>
          </p:nvGrpSpPr>
          <p:grpSpPr>
            <a:xfrm>
              <a:off x="17280" y="6840"/>
              <a:ext cx="9108720" cy="6588360"/>
              <a:chOff x="17280" y="6840"/>
              <a:chExt cx="9108720" cy="6588360"/>
            </a:xfrm>
          </p:grpSpPr>
          <p:sp>
            <p:nvSpPr>
              <p:cNvPr id="142" name=""/>
              <p:cNvSpPr/>
              <p:nvPr/>
            </p:nvSpPr>
            <p:spPr>
              <a:xfrm>
                <a:off x="17280" y="6840"/>
                <a:ext cx="9108720" cy="65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Times New Roman"/>
                  </a:rPr>
                  <a:t>１８５３年，梵高生于荷兰的一个新教徒之家。少年时，他在伦敦、巴黎和海牙为画商工作，后来还在比利时的矿工中当过传教士。　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Times New Roman"/>
                  </a:rPr>
                  <a:t>１８８１年左右，他开始绘画。１８８６年去巴黎投奔其弟。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Times New Roman"/>
                  </a:rPr>
                  <a:t>１８８８年，梵高开始以色彩为基础表达强烈的感情。后来神经失常，被送进精神病院。在经历多次感情上的崩溃之后，梵高于１８９０年在奥维尔自杀。他对野兽派及德国的表现主义有巨大影响。 　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Times New Roman"/>
                  </a:rPr>
                  <a:t>梵高一生为人敏感而易怒，聪敏过人，在生前他在许多事情上很少取得成功。其个人生活不幸而且艰辛，在比利时作传教士期间，他目睹穷人的艰难生活，决定以最大的热情帮助那些煤矿工人，他义务收容那些受重伤而垂死的矿工，希望以抚慰之词和自我牺牲精神帮助弱者博斗，不过，他只干了６个月就被解雇，原因是他对工作过分热情。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Times New Roman"/>
                  </a:rPr>
                  <a:t>在短短的３７年人生中，梵高把生命的最重要时期贡献给了艺术。他早期画作爱用荷兰传画的褐色调，但他天性中火一般的热情使他迅速远离印象派，他不是以线条而是以环境来抓住对象；他重新改变现实，以达到实实在在的真实，促成了表现主义的诞生。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545472"/>
                    </a:solidFill>
                    <a:latin typeface="Times New Roman"/>
                  </a:rPr>
                  <a:t> 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280" y="6840"/>
                <a:ext cx="9108720" cy="658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0" y="0"/>
              <a:ext cx="9144000" cy="66024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936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    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据美国《纽约时报》艺评周刊报道，世界油画大师梵高、雷诺阿、毕加索三人的代表性力作，从８０年代开始在艺术品拍卖中屡创天价，达到令人咋舌的地步。美国著名艺评人索罗斯分析，争购世界名画至少有两个原因，一是名画具有不断升值的潜力，第二个因素则更为重要，就是一旦购入名画，会引发世界各地新闻传媒的广泛报道，从而大大提高企业买主的知名度，无形中给企业作了不花钱的广告。现按世界十大名画最新拍卖价排名如下：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一、《加歇医生的肖像》　梵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高　８４５０万美元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二、《红磨坊街的舞会》　雷诺阿　７９６０万美元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三、《鸢尾花》　梵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高　５３３０万美元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四、《毕加索自画像》　毕加索　４９８０万美元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五、《皮耶瑞得特的婚礼》　毕加索　４８４０万美元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六、《灵兔酒馆》　毕加索４０７０万美元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七、　《向日葵》　梵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高　３９８５万美元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八、《卖艺者与小丑》　毕加索　３８９６万美元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九、《母性》　毕加索　２９５６万美元</a:t>
            </a:r>
            <a:br>
              <a:rPr sz="2400"/>
            </a:b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十、《灌木林》　梵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高　２７００万美元　　　　　　　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van12" descr=""/>
          <p:cNvPicPr/>
          <p:nvPr/>
        </p:nvPicPr>
        <p:blipFill>
          <a:blip r:embed="rId2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978960" y="2802960"/>
            <a:ext cx="8506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梵高《自画像》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83808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梵高在精神接近崩溃的时候，曾经用剃须刀片割下了自己的一只耳朵。他是试图用这个举动唤醒自己，制止内心愈演愈烈的疯狂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抑或，这本身就是一个疯狂的举动？我记得他有一幅自画像，描绘着用纱布包裹住耳部伤口的自己——他的眼神中没有疼痛，只有恐惧，仿佛能倒映出那刚刚消失的风暴的影子。如果允许我给这幅画另起一个标题的话，我会把它命名为《自己的伤兵》。在自己的战场上，梵高伤害了自己，又包扎着自己。——并且还以一幅自画像留作纪念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617840" y="281160"/>
            <a:ext cx="5908320" cy="6297120"/>
            <a:chOff x="1617840" y="281160"/>
            <a:chExt cx="5908320" cy="6297120"/>
          </a:xfrm>
        </p:grpSpPr>
        <p:grpSp>
          <p:nvGrpSpPr>
            <p:cNvPr id="150" name=""/>
            <p:cNvGrpSpPr/>
            <p:nvPr/>
          </p:nvGrpSpPr>
          <p:grpSpPr>
            <a:xfrm>
              <a:off x="1629000" y="316080"/>
              <a:ext cx="5885640" cy="6226560"/>
              <a:chOff x="1629000" y="316080"/>
              <a:chExt cx="5885640" cy="62265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9000" y="316080"/>
                <a:ext cx="5885640" cy="622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  </a:t>
                </a:r>
                <a:r>
                  <a:rPr b="0" lang="zh-CN" sz="17600" spc="-1" strike="noStrike">
                    <a:solidFill>
                      <a:srgbClr val="545472"/>
                    </a:solidFill>
                    <a:latin typeface="Times New Roman"/>
                  </a:rPr>
                  <a:t> </a:t>
                </a: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                             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29000" y="316080"/>
                <a:ext cx="5885640" cy="6226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617840" y="281160"/>
              <a:ext cx="5908320" cy="629712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4" name="zihua04" descr=""/>
          <p:cNvPicPr/>
          <p:nvPr/>
        </p:nvPicPr>
        <p:blipFill>
          <a:blip r:embed="rId2"/>
          <a:stretch/>
        </p:blipFill>
        <p:spPr>
          <a:xfrm>
            <a:off x="10666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996680" y="1273680"/>
            <a:ext cx="6678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自残后的自画像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van2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09760" y="25066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梵高《自画像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zihua06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86400" y="609480"/>
            <a:ext cx="3124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45472"/>
                </a:solidFill>
                <a:latin typeface="Times New Roman"/>
              </a:rPr>
              <a:t>这副是梵高最后一幅自画像。背景使用灰蓝色的连续曲线，产生如旋涡般的效果，画中梵高身着与背景色调一致的服装，木然的神情与变动的背景形成对比。而他的眼神，就如安东尼</a:t>
            </a:r>
            <a:r>
              <a:rPr b="1" lang="zh-CN" sz="2600" spc="-1" strike="noStrike">
                <a:solidFill>
                  <a:srgbClr val="545472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545472"/>
                </a:solidFill>
                <a:latin typeface="Times New Roman"/>
              </a:rPr>
              <a:t>阿得所说的，“能把一个人穿透”一般。 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00:46:13Z</dcterms:created>
  <dc:creator>马鸿燕</dc:creator>
  <dc:description/>
  <dc:language>en-US</dc:language>
  <cp:lastModifiedBy>tr</cp:lastModifiedBy>
  <dcterms:modified xsi:type="dcterms:W3CDTF">2003-01-13T15:19:22Z</dcterms:modified>
  <cp:revision>10</cp:revision>
  <dc:subject/>
  <dc:title>PowerPoint 演示文稿</dc:title>
</cp:coreProperties>
</file>