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C9D-4492-41B4-AA72-118AA1B3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469-5551-440C-A895-B8155496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7F6-1714-4A00-9E27-C6AED222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B4F-D6C2-4910-B4D7-436EBD9F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A25F-A112-4323-A848-05269716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C2CB-74CB-4172-99EB-1EBE2325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37C7-EA51-44E3-B817-325AA7F9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8DD8-BDA9-4764-8105-417340C1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4902-B643-46AF-97EE-FAD62378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B469-1AED-4CD2-958A-58A395F2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0C33-D6DD-4B72-B8A7-E22B0DE7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CCD-516B-457B-9BD8-8836E282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4C85-E50E-469D-A614-9979B8B2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AE6C-7BF0-4F1B-8FBC-55165CF2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D7B0-61B2-442B-8C5D-211D2CC1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DEE3-0FA0-41CB-B02E-46D6DA14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B8C0-AF5B-4312-A3DF-51186AAA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CC097-43BE-4E90-8164-205A678D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F2844-EBDC-47F3-A564-7C363F4E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932C2-00C2-472C-A872-D8076B39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B8FDE-23B8-486C-BB39-EDE2D863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029AC-908F-49F9-9E21-C611FEB4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4F6-18E9-415E-920F-34987DD4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70EA3-185B-453E-9B4C-6F81DCFF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727A8-3DDD-40E3-95DF-74EF0A94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84972-DFEF-4684-9AEF-F2293BBB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7D252-54F1-4868-9715-96EDA507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A836C-C47D-4A29-A71D-2E34DD7C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4B30F-FCBC-40A2-9F05-C77B9916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3E5CF-E882-4721-9977-658CE72E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7CC-7E49-4F08-A67C-355C9367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551E-EC4F-42AF-97A3-390EE8A1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841-9DD4-47EE-99EE-2092CA48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027-C5D9-4A79-A568-D2971C3E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24E-508B-48D7-839D-64E011A2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D70A-69C0-4DE3-BF51-CE56CB6F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6FCC-1F32-40CC-8CE4-288CBF1D07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371600"/>
            <a:ext cx="8229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46F7-7F16-4289-AECF-79E3A722F023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371600"/>
            <a:ext cx="8229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040" y="4636800"/>
            <a:ext cx="6978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4D37-E766-41F1-8BEF-CF7CF28DDBDA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371600"/>
            <a:ext cx="8229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pidata.dk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EpiData.lnk" TargetMode="External"/><Relationship Id="rId2" Type="http://schemas.openxmlformats.org/officeDocument/2006/relationships/hyperlink" Target="file:///../../EpiData.lnk" TargetMode="Externa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 Black"/>
              </a:rPr>
              <a:t>EpiData</a:t>
            </a:r>
            <a:r>
              <a:rPr b="0" lang="zh-CN" sz="40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660066"/>
                </a:solidFill>
                <a:latin typeface="宋体"/>
                <a:ea typeface="华文新魏"/>
              </a:rPr>
              <a:t>软件使用简介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辽宁省健康教育所</a:t>
            </a:r>
            <a:br>
              <a:rPr sz="2800"/>
            </a:br>
            <a:fld id="{3215A9EB-1E0A-401C-A836-542E1B748E25}" type="datetime2"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026年7月31日 星期五</a:t>
            </a:fld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设置相关文件默认打开程序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162920" cy="5162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2762280" cy="237168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1600200" y="2666880"/>
            <a:ext cx="4486320" cy="3705480"/>
            <a:chOff x="1600200" y="2666880"/>
            <a:chExt cx="4486320" cy="370548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1600200" y="2666880"/>
              <a:ext cx="4486320" cy="370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"/>
            <p:cNvGrpSpPr/>
            <p:nvPr/>
          </p:nvGrpSpPr>
          <p:grpSpPr>
            <a:xfrm>
              <a:off x="4572000" y="2819520"/>
              <a:ext cx="1295280" cy="1154160"/>
              <a:chOff x="4572000" y="2819520"/>
              <a:chExt cx="1295280" cy="1154160"/>
            </a:xfrm>
          </p:grpSpPr>
          <p:sp>
            <p:nvSpPr>
              <p:cNvPr id="183" name=""/>
              <p:cNvSpPr/>
              <p:nvPr/>
            </p:nvSpPr>
            <p:spPr>
              <a:xfrm>
                <a:off x="4572000" y="3581280"/>
                <a:ext cx="1295280" cy="3924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153040" y="2819520"/>
                <a:ext cx="609480" cy="39204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352680" y="5105520"/>
            <a:ext cx="46389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建立调查表文件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新建调查表文件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保存调查表文件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调查表文件中的结构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定义变量名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变量类型－变量编码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调查表文件中的结构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467840" cy="5376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505320" y="52578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变量标签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{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变量名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}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变量编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定义变量名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变量名第一个字符一定为字母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A-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之后可含字母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A-Z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和数字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0-9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变量名最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个字符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变量名不能是中文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2743200"/>
            <a:ext cx="5410080" cy="403848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utomatic field name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将大括号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{ }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间的内容作为变量名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种方式更容易控制变量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变量类型－变量编码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5073480"/>
        </p:xfrm>
        <a:graphic>
          <a:graphicData uri="http://schemas.openxmlformats.org/drawingml/2006/table">
            <a:tbl>
              <a:tblPr/>
              <a:tblGrid>
                <a:gridCol w="1774800"/>
                <a:gridCol w="6454800"/>
              </a:tblGrid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变量类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变量编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ID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号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&lt;IDNUM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数值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一个或多个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#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号，可以包含小数点。例如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###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或者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###.##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字符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一个或多个下划线，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个中文＝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个字符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例如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布尔逻辑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&lt;Y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日期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&lt;yyyy/mm/yy&gt;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或者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&lt;mm/dd/yyyy&gt;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或者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&lt;dd/mm/yyyy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其它类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其它不常用的变量类型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变量类型－变量编码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962520" cy="3181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733920" y="2362320"/>
            <a:ext cx="3276360" cy="2631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562720" y="3568680"/>
            <a:ext cx="34290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生成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REC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文件预览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62120" y="1219320"/>
            <a:ext cx="7696080" cy="5545080"/>
            <a:chOff x="762120" y="1219320"/>
            <a:chExt cx="7696080" cy="5545080"/>
          </a:xfrm>
        </p:grpSpPr>
        <p:grpSp>
          <p:nvGrpSpPr>
            <p:cNvPr id="202" name=""/>
            <p:cNvGrpSpPr/>
            <p:nvPr/>
          </p:nvGrpSpPr>
          <p:grpSpPr>
            <a:xfrm>
              <a:off x="762120" y="1219320"/>
              <a:ext cx="7696080" cy="5545080"/>
              <a:chOff x="762120" y="1219320"/>
              <a:chExt cx="7696080" cy="554508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762120" y="1219320"/>
                <a:ext cx="7696080" cy="5545080"/>
                <a:chOff x="762120" y="1219320"/>
                <a:chExt cx="7696080" cy="5545080"/>
              </a:xfrm>
            </p:grpSpPr>
            <p:pic>
              <p:nvPicPr>
                <p:cNvPr id="20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62120" y="1219320"/>
                  <a:ext cx="7696080" cy="55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00200" y="1790640"/>
                  <a:ext cx="150480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0" y="2209680"/>
                <a:ext cx="3105000" cy="28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7" name=""/>
            <p:cNvSpPr/>
            <p:nvPr/>
          </p:nvSpPr>
          <p:spPr>
            <a:xfrm>
              <a:off x="6743880" y="2133720"/>
              <a:ext cx="304560" cy="392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生成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REC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文件预览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39240" cy="52167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066680" y="1828800"/>
            <a:ext cx="15051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生成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REC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文件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315200" cy="52718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778040" y="1981080"/>
            <a:ext cx="1504800" cy="400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2209680" y="2895480"/>
            <a:ext cx="4753080" cy="1648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172200" y="1752480"/>
            <a:ext cx="1828800" cy="914400"/>
          </a:xfrm>
          <a:prstGeom prst="wedgeRectCallout">
            <a:avLst>
              <a:gd name="adj1" fmla="val -45226"/>
              <a:gd name="adj2" fmla="val 1494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QE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RE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同名、可不同名，建议同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809880" y="3581280"/>
            <a:ext cx="2438640" cy="381240"/>
            <a:chOff x="3809880" y="3581280"/>
            <a:chExt cx="2438640" cy="381240"/>
          </a:xfrm>
        </p:grpSpPr>
        <p:sp>
          <p:nvSpPr>
            <p:cNvPr id="217" name=""/>
            <p:cNvSpPr/>
            <p:nvPr/>
          </p:nvSpPr>
          <p:spPr>
            <a:xfrm>
              <a:off x="3809880" y="3581280"/>
              <a:ext cx="2438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9880" y="3962520"/>
              <a:ext cx="2438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建立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CHK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文件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核查文件的文件名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(*.chk)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必须与数据库的文件名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(*.rec)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一致，唯一不同的就是扩展名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715000" y="3200400"/>
            <a:ext cx="1981080" cy="914400"/>
            <a:chOff x="5715000" y="3200400"/>
            <a:chExt cx="1981080" cy="914400"/>
          </a:xfrm>
        </p:grpSpPr>
        <p:sp>
          <p:nvSpPr>
            <p:cNvPr id="222" name=""/>
            <p:cNvSpPr/>
            <p:nvPr/>
          </p:nvSpPr>
          <p:spPr>
            <a:xfrm>
              <a:off x="5715000" y="3200400"/>
              <a:ext cx="1981080" cy="9144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3600" y="335304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*.RE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638680" y="1523880"/>
            <a:ext cx="1981440" cy="914400"/>
            <a:chOff x="5638680" y="1523880"/>
            <a:chExt cx="1981440" cy="914400"/>
          </a:xfrm>
        </p:grpSpPr>
        <p:sp>
          <p:nvSpPr>
            <p:cNvPr id="225" name=""/>
            <p:cNvSpPr/>
            <p:nvPr/>
          </p:nvSpPr>
          <p:spPr>
            <a:xfrm>
              <a:off x="5638680" y="1523880"/>
              <a:ext cx="1981440" cy="9144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67280" y="16765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*.Q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705720" y="2514600"/>
            <a:ext cx="0" cy="6094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715000" y="5181480"/>
            <a:ext cx="1981080" cy="914400"/>
            <a:chOff x="5715000" y="5181480"/>
            <a:chExt cx="1981080" cy="914400"/>
          </a:xfrm>
        </p:grpSpPr>
        <p:sp>
          <p:nvSpPr>
            <p:cNvPr id="229" name=""/>
            <p:cNvSpPr/>
            <p:nvPr/>
          </p:nvSpPr>
          <p:spPr>
            <a:xfrm>
              <a:off x="5715000" y="5181480"/>
              <a:ext cx="1981080" cy="9144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3600" y="53341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*.CH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705720" y="4267080"/>
            <a:ext cx="0" cy="8384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0520400">
            <a:off x="4482360" y="3276360"/>
            <a:ext cx="1066680" cy="266688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66560 h 2666880"/>
              <a:gd name="textAreaBottom" fmla="*/ 193356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EpiData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介绍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343400" y="17524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免费的数据录入和数据管理软件，可以从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pidata.dk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下载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3365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建立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CHK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文件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162920" cy="51627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181160" y="1587600"/>
            <a:ext cx="8380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66880" y="1752480"/>
            <a:ext cx="8766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514600" y="2971800"/>
            <a:ext cx="42004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建立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CHK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文件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914400" y="1447920"/>
            <a:ext cx="7010280" cy="5052960"/>
            <a:chOff x="914400" y="1447920"/>
            <a:chExt cx="7010280" cy="505296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914400" y="1447920"/>
              <a:ext cx="7010280" cy="50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5486400" y="2233800"/>
              <a:ext cx="2048040" cy="2762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数据录入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39240" cy="5218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105520" y="2819520"/>
            <a:ext cx="296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记录间转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查找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关闭录入表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数据库追加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追加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append)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是将两个数据结构完全一样或基本上一样的数据库连起来。两个数据库是端对端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end-to-end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，又称串联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数据库追加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934320" cy="49975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930320" y="1905120"/>
            <a:ext cx="1847880" cy="1171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47530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数据库追加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5181480" cy="4124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572000" y="3809880"/>
            <a:ext cx="4200480" cy="2428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rot="1931400">
            <a:off x="6019920" y="3276360"/>
            <a:ext cx="761760" cy="304560"/>
          </a:xfrm>
          <a:custGeom>
            <a:avLst/>
            <a:gdLst>
              <a:gd name="textAreaLeft" fmla="*/ 95040 w 761760"/>
              <a:gd name="textAreaRight" fmla="*/ 666720 w 761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数据库追加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36776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双录入比较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086600" cy="51087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362320" y="1828800"/>
            <a:ext cx="2647800" cy="28861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029200" y="3200400"/>
            <a:ext cx="389556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双录入比较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238880" cy="5216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489040" y="1778040"/>
            <a:ext cx="3219480" cy="1600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753080" cy="1647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4419720" y="4191120"/>
            <a:ext cx="2209680" cy="380880"/>
            <a:chOff x="4419720" y="4191120"/>
            <a:chExt cx="2209680" cy="380880"/>
          </a:xfrm>
        </p:grpSpPr>
        <p:sp>
          <p:nvSpPr>
            <p:cNvPr id="266" name=""/>
            <p:cNvSpPr/>
            <p:nvPr/>
          </p:nvSpPr>
          <p:spPr>
            <a:xfrm>
              <a:off x="4419720" y="4191120"/>
              <a:ext cx="2209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19720" y="4572000"/>
              <a:ext cx="2209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双录入比较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057400" y="1623960"/>
            <a:ext cx="499572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EpiData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主要特点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直观方便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简单易学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数据录入、核查功能强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数据转换功能强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数据库的输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SP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162560" cy="51627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19620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数据库的输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SP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5791320" cy="40640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352680" y="4800600"/>
            <a:ext cx="55342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数据库的输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SP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086600" cy="5106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809880" y="1905120"/>
            <a:ext cx="133380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数据库的输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SP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2392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EpiData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安装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4876920" cy="3800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1877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EpiData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安装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176560" y="1562040"/>
            <a:ext cx="4790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EpiData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安装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791240" cy="3733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334120" y="2971800"/>
            <a:ext cx="3381120" cy="35146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410080" y="1143000"/>
            <a:ext cx="2514600" cy="914400"/>
          </a:xfrm>
          <a:prstGeom prst="wedgeRoundRectCallout">
            <a:avLst>
              <a:gd name="adj1" fmla="val -86805"/>
              <a:gd name="adj2" fmla="val 152777"/>
              <a:gd name="adj3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这里可以更改安装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EpiData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安装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5943600" cy="46324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724280" y="1752480"/>
            <a:ext cx="2133720" cy="685800"/>
          </a:xfrm>
          <a:prstGeom prst="wedgeRoundRectCallout">
            <a:avLst>
              <a:gd name="adj1" fmla="val -115921"/>
              <a:gd name="adj2" fmla="val 174537"/>
              <a:gd name="adj3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创建桌面图标，方便以后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2280" y="4800600"/>
            <a:ext cx="2590920" cy="1752480"/>
          </a:xfrm>
          <a:prstGeom prst="wedgeRoundRectCallout">
            <a:avLst>
              <a:gd name="adj1" fmla="val 77143"/>
              <a:gd name="adj2" fmla="val -73643"/>
              <a:gd name="adj3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生成变量的方式，建议选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utomatic field nam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EpiData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安装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867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EpiData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安装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82444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EpiData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主要功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调查表设计：调查表文件（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＊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.qes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数据录入和管理：数据文件（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＊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. rec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数据核查（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＊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. chk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EpiData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安装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9007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809880" y="4495680"/>
            <a:ext cx="4267440" cy="533520"/>
          </a:xfrm>
          <a:prstGeom prst="wedgeRoundRectCallout">
            <a:avLst>
              <a:gd name="adj1" fmla="val -57773"/>
              <a:gd name="adj2" fmla="val 114287"/>
              <a:gd name="adj3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后不再显示此提示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谢谢大家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本幻灯片参考了北医公卫学院吕筠老师的讲义。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数据录入和管理流程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90720" y="142884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2819520"/>
            <a:ext cx="259092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改调查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.q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2819520"/>
            <a:ext cx="251460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改核查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.ch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2819520"/>
            <a:ext cx="259056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改数据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.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5105520"/>
            <a:ext cx="259092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录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5105520"/>
            <a:ext cx="259092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导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导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5105520"/>
            <a:ext cx="259056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双录入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3809880"/>
            <a:ext cx="1828800" cy="38124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3809880"/>
            <a:ext cx="1828800" cy="38124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3962520"/>
            <a:ext cx="533520" cy="990360"/>
          </a:xfrm>
          <a:prstGeom prst="downArrow">
            <a:avLst>
              <a:gd name="adj1" fmla="val 50000"/>
              <a:gd name="adj2" fmla="val 4640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5600520" y="5371920"/>
            <a:ext cx="381240" cy="1828800"/>
          </a:xfrm>
          <a:custGeom>
            <a:avLst/>
            <a:gdLst>
              <a:gd name="textAreaLeft" fmla="*/ 51120 w 381240"/>
              <a:gd name="textAreaRight" fmla="*/ 330120 w 3812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857320" y="5371920"/>
            <a:ext cx="381240" cy="1828800"/>
          </a:xfrm>
          <a:custGeom>
            <a:avLst/>
            <a:gdLst>
              <a:gd name="textAreaLeft" fmla="*/ 51120 w 381240"/>
              <a:gd name="textAreaRight" fmla="*/ 330120 w 3812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876920"/>
            <a:ext cx="533160" cy="533160"/>
          </a:xfrm>
          <a:custGeom>
            <a:avLst/>
            <a:gdLst>
              <a:gd name="textAreaLeft" fmla="*/ 121680 w 533160"/>
              <a:gd name="textAreaRight" fmla="*/ 411480 w 53316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4952880"/>
            <a:ext cx="533520" cy="53352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438280"/>
            <a:ext cx="533520" cy="53352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2438280"/>
            <a:ext cx="533160" cy="533520"/>
          </a:xfrm>
          <a:custGeom>
            <a:avLst/>
            <a:gdLst>
              <a:gd name="textAreaLeft" fmla="*/ 121680 w 533160"/>
              <a:gd name="textAreaRight" fmla="*/ 411480 w 53316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438280"/>
            <a:ext cx="533520" cy="53352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4952880"/>
            <a:ext cx="533160" cy="533520"/>
          </a:xfrm>
          <a:custGeom>
            <a:avLst/>
            <a:gdLst>
              <a:gd name="textAreaLeft" fmla="*/ 121680 w 533160"/>
              <a:gd name="textAreaRight" fmla="*/ 411480 w 53316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程序使用前基本设置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﻿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程序菜单语言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解决编辑器中调查表文件乱码的问题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生成变量名”选项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设置相关文件默认打开程序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程序菜单语言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162560" cy="5162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990720" y="1971720"/>
            <a:ext cx="2762280" cy="237168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3962520" y="2514600"/>
            <a:ext cx="4486320" cy="3705120"/>
            <a:chOff x="3962520" y="2514600"/>
            <a:chExt cx="4486320" cy="370512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3962520" y="2514600"/>
              <a:ext cx="4486320" cy="37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934320" y="2743200"/>
              <a:ext cx="609480" cy="22860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38480" y="4648320"/>
              <a:ext cx="2971800" cy="68580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解决编辑器中调查表文件乱码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162560" cy="5162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90720" y="1971720"/>
            <a:ext cx="2762280" cy="2371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210280" y="3560760"/>
            <a:ext cx="3705120" cy="276372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066680" y="2819520"/>
            <a:ext cx="3886200" cy="3124080"/>
            <a:chOff x="1066680" y="2819520"/>
            <a:chExt cx="3886200" cy="3124080"/>
          </a:xfrm>
        </p:grpSpPr>
        <p:pic>
          <p:nvPicPr>
            <p:cNvPr id="168" name="" descr=""/>
            <p:cNvPicPr/>
            <p:nvPr/>
          </p:nvPicPr>
          <p:blipFill>
            <a:blip r:embed="rId4"/>
            <a:stretch/>
          </p:blipFill>
          <p:spPr>
            <a:xfrm>
              <a:off x="1066680" y="2819520"/>
              <a:ext cx="38862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502640" y="4168440"/>
              <a:ext cx="793080" cy="392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2947680"/>
              <a:ext cx="792000" cy="392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生成变量名”选项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162560" cy="5162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990720" y="1971720"/>
            <a:ext cx="2762280" cy="237168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2514600" y="2743200"/>
            <a:ext cx="4486320" cy="3705120"/>
            <a:chOff x="2514600" y="2743200"/>
            <a:chExt cx="4486320" cy="3705120"/>
          </a:xfrm>
        </p:grpSpPr>
        <p:pic>
          <p:nvPicPr>
            <p:cNvPr id="175" name="" descr=""/>
            <p:cNvPicPr/>
            <p:nvPr/>
          </p:nvPicPr>
          <p:blipFill>
            <a:blip r:embed="rId3"/>
            <a:stretch/>
          </p:blipFill>
          <p:spPr>
            <a:xfrm>
              <a:off x="2514600" y="2743200"/>
              <a:ext cx="4486320" cy="37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2666880" y="3886200"/>
              <a:ext cx="2057400" cy="392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番茄花园</cp:lastModifiedBy>
  <dcterms:modified xsi:type="dcterms:W3CDTF">2008-04-24T00:19:46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