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31.png" ContentType="image/png"/>
  <Override PartName="/ppt/media/image29.wmf" ContentType="image/x-wmf"/>
  <Override PartName="/ppt/media/image20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F85-D753-4506-ABEE-DD426F56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6172-2FEA-4B85-A4B3-F65FB152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53E-9E83-44FA-82DB-16C54406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003-B281-4739-A489-C45113BF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5670-CA55-4A79-89BD-DD70038D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4EF6-D425-4047-9D27-E3E8A8DC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91E9-593C-47DD-9C9F-76DB344C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4F99-C5E4-4D90-A3B6-26A3F1B0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2A7A-08FB-4A4B-B580-BD0046E9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A827-2FC9-4AB6-9620-0281C023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5787-B087-4DC3-AD8C-185CF625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DE8A-342E-41F9-B48E-4078DB28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EFF9-9779-4D3D-A586-6DD327FA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79AA-D21A-4C41-B5E1-FF533DC7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4D88-0150-4DEE-9A20-131C0B09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A3EC-3FF1-4AD7-A043-BFAC8FF5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C90B-D198-406B-A0A5-48C8D967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C220-2ABB-44E3-B2F7-43C178F3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F6B-993D-4B0F-9C04-84BBA4EE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A3F-D854-4A2B-9062-D982DB24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0FE-6F35-4A82-853C-61482828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721-7133-4CA7-85F9-94E78A66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43F-5749-4C3B-B3B3-9AA95F7E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F58-3566-4994-B0C8-C462A2BD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341B-FC4D-4C4E-ABD2-B89506F5B1F1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F357-478E-46F3-840E-DCEA9CC4BFA8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5.png"/><Relationship Id="rId3" Type="http://schemas.openxmlformats.org/officeDocument/2006/relationships/slide" Target="slide20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868680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895480" y="1905120"/>
            <a:ext cx="457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大自然的语言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60000" y="966960"/>
            <a:ext cx="5557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64457"/>
                </a:solidFill>
                <a:latin typeface="Times New Roman"/>
                <a:ea typeface="华文琥珀"/>
              </a:rPr>
              <a:t>生字词注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1fdd"/>
                </a:solidFill>
                <a:latin typeface="Times New Roman"/>
              </a:rPr>
              <a:t>翩然                                                     孕育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1fdd"/>
                </a:solidFill>
                <a:latin typeface="Times New Roman"/>
              </a:rPr>
              <a:t>簌簌                                                      销声匿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1fdd"/>
                </a:solidFill>
                <a:latin typeface="Times New Roman"/>
              </a:rPr>
              <a:t>风雪载途                                               农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1fdd"/>
                </a:solidFill>
                <a:latin typeface="Times New Roman"/>
              </a:rPr>
              <a:t>纬度                                                       连翘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64457"/>
                </a:solidFill>
                <a:latin typeface="Times New Roman"/>
                <a:ea typeface="华文琥珀"/>
              </a:rPr>
              <a:t>解释并造句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1fdd"/>
                </a:solidFill>
                <a:latin typeface="Times New Roman"/>
              </a:rPr>
              <a:t>次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1fdd"/>
                </a:solidFill>
                <a:latin typeface="Times New Roman"/>
              </a:rPr>
              <a:t>周而复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1fdd"/>
                </a:solidFill>
                <a:latin typeface="Times New Roman"/>
              </a:rPr>
              <a:t>簌簌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1fdd"/>
                </a:solidFill>
                <a:latin typeface="Times New Roman"/>
              </a:rPr>
              <a:t>草长莺飞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62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3120" y="17510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Franklin Gothic Medium Cond"/>
              </a:rPr>
              <a:t>piā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31200" y="175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yù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5160" y="236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9960" y="2362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960" y="3048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zà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3120" y="32004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yà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67480" y="3886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ě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680" y="3886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qiá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2720" y="4724280"/>
            <a:ext cx="19047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48360" y="1752480"/>
            <a:ext cx="6148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衰草连天    　　 ———  鬓毛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连翘　　　———翘尾巴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差异　　——差遣　　——差劲　　——参差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观测　　　——道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播种　　　　　耕种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落叶　　　——丢三落四　　　——落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2716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76240" y="1676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0391a"/>
                </a:solidFill>
                <a:latin typeface="Times New Roman"/>
              </a:rPr>
              <a:t>shuā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35720" y="16765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uī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8120" y="2666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0391a"/>
                </a:solidFill>
                <a:latin typeface="Times New Roman"/>
              </a:rPr>
              <a:t>qiá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8520" y="2666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0391a"/>
                </a:solidFill>
                <a:latin typeface="Times New Roman"/>
              </a:rPr>
              <a:t>qià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4840" y="3429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0391a"/>
                </a:solidFill>
                <a:latin typeface="Times New Roman"/>
              </a:rPr>
              <a:t>ch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71520" y="3505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hā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6960" y="3429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0391a"/>
                </a:solidFill>
                <a:latin typeface="Times New Roman"/>
              </a:rPr>
              <a:t>ch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16800" y="34290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ī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15200" y="4267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guā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308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guà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6200" y="51055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0391a"/>
                </a:solidFill>
                <a:latin typeface="Times New Roman"/>
              </a:rPr>
              <a:t>zhǒ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9400" y="51055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0391a"/>
                </a:solidFill>
                <a:latin typeface="Times New Roman"/>
              </a:rPr>
              <a:t>zhò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8480" y="60199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0391a"/>
                </a:solidFill>
                <a:latin typeface="Times New Roman"/>
              </a:rPr>
              <a:t>luò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6240" y="60199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l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3120" y="59436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là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60948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检查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、开头一段描写有什么作用？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课文开头一段将大自然一年四季的物候景观写得生动形象，寓说明于描写之中，如同展现一幅四季风光画卷，既引人入胜又使人联想，激发了读者的阅读兴趣。又为下文写大自然的语言作了铺垫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、题目能否改成“物候学”？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大自然的物候现象，如草木荣枯、候鸟去来等，实际上起着预报农时的作用，从这一点上说，物候现象仿佛就是传递信息的“大自然的语言”。题目标作“大自然的语言”，其实是“物候现象”的形象化的说法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112500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、决定物候现象来临的四个因素的说明顺序是怎样安排的？这样安排有什么好处？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0920" y="210168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作者把决定物候现象的四个因素按照影响程度，由大到小，依次排列，纬度影响最大，经度次之，高下差异又次之，古今差异最次。另外，纬度和经度是在地球上位置的不同，第三个因素是同一个地点的高下差异，这三者都是空间因素，最后一个则是时间因素，从空间方面到时间方面又是一种排列顺序。这样安排使文章条理清晰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981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举例的多少要按需要而定，可以举一个，也可以举两个甚至更多些。本文在多数情况下只举一个例子，为什么在说明经度差异对物候的影响时却举两个例子？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2101680"/>
            <a:ext cx="815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举例的多少，要看需要，可以举一个，也可以举两个甚至好几个。本文在多数情况下只举一个例子，在说明经度差异对物候的影响时举了两个例子，这是因为近海地区的气温，一般人笼统的以为比内地暖和，事实上近海地区春天比内陆反而寒冷，这是读者比较陌生的现象，只举一个例子，读者还会以为有偶然性，举两个，读者就确信无疑了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、联系课文中的物候知识，谈谈你对下面这首诗的理解，你有过与诗人类似的观察和体验吗？说给大家听听。</a:t>
            </a:r>
            <a:br>
              <a:rPr sz="2800"/>
            </a:b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64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e64457"/>
                </a:solidFill>
                <a:latin typeface="Times New Roman"/>
              </a:rPr>
              <a:t>大林寺桃花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                              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白居易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人间四月芳菲尽，山寺桃花始盛开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长恨春归无觅处，不知转入此中来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71600" y="1119240"/>
            <a:ext cx="48564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华文琥珀"/>
              </a:rPr>
              <a:t>描写一年四季的词语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88b33"/>
                </a:solidFill>
                <a:latin typeface="Times New Roman"/>
                <a:ea typeface="华文隶书"/>
              </a:rPr>
              <a:t>春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64457"/>
                </a:solidFill>
                <a:latin typeface="Times New Roman"/>
                <a:ea typeface="华文隶书"/>
              </a:rPr>
              <a:t>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华文隶书"/>
              </a:rPr>
              <a:t>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c1fdd"/>
                </a:solidFill>
                <a:latin typeface="Times New Roman"/>
                <a:ea typeface="华文隶书"/>
              </a:rPr>
              <a:t>冬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99760" y="198108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3e684"/>
                </a:solidFill>
                <a:latin typeface="Times New Roman"/>
              </a:rPr>
              <a:t>苏醒      冰雪融化     草木萌发     各种花次第开放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99960" y="29718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581ea"/>
                </a:solidFill>
                <a:latin typeface="Times New Roman"/>
              </a:rPr>
              <a:t>炎热       孕育果实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08960" y="3886200"/>
            <a:ext cx="37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ac164"/>
                </a:solidFill>
                <a:latin typeface="Times New Roman"/>
              </a:rPr>
              <a:t>果实成熟      叶子渐渐变黄     簌簌的落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54680" y="487692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Times New Roman"/>
              </a:rPr>
              <a:t>销声匿迹      衰草连天     风雪载途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3440" y="5943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c834"/>
                </a:solidFill>
                <a:latin typeface="Times New Roman"/>
                <a:ea typeface="华文彩云"/>
              </a:rPr>
              <a:t>生动形象，如一幅四季风光画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141000" y="1828800"/>
            <a:ext cx="167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c1fdd"/>
                </a:solidFill>
                <a:latin typeface="Times New Roman"/>
                <a:ea typeface="华文行楷"/>
              </a:rPr>
              <a:t>雨中闻禅叫，预告晴天到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c1fdd"/>
                </a:solidFill>
                <a:latin typeface="Times New Roman"/>
                <a:ea typeface="华文行楷"/>
              </a:rPr>
              <a:t>麻雀屯食要落雪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c1fdd"/>
                </a:solidFill>
                <a:latin typeface="Times New Roman"/>
                <a:ea typeface="华文行楷"/>
              </a:rPr>
              <a:t>鱼跳水，有雨来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c1fdd"/>
                </a:solidFill>
                <a:latin typeface="Times New Roman"/>
                <a:ea typeface="华文行楷"/>
              </a:rPr>
              <a:t>燕子低飞要落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c1fdd"/>
                </a:solidFill>
                <a:latin typeface="Times New Roman"/>
                <a:ea typeface="华文行楷"/>
              </a:rPr>
              <a:t>泥鳅静，天气晴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c1fdd"/>
                </a:solidFill>
                <a:latin typeface="Times New Roman"/>
                <a:ea typeface="华文行楷"/>
              </a:rPr>
              <a:t>蚂蚁垒窝要落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19320" y="914400"/>
            <a:ext cx="1676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农谚</a:t>
            </a:r>
            <a:endParaRPr b="0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680" y="76464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雨中闻蝉叫，预告晴天到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早蚯闻蝉叫，晚蚯迎雨场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癞蛤蟆出洞，下雨靠得稳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龟背潮，下雨兆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蚯蚓爬上路，雨水乱如麻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猪衔草，寒潮到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鸡迟宿，鸭欢叫，风雨不久到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71800" y="1087560"/>
            <a:ext cx="3838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什么是物侯和物侯学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物侯观测对农业有什么重要意义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决定物侯观测的因素有哪些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研究物侯学有什么意义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3276720"/>
            <a:ext cx="1543320" cy="2038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47920" y="4724280"/>
            <a:ext cx="1001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45840" y="655200"/>
            <a:ext cx="53614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二十四节气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  <a:ea typeface="华文隶书"/>
              </a:rPr>
              <a:t>春雨惊春清谷天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  <a:ea typeface="华文隶书"/>
              </a:rPr>
              <a:t>夏满芒夏暑相连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  <a:ea typeface="华文隶书"/>
              </a:rPr>
              <a:t>秋处露秋寒霜降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  <a:ea typeface="华文隶书"/>
              </a:rPr>
              <a:t>冬雪雪冬寒又寒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1295280"/>
            <a:ext cx="0" cy="3353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1143000"/>
            <a:ext cx="0" cy="3505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295280"/>
            <a:ext cx="0" cy="32767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4780080"/>
            <a:ext cx="23302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84440" y="1295280"/>
            <a:ext cx="4944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　　采用生动说明的表达方式，介绍你最喜欢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一种动物或植物。（２００字左右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2676600" cy="2647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2057400" y="91440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课堂练笔</a:t>
            </a:r>
            <a:endParaRPr b="0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8760" cy="3629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088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410080" y="4394160"/>
            <a:ext cx="2540160" cy="1685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523880" y="4359240"/>
            <a:ext cx="236232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5e75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924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924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5534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dd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10080" y="3998880"/>
            <a:ext cx="3495960" cy="2859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971800" y="2133720"/>
            <a:ext cx="3429000" cy="258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-5724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16" presetSubtype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16" presetSubtype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9ddf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05120" y="1952640"/>
            <a:ext cx="556236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3557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559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362320" y="3581280"/>
            <a:ext cx="4876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5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0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9ddf1"/>
            </a:gs>
            <a:gs pos="100000">
              <a:srgbClr val="bac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4800600" cy="3476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00600" y="-304920"/>
            <a:ext cx="4343400" cy="3505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800600" y="3165480"/>
            <a:ext cx="4343400" cy="3692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4800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16:10:57Z</dcterms:created>
  <dc:creator>DaiLong</dc:creator>
  <dc:description/>
  <dc:language>en-US</dc:language>
  <cp:lastModifiedBy>zhoujb</cp:lastModifiedBy>
  <dcterms:modified xsi:type="dcterms:W3CDTF">2004-12-22T08:59:28Z</dcterms:modified>
  <cp:revision>8</cp:revision>
  <dc:subject/>
  <dc:title>PowerPoint 演示文稿</dc:title>
</cp:coreProperties>
</file>