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099-9436-4B5D-9465-70B42A59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F84-9F01-4B3E-AD56-88A76061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679-2A41-4404-80F6-A1E106C9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F7D-C1E6-4DBE-A71B-177FB925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56E-1CF6-4C96-9846-B9A99509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8E9-0864-4FB6-8E06-66602DA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F9C-E47C-47AE-A4AC-9E4FC4B3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15D-522C-4261-B57A-4AFB7EA0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D76-35B6-4243-8E89-866A2CE4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3AD-8CB0-4C4B-8554-C85D07F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CF1-99E5-419C-A766-4EF7D008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2F0-7F10-4139-B59E-D36DD637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C8A-758D-4B71-B7AA-C60D96ECEF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ipic.com/show/5/5/d7de3ba7ad3551fd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2421000"/>
            <a:ext cx="5545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大自然的启示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98100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彩的蝴蝶锦色粲然，尤其是萤光翼凤蝶，其后翅在阳光下时而金黄，时而翠绿，有时还由紫变蓝。科学家通过对蝴蝶色彩的研究，为军事防御带来了极大的益处。在二战期间，苏联昆虫学家施万维奇根据当时人们对伪装缺乏认识的情况，提出利用蝴蝶的色彩在花丛中不易被发现的道理，在军事设施上覆盖蝴蝶花纹般的伪装。因此，尽管德军费尽心机，但苏联的军事基地仍安然无恙。根据同样的原理，后来人们还生产出了迷彩服，大大减少了战斗中的伤亡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2492280"/>
            <a:ext cx="7704000" cy="314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了解了哪些发明创造的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得到了哪些启示？你想发明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2920" y="105264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大家来说一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40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64000" y="6021360"/>
            <a:ext cx="1439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物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128000" cy="5543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42920" y="256536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仿生学：人们研究生物某些器官的构造和功能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从中得到启示并进行模仿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研制成功新的仪器、机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744640" cy="199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863960"/>
            <a:ext cx="2744640" cy="1994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06064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鸟儿展翅可在空中自由飞翔。据《韩非子》记载鲁班用竹木作鸟“成而飞之，三日不下”。早在四百多年前，意大利人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和他的助手仔细研究鸟的身体结构并认真观察鸟类的飞行。设计和制造了一架扑翼机，这是世界上第一架人造飞行器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887640" cy="3430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2824200"/>
            <a:ext cx="39258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184464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苍蝇的眼睛是一种“复眼”，由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30O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多只小眼组成，人们模仿它制成了“蝇眼透镜”。“蝇眼透镜”是用几百或者几千块小透镜整齐排列组合而成的，用它作镜头可以制成“蝇眼照相机”，一次就能照出千百张相同的相片。这种照相机已经用于印刷制版和大量复制电子计算机的微小电路，大大提高了工效和质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98900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苍蝇，是细菌的传播者，谁都讨厌它。可是苍蝇的楫翅（又叫平衡棒）是“天然导航仪”，人们模仿它制成了“振动陀螺仪”。这种仪器目前已经应用在火箭和高速飞机上，实现了自动驾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163760" cy="27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87280" y="3357720"/>
            <a:ext cx="3024360" cy="32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92720" y="981000"/>
            <a:ext cx="3311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0:19:04Z</dcterms:created>
  <dc:creator>微软用户</dc:creator>
  <dc:description/>
  <dc:language>en-US</dc:language>
  <cp:lastModifiedBy>微软用户</cp:lastModifiedBy>
  <dcterms:modified xsi:type="dcterms:W3CDTF">2010-03-05T03:05:12Z</dcterms:modified>
  <cp:revision>5</cp:revision>
  <dc:subject/>
  <dc:title>幻灯片 1</dc:title>
</cp:coreProperties>
</file>