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71B3-CE7F-4D28-BA65-578141FE0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FF4A-6C0B-4AFD-A1D3-13304C75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FAA8-F059-4D76-A3C7-3790896E8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3667-A871-4EF1-A4B4-D748F6E92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BB2B-4E89-46A1-BC73-D1048191F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D512-E5D4-4AE0-9A84-FF60E42E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419C-D103-4B5E-95ED-BF824C01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DA17-8237-46A9-9EDD-EA630879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C2E0-0337-4362-AA27-856538C6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700D-2F0F-4798-99DC-BC646EDD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BB54-88E4-47EC-9A75-4F45B29D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C103-A857-42A0-9741-4F28FC74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E917-5FA3-4683-87E2-D39675F5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58B8-8BFC-4462-B98D-EE4E142B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52D9-F1B9-473B-BB4B-FC1643FE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6C3A-BA2B-4AA5-A1A2-7766BFDD5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054D-AC3B-4EE9-BAE2-539DDBA8E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0A99-7E6C-4A2A-B606-DB11A9FD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644B-7EDD-4A7F-B013-57FFB3DF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F97C-1311-4122-8DF6-4B68DADB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FD89-D7A7-4195-B8FA-A2AD96E1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03A6-F1CA-41C3-AAA5-5169A368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5F7A-7665-4316-A2E7-8A276AEC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D57F-880C-45FB-9C00-6E8D1169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E4C0-059C-4B4B-9AB2-2ADA86C7E807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7577-3B5D-4A76-B285-3CE36E714F94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png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3657600"/>
            <a:ext cx="8686800" cy="3200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600200" y="1219320"/>
            <a:ext cx="5715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大自然的启示</a:t>
            </a:r>
            <a:endParaRPr b="0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3048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  <a:ea typeface="黑体"/>
              </a:rPr>
              <a:t>             </a:t>
            </a:r>
            <a:r>
              <a:rPr b="0" lang="zh-CN" sz="3600" spc="-1" strike="noStrike">
                <a:solidFill>
                  <a:srgbClr val="e64457"/>
                </a:solidFill>
                <a:latin typeface="Times New Roman"/>
                <a:ea typeface="黑体"/>
              </a:rPr>
              <a:t>松下幸之助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54864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        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湖北省崇阳县桃溪中学   程正祥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144792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5b5249"/>
                </a:solidFill>
                <a:latin typeface="Times New Roman"/>
                <a:ea typeface="华文隶书"/>
              </a:rPr>
              <a:t>课后作业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、 找找我们身边的自然变化，试着也用细腻的语言表达出来。 </a:t>
            </a:r>
            <a:br>
              <a:rPr sz="2800"/>
            </a:b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、根据这节课所学，我们知道自然的变化，都会给我们以启示，试学习著名作家贾平凹的《风雨》，思考它给我们以什么启示？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0880" y="1295280"/>
            <a:ext cx="876312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1" lang="zh-CN" sz="15000" spc="-1" strike="noStrike">
                <a:solidFill>
                  <a:srgbClr val="ff0066"/>
                </a:solidFill>
                <a:latin typeface="Times New Roman"/>
              </a:rPr>
              <a:t>再见</a:t>
            </a:r>
            <a:endParaRPr b="0" lang="en-US" sz="15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095880" y="3276720"/>
            <a:ext cx="26766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09480" y="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c1fdd"/>
                </a:solidFill>
                <a:latin typeface="Times New Roman"/>
                <a:ea typeface="华文中宋"/>
              </a:rPr>
              <a:t>导入新课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3276720"/>
            <a:ext cx="1543320" cy="2038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47920" y="4724280"/>
            <a:ext cx="1001520" cy="2133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990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5b5249"/>
                </a:solidFill>
                <a:latin typeface="宋体"/>
              </a:rPr>
              <a:t>我们生活在大自然中，我们生活在一年的四季中，春的勃发，夏的热烈，秋的成熟，冬的冷峻，让我们深深感受到大自然的五色斑斓，一切生命才如此丰富，生活才有了意义而显得精彩。散文《春》让我感受到大自然焕发的勃勃生机和无穷生命力，给人精神上的愉悦与激励。《夏天的旋律》和《唐宋诗中的物候》告诉我们，古人从大自然的观察中悟出了物候与农业生产的关系，还能借物抒情，表达自己的情感。今天，我们来学习一下日本著名企业家松下幸之助所写的《大自然的启示》，看看一个外国人又从大自然获得了那些启示。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629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64457"/>
                </a:solidFill>
                <a:latin typeface="宋体"/>
              </a:rPr>
              <a:t>整体感知，读中说品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09480"/>
            <a:ext cx="9144000" cy="59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64457"/>
                </a:solidFill>
                <a:latin typeface="宋体"/>
              </a:rPr>
              <a:t>初读文章</a:t>
            </a:r>
            <a:r>
              <a:rPr b="0" lang="zh-CN" sz="3600" spc="-1" strike="noStrike">
                <a:solidFill>
                  <a:srgbClr val="e64457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zh-CN" sz="3600" spc="-1" strike="noStrike">
                <a:solidFill>
                  <a:srgbClr val="e64457"/>
                </a:solidFill>
                <a:latin typeface="Times New Roman"/>
              </a:rPr>
              <a:t>⑴</a:t>
            </a:r>
            <a:r>
              <a:rPr b="0" lang="zh-CN" sz="3600" spc="-1" strike="noStrike">
                <a:solidFill>
                  <a:srgbClr val="e64457"/>
                </a:solidFill>
                <a:latin typeface="宋体"/>
              </a:rPr>
              <a:t>检查预习，理解字词</a:t>
            </a:r>
            <a:r>
              <a:rPr b="0" lang="zh-CN" sz="3600" spc="-1" strike="noStrike">
                <a:solidFill>
                  <a:srgbClr val="e64457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zh-CN" sz="2800" spc="-1" strike="noStrike">
                <a:solidFill>
                  <a:srgbClr val="e64457"/>
                </a:solidFill>
                <a:latin typeface="Times New Roman"/>
              </a:rPr>
              <a:t>啁啾 </a:t>
            </a:r>
            <a:r>
              <a:rPr b="0" lang="zh-CN" sz="2800" spc="-1" strike="noStrike">
                <a:solidFill>
                  <a:srgbClr val="e64457"/>
                </a:solidFill>
                <a:latin typeface="Times New Roman"/>
              </a:rPr>
              <a:t>:                         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64457"/>
                </a:solidFill>
                <a:latin typeface="Times New Roman"/>
              </a:rPr>
              <a:t>销声匿迹</a:t>
            </a:r>
            <a:r>
              <a:rPr b="0" lang="zh-CN" sz="2800" spc="-1" strike="noStrike">
                <a:solidFill>
                  <a:srgbClr val="e64457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64457"/>
                </a:solidFill>
                <a:latin typeface="Times New Roman"/>
              </a:rPr>
              <a:t>浑浑噩噩 </a:t>
            </a:r>
            <a:r>
              <a:rPr b="0" lang="zh-CN" sz="2800" spc="-1" strike="noStrike">
                <a:solidFill>
                  <a:srgbClr val="e64457"/>
                </a:solidFill>
                <a:latin typeface="Times New Roman"/>
              </a:rPr>
              <a:t>:                  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64457"/>
                </a:solidFill>
                <a:latin typeface="Times New Roman"/>
              </a:rPr>
              <a:t>泰然自得</a:t>
            </a:r>
            <a:r>
              <a:rPr b="0" lang="zh-CN" sz="2800" spc="-1" strike="noStrike">
                <a:solidFill>
                  <a:srgbClr val="e64457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64457"/>
                </a:solidFill>
                <a:latin typeface="Times New Roman"/>
              </a:rPr>
              <a:t>⑵</a:t>
            </a:r>
            <a:r>
              <a:rPr b="0" lang="zh-CN" sz="3600" spc="-1" strike="noStrike">
                <a:solidFill>
                  <a:srgbClr val="e64457"/>
                </a:solidFill>
                <a:latin typeface="宋体"/>
              </a:rPr>
              <a:t>学生自由朗读课文。要求：有感情地朗读，读出文章的意思或感情</a:t>
            </a:r>
            <a:r>
              <a:rPr b="0" lang="zh-CN" sz="3600" spc="-1" strike="noStrike">
                <a:solidFill>
                  <a:srgbClr val="e64457"/>
                </a:solidFill>
                <a:latin typeface="宋体"/>
              </a:rPr>
              <a:t>.</a:t>
            </a:r>
            <a:r>
              <a:rPr b="0" lang="zh-CN" sz="3600" spc="-1" strike="noStrike">
                <a:solidFill>
                  <a:srgbClr val="e64457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zh-CN" sz="3600" spc="-1" strike="noStrike">
                <a:solidFill>
                  <a:srgbClr val="e64457"/>
                </a:solidFill>
                <a:latin typeface="Times New Roman"/>
              </a:rPr>
              <a:t>⑶</a:t>
            </a:r>
            <a:r>
              <a:rPr b="0" lang="zh-CN" sz="3600" spc="-1" strike="noStrike">
                <a:solidFill>
                  <a:srgbClr val="e64457"/>
                </a:solidFill>
                <a:latin typeface="宋体"/>
              </a:rPr>
              <a:t>学生读后自由说说文本的内容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52488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105520" y="3657600"/>
            <a:ext cx="3581280" cy="2422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57200" y="3657600"/>
            <a:ext cx="3429000" cy="2389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3049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c1fdd"/>
                </a:solidFill>
                <a:latin typeface="宋体"/>
              </a:rPr>
              <a:t>再读文章，读中说品析</a:t>
            </a:r>
            <a:r>
              <a:rPr b="0" lang="zh-CN" sz="3200" spc="-1" strike="noStrike">
                <a:solidFill>
                  <a:srgbClr val="4c1f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228600" y="1219320"/>
            <a:ext cx="93726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⑴</a:t>
            </a:r>
            <a:r>
              <a:rPr b="0" lang="zh-CN" sz="2800" spc="-1" strike="noStrike">
                <a:solidFill>
                  <a:srgbClr val="5b5249"/>
                </a:solidFill>
                <a:latin typeface="宋体"/>
              </a:rPr>
              <a:t>学习跳读文章，寻找自己感受最好的或最深的语句或段落品读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要求：读出语句或段落的感情，注意运用朗读的技巧。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228600" y="3200400"/>
            <a:ext cx="937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c1fdd"/>
                </a:solidFill>
                <a:latin typeface="Times New Roman"/>
              </a:rPr>
              <a:t>⑵</a:t>
            </a:r>
            <a:r>
              <a:rPr b="0" lang="zh-CN" sz="2800" spc="-1" strike="noStrike">
                <a:solidFill>
                  <a:srgbClr val="4c1fdd"/>
                </a:solidFill>
                <a:latin typeface="宋体"/>
              </a:rPr>
              <a:t>学生交流，说出朗读的方法与原因，教师点评。</a:t>
            </a:r>
            <a:r>
              <a:rPr b="0" lang="zh-CN" sz="2800" spc="-1" strike="noStrike">
                <a:solidFill>
                  <a:srgbClr val="4c1fdd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zh-CN" sz="2800" spc="-1" strike="noStrike">
                <a:solidFill>
                  <a:srgbClr val="4c1fdd"/>
                </a:solidFill>
                <a:latin typeface="宋体"/>
              </a:rPr>
              <a:t>要求：可以说整个语段的语气语调的特点，也可以说一句话中的一个或几个词的读法。</a:t>
            </a:r>
            <a:r>
              <a:rPr b="0" lang="zh-CN" sz="2400" spc="-1" strike="noStrike">
                <a:solidFill>
                  <a:srgbClr val="4c1f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500"/>
                            </p:stCondLst>
                            <p:childTnLst>
                              <p:par>
                                <p:cTn id="34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5e75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9244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9244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89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0" lang="zh-CN" sz="3200" spc="-1" strike="noStrike">
                <a:solidFill>
                  <a:srgbClr val="4c1fdd"/>
                </a:solidFill>
                <a:latin typeface="宋体"/>
              </a:rPr>
              <a:t>问题探究，质疑解难，加深认识，品中说悟。</a:t>
            </a:r>
            <a:r>
              <a:rPr b="0" lang="zh-CN" sz="2400" spc="-1" strike="noStrike">
                <a:solidFill>
                  <a:srgbClr val="4c1f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447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⑴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作者在文中写了大自然哪些物象，从中领悟到什么人生的启示？请用简洁的语言概括出来？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200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ac164"/>
                </a:solidFill>
                <a:latin typeface="Times New Roman"/>
              </a:rPr>
              <a:t>⑵</a:t>
            </a:r>
            <a:r>
              <a:rPr b="0" lang="zh-CN" sz="2800" spc="-1" strike="noStrike">
                <a:solidFill>
                  <a:srgbClr val="fac164"/>
                </a:solidFill>
                <a:latin typeface="宋体"/>
              </a:rPr>
              <a:t>从全文来看，本文的主旨是什么？</a:t>
            </a:r>
            <a:r>
              <a:rPr b="0" lang="zh-CN" sz="2800" spc="-1" strike="noStrike">
                <a:solidFill>
                  <a:srgbClr val="4c1f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572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3e684"/>
                </a:solidFill>
                <a:latin typeface="Times New Roman"/>
              </a:rPr>
              <a:t>⑶</a:t>
            </a:r>
            <a:r>
              <a:rPr b="0" lang="zh-CN" sz="2800" spc="-1" strike="noStrike">
                <a:solidFill>
                  <a:srgbClr val="c3e684"/>
                </a:solidFill>
                <a:latin typeface="宋体"/>
              </a:rPr>
              <a:t>本文的描写的景与表达的意有什么关系？探究托物言志、借物抒情的手法的特点？</a:t>
            </a:r>
            <a:r>
              <a:rPr b="0" lang="zh-CN" sz="2800" spc="-1" strike="noStrike">
                <a:solidFill>
                  <a:srgbClr val="c3e68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dd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410080" y="3998880"/>
            <a:ext cx="3495960" cy="2859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宋体"/>
              </a:rPr>
              <a:t>品读课文，感受课文中的深刻哲理。悟中说品。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143000"/>
            <a:ext cx="914400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① 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人生要经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风雨的磨练和洗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而事实上人生的风雨是时刻存在着的，就像人生如流云，时刻变化。在文中找出写云变化的句子？在文中找出写人心、命运变化的句子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666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明确：云，快快慢慢、大大小小、白白淡淡、高高低低，时刻溃散崩离，时刻瞬间组合，各有不同。人的心、命运：明明暗暗、各式各样、分分秒秒、变幻莫测，人生如流云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114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②</a:t>
            </a:r>
            <a:r>
              <a:rPr b="0" lang="zh-CN" sz="2400" spc="-1" strike="noStrike">
                <a:solidFill>
                  <a:srgbClr val="5b5249"/>
                </a:solidFill>
                <a:latin typeface="宋体"/>
              </a:rPr>
              <a:t>人生变幻，悲喜交加，那么我们该如何面对呢？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8769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宋体"/>
              </a:rPr>
              <a:t>学生讨论明确：得意淡然，失意夷然。每个人都要拥有坦诚、谦虚的胸怀，在自己的工作岗位上，认真负责的工作，必可体会出那漫长人生中的无穷情趣。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6" presetSubtype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7000"/>
                            </p:stCondLst>
                            <p:childTnLst>
                              <p:par>
                                <p:cTn id="56" nodeType="afterEffect" fill="hold" presetClass="entr" presetID="16" presetSubtype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9ddf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38088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00"/>
                </a:solidFill>
                <a:latin typeface="华文隶书"/>
                <a:ea typeface="华文隶书"/>
              </a:rPr>
              <a:t>齐声朗读最后两段，思考揭示了什么道理？告诉我们什么样的启示？</a:t>
            </a: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 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438280"/>
            <a:ext cx="91440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宋体"/>
              </a:rPr>
              <a:t>明确：人生要经历崇山峻岭般的起起伏伏，经历风吹雨打，要振作精神，克服困难，继续奔向前程，在那山的那一头，永远有着我们的希望。这也便是作者所要告诉我们的大自然的启示。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52880" cy="3557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559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2362320" y="3581280"/>
            <a:ext cx="4876560" cy="3276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 </a:t>
            </a:r>
            <a:r>
              <a:rPr b="0" lang="zh-CN" sz="4000" spc="-1" strike="noStrike">
                <a:solidFill>
                  <a:srgbClr val="ff0066"/>
                </a:solidFill>
                <a:latin typeface="华文隶书"/>
                <a:ea typeface="华文隶书"/>
              </a:rPr>
              <a:t>观察大自然，结合生活，展开联想。读写结合，训练能力，拓展思维。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0574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ac164"/>
                </a:solidFill>
                <a:latin typeface="Times New Roman"/>
              </a:rPr>
              <a:t>⑴</a:t>
            </a:r>
            <a:r>
              <a:rPr b="0" lang="zh-CN" sz="3200" spc="-1" strike="noStrike">
                <a:solidFill>
                  <a:srgbClr val="fac164"/>
                </a:solidFill>
                <a:latin typeface="宋体"/>
              </a:rPr>
              <a:t>你从作者表达的对人生的感悟中，感受到作者是怎么一个人？我们应该对待生活？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4956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⑵</a:t>
            </a:r>
            <a:r>
              <a:rPr b="0" lang="zh-CN" sz="3200" spc="-1" strike="noStrike">
                <a:solidFill>
                  <a:srgbClr val="ff0066"/>
                </a:solidFill>
                <a:latin typeface="宋体"/>
              </a:rPr>
              <a:t>你还能从大自然中获得哪些启示</a:t>
            </a:r>
            <a:r>
              <a:rPr b="0" lang="zh-CN" sz="3200" spc="-1" strike="noStrike">
                <a:solidFill>
                  <a:srgbClr val="fac164"/>
                </a:solidFill>
                <a:latin typeface="宋体"/>
              </a:rPr>
              <a:t>？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500"/>
                            </p:stCondLst>
                            <p:childTnLst>
                              <p:par>
                                <p:cTn id="76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000"/>
                            </p:stCondLst>
                            <p:childTnLst>
                              <p:par>
                                <p:cTn id="81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9ddf1"/>
            </a:gs>
            <a:gs pos="100000">
              <a:srgbClr val="bacd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-915840"/>
            <a:ext cx="9144000" cy="7773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28600" y="0"/>
            <a:ext cx="58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方正姚体"/>
                <a:ea typeface="方正姚体"/>
              </a:rPr>
              <a:t>教师小结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2193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这一节课我们学习了绿叶、小白花、小鸟经历风雨的磨练和洗礼，绿叶更加鲜绿；小小白花仍然坚毅的绽放，花瓣愈加洁白；小鸟身躯弱小，依然鼓动着翅膀飞向天空，告诉我们大自然的细腻变化需要人们仔细的观察，大自然所揭示的道理需要我们深刻地反省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人生的变化，也有如流云。变幻莫测的人生际遇，也要经受风雨的磨练和洗礼，才能克服困难，振作精神，努力奔向前程，开创美好人生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我相信我们每位同学，也都会像作者一样，呼唤人生中的崇山峻岭般的起起伏伏，面对人生风雨，勇于挑战自我。让我们大家再一次一起朗读课文，体会文章表达的思想感情。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7000"/>
                            </p:stCondLst>
                            <p:childTnLst>
                              <p:par>
                                <p:cTn id="88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5T16:10:57Z</dcterms:created>
  <dc:creator>DaiLong</dc:creator>
  <dc:description/>
  <dc:language>en-US</dc:language>
  <cp:lastModifiedBy>cy</cp:lastModifiedBy>
  <dcterms:modified xsi:type="dcterms:W3CDTF">2006-03-19T11:32:30Z</dcterms:modified>
  <cp:revision>35</cp:revision>
  <dc:subject/>
  <dc:title>PowerPoint 演示文稿</dc:title>
</cp:coreProperties>
</file>