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7A9-57C3-46DF-8A4C-2CA3B9E8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C59-18C2-49F7-9572-E4FD6C25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000-D63B-4235-BC3E-2AAB7F73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0BE-9B17-4A1E-947A-0308AA0E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1A7-271E-43EA-A6E8-5B82422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7AE-C4DF-48D0-85E9-C806B41E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C4F-9E14-4D60-A740-296BC4E4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641-D137-4023-A9B1-70B15CA0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38F-4D06-404C-B0E6-CEA456DC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B8C-A850-4902-A508-A2CB02EF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AC8-70A0-44C4-8A56-5BFBEB68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363-07A3-43E4-BE4C-D7C28FA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5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1358-45A7-4404-B3C2-B712D12E57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马斯奈-沉思曲.mp3" descr=""/>
          <p:cNvPicPr/>
          <p:nvPr/>
        </p:nvPicPr>
        <p:blipFill>
          <a:blip r:embed="rId1"/>
          <a:stretch/>
        </p:blipFill>
        <p:spPr>
          <a:xfrm>
            <a:off x="8229600" y="5715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3379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673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华文行楷"/>
              </a:rPr>
              <a:t>从广阔的自然界吸取有益的启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界这些常见的景物很容易被忽视，只有留心观察、善于思考的人才会从大自然中获得有益的启示，提升人生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结合自身的经历感受，想一想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哪些大自然的景和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曾经带给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怎样的启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？（句式：什么让我想到了什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：松树（日出日落、月亮、高山，落叶、蚂蚁、大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让我想起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下练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让我们用我们的眼来观察自然，用我们的心来感悟人生，请你自选一个自然景象，运用托物言志、借景抒情的写法展开联想，写一个百字以内的片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容占位符 5124" descr=""/>
          <p:cNvPicPr/>
          <p:nvPr/>
        </p:nvPicPr>
        <p:blipFill>
          <a:blip r:embed="rId1"/>
          <a:stretch/>
        </p:blipFill>
        <p:spPr>
          <a:xfrm>
            <a:off x="-1066680" y="0"/>
            <a:ext cx="1112508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819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课</a:t>
            </a:r>
            <a:r>
              <a:rPr b="0" lang="en-US" sz="18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2771"/>
          <p:cNvSpPr txBox="1"/>
          <p:nvPr/>
        </p:nvSpPr>
        <p:spPr>
          <a:xfrm>
            <a:off x="0" y="1447920"/>
            <a:ext cx="3086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四年小学学历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6" name="矩形 32772"/>
          <p:cNvSpPr txBox="1"/>
          <p:nvPr/>
        </p:nvSpPr>
        <p:spPr>
          <a:xfrm>
            <a:off x="228600" y="2209680"/>
            <a:ext cx="2276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9</a:t>
            </a: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岁当学徒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矩形 32773"/>
          <p:cNvSpPr txBox="1"/>
          <p:nvPr/>
        </p:nvSpPr>
        <p:spPr>
          <a:xfrm>
            <a:off x="152280" y="3809880"/>
            <a:ext cx="2276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人小作坊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右大括号 32774"/>
          <p:cNvSpPr/>
          <p:nvPr/>
        </p:nvSpPr>
        <p:spPr>
          <a:xfrm>
            <a:off x="3200400" y="160020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右箭头 32776"/>
          <p:cNvSpPr/>
          <p:nvPr/>
        </p:nvSpPr>
        <p:spPr>
          <a:xfrm>
            <a:off x="3581280" y="24382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2780"/>
          <p:cNvSpPr/>
          <p:nvPr/>
        </p:nvSpPr>
        <p:spPr>
          <a:xfrm>
            <a:off x="4343400" y="12193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拥有职工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.5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万人的世界电器之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2781"/>
          <p:cNvSpPr/>
          <p:nvPr/>
        </p:nvSpPr>
        <p:spPr>
          <a:xfrm>
            <a:off x="380880" y="48006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他就是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被世界誉为“企业之神”的松下电器公司创立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松下幸之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2782"/>
          <p:cNvSpPr/>
          <p:nvPr/>
        </p:nvSpPr>
        <p:spPr>
          <a:xfrm>
            <a:off x="4495680" y="29718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留下了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亿多美元的遗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2783"/>
          <p:cNvSpPr txBox="1"/>
          <p:nvPr/>
        </p:nvSpPr>
        <p:spPr>
          <a:xfrm>
            <a:off x="228600" y="304812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00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日元创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文本框 32785"/>
          <p:cNvSpPr/>
          <p:nvPr/>
        </p:nvSpPr>
        <p:spPr>
          <a:xfrm>
            <a:off x="533520" y="3049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  <a:ea typeface="黑体"/>
              </a:rPr>
              <a:t>他的成功有什么秘诀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10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3441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大自然的启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松下幸之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准字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涌溢（  ）                 迸（    ）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伫（   ）立                溃（   ）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悄（    ）然               啁（    ）啾（   ）   浑浑噩噩（ ）           销声匿（    ）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恓恓（  ）惶惶（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准字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涌溢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迸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è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伫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立              溃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悄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iǎ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然             啁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ō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啾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浑浑噩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销声匿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恓恓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惶惶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á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1272" descr="图片1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听一听，巧捕字眼拟标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文章由引子和四部分组成，作者在第一、二、三部分中主要观察了大自然的哪些景物与现象呢？请尝试给本文的第一、二、三部分拟标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赏花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风雨中的花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听池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声音不一的池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看流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变幻莫测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一想，自然画面悟启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作者从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风雨中的花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中产生了什么感悟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风雨中的花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小花、小鸟在对待风雨时，是怎样的方式？而人类面对生活又是怎样的度日方式，从中作者悟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找出描写自然景象和抒发人生感悟的语句，说说哪些自然景象的描写让你印象深刻，哪些人生感悟的语句让你感触很深，请谈一谈你的想法和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坚毅绽放、振翅高飞，坦然面对自然风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衬  人不应恓恓惶惶的度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坦然面对生活风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者从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声音不一的池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、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变幻莫测的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中又产生了什么感悟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仿照第一部分的学习方法，合作探究第二、第三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声音不一的池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变幻莫测的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设问题，质疑解难，加深认识，品中说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找出描写自然景象和抒发人生感悟的语句，说说哪些自然景象的描写让你印象深刻，哪些人生感悟的语句让你感触很深，请谈一谈你的想法和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池音：投什么样的石子，就会发出什么样的声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比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静心思考，有怎样的付出就会有怎样的收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流云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变幻莫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拟  人的心和命运，但人的思绪应有“定则”：胜不骄，败不馁，坦诚谦虚对待生活，认真负责对待工作，体会人生无穷情趣。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首尾，作总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作者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大自然中涌现着（         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开头，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人生中孕育着（    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结尾，托物言志，借景抒情，表达了作者对人生的看法和态度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坦然面对生活风雨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平静思考多少付出，多少收获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保持坦诚谦虚的胸怀，认真负责工作，体会人生情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7651"/>
          <p:cNvSpPr/>
          <p:nvPr/>
        </p:nvSpPr>
        <p:spPr>
          <a:xfrm>
            <a:off x="609588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穷生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7652"/>
          <p:cNvSpPr/>
          <p:nvPr/>
        </p:nvSpPr>
        <p:spPr>
          <a:xfrm>
            <a:off x="5334120" y="20574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新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0T09:07:18Z</dcterms:created>
  <dc:creator/>
  <dc:description/>
  <dc:language>en-US</dc:language>
  <cp:lastModifiedBy>admin</cp:lastModifiedBy>
  <dcterms:modified xsi:type="dcterms:W3CDTF">2019-05-20T09:07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  <property fmtid="{D5CDD505-2E9C-101B-9397-08002B2CF9AE}" pid="3" name="Version">
    <vt:r8>1</vt:r8>
  </property>
</Properties>
</file>