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CEA-B4F6-4DEA-92B6-51981C64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9AF-3513-4D21-A38B-D6FD150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5DF-2056-427B-B94F-6EF231F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2E1-1406-43A2-901E-BB13B534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C6C5-A9B9-468F-ABCB-92C71B50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1D45-190F-43AA-B832-B00A647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7990-5F81-4F24-99CD-22C95580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BDBA-15BE-43DC-B198-9A7C0F0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00FA-8A3C-4D69-B82E-B932BB2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0432-459D-4E3C-A2B0-2C887B04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5CDB-B8EA-4C60-9E85-BE4D294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B55-AE59-4CD2-A1C4-DAA21C21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F6B-8143-4547-8D23-A28AFDB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753D-3929-4B74-BC08-EC082C8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35DA-D3C3-4702-BE61-83348027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9F71-2C19-48E6-8951-11E35D57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59AD-F192-4D5C-909D-457E86FC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536-E117-4B41-BAD4-60E8545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5BE-BEC0-4B79-873D-72A997C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3B0-50CB-4577-8F8E-9A5B0E2A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914-A7B0-44D4-8A52-0DF52B40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87A-DBAD-415C-BDB4-390612C7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3ED-B609-4421-A133-8324B9C8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F4E-F8D4-40CF-B229-53C6858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AA3-60AB-4D9F-9C82-6DEAF7118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C21A-EC9A-4F54-A874-E00DF6D2E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47640" y="1628640"/>
            <a:ext cx="5905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登幽州台歌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221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  <a:ea typeface="方正舒体"/>
              </a:rPr>
              <a:t>陈子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620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  <a:ea typeface="楷体_GB2312"/>
              </a:rPr>
              <a:t>初步感受诗人的情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19280" y="1844640"/>
            <a:ext cx="66247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90792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用几句话描述你感受到的诗人的形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342900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提示：外貌、动作、语言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90792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理解诗人的悲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492280"/>
            <a:ext cx="835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①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幽州：郡名，唐属河北道，治蓟，故城在今北京市西南。幽州台：即蓟丘、燕台。因燕昭王置金于台延天下士，又称黄金台。故址在今北京德胜门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②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者：古音“诈”，与“下”押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③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涕：眼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1052640"/>
            <a:ext cx="7920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陈子昂少怀壮志，关心国计民生。入仕伊始，对武则天任用酷吏及重大政治、军事问题，屡陈已见，却屡受打击，乃至入狱。万岁通天元年 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9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从武攸宜征计契丹，任随军参谋，力图报国立功，一展抱负。次年先头部队大败，时武攸宜大军驻淦阳（今河北蓟县），闻讯震恐，不敢进军。陈子昂屡提批评与建议，并请自领万人，冲锋陷阵；但得到的却是降职处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836640"/>
            <a:ext cx="777564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  <a:ea typeface="楷体_GB2312"/>
              </a:rPr>
              <a:t>初识盛唐气象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华文新魏"/>
              </a:rPr>
              <a:t>借助前人评论，感受诗歌的阔大的境界，雄浑的格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476280"/>
            <a:ext cx="7777440" cy="60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韩愈：国朝盛文章，子昂始高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柳宗元：张说工著述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张九龄善比兴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兼备者子昂而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马端临：惟诗语高妙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其他文则不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偶俪卑弱之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胡应麟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唐初承袭梁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陈子昂独开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雅之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胡城亨：大泽一呼，为众雄驱先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41300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你从诗歌中读出的盛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3068640"/>
            <a:ext cx="554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提示：哪些诗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什么感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47640" y="1844640"/>
            <a:ext cx="6577200" cy="20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方正舒体"/>
              </a:rPr>
              <a:t>走进唐诗王国中！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9:31:19Z</dcterms:created>
  <dc:creator>User</dc:creator>
  <dc:description/>
  <dc:language>en-US</dc:language>
  <cp:lastModifiedBy>User</cp:lastModifiedBy>
  <dcterms:modified xsi:type="dcterms:W3CDTF">2006-02-12T11:22:1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1000000000001024120</vt:lpwstr>
  </property>
</Properties>
</file>