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  <p:custShowLst>
    <p:custShow name="自定义放映 1" id="0">
      <p:sldLst>
        <p:sld r:id="rId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3220-2327-4FEA-AF68-F3EEADD3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FAFC-8634-43ED-94F0-4BADA18E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1AD-1814-42A5-9B2D-672A6708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15B-A061-4768-8DC8-FE6ABB7F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5B1-BD05-4A86-A322-2E0D34C3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079-9829-47B6-9295-F764DB2F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577-7779-4D9E-8458-8F4BAC6B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9EAE-8224-47CC-8857-073F6A8B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42B-1D50-49F9-B021-2ACC3990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A02-4FB5-47CB-93C5-A493CD23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9C43-CB7A-48CE-A4E1-2D862806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69C3-7070-4B9F-AF34-A3E6CA7F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EFE6-8123-401A-9A29-CECA1E282CF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AC69-B1D5-41D9-99C3-BA07D2F0FB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57560" y="1879560"/>
            <a:ext cx="380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Arial"/>
                <a:ea typeface="黑体"/>
              </a:rPr>
              <a:t>大  雁  归  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2720" y="3068640"/>
            <a:ext cx="505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利奥波德（美国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20600" y="4187880"/>
            <a:ext cx="33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科学文艺散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范海荣 - 鸿雁1" descr=""/>
          <p:cNvPicPr/>
          <p:nvPr/>
        </p:nvPicPr>
        <p:blipFill>
          <a:blip r:embed="rId2"/>
          <a:stretch/>
        </p:blipFill>
        <p:spPr>
          <a:xfrm>
            <a:off x="832500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26160" y="418788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授课者：邹蜀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5295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我们的呐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619280" y="189000"/>
            <a:ext cx="5334120" cy="86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七嘴八舌话大雁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536920"/>
            <a:ext cx="910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660033"/>
                </a:solidFill>
                <a:latin typeface="Arial"/>
              </a:rPr>
              <a:t>展示提示：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结合课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谈谈你对人类想说的话。（还可以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结合当今气候变化现状或人类肆意破坏环境的现象、事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进行分析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905120" y="189000"/>
            <a:ext cx="5333760" cy="86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三言两语谈收获</a:t>
            </a:r>
            <a:endParaRPr b="0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" name=""/>
          <p:cNvSpPr/>
          <p:nvPr/>
        </p:nvSpPr>
        <p:spPr>
          <a:xfrm>
            <a:off x="436680" y="2305080"/>
            <a:ext cx="82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根据各个小组的发言，请一至两个小组代表谈谈在本节课中的收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29736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后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8686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阅读课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——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，完成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628640"/>
            <a:ext cx="91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１、“一只燕子的来临说明不了春天，但当一群大雁冲破了三月暖流的雾霭时，春天就来到了”，这句话表达了怎样的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２、第三段中说大雁知道威斯康星的法规是什么？这意味着大雁们怎么做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３、“三月的大雁则不同”，从结构上看，这句话在文章中起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４、学习了本文，对你有什么启示？请结合实际谈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9576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-11160" y="1053720"/>
            <a:ext cx="904896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1160" y="1054080"/>
            <a:ext cx="9048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宋体"/>
                <a:ea typeface="宋体"/>
              </a:rPr>
              <a:t>1</a:t>
            </a:r>
            <a:r>
              <a:rPr b="0" lang="zh-CN" sz="4800" spc="-1" strike="noStrike">
                <a:solidFill>
                  <a:srgbClr val="ff3300"/>
                </a:solidFill>
                <a:latin typeface="宋体"/>
                <a:ea typeface="宋体"/>
              </a:rPr>
              <a:t>、能正确朗读课文，体会作者对大雁的喜爱之情。</a:t>
            </a:r>
            <a:r>
              <a:rPr b="0" lang="zh-CN" sz="4800" spc="-1" strike="noStrike">
                <a:solidFill>
                  <a:srgbClr val="000099"/>
                </a:solidFill>
                <a:latin typeface="宋体"/>
                <a:ea typeface="宋体"/>
              </a:rPr>
              <a:t>（朗读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宋体"/>
                <a:ea typeface="宋体"/>
              </a:rPr>
              <a:t>2</a:t>
            </a:r>
            <a:r>
              <a:rPr b="0" lang="zh-CN" sz="4800" spc="-1" strike="noStrike">
                <a:solidFill>
                  <a:srgbClr val="ff3300"/>
                </a:solidFill>
                <a:latin typeface="宋体"/>
                <a:ea typeface="宋体"/>
              </a:rPr>
              <a:t>、能正确品析含义丰富的句子。   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宋体"/>
                <a:ea typeface="宋体"/>
              </a:rPr>
              <a:t>                 </a:t>
            </a:r>
            <a:r>
              <a:rPr b="0" lang="zh-CN" sz="4800" spc="-1" strike="noStrike">
                <a:solidFill>
                  <a:srgbClr val="000099"/>
                </a:solidFill>
                <a:latin typeface="宋体"/>
                <a:ea typeface="宋体"/>
              </a:rPr>
              <a:t>（品味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宋体"/>
                <a:ea typeface="宋体"/>
              </a:rPr>
              <a:t>3</a:t>
            </a:r>
            <a:r>
              <a:rPr b="0" lang="zh-CN" sz="4800" spc="-1" strike="noStrike">
                <a:solidFill>
                  <a:srgbClr val="ff3300"/>
                </a:solidFill>
                <a:latin typeface="宋体"/>
                <a:ea typeface="宋体"/>
              </a:rPr>
              <a:t>、具备人类生存环境的思考和忧患意识。        </a:t>
            </a:r>
            <a:r>
              <a:rPr b="0" lang="zh-CN" sz="4800" spc="-1" strike="noStrike">
                <a:solidFill>
                  <a:srgbClr val="000099"/>
                </a:solidFill>
                <a:latin typeface="宋体"/>
                <a:ea typeface="宋体"/>
              </a:rPr>
              <a:t>（反思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组准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按照预习要求，梳理下列材料，小组或个人准备展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06064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1.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我组制名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             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我组扫障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             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3.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我组来朗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             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4.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我组理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             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5.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我组来品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             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6.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我组唱赞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我组制名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40" y="2206800"/>
            <a:ext cx="9036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660033"/>
                </a:solidFill>
                <a:latin typeface="Arial"/>
              </a:rPr>
              <a:t>展示提示：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可以按照以下提示或自己喜欢的方式为大雁建立（名片）卡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名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                      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科目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或纲目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)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                      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习性 ：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                         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特征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79640" y="-9360"/>
            <a:ext cx="609588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我自信，我能行！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我组扫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060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660033"/>
                </a:solidFill>
                <a:latin typeface="Arial"/>
              </a:rPr>
              <a:t>展示要求：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展示生字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时，要讲出拼音和汉字书写注意事项。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展示词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时，可重点选择几个词语讲解该词语运用的注意事项，如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感情色彩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适用的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对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词义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程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用词的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范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979640" y="260280"/>
            <a:ext cx="609588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我自信，我能行！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我组来朗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79640" y="260280"/>
            <a:ext cx="609588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我自信，我能行！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400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</a:rPr>
              <a:t>展示要求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挑选自己喜爱的段落或经典的句子用喜欢的方式读读，尽量多读出优美的句子。并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</a:rPr>
              <a:t>简要谈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朗读技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我组理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536920"/>
            <a:ext cx="91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33"/>
                </a:solidFill>
                <a:latin typeface="Arial"/>
              </a:rPr>
              <a:t>展示要求：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先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个小组展示，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</a:rPr>
              <a:t>再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另外一个小组补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979640" y="260280"/>
            <a:ext cx="609588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我自信，我能行！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我组来赏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79640" y="260280"/>
            <a:ext cx="609588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我自信，我能行！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498760"/>
            <a:ext cx="910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Arial"/>
              </a:rPr>
              <a:t>展示提示</a:t>
            </a:r>
            <a:r>
              <a:rPr b="0" lang="zh-CN" sz="3200" spc="-1" strike="noStrike">
                <a:solidFill>
                  <a:srgbClr val="660033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以下要点供赏析作参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根据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课后思考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出现的句子入手进行赏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抓你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喜欢的句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重点词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句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进行赏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抓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体现作者情感表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面的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句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语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赏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从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文章主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面进行赏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从文章写作特点方面入手进行赏析。如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修辞、语言、写作手法、文体特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方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4920" y="1414080"/>
            <a:ext cx="907416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我组唱赞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2400480"/>
            <a:ext cx="9074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660033"/>
                </a:solidFill>
                <a:latin typeface="Arial"/>
              </a:rPr>
              <a:t>展示提示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组可展示与大雁有关的古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诗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说出有关大雁的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成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唱出与大雁有关的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歌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读一节歌颂大雁的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现代诗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用粉笔画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雁的形象，以表达对它的喜爱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可写一写；（“写一写”可从以下两方面考虑：如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可结合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课后“读一读，写一写”的五个词语连成一段文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达对大雁的情怀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可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发挥自己的想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大雁描写，以表达自己对大雁的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喜爱之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或者以“大雁，我想对你说”为</a:t>
            </a:r>
            <a:r>
              <a:rPr b="0" lang="zh-CN" sz="3200" spc="-1" strike="noStrike">
                <a:solidFill>
                  <a:srgbClr val="cc3300"/>
                </a:solidFill>
                <a:latin typeface="Arial"/>
              </a:rPr>
              <a:t>话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写几句话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979640" y="260280"/>
            <a:ext cx="6095880" cy="8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我自信，我能行！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bianxiaoxiang</cp:lastModifiedBy>
  <dcterms:modified xsi:type="dcterms:W3CDTF">2014-04-12T01:25:2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