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png" ContentType="image/png"/>
  <Override PartName="/ppt/media/image4.jpeg" ContentType="image/jpeg"/>
  <Override PartName="/ppt/media/cashreg.wav" ContentType="audio/x-wav"/>
  <Override PartName="/ppt/media/image12.jpeg" ContentType="image/jpeg"/>
  <Override PartName="/ppt/media/image1.png" ContentType="image/png"/>
  <Override PartName="/ppt/media/image3.jpeg" ContentType="image/jpeg"/>
  <Override PartName="/ppt/media/image8.gif" ContentType="image/gif"/>
  <Override PartName="/ppt/media/image21.wmf" ContentType="image/x-wmf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E21-922A-4D5B-8EF7-F71AF111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FF2-9B30-413A-AC6B-B4E4A93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B56-DF0B-4D82-B121-74299E95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E54-ACF7-4D1E-9F5A-0774C0F8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A48-FD7E-4D7A-BE57-B240644A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1DC-A726-46A6-BD37-93F74D88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AB6-086A-4516-BDD3-5B3A0F9F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29A-7A64-4C4F-9746-94A56193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6C1-B00C-45E7-8308-676A36D0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118-B271-40CE-AD26-B4E4B8DF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0A8-EF6E-4787-9C8B-72FA12E4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715-B522-4552-8E69-EFD5585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01F3-8246-4B25-A3D8-447524DEC6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allcoo.com/animal/fly_and_freedom/html/image27.html" TargetMode="External"/><Relationship Id="rId2" Type="http://schemas.openxmlformats.org/officeDocument/2006/relationships/image" Target="../media/image10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334;%B7&#629;&#308;%F3%D1%E3&amp;in=11&amp;cl=2&amp;cm=1&amp;sc=0&amp;lm=-1&amp;pn=10&amp;rn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ynzb.com/bbs/dispbbs.asp?boardID=88&amp;ID=18575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shrb.dzwww.com/shrbxw/sdsd/200612/t20061226_1935841.htm" TargetMode="External"/><Relationship Id="rId6" Type="http://schemas.openxmlformats.org/officeDocument/2006/relationships/image" Target="../media/image14.jpe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x.edu.sh.cn/ziyuan/zongheziyuan/tupian/dwtp/dwtp_6.htm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zrb.com/newscenter/2007/1/24/122535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2255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33520" y="2514600"/>
            <a:ext cx="2530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大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0760" y="4305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归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3048120" cy="225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1066680"/>
            <a:ext cx="3048120" cy="2256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57200" y="4267080"/>
            <a:ext cx="3048120" cy="2256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3048120" cy="2255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65419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219320" y="260280"/>
            <a:ext cx="723888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雁，鸟类的一属，形状略像鹅，颈和翼较长，足和尾较短，羽毛淡紫褐色。善于游泳和飞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65600" y="-318960"/>
            <a:ext cx="5162400" cy="381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55640" y="2193840"/>
            <a:ext cx="746748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理解下列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它的来临，伴随着一位切断了其后路的先知的坚定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乌鸦通常被认为是笔直飞行的，但与坚定不移的向南飞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英里直达最近的大湖的大雁相比，它的飞行也就成了曲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914400"/>
            <a:ext cx="701028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迁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只燕子的来临说明不了春天，但当一群大雁冲破了三月暖流的雾霭时，春天就来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581360"/>
            <a:ext cx="3168720" cy="222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115920"/>
            <a:ext cx="3910320" cy="2592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4365720"/>
            <a:ext cx="31338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-74520"/>
            <a:ext cx="7705800" cy="70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积     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征蓬出汉塞，归雁入胡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             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王维《使至塞上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乡书何处达，归雁洛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             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王湾《北固山下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千里黄云白日曛，北风吹雁雪纷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             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高适《别董大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塞下秋来风景异，衡阳雁去无留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             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范仲淹《渔家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月黑雁飞高，单于夜遁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                   ——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卢纶《塞下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忠  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再也不应该把其他生物仅仅看作我们的美味佳肴，而首先应该把它们看作是与我们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平等的生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看作是宇宙智慧的创造物，看作是宇宙之美的展示者。首先应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敬畏它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就像敬畏我们自己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05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236043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美丽的家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1367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821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2901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布置作业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结合学过的课文内容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写一篇读后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295280" y="13716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祝同学们学习进步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124080" y="3886200"/>
            <a:ext cx="2286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99960" y="-109440"/>
            <a:ext cx="9943920" cy="70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86520" cy="3219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47624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990720"/>
            <a:ext cx="822960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教学目标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大雁的生活习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本文的抒情语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作者的思想感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会本文的写作特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培养热爱自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爱动物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88000" y="549360"/>
            <a:ext cx="171468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2132640"/>
            <a:ext cx="86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迁（    ）（    ）默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猎（      ） 雾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泽（     ）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蹼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）（　）（   ）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0360" y="1675440"/>
            <a:ext cx="5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31400" y="1675440"/>
            <a:ext cx="86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jiā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43800" y="16455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ǎ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92840" y="266616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ā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508392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缄默           目空一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5560" y="3974400"/>
            <a:ext cx="207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２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释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09640" y="877320"/>
            <a:ext cx="268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4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１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注音或写汉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5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2133720"/>
            <a:ext cx="59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9400" y="21337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shò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ff"/>
                </a:solidFill>
                <a:latin typeface="Times New Roman"/>
              </a:rPr>
              <a:t>zh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p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048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Times New Roman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702920" y="2057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0800" y="304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</a:rPr>
              <a:t>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500364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速读课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握文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后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-----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了解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为你带路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第一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了解到大雁在三月从南方归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13673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28600"/>
            <a:ext cx="800100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品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 ：快速默读课文，仔细揣摩作者的感情，并做批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交流 ：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感受到————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66"/>
                </a:solidFill>
                <a:latin typeface="Arial"/>
              </a:rPr>
              <a:t>教你品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“一只燕子的来临说明不了春天，但当一群大雁冲破了三月暖流的雾霭时，春天就来到了。”在对比中，我感受到大雁是春天真正的使者，在作者心中，大雁与人类一样具有灵性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1:28:10Z</dcterms:created>
  <dc:creator>guo</dc:creator>
  <dc:description/>
  <dc:language>en-US</dc:language>
  <cp:lastModifiedBy>猪猪猫.CN</cp:lastModifiedBy>
  <dcterms:modified xsi:type="dcterms:W3CDTF">2007-05-16T07:08:34Z</dcterms:modified>
  <cp:revision>23</cp:revision>
  <dc:subject/>
  <dc:title>幻灯片 1</dc:title>
</cp:coreProperties>
</file>