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10.wmf" ContentType="image/x-wmf"/>
  <Override PartName="/ppt/media/image4.jpeg" ContentType="image/jpeg"/>
  <Override PartName="/ppt/media/image7.jpeg" ContentType="image/jpeg"/>
  <Override PartName="/ppt/media/image13.png" ContentType="image/png"/>
  <Override PartName="/ppt/media/image6.jpeg" ContentType="image/jpeg"/>
  <Override PartName="/ppt/media/image5.jpeg" ContentType="image/jpeg"/>
  <Override PartName="/ppt/media/image24.gif" ContentType="image/gif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B35E-F6F8-48E6-9142-A927A3D98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CA91-6F22-4E18-8261-BF132E87E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73FA49-9A24-48B8-8CAB-D90C60C61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6BB543-BD1E-43D9-9F5D-CCE8761D2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955CF3-5582-43FD-B0DA-CE6A5D00E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2C71B6-CA92-45B6-B16F-E960CADF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E27538-59CC-4A52-85DD-F7B57682A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B49FEC-EA94-4170-8956-F16C8F6A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3B2185-AE25-4A7F-828E-9368B8311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AA8AF2-0F22-4F10-9C7B-6EDBCAC6E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F94AEE-DBC4-4EB1-811E-0D3D40188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08BB4F-55C3-42D4-B274-810295565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F469-30BD-4915-80C9-904091DC9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640FE7-58A9-444F-84F4-CB4B7E427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53CBDD-AF6C-404E-A149-FB1618822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699C15-1185-4C39-BCAD-E3B5C2A47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5A5825-6AF0-4806-B124-D53BC589F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6597CD-4018-4A49-82E0-52C5B2CFB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D8FE5E-599C-481F-AD1D-F4EB4EAE4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8383DE-4B89-4AF3-8768-1C54A703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E178C1-9FF1-449C-8B3C-0AE2BD4A0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F9059E-869C-4FDC-97E3-8D4D4311B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387D00-3DD6-421F-A9EF-19F704E92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93F6-7C57-4411-A669-18C32365D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031C37-CA62-47B6-AF72-69DEB5736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A937CD-35D6-46EA-AAB1-C0593076A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49E9E1-F1E2-42BC-BE0B-F294B85E4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D00318-A0D8-465A-93D0-0213F43A8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EAC530-6E53-4F8A-9565-803BF80A2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D80E26-5D74-4D2C-95F2-9C3AFFB38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13EC87-0439-4FA9-8A0F-7C492B09F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98957E-2E87-4B05-BF0E-BCBE4D87F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EE7CB5-9EB6-4F1C-9D2A-D4AB5A8BD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C458EA-FA8E-4FCF-909E-1F9453D5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02C03-3AF1-4037-A903-D46DA5C11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A09997-5486-4BB2-823D-5E6E6FC72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BFC7A5-B4D5-4A44-ACB8-D9CBDE2E4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B22D73-7540-4B46-A125-1C105F08C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E20F1-C325-44A1-AE86-7D70DDE84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01BFA-9BCB-4D57-9FC2-0C399802A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E9A42-5A31-446A-9C4B-AB68410AE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BBC43-A3F6-4D5C-B5DD-2F26674B0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D266C-2395-4CBD-823D-F1CEF05F0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E2219-AA61-4113-B214-A844F5A1C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4672-D012-48BC-BAB3-BFCD4E77D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8165F-FDAB-465F-ABDE-E8C01A0A0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D7500-1405-4190-AB19-CF2555068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E83D4-8938-48B8-9904-55D9C8F9D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904B3-AEB8-4E8F-B678-945FD06F6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5B08D-EAEC-4ED7-B982-E4A9D47D0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D3F1A-27B3-4C9C-86B0-40112F594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E4339-B6E5-4BD9-8BD1-F1E66F11D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BFF0F-0C5F-4838-B4B4-4A24EA403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F8D5D-6B98-4E3F-AB56-BB5DDBCB3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4DD6D-A8C7-42BB-9AEC-B1F92E845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D593-B749-4128-8A56-795F46A59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BC64D-1D53-45B7-B126-7E340816C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11CCC-B78A-4AF1-9F99-1AD826B79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84FFF-C660-4753-9572-A9173E9EA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CB9DF-1F6A-4D2E-A4F0-839515F3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83C45-8CC4-4699-B86D-E19365C4A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09C7B-B2F8-423E-97A5-B68E41FF2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D831A-1AB4-4B12-BB01-246F70296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CA9FE-3EA4-4899-8AC0-0667CA54D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5BABB-581B-4353-A4EA-937D1F6A9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4C7AD-FE8F-48CD-BA7B-7541EB028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5845-6F04-424F-827D-203A3E0FA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91FE9-2020-4EC4-8A86-19940EAB2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65778-1B9C-423D-BF58-7196AD1D7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B0545-EA6A-4B71-BF25-D6C369F25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F0C10-EE50-44E5-8D8A-432194F7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F3E4C-D627-4107-9A2A-AE2F28770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FE48C-AC6B-4EBB-A241-3A304BD1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22F41-BCA5-42EF-8A65-60EF14330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56F11-71B1-4BCD-88C8-B09D8A9F7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69D18-6735-4CFE-A2F1-BBD15B15E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BA00D-9B12-48E0-9B25-1F250CB10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F91C-F4BE-4BC7-84B7-6D31F3EF5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3DC6A-1A36-4A8F-8717-DC8F4D804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E71D0A-4110-4203-B830-9A8A50D22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F9D36-B0AE-49FD-BFFE-2CE59BC83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24673B-A9FF-4C53-8855-81F4D033B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EBD70-62BC-4B63-AA12-3803A0D4D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00272-71EE-43A1-B092-57B111676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2E90F-3071-4208-BEF9-10AD8822C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2A953-7668-43DA-B334-226F13499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61304-A233-4097-869A-995C20F1C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DF8ED-925D-492D-8C22-562FFD493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6E75-1B38-43EC-88B0-911DC7737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C20F2C-F710-4977-8057-8B470D179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06B200-90C0-402D-8103-2F956C3A9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3700D2-5C2B-4761-9F58-9BFEB4849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211633-9165-434E-A5FC-11D6A06A0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FD250D-164E-4063-B382-DA98DECFC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CF0605-B5C7-4A96-B41A-EB2194B1B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C25B03-EDF6-4B24-9C18-4032111A9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D3898A-601A-40F1-97FD-A07A084E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40E05A-08F5-486E-8782-D23CDD4B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E3B8A3-2516-4FB3-B26C-7EBC8CAC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70E4-4966-4C1E-8EF9-8F50668A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F6FE58-BB50-45BE-8D19-A412F2990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4A3621-AAFC-4BBB-B1AC-D01DEAD88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AE799C-EC80-461F-A6B6-3E065BE40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4A34F5-BC46-4C85-8112-C9D3238BD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83ADFC-F401-4E3B-94DB-07AE7ADEA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05B9AA-4B9B-4C22-AA83-E4C0B3929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1419AB-C051-448C-80DD-0752B11E7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C6A101-1E2B-42F1-BD9D-38D591632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1D9B36-636D-45C7-BFB4-74CBB3429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1D4507-0C04-4BE2-B2CB-D5B3E16E0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8455-FBB4-421B-87DE-DFA9FC28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089AFD-4BB1-4428-85A8-D3C5F9FE3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C529F5-F2FB-4D8C-8F1F-EF276C10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1F5C3A-D12A-42D1-BF3B-5F17260B9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60D8CD-84C1-4287-80E7-C381481FB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2580E4-0528-4A43-8451-8A923D804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260DC7-BE6E-48C9-80F2-3F6AB169D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2CBACD-3EC0-4FC4-9140-EE2157410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E64205-70D6-4446-A778-7FBD4E2D8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051F47-3E72-45D4-B9D2-8132FB888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DE3F25-BBFA-4EC6-98D9-7ADBED725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E77F-FEC3-46A9-8CDD-B5F9B4FC6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68B1CD-0847-418E-BE64-90AE6BC38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1BF340-7C49-48EA-8ABD-8ECA8558C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BEF65A-061A-40B7-9DE9-EA08872BF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9B538F-B3A5-416C-8F09-6BE7464AC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E7B830-FE04-4FAB-BF13-3F7FC2530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032F2C-FB7D-4CB8-943B-34D569F4B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723570-4CD9-4AE2-B15A-4B8DA45F4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F6D20E-761B-41ED-8CB7-CD1F74697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837865-83DD-4DB9-A083-5A1FF9FFB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B29B04-1722-4154-A947-3EB1C6739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D643D-F2C7-4035-88B3-EC29961DB9B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D3520-929D-45CA-86E0-A71B1D0E964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01D3D-FC32-40B0-B21E-DDDB3650C08A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7F1F0-A0F3-41A1-A22A-62E159DA070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762F2-6553-414C-B187-10EDE1D8E5D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37F67-D93E-4235-93A7-51262023EFA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E0836-B58D-40DF-A513-9EF2AC87176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B57E5-97F3-435A-A63C-96E565C120D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CCFC2-AA2E-4DF0-8D0E-A834B857BF4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9E005-28EE-464F-A75E-358344A5173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0486E-02F4-47EF-8F87-525D9B1C0F6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image" Target="../media/image24.gif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图片 183297" descr="双黄鸭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2" name="矩形 183298"/>
          <p:cNvSpPr txBox="1"/>
          <p:nvPr/>
        </p:nvSpPr>
        <p:spPr>
          <a:xfrm>
            <a:off x="914400" y="914400"/>
            <a:ext cx="6781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ff6600"/>
                  </a:solidFill>
                  <a:round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隶书"/>
              </a:rPr>
              <a:t>端午的鸭蛋</a:t>
            </a:r>
            <a:endParaRPr b="1" lang="en-US" sz="5400" spc="1" strike="noStrike">
              <a:ln w="12600">
                <a:solidFill>
                  <a:srgbClr val="ff6600"/>
                </a:solidFill>
                <a:round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图片 203779" descr="背景22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1017360"/>
            <a:ext cx="7772400" cy="27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我的家乡是水乡。出鸭。高邮大麻鸭是著名的鸭种。鸭多，鸭蛋也多。高邮人也善于腌鸭蛋。高邮咸鸭蛋于是出了名。</a:t>
            </a:r>
            <a:br>
              <a:rPr sz="3600"/>
            </a:br>
            <a:br>
              <a:rPr sz="36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这几个句子有什么特点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914400" y="4343040"/>
            <a:ext cx="72612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句子简短，极其简练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有口语色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8" dur="5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3" dur="500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图片 204803" descr="背景22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请再找出几个有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口语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色彩的句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53180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哦！你们那里出咸鸭蛋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我对异乡人称道高邮鸭蛋，是不大高兴的，好像我们那穷地方就出鸭蛋似的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我在北京吃的咸鸭蛋，蛋黄是浅黄色的，这叫什么咸鸭蛋呢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别说鸭蛋都是一样的，细看却不同。有的样子蠢，有的秀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5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" dur="500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0" dur="500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5" dur="500"/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图片 205827" descr="背景22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1960" y="75384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双黄鸭蛋味道其实无特别处。还不就是个鸭蛋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!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只是切开之后，里面圆圆的两个黄，使人惊奇不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已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。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惊奇不已”的“已”是什么意思？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个句子有什么特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382760" y="3971520"/>
            <a:ext cx="5781600" cy="18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停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有文言色彩，比较典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2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7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图片 206851" descr="背景22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请再找出几个有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文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色彩的句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楷体_GB2312"/>
              </a:rPr>
              <a:t>我走的地方不少，所食鸭蛋多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楷体_GB2312"/>
              </a:rPr>
              <a:t>但是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楷体_GB2312"/>
              </a:rPr>
              <a:t>腌蛋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楷体_GB2312"/>
              </a:rPr>
              <a:t>这一条我看后却觉得很亲切，而且“与有荣焉”。文不长，录如下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  <a:ea typeface="楷体_GB2312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楷体_GB2312"/>
              </a:rPr>
              <a:t>蛋白柔嫩，不似别处的发干、发粉，入口如嚼石灰。油多尤为别处所不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  <a:ea typeface="楷体_GB2312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4" dur="5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9" dur="500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4" dur="500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9" dur="500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图片 207876" descr="背景22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8207280" cy="24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我走的地方不少，所食鸭蛋多矣，但和我家乡的完全不能相比！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曾经沧海难为水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，他乡咸鸭蛋，我实在瞧不上。</a:t>
            </a:r>
            <a:br>
              <a:rPr sz="3600"/>
            </a:br>
            <a:br>
              <a:rPr sz="10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曾经沧海难为水”是什么意思？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个诗句出自何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33520" y="3124080"/>
            <a:ext cx="807696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看过沧海之后，别的水就都看不上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孟子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：观于海者难为水，游于圣人之门者难为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唐代诗人元缜作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无题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一诗悼亡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  <a:ea typeface="楷体_GB2312"/>
              </a:rPr>
              <a:t>曾经沧海难为水， 除却巫山不是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  <a:ea typeface="楷体_GB2312"/>
              </a:rPr>
              <a:t>取次花丛懒回顾，半缘修道半缘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6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1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6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1" dur="500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6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图片 211981" descr="背景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8" name="对象 211969" descr=""/>
          <p:cNvPicPr/>
          <p:nvPr/>
        </p:nvPicPr>
        <p:blipFill>
          <a:blip r:embed="rId2"/>
          <a:stretch/>
        </p:blipFill>
        <p:spPr>
          <a:xfrm>
            <a:off x="9144000" y="0"/>
            <a:ext cx="76320" cy="685800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pic>
        <p:nvPicPr>
          <p:cNvPr id="529" name="对象 211970" descr=""/>
          <p:cNvPicPr/>
          <p:nvPr/>
        </p:nvPicPr>
        <p:blipFill>
          <a:blip r:embed="rId3"/>
          <a:stretch/>
        </p:blipFill>
        <p:spPr>
          <a:xfrm>
            <a:off x="0" y="0"/>
            <a:ext cx="76320" cy="685800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530" name="文本框 211971"/>
          <p:cNvSpPr/>
          <p:nvPr/>
        </p:nvSpPr>
        <p:spPr>
          <a:xfrm>
            <a:off x="1404360" y="260280"/>
            <a:ext cx="2100960" cy="52056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归纳文章语言的特色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文本框 211972"/>
          <p:cNvSpPr/>
          <p:nvPr/>
        </p:nvSpPr>
        <p:spPr>
          <a:xfrm>
            <a:off x="1756800" y="990720"/>
            <a:ext cx="8406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黑体"/>
              </a:rPr>
              <a:t>、平淡有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文本框 211973"/>
          <p:cNvSpPr/>
          <p:nvPr/>
        </p:nvSpPr>
        <p:spPr>
          <a:xfrm>
            <a:off x="1828440" y="2362320"/>
            <a:ext cx="8406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黑体"/>
              </a:rPr>
              <a:t>、方言入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文本框 211974"/>
          <p:cNvSpPr/>
          <p:nvPr/>
        </p:nvSpPr>
        <p:spPr>
          <a:xfrm>
            <a:off x="2214360" y="3886200"/>
            <a:ext cx="627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黑体"/>
              </a:rPr>
              <a:t>、带有文言色彩：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文本框 211975"/>
          <p:cNvSpPr/>
          <p:nvPr/>
        </p:nvSpPr>
        <p:spPr>
          <a:xfrm>
            <a:off x="3191760" y="4572000"/>
            <a:ext cx="3807720" cy="52056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好处是：使文章增添书卷气和典雅之美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矩形 211976"/>
          <p:cNvSpPr/>
          <p:nvPr/>
        </p:nvSpPr>
        <p:spPr>
          <a:xfrm>
            <a:off x="1981080" y="3048120"/>
            <a:ext cx="6048360" cy="52056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好处是：作者脱口而出，直率朴素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矩形 211977"/>
          <p:cNvSpPr/>
          <p:nvPr/>
        </p:nvSpPr>
        <p:spPr>
          <a:xfrm>
            <a:off x="2855880" y="1676520"/>
            <a:ext cx="2701440" cy="52056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好处是：读起来亲切自然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文本框 211978"/>
          <p:cNvSpPr/>
          <p:nvPr/>
        </p:nvSpPr>
        <p:spPr>
          <a:xfrm>
            <a:off x="1858680" y="5257800"/>
            <a:ext cx="627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Arial"/>
                <a:ea typeface="黑体"/>
              </a:rPr>
              <a:t>4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黑体"/>
              </a:rPr>
              <a:t>、有点幽默：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矩形 211979"/>
          <p:cNvSpPr/>
          <p:nvPr/>
        </p:nvSpPr>
        <p:spPr>
          <a:xfrm>
            <a:off x="2133720" y="5943600"/>
            <a:ext cx="5410080" cy="45720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文本框 211980"/>
          <p:cNvSpPr/>
          <p:nvPr/>
        </p:nvSpPr>
        <p:spPr>
          <a:xfrm>
            <a:off x="2286000" y="586728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好处是：增加文章的趣味性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图片 214017" descr="背景4"/>
          <p:cNvPicPr/>
          <p:nvPr/>
        </p:nvPicPr>
        <p:blipFill>
          <a:blip r:embed="rId1"/>
          <a:stretch/>
        </p:blipFill>
        <p:spPr>
          <a:xfrm>
            <a:off x="0" y="1440"/>
            <a:ext cx="9145440" cy="6856560"/>
          </a:xfrm>
          <a:prstGeom prst="rect">
            <a:avLst/>
          </a:prstGeom>
          <a:ln w="0">
            <a:noFill/>
          </a:ln>
        </p:spPr>
      </p:pic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文章主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端午的鸭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文，在平淡的生活中发现情趣，发现诗意，在小小的咸鸭蛋里尝出生活的滋味，这正是汪曾祺先生的文字的魅力所在。文章读来从容闲淡，大有月下听长者谈古论今之感。悠然恬然之间，文章流露出的是对儿时生活的怀想，对故乡的热爱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-1143000" y="-304920"/>
            <a:ext cx="7099200" cy="11462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拓展延伸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深刻反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-304920" y="9907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38160" bIns="3816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韩国申报端午节为文化遗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宋体"/>
              </a:rPr>
              <a:t>      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江陵端午祭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”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是韩国农耕社会时期祈求丰年，民众共同参与的传统祝祭活动。在进行端午祭时，会举行假面舞剧、投壶、摔跤、荡秋千、长跪比赛、跆拳道比赛、高校足球赛等活动，而这些都是具有韩国地方特色的。每年吸引国内外百万人次参与和观光，韩国方面对江陵端午祭非常重视，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1967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年将其列入国家重点无形文化财产第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13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号，并于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2005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年向联合国科教文组织申报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世界无形遗产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”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2" dur="5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图片 197640" descr="背景22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0" y="-498960"/>
            <a:ext cx="9144000" cy="14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反思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拿什么来拯救你，端午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提案要案：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全国人大呼吁增加中国传统节日为法定节日（清明节、端午节、中秋节、七夕节、重阳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文本框 197635"/>
          <p:cNvSpPr/>
          <p:nvPr/>
        </p:nvSpPr>
        <p:spPr>
          <a:xfrm>
            <a:off x="0" y="286380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申请世界遗产：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中韩专家讨论两国联合申报端午成为世界遗产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文本框 197636"/>
          <p:cNvSpPr/>
          <p:nvPr/>
        </p:nvSpPr>
        <p:spPr>
          <a:xfrm>
            <a:off x="1749600" y="3978360"/>
            <a:ext cx="1839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文本框 197637"/>
          <p:cNvSpPr/>
          <p:nvPr/>
        </p:nvSpPr>
        <p:spPr>
          <a:xfrm>
            <a:off x="0" y="3913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民间行动：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湖南恢复举行龙舟赛， 六月龙舟竞渡再现龙之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文本框 197638"/>
          <p:cNvSpPr/>
          <p:nvPr/>
        </p:nvSpPr>
        <p:spPr>
          <a:xfrm>
            <a:off x="1457280" y="4297320"/>
            <a:ext cx="184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文本框 197639"/>
          <p:cNvSpPr/>
          <p:nvPr/>
        </p:nvSpPr>
        <p:spPr>
          <a:xfrm>
            <a:off x="0" y="496404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政府行动：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岳阳注册端午节网址，政府将其当作系统工程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6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图片 189466" descr="背景22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554" name="矩形 189442"/>
          <p:cNvSpPr txBox="1"/>
          <p:nvPr/>
        </p:nvSpPr>
        <p:spPr>
          <a:xfrm>
            <a:off x="4191120" y="2590920"/>
            <a:ext cx="2743200" cy="8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3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中国传统节日</a:t>
            </a:r>
            <a:endParaRPr b="0" lang="en-US" sz="44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555" name="文本框 189444"/>
          <p:cNvSpPr/>
          <p:nvPr/>
        </p:nvSpPr>
        <p:spPr>
          <a:xfrm>
            <a:off x="1295280" y="5638680"/>
            <a:ext cx="1447920" cy="581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方正舒体"/>
              </a:rPr>
              <a:t>中秋节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文本框 189445"/>
          <p:cNvSpPr/>
          <p:nvPr/>
        </p:nvSpPr>
        <p:spPr>
          <a:xfrm>
            <a:off x="609480" y="609480"/>
            <a:ext cx="1219320" cy="581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Times New Roman"/>
                <a:ea typeface="方正舒体"/>
              </a:rPr>
              <a:t>春  节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7" name="图片 189446" descr="chunjie02"/>
          <p:cNvPicPr/>
          <p:nvPr/>
        </p:nvPicPr>
        <p:blipFill>
          <a:blip r:embed="rId2"/>
          <a:stretch/>
        </p:blipFill>
        <p:spPr>
          <a:xfrm>
            <a:off x="1752480" y="457200"/>
            <a:ext cx="1219320" cy="990720"/>
          </a:xfrm>
          <a:prstGeom prst="rect">
            <a:avLst/>
          </a:prstGeom>
          <a:ln w="0">
            <a:noFill/>
          </a:ln>
        </p:spPr>
      </p:pic>
      <p:pic>
        <p:nvPicPr>
          <p:cNvPr id="558" name="图片 189447" descr="yuanxiao01"/>
          <p:cNvPicPr/>
          <p:nvPr/>
        </p:nvPicPr>
        <p:blipFill>
          <a:blip r:embed="rId3"/>
          <a:stretch/>
        </p:blipFill>
        <p:spPr>
          <a:xfrm>
            <a:off x="1600200" y="1523880"/>
            <a:ext cx="1447920" cy="990720"/>
          </a:xfrm>
          <a:prstGeom prst="rect">
            <a:avLst/>
          </a:prstGeom>
          <a:ln w="0">
            <a:noFill/>
          </a:ln>
        </p:spPr>
      </p:pic>
      <p:pic>
        <p:nvPicPr>
          <p:cNvPr id="559" name="图片 189448" descr="qingming02"/>
          <p:cNvPicPr/>
          <p:nvPr/>
        </p:nvPicPr>
        <p:blipFill>
          <a:blip r:embed="rId4"/>
          <a:stretch/>
        </p:blipFill>
        <p:spPr>
          <a:xfrm>
            <a:off x="1523880" y="2590920"/>
            <a:ext cx="1371600" cy="914400"/>
          </a:xfrm>
          <a:prstGeom prst="rect">
            <a:avLst/>
          </a:prstGeom>
          <a:ln w="0">
            <a:noFill/>
          </a:ln>
        </p:spPr>
      </p:pic>
      <p:pic>
        <p:nvPicPr>
          <p:cNvPr id="560" name="图片 189449" descr="duanwu02"/>
          <p:cNvPicPr/>
          <p:nvPr/>
        </p:nvPicPr>
        <p:blipFill>
          <a:blip r:embed="rId5"/>
          <a:stretch/>
        </p:blipFill>
        <p:spPr>
          <a:xfrm>
            <a:off x="1676520" y="3505320"/>
            <a:ext cx="1371600" cy="938160"/>
          </a:xfrm>
          <a:prstGeom prst="rect">
            <a:avLst/>
          </a:prstGeom>
          <a:ln w="0">
            <a:noFill/>
          </a:ln>
        </p:spPr>
      </p:pic>
      <p:pic>
        <p:nvPicPr>
          <p:cNvPr id="561" name="图片 189450" descr="qixi01"/>
          <p:cNvPicPr/>
          <p:nvPr/>
        </p:nvPicPr>
        <p:blipFill>
          <a:blip r:embed="rId6"/>
          <a:stretch/>
        </p:blipFill>
        <p:spPr>
          <a:xfrm>
            <a:off x="1828800" y="4343400"/>
            <a:ext cx="1676520" cy="114300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189451" descr="zhongqiu01"/>
          <p:cNvPicPr/>
          <p:nvPr/>
        </p:nvPicPr>
        <p:blipFill>
          <a:blip r:embed="rId7"/>
          <a:stretch/>
        </p:blipFill>
        <p:spPr>
          <a:xfrm>
            <a:off x="2743200" y="5410080"/>
            <a:ext cx="1295280" cy="838440"/>
          </a:xfrm>
          <a:prstGeom prst="rect">
            <a:avLst/>
          </a:prstGeom>
          <a:ln w="0">
            <a:noFill/>
          </a:ln>
        </p:spPr>
      </p:pic>
      <p:pic>
        <p:nvPicPr>
          <p:cNvPr id="563" name="图片 189452" descr="chongyang01"/>
          <p:cNvPicPr/>
          <p:nvPr/>
        </p:nvPicPr>
        <p:blipFill>
          <a:blip r:embed="rId8"/>
          <a:stretch/>
        </p:blipFill>
        <p:spPr>
          <a:xfrm>
            <a:off x="3809880" y="6019920"/>
            <a:ext cx="1295640" cy="990360"/>
          </a:xfrm>
          <a:prstGeom prst="rect">
            <a:avLst/>
          </a:prstGeom>
          <a:ln w="0">
            <a:noFill/>
          </a:ln>
        </p:spPr>
      </p:pic>
      <p:pic>
        <p:nvPicPr>
          <p:cNvPr id="564" name="图片 189453" descr="dongzhi01"/>
          <p:cNvPicPr/>
          <p:nvPr/>
        </p:nvPicPr>
        <p:blipFill>
          <a:blip r:embed="rId9"/>
          <a:stretch/>
        </p:blipFill>
        <p:spPr>
          <a:xfrm>
            <a:off x="5105520" y="6019920"/>
            <a:ext cx="1523880" cy="1090440"/>
          </a:xfrm>
          <a:prstGeom prst="rect">
            <a:avLst/>
          </a:prstGeom>
          <a:ln w="0">
            <a:noFill/>
          </a:ln>
        </p:spPr>
      </p:pic>
      <p:sp>
        <p:nvSpPr>
          <p:cNvPr id="565" name="文本框 189454"/>
          <p:cNvSpPr/>
          <p:nvPr/>
        </p:nvSpPr>
        <p:spPr>
          <a:xfrm>
            <a:off x="0" y="1641600"/>
            <a:ext cx="1600200" cy="581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方正舒体"/>
              </a:rPr>
              <a:t>元宵节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文本框 189455"/>
          <p:cNvSpPr/>
          <p:nvPr/>
        </p:nvSpPr>
        <p:spPr>
          <a:xfrm>
            <a:off x="0" y="2666880"/>
            <a:ext cx="1447920" cy="581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方正舒体"/>
              </a:rPr>
              <a:t>清明节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文本框 189456"/>
          <p:cNvSpPr/>
          <p:nvPr/>
        </p:nvSpPr>
        <p:spPr>
          <a:xfrm>
            <a:off x="212760" y="3699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文本框 189457"/>
          <p:cNvSpPr/>
          <p:nvPr/>
        </p:nvSpPr>
        <p:spPr>
          <a:xfrm>
            <a:off x="536760" y="3646440"/>
            <a:ext cx="912240" cy="581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方正舒体"/>
              </a:rPr>
              <a:t>端午节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文本框 189458"/>
          <p:cNvSpPr/>
          <p:nvPr/>
        </p:nvSpPr>
        <p:spPr>
          <a:xfrm>
            <a:off x="781200" y="4648320"/>
            <a:ext cx="912240" cy="581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方正舒体"/>
              </a:rPr>
              <a:t>七夕节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文本框 189459"/>
          <p:cNvSpPr/>
          <p:nvPr/>
        </p:nvSpPr>
        <p:spPr>
          <a:xfrm>
            <a:off x="2610000" y="6286680"/>
            <a:ext cx="912240" cy="581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方正舒体"/>
              </a:rPr>
              <a:t>重阳节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文本框 189460"/>
          <p:cNvSpPr/>
          <p:nvPr/>
        </p:nvSpPr>
        <p:spPr>
          <a:xfrm>
            <a:off x="6398280" y="6389640"/>
            <a:ext cx="668520" cy="581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方正舒体"/>
              </a:rPr>
              <a:t>冬至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文本框 189461"/>
          <p:cNvSpPr/>
          <p:nvPr/>
        </p:nvSpPr>
        <p:spPr>
          <a:xfrm>
            <a:off x="5123880" y="2209680"/>
            <a:ext cx="1826280" cy="358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10000"/>
                </a:solidFill>
                <a:latin typeface="Times New Roman"/>
                <a:ea typeface="方正舒体"/>
              </a:rPr>
              <a:t>观传统节日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文本框 189462"/>
          <p:cNvSpPr/>
          <p:nvPr/>
        </p:nvSpPr>
        <p:spPr>
          <a:xfrm>
            <a:off x="3675960" y="2133720"/>
            <a:ext cx="1826280" cy="3657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赏民俗风情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4" name="图片 189463" descr="047"/>
          <p:cNvPicPr/>
          <p:nvPr/>
        </p:nvPicPr>
        <p:blipFill>
          <a:blip r:embed="rId10"/>
          <a:stretch/>
        </p:blipFill>
        <p:spPr>
          <a:xfrm>
            <a:off x="7848720" y="6022800"/>
            <a:ext cx="1017360" cy="8352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3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图片 190469" descr="背景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4" name="图片 190467" descr="79102366190"/>
          <p:cNvPicPr/>
          <p:nvPr/>
        </p:nvPicPr>
        <p:blipFill>
          <a:blip r:embed="rId2"/>
          <a:stretch/>
        </p:blipFill>
        <p:spPr>
          <a:xfrm>
            <a:off x="6116760" y="1911240"/>
            <a:ext cx="2735280" cy="4584960"/>
          </a:xfrm>
          <a:prstGeom prst="rect">
            <a:avLst/>
          </a:prstGeom>
          <a:ln w="12600">
            <a:solidFill>
              <a:srgbClr val="008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455" name="文本框 190468"/>
          <p:cNvSpPr/>
          <p:nvPr/>
        </p:nvSpPr>
        <p:spPr>
          <a:xfrm>
            <a:off x="0" y="457200"/>
            <a:ext cx="5562720" cy="50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3300"/>
                </a:solidFill>
                <a:latin typeface="Times New Roman"/>
              </a:rPr>
              <a:t>汪曾祺（</a:t>
            </a:r>
            <a:r>
              <a:rPr b="1" lang="en-GB" sz="3600" spc="-1" strike="noStrike">
                <a:solidFill>
                  <a:srgbClr val="ff3300"/>
                </a:solidFill>
                <a:latin typeface="Times New Roman"/>
              </a:rPr>
              <a:t>1920----1997</a:t>
            </a:r>
            <a:r>
              <a:rPr b="1" lang="en-GB" sz="3600" spc="-1" strike="noStrike">
                <a:solidFill>
                  <a:srgbClr val="ff3300"/>
                </a:solidFill>
                <a:latin typeface="Times New Roman"/>
              </a:rPr>
              <a:t>）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ff3300"/>
                </a:solidFill>
                <a:latin typeface="Times New Roman"/>
              </a:rPr>
              <a:t>江苏高邮县人。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3300"/>
                </a:solidFill>
                <a:latin typeface="Times New Roman"/>
              </a:rPr>
              <a:t>跨现、当代的小说家。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散文家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资深文化界名人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曾师从沈从文，受其影响深远。代表作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受戒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》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大淖记事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开创了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年代中国小说新格局”。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图片 213000" descr="背景4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576" name="文本框 212995"/>
          <p:cNvSpPr/>
          <p:nvPr/>
        </p:nvSpPr>
        <p:spPr>
          <a:xfrm>
            <a:off x="304920" y="990720"/>
            <a:ext cx="8839080" cy="19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用你的笔，为你家乡的风俗文化赞扬一番，写出自豪感，语言生动传神，有文化气息。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文本框 212997"/>
          <p:cNvSpPr/>
          <p:nvPr/>
        </p:nvSpPr>
        <p:spPr>
          <a:xfrm>
            <a:off x="4065840" y="38088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写作训练：从以下两题中任选一题成文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文本框 212999"/>
          <p:cNvSpPr/>
          <p:nvPr/>
        </p:nvSpPr>
        <p:spPr>
          <a:xfrm>
            <a:off x="-15840" y="3809880"/>
            <a:ext cx="9159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  <a:ea typeface="宋体"/>
              </a:rPr>
              <a:t>2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宋体"/>
              </a:rPr>
              <a:t>、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宋体"/>
              </a:rPr>
              <a:t>据资料显示，如今大部分中学生都非常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宋体"/>
              </a:rPr>
              <a:t>喜欢过西方节日，如情人节、愚人节、圣诞节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宋体"/>
              </a:rPr>
              <a:t>等节日，而对中国传统节日越来越淡漠，你能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宋体"/>
              </a:rPr>
              <a:t>能从利弊两方面谈谈这种现象吗？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/>
          </p:nvPr>
        </p:nvSpPr>
        <p:spPr>
          <a:xfrm>
            <a:off x="-360" y="456840"/>
            <a:ext cx="381636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以散文笔调写小说，写出了家乡五行八作的见闻和风物人情、习俗民风，富于地方特色。作品在疏放中透出凝重，于平淡中显现奇崛，情韵灵动淡远，风致清逸秀异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图片 193538" descr="汪曾祺书画"/>
          <p:cNvPicPr/>
          <p:nvPr/>
        </p:nvPicPr>
        <p:blipFill>
          <a:blip r:embed="rId1"/>
          <a:stretch/>
        </p:blipFill>
        <p:spPr>
          <a:xfrm>
            <a:off x="4572000" y="476280"/>
            <a:ext cx="3897360" cy="5905440"/>
          </a:xfrm>
          <a:prstGeom prst="rect">
            <a:avLst/>
          </a:prstGeom>
          <a:ln w="57240">
            <a:solidFill>
              <a:srgbClr val="008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458" name="文本框 193539"/>
          <p:cNvSpPr/>
          <p:nvPr/>
        </p:nvSpPr>
        <p:spPr>
          <a:xfrm>
            <a:off x="533520" y="5715000"/>
            <a:ext cx="36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imes New Roman"/>
                <a:ea typeface="华文新魏"/>
              </a:rPr>
              <a:t>汪曾祺书画作品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组合 191510"/>
          <p:cNvGrpSpPr/>
          <p:nvPr/>
        </p:nvGrpSpPr>
        <p:grpSpPr>
          <a:xfrm>
            <a:off x="-2514600" y="-533520"/>
            <a:ext cx="13563720" cy="8839440"/>
            <a:chOff x="-2514600" y="-533520"/>
            <a:chExt cx="13563720" cy="8839440"/>
          </a:xfrm>
        </p:grpSpPr>
        <p:pic>
          <p:nvPicPr>
            <p:cNvPr id="460" name="图片 191509" descr="背景11"/>
            <p:cNvPicPr/>
            <p:nvPr/>
          </p:nvPicPr>
          <p:blipFill>
            <a:blip r:embed="rId1"/>
            <a:stretch/>
          </p:blipFill>
          <p:spPr>
            <a:xfrm>
              <a:off x="-2514600" y="-533520"/>
              <a:ext cx="13563720" cy="883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矩形 191492"/>
            <p:cNvSpPr/>
            <p:nvPr/>
          </p:nvSpPr>
          <p:spPr>
            <a:xfrm>
              <a:off x="1924200" y="1454040"/>
              <a:ext cx="842760" cy="59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38160" bIns="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33ff"/>
                  </a:solidFill>
                  <a:latin typeface="Arial"/>
                  <a:ea typeface="黑体"/>
                </a:rPr>
                <a:t>jì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矩形 191493"/>
            <p:cNvSpPr/>
            <p:nvPr/>
          </p:nvSpPr>
          <p:spPr>
            <a:xfrm>
              <a:off x="4010040" y="1454040"/>
              <a:ext cx="1109520" cy="59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38160" bIns="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33ff"/>
                  </a:solidFill>
                  <a:latin typeface="Arial"/>
                  <a:ea typeface="黑体"/>
                </a:rPr>
                <a:t>lào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矩形 191494"/>
            <p:cNvSpPr/>
            <p:nvPr/>
          </p:nvSpPr>
          <p:spPr>
            <a:xfrm>
              <a:off x="6332400" y="1380960"/>
              <a:ext cx="1273320" cy="59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38160" bIns="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33ff"/>
                  </a:solidFill>
                  <a:latin typeface="Arial"/>
                  <a:ea typeface="黑体"/>
                </a:rPr>
                <a:t>wàn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矩形 191495"/>
            <p:cNvSpPr/>
            <p:nvPr/>
          </p:nvSpPr>
          <p:spPr>
            <a:xfrm>
              <a:off x="1523880" y="2286000"/>
              <a:ext cx="148932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38160" bIns="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33ff"/>
                  </a:solidFill>
                  <a:latin typeface="Arial"/>
                  <a:ea typeface="黑体"/>
                </a:rPr>
                <a:t>huáng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矩形 191496"/>
            <p:cNvSpPr/>
            <p:nvPr/>
          </p:nvSpPr>
          <p:spPr>
            <a:xfrm>
              <a:off x="4038480" y="2209680"/>
              <a:ext cx="11257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38160" bIns="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33ff"/>
                  </a:solidFill>
                  <a:latin typeface="Arial"/>
                  <a:ea typeface="黑体"/>
                </a:rPr>
                <a:t>xiàn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矩形 191497"/>
            <p:cNvSpPr/>
            <p:nvPr/>
          </p:nvSpPr>
          <p:spPr>
            <a:xfrm>
              <a:off x="6095880" y="2209680"/>
              <a:ext cx="1405080" cy="59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38160" bIns="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33ff"/>
                  </a:solidFill>
                  <a:latin typeface="Arial"/>
                  <a:ea typeface="黑体"/>
                </a:rPr>
                <a:t>yān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矩形 191498"/>
            <p:cNvSpPr/>
            <p:nvPr/>
          </p:nvSpPr>
          <p:spPr>
            <a:xfrm>
              <a:off x="1295280" y="3124080"/>
              <a:ext cx="962280" cy="59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38160" bIns="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33ff"/>
                  </a:solidFill>
                  <a:latin typeface="Arial"/>
                  <a:ea typeface="黑体"/>
                </a:rPr>
                <a:t>méi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矩形 191499"/>
            <p:cNvSpPr/>
            <p:nvPr/>
          </p:nvSpPr>
          <p:spPr>
            <a:xfrm>
              <a:off x="3962520" y="3048120"/>
              <a:ext cx="125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38160" bIns="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33ff"/>
                  </a:solidFill>
                  <a:latin typeface="Arial"/>
                  <a:ea typeface="黑体"/>
                </a:rPr>
                <a:t>zhēn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矩形 191500"/>
            <p:cNvSpPr/>
            <p:nvPr/>
          </p:nvSpPr>
          <p:spPr>
            <a:xfrm>
              <a:off x="6629400" y="3048120"/>
              <a:ext cx="122724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38160" bIns="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33ff"/>
                  </a:solidFill>
                  <a:latin typeface="Arial"/>
                  <a:ea typeface="黑体"/>
                </a:rPr>
                <a:t>yÌn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矩形 191501"/>
            <p:cNvSpPr/>
            <p:nvPr/>
          </p:nvSpPr>
          <p:spPr>
            <a:xfrm>
              <a:off x="1295280" y="4038480"/>
              <a:ext cx="1036800" cy="59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38160" bIns="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33ff"/>
                  </a:solidFill>
                  <a:latin typeface="Arial"/>
                  <a:ea typeface="黑体"/>
                </a:rPr>
                <a:t>náng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矩形 191502"/>
            <p:cNvSpPr/>
            <p:nvPr/>
          </p:nvSpPr>
          <p:spPr>
            <a:xfrm>
              <a:off x="4343400" y="4114800"/>
              <a:ext cx="1095480" cy="12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38160" bIns="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33ff"/>
                  </a:solidFill>
                  <a:latin typeface="Arial"/>
                  <a:ea typeface="黑体"/>
                </a:rPr>
                <a:t>jiáo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矩形 191503"/>
            <p:cNvSpPr/>
            <p:nvPr/>
          </p:nvSpPr>
          <p:spPr>
            <a:xfrm>
              <a:off x="6400800" y="4038480"/>
              <a:ext cx="1020600" cy="59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38160" bIns="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33ff"/>
                  </a:solidFill>
                  <a:latin typeface="Arial"/>
                  <a:ea typeface="黑体"/>
                </a:rPr>
                <a:t>jué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28600" y="-72396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检查预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矩形 191490"/>
          <p:cNvSpPr/>
          <p:nvPr/>
        </p:nvSpPr>
        <p:spPr>
          <a:xfrm>
            <a:off x="339840" y="1395360"/>
            <a:ext cx="7962840" cy="21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  <a:ea typeface="黑体"/>
              </a:rPr>
              <a:t>系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黑体"/>
              </a:rPr>
              <a:t>百索子             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  <a:ea typeface="黑体"/>
              </a:rPr>
              <a:t>络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黑体"/>
              </a:rPr>
              <a:t>子                手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  <a:ea typeface="黑体"/>
              </a:rPr>
              <a:t>腕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黑体"/>
              </a:rPr>
              <a:t>城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  <a:ea typeface="黑体"/>
              </a:rPr>
              <a:t>隍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黑体"/>
              </a:rPr>
              <a:t>庙                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  <a:ea typeface="黑体"/>
              </a:rPr>
              <a:t>苋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黑体"/>
              </a:rPr>
              <a:t>菜                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  <a:ea typeface="黑体"/>
              </a:rPr>
              <a:t>腌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黑体"/>
              </a:rPr>
              <a:t>门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  <a:ea typeface="黑体"/>
              </a:rPr>
              <a:t>楣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元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稹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车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黑体"/>
              </a:rPr>
              <a:t>练</a:t>
            </a:r>
            <a:r>
              <a:rPr b="1" lang="en-GB" sz="2600" spc="-1" strike="noStrike">
                <a:solidFill>
                  <a:srgbClr val="ff0000"/>
                </a:solidFill>
                <a:latin typeface="Arial"/>
                <a:ea typeface="宋体"/>
              </a:rPr>
              <a:t>囊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  <a:ea typeface="黑体"/>
              </a:rPr>
              <a:t>嚼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黑体"/>
              </a:rPr>
              <a:t>石灰             咀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  <a:ea typeface="黑体"/>
              </a:rPr>
              <a:t>嚼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矩形 191491"/>
          <p:cNvSpPr/>
          <p:nvPr/>
        </p:nvSpPr>
        <p:spPr>
          <a:xfrm>
            <a:off x="380880" y="609480"/>
            <a:ext cx="50752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38160" bIns="38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一、正音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矩形 191504"/>
          <p:cNvSpPr/>
          <p:nvPr/>
        </p:nvSpPr>
        <p:spPr>
          <a:xfrm>
            <a:off x="609480" y="4495680"/>
            <a:ext cx="30625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38160" bIns="38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二、解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释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矩形 191505"/>
          <p:cNvSpPr/>
          <p:nvPr/>
        </p:nvSpPr>
        <p:spPr>
          <a:xfrm>
            <a:off x="533520" y="4973760"/>
            <a:ext cx="7872120" cy="18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黑体"/>
              </a:rPr>
              <a:t>莫名其妙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黑体"/>
              </a:rPr>
              <a:t>肃然起敬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矩形 191506"/>
          <p:cNvSpPr/>
          <p:nvPr/>
        </p:nvSpPr>
        <p:spPr>
          <a:xfrm>
            <a:off x="2322360" y="5410080"/>
            <a:ext cx="68216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  <a:ea typeface="黑体"/>
              </a:rPr>
              <a:t>名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  <a:ea typeface="黑体"/>
              </a:rPr>
              <a:t>: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  <a:ea typeface="黑体"/>
              </a:rPr>
              <a:t>说出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  <a:ea typeface="黑体"/>
              </a:rPr>
              <a:t>.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  <a:ea typeface="黑体"/>
              </a:rPr>
              <a:t>没有人能够说出它的奥妙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  <a:ea typeface="黑体"/>
              </a:rPr>
              <a:t>(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  <a:ea typeface="黑体"/>
              </a:rPr>
              <a:t>道理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  <a:ea typeface="黑体"/>
              </a:rPr>
              <a:t>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矩形 191507"/>
          <p:cNvSpPr/>
          <p:nvPr/>
        </p:nvSpPr>
        <p:spPr>
          <a:xfrm>
            <a:off x="2362320" y="5867280"/>
            <a:ext cx="411300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  <a:ea typeface="黑体"/>
              </a:rPr>
              <a:t>十分恭敬的样子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  <a:ea typeface="黑体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矩形 191508"/>
          <p:cNvSpPr/>
          <p:nvPr/>
        </p:nvSpPr>
        <p:spPr>
          <a:xfrm>
            <a:off x="1573200" y="5060880"/>
            <a:ext cx="446400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38160" bIns="38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图片 184335" descr="背景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2" name="折角形 184321"/>
          <p:cNvSpPr/>
          <p:nvPr/>
        </p:nvSpPr>
        <p:spPr>
          <a:xfrm>
            <a:off x="228600" y="1143000"/>
            <a:ext cx="5638680" cy="5715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3" name="图片 184322" descr="jsgyhg43"/>
          <p:cNvPicPr/>
          <p:nvPr/>
        </p:nvPicPr>
        <p:blipFill>
          <a:blip r:embed="rId2"/>
          <a:stretch/>
        </p:blipFill>
        <p:spPr>
          <a:xfrm>
            <a:off x="0" y="5410080"/>
            <a:ext cx="5257800" cy="1447920"/>
          </a:xfrm>
          <a:prstGeom prst="rect">
            <a:avLst/>
          </a:prstGeom>
          <a:ln w="0">
            <a:noFill/>
          </a:ln>
        </p:spPr>
      </p:pic>
      <p:sp>
        <p:nvSpPr>
          <p:cNvPr id="484" name="矩形 184323"/>
          <p:cNvSpPr txBox="1"/>
          <p:nvPr/>
        </p:nvSpPr>
        <p:spPr>
          <a:xfrm>
            <a:off x="685800" y="228600"/>
            <a:ext cx="26668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考考你</a:t>
            </a:r>
            <a:endParaRPr b="0" lang="en-US" sz="4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85" name="文本框 184324"/>
          <p:cNvSpPr/>
          <p:nvPr/>
        </p:nvSpPr>
        <p:spPr>
          <a:xfrm>
            <a:off x="152280" y="1981080"/>
            <a:ext cx="6019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华文行楷"/>
                <a:ea typeface="华文行楷"/>
              </a:rPr>
              <a:t>3.</a:t>
            </a:r>
            <a:r>
              <a:rPr b="0" lang="zh-CN" sz="4000" spc="-1" strike="noStrike">
                <a:solidFill>
                  <a:srgbClr val="333399"/>
                </a:solidFill>
                <a:latin typeface="华文行楷"/>
                <a:ea typeface="华文行楷"/>
              </a:rPr>
              <a:t>作者在端午节怎么把玩鸭蛋？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文本框 184325"/>
          <p:cNvSpPr/>
          <p:nvPr/>
        </p:nvSpPr>
        <p:spPr>
          <a:xfrm>
            <a:off x="228600" y="144792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5050"/>
                </a:solidFill>
                <a:latin typeface="华文行楷"/>
                <a:ea typeface="华文行楷"/>
              </a:rPr>
              <a:t>1.</a:t>
            </a:r>
            <a:r>
              <a:rPr b="0" lang="zh-CN" sz="4000" spc="-1" strike="noStrike">
                <a:solidFill>
                  <a:srgbClr val="ff5050"/>
                </a:solidFill>
                <a:latin typeface="华文行楷"/>
                <a:ea typeface="华文行楷"/>
              </a:rPr>
              <a:t>家乡过端午有哪些风俗？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文本框 184326"/>
          <p:cNvSpPr/>
          <p:nvPr/>
        </p:nvSpPr>
        <p:spPr>
          <a:xfrm>
            <a:off x="228600" y="2209680"/>
            <a:ext cx="57150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华文行楷"/>
                <a:ea typeface="华文行楷"/>
              </a:rPr>
              <a:t>2.</a:t>
            </a:r>
            <a:r>
              <a:rPr b="0" lang="zh-CN" sz="4000" spc="-1" strike="noStrike">
                <a:solidFill>
                  <a:srgbClr val="ff33cc"/>
                </a:solidFill>
                <a:latin typeface="华文行楷"/>
                <a:ea typeface="华文行楷"/>
              </a:rPr>
              <a:t>高邮最出名的是什么？</a:t>
            </a:r>
            <a:r>
              <a:rPr b="0" lang="zh-CN" sz="4000" spc="-1" strike="noStrike">
                <a:solidFill>
                  <a:srgbClr val="ff5050"/>
                </a:solidFill>
                <a:latin typeface="华文行楷"/>
                <a:ea typeface="华文行楷"/>
              </a:rPr>
              <a:t>   </a:t>
            </a:r>
            <a:r>
              <a:rPr b="0" lang="zh-CN" sz="4000" spc="-1" strike="noStrike">
                <a:solidFill>
                  <a:srgbClr val="ff00ff"/>
                </a:solidFill>
                <a:latin typeface="华文行楷"/>
                <a:ea typeface="华文行楷"/>
              </a:rPr>
              <a:t>它的特点是什么？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矩形 184327"/>
          <p:cNvSpPr/>
          <p:nvPr/>
        </p:nvSpPr>
        <p:spPr>
          <a:xfrm>
            <a:off x="6324480" y="228600"/>
            <a:ext cx="2057400" cy="6858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本文框架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下箭头 184328"/>
          <p:cNvSpPr/>
          <p:nvPr/>
        </p:nvSpPr>
        <p:spPr>
          <a:xfrm>
            <a:off x="7315200" y="990720"/>
            <a:ext cx="152280" cy="2286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椭圆 184329"/>
          <p:cNvSpPr/>
          <p:nvPr/>
        </p:nvSpPr>
        <p:spPr>
          <a:xfrm>
            <a:off x="6172200" y="1371600"/>
            <a:ext cx="2514600" cy="762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端午的风俗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下箭头 184330"/>
          <p:cNvSpPr/>
          <p:nvPr/>
        </p:nvSpPr>
        <p:spPr>
          <a:xfrm>
            <a:off x="7391520" y="3505320"/>
            <a:ext cx="152280" cy="2286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下箭头 184331"/>
          <p:cNvSpPr/>
          <p:nvPr/>
        </p:nvSpPr>
        <p:spPr>
          <a:xfrm>
            <a:off x="7315200" y="2209680"/>
            <a:ext cx="152280" cy="2286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椭圆 184332"/>
          <p:cNvSpPr/>
          <p:nvPr/>
        </p:nvSpPr>
        <p:spPr>
          <a:xfrm>
            <a:off x="6172200" y="2590920"/>
            <a:ext cx="2514600" cy="761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家乡的鸭蛋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椭圆 184333"/>
          <p:cNvSpPr/>
          <p:nvPr/>
        </p:nvSpPr>
        <p:spPr>
          <a:xfrm>
            <a:off x="6172200" y="3962520"/>
            <a:ext cx="2514600" cy="761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端午的鸭蛋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图片 199684" descr="背景10"/>
          <p:cNvPicPr/>
          <p:nvPr/>
        </p:nvPicPr>
        <p:blipFill>
          <a:blip r:embed="rId1"/>
          <a:stretch/>
        </p:blipFill>
        <p:spPr>
          <a:xfrm>
            <a:off x="0" y="0"/>
            <a:ext cx="9144000" cy="689760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70956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作者家乡的端午节有哪些风俗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142640" y="1828440"/>
            <a:ext cx="3429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系百索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做香角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贴五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贴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喝雄黄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放黄烟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吃“十二红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文本框 199683"/>
          <p:cNvSpPr/>
          <p:nvPr/>
        </p:nvSpPr>
        <p:spPr>
          <a:xfrm>
            <a:off x="4572000" y="1828800"/>
            <a:ext cx="4176720" cy="30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重点写哪个？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22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重点写放黄烟子和吃“十二红”。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为什么重点写？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因为这两种较为独特。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4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4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4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" dur="5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0" dur="500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图片 200710" descr="古朴"/>
          <p:cNvPicPr/>
          <p:nvPr/>
        </p:nvPicPr>
        <p:blipFill>
          <a:blip r:embed="rId1"/>
          <a:stretch/>
        </p:blipFill>
        <p:spPr>
          <a:xfrm>
            <a:off x="0" y="-762120"/>
            <a:ext cx="9144000" cy="853452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这一段采用什么结构方式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2209680" y="1413000"/>
            <a:ext cx="4572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楷体_GB2312"/>
              </a:rPr>
              <a:t>家乡的端午，很多风俗和外地一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系百索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做香角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贴五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贴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喝雄黄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放黄烟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吃“十二红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矩形 200707"/>
          <p:cNvSpPr txBox="1"/>
          <p:nvPr/>
        </p:nvSpPr>
        <p:spPr>
          <a:xfrm rot="5400000">
            <a:off x="-267120" y="3238560"/>
            <a:ext cx="3429000" cy="609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647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总分关系</a:t>
            </a:r>
            <a:endParaRPr b="0" i="1" lang="en-US" sz="4400" spc="1" strike="noStrike">
              <a:ln w="9360">
                <a:solidFill>
                  <a:srgbClr val="800000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03" name="右大括号 200708"/>
          <p:cNvSpPr/>
          <p:nvPr/>
        </p:nvSpPr>
        <p:spPr>
          <a:xfrm>
            <a:off x="5181480" y="2666880"/>
            <a:ext cx="457200" cy="3353040"/>
          </a:xfrm>
          <a:custGeom>
            <a:avLst/>
            <a:gdLst>
              <a:gd name="textAreaLeft" fmla="*/ 0 w 457200"/>
              <a:gd name="textAreaRight" fmla="*/ 164880 w 457200"/>
              <a:gd name="textAreaTop" fmla="*/ 87120 h 3353040"/>
              <a:gd name="textAreaBottom" fmla="*/ 3265920 h 335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矩形 200709"/>
          <p:cNvSpPr txBox="1"/>
          <p:nvPr/>
        </p:nvSpPr>
        <p:spPr>
          <a:xfrm>
            <a:off x="6095880" y="3581280"/>
            <a:ext cx="1828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ln w="0">
                  <a:noFill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并列关系</a:t>
            </a:r>
            <a:endParaRPr b="0" lang="en-US" sz="4400" spc="-1" strike="noStrike">
              <a:ln w="0">
                <a:noFill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505" name="左大括号 200711"/>
          <p:cNvSpPr/>
          <p:nvPr/>
        </p:nvSpPr>
        <p:spPr>
          <a:xfrm>
            <a:off x="2057400" y="1676520"/>
            <a:ext cx="152280" cy="4419360"/>
          </a:xfrm>
          <a:custGeom>
            <a:avLst/>
            <a:gdLst>
              <a:gd name="textAreaLeft" fmla="*/ 97200 w 152280"/>
              <a:gd name="textAreaRight" fmla="*/ 152640 w 152280"/>
              <a:gd name="textAreaTop" fmla="*/ 115200 h 4419360"/>
              <a:gd name="textAreaBottom" fmla="*/ 4304160 h 4419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2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图片 202755" descr="背景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476000" y="475920"/>
            <a:ext cx="635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第一段大谈端午的种种风俗而不写“鸭蛋”，离题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19120" y="1887480"/>
            <a:ext cx="8229600" cy="42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题为“端午的鸭蛋”，先浓墨重彩地描绘出“端午”的气氛，就为文章主体“鸭蛋”预设了，然后转写“端午的鸭蛋”，有“水到渠成”之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这也是作者闲适自由行文风格的体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不做刻意的雕凿加工，也不刻意追求结构的严谨，如风行水上，自然成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4" dur="5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9" dur="500"/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图片 201731" descr="背景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960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作者为什么对家乡的咸鸭蛋久久不能忘怀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450880"/>
            <a:ext cx="8229600" cy="30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因为好吃、著名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这是人们普遍的心理。儿时的一切，在成年之后，都会笼罩一层亲切和怀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6" dur="500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1" dur="500"/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7T08:40:12Z</dcterms:created>
  <dc:creator/>
  <dc:description/>
  <dc:language>en-US</dc:language>
  <cp:lastModifiedBy>admin</cp:lastModifiedBy>
  <dcterms:modified xsi:type="dcterms:W3CDTF">2019-03-27T08:40:17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527</vt:lpwstr>
  </property>
  <property fmtid="{D5CDD505-2E9C-101B-9397-08002B2CF9AE}" pid="3" name="Version">
    <vt:r8>1</vt:r8>
  </property>
</Properties>
</file>