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chimes.wav" ContentType="audio/x-wav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72D-0B2F-4B19-BC12-F00F6245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150-829C-494A-8984-E6D55E0B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D45-E423-481E-A5C0-58A95E04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A4D-2797-4E08-B958-65FE01E6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3174-3721-4F78-AB61-20980B9F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CB91-8263-4450-BD43-6B5C92DA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3B6F-1EC1-4ACE-B028-363170FF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6F66-ADFF-4E06-AF50-C880B0D1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20F9-A5C3-4F30-AAF1-A6D72690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D995-062E-4AC9-BC4C-9EE25F7B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C466-797C-4C78-97F1-84A879F6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DC4-E163-4549-9753-B7CD148B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E450-9EC8-4DEB-8069-1E4C1B7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D282-CD67-4C43-AA68-C4CF25E2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2E69-2488-4837-9C76-3F63016D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462B-08EE-4DD2-BAF8-0B879F12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D40A-3EEA-404A-B50C-7DB0FDA0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2FD-CA9C-48A3-ACEF-97A0ABFF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2F5-DBFE-407D-9721-C05AE740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C3B-6D30-49F5-B4C1-66707173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556-59D5-47F2-ABFB-FDCAA749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866-9A38-474B-B149-6386568B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A4D-4C11-4842-AF4B-6FDFDF36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EDA-9634-42F6-8779-3EF6D80B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034C-406C-41B3-9433-4E4D327D1E97}" type="slidenum">
              <a:rPr b="0" lang="zh-CN" sz="1400" spc="-1" strike="noStrike">
                <a:solidFill>
                  <a:srgbClr val="006699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A85F-E35A-4874-B5ED-8CEDCA46A429}" type="slidenum">
              <a:rPr b="0" lang="zh-CN" sz="1400" spc="-1" strike="noStrike">
                <a:solidFill>
                  <a:srgbClr val="006699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1412640"/>
            <a:ext cx="688500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Verdana"/>
                <a:ea typeface="华文行楷"/>
              </a:rPr>
              <a:t>段太尉逸事状</a:t>
            </a:r>
            <a:br>
              <a:rPr sz="8000"/>
            </a:br>
            <a:br>
              <a:rPr sz="6000"/>
            </a:br>
            <a:endParaRPr b="1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  <a:ea typeface="华文行楷"/>
              </a:rPr>
              <a:t>柳宗元</a:t>
            </a:r>
            <a:br>
              <a:rPr sz="4000"/>
            </a:b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50920" y="5229360"/>
            <a:ext cx="597564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36975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二  固定结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2401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1 </a:t>
            </a:r>
            <a:r>
              <a:rPr b="0" lang="zh-CN" sz="4000" spc="-1" strike="noStrike">
                <a:solidFill>
                  <a:srgbClr val="66ff66"/>
                </a:solidFill>
                <a:latin typeface="Verdana"/>
              </a:rPr>
              <a:t>然则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郭氏功名其与存者几何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2 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处贱，</a:t>
            </a:r>
            <a:r>
              <a:rPr b="0" lang="zh-CN" sz="4000" spc="-1" strike="noStrike">
                <a:solidFill>
                  <a:srgbClr val="66ff66"/>
                </a:solidFill>
                <a:latin typeface="Verdana"/>
              </a:rPr>
              <a:t>无以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拒也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3 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敢以状私与</a:t>
            </a:r>
            <a:r>
              <a:rPr b="0" lang="zh-CN" sz="4000" spc="-1" strike="noStrike">
                <a:solidFill>
                  <a:srgbClr val="66ff66"/>
                </a:solidFill>
                <a:latin typeface="Verdana"/>
              </a:rPr>
              <a:t>执事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256536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既然这样，那么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56360" y="3357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华文行楷"/>
              </a:rPr>
              <a:t>没有办法用来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4005360"/>
            <a:ext cx="25210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幼圆"/>
              </a:rPr>
              <a:t>侍从左右的人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幼圆"/>
              </a:rPr>
              <a:t>掌权者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492360" y="4941720"/>
            <a:ext cx="13669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2484720" y="18864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三 文言句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Verdana"/>
              </a:rPr>
              <a:t>1 </a:t>
            </a:r>
            <a:r>
              <a:rPr b="0" lang="zh-CN" sz="4400" spc="-1" strike="noStrike">
                <a:solidFill>
                  <a:srgbClr val="006699"/>
                </a:solidFill>
                <a:latin typeface="Verdana"/>
              </a:rPr>
              <a:t>欲谁归罪</a:t>
            </a:r>
            <a:r>
              <a:rPr b="0" lang="zh-CN" sz="4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Verdana"/>
              </a:rPr>
              <a:t>2 </a:t>
            </a:r>
            <a:r>
              <a:rPr b="0" lang="zh-CN" sz="4400" spc="-1" strike="noStrike">
                <a:solidFill>
                  <a:srgbClr val="006699"/>
                </a:solidFill>
                <a:latin typeface="Verdana"/>
              </a:rPr>
              <a:t>请辞于军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Verdana"/>
              </a:rPr>
              <a:t>3 </a:t>
            </a:r>
            <a:r>
              <a:rPr b="0" lang="zh-CN" sz="4400" spc="-1" strike="noStrike">
                <a:solidFill>
                  <a:srgbClr val="006699"/>
                </a:solidFill>
                <a:latin typeface="Verdana"/>
              </a:rPr>
              <a:t>汝又取不耻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Verdana"/>
              </a:rPr>
              <a:t>4 </a:t>
            </a:r>
            <a:r>
              <a:rPr b="0" lang="zh-CN" sz="4400" spc="-1" strike="noStrike">
                <a:solidFill>
                  <a:srgbClr val="006699"/>
                </a:solidFill>
                <a:latin typeface="Verdana"/>
              </a:rPr>
              <a:t>汝将何以视天地</a:t>
            </a:r>
            <a:r>
              <a:rPr b="0" lang="zh-CN" sz="4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2276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仿宋"/>
              </a:rPr>
              <a:t>宾语前置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299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状语后置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3789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状语后置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1640" y="465300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宾语前置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372360" y="69228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419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课文探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ff"/>
                </a:solidFill>
                <a:latin typeface="Verdana"/>
              </a:rPr>
              <a:t>1 </a:t>
            </a:r>
            <a:r>
              <a:rPr b="0" lang="zh-CN" sz="4800" spc="-1" strike="noStrike">
                <a:solidFill>
                  <a:srgbClr val="3366ff"/>
                </a:solidFill>
                <a:latin typeface="Verdana"/>
              </a:rPr>
              <a:t>课文记述哪几件事</a:t>
            </a:r>
            <a:r>
              <a:rPr b="0" lang="zh-CN" sz="4800" spc="-1" strike="noStrike">
                <a:solidFill>
                  <a:srgbClr val="3366ff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357336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380360" y="982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0000" y="476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476360" y="2708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Verdana"/>
                <a:ea typeface="宋体"/>
              </a:rPr>
              <a:t>1 </a:t>
            </a:r>
            <a:r>
              <a:rPr b="1" lang="zh-CN" sz="4000" spc="-1" strike="noStrike">
                <a:solidFill>
                  <a:srgbClr val="00ff00"/>
                </a:solidFill>
                <a:latin typeface="Verdana"/>
                <a:ea typeface="宋体"/>
              </a:rPr>
              <a:t>请官止乱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357336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Verdana"/>
                <a:ea typeface="宋体"/>
              </a:rPr>
              <a:t>2 </a:t>
            </a:r>
            <a:r>
              <a:rPr b="0" lang="zh-CN" sz="4000" spc="-1" strike="noStrike">
                <a:solidFill>
                  <a:srgbClr val="008000"/>
                </a:solidFill>
                <a:latin typeface="Verdana"/>
                <a:ea typeface="宋体"/>
              </a:rPr>
              <a:t>勇服郭晞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76360" y="429264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3 </a:t>
            </a:r>
            <a:r>
              <a:rPr b="0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卖骑代租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5084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Verdana"/>
                <a:ea typeface="宋体"/>
              </a:rPr>
              <a:t>4 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  <a:ea typeface="宋体"/>
              </a:rPr>
              <a:t>拒朱泚绫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70132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6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Verdana"/>
              </a:rPr>
              <a:t>2 </a:t>
            </a:r>
            <a:r>
              <a:rPr b="0" lang="zh-CN" sz="4400" spc="-1" strike="noStrike">
                <a:solidFill>
                  <a:srgbClr val="6600ff"/>
                </a:solidFill>
                <a:latin typeface="Verdana"/>
              </a:rPr>
              <a:t>课文描写了段太尉哪些品格</a:t>
            </a:r>
            <a:r>
              <a:rPr b="0" lang="zh-CN" sz="4400" spc="-1" strike="noStrike">
                <a:solidFill>
                  <a:srgbClr val="6600ff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451640" y="765000"/>
            <a:ext cx="1187640" cy="935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547640" y="306864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刚毅勇敢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气节凛然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11640" y="328464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47640" y="400536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  <a:ea typeface="宋体"/>
              </a:rPr>
              <a:t>清正廉洁   仁义爱民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87480" y="509112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486900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  <a:ea typeface="宋体"/>
              </a:rPr>
              <a:t>外柔内刚   远见卓识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7868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6666"/>
                </a:solidFill>
                <a:latin typeface="Verdana"/>
              </a:rPr>
              <a:t>      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99"/>
                </a:solidFill>
                <a:latin typeface="Verdana"/>
              </a:rPr>
              <a:t>唐宋八大家之柳宗元</a:t>
            </a:r>
            <a:endParaRPr b="1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791160" cy="4753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9272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885080" y="1773360"/>
            <a:ext cx="457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46944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4247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Verdana"/>
              </a:rPr>
              <a:t>唐代文学家、哲学家，唐宋八大家之一。字子厚。祖籍河东（今山西永济），后迁长安（今陕西西安），世称柳河东。因官终柳州刺史，又称柳柳州。与韩愈共同倡导唐代古文运动并称韩柳。 </a:t>
            </a:r>
            <a:br>
              <a:rPr sz="4400"/>
            </a:br>
            <a:br>
              <a:rPr sz="2400"/>
            </a:b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柳宗元一生留下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600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多篇诗文作品，文的成就大于诗。其骈文有近百篇，不脱唐骈文习气，但也有像《南霁云睢阳庙碑》那样的佳作。古文大致为四类。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-243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963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2dff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dffd"/>
                </a:solidFill>
                <a:latin typeface="Verdana"/>
              </a:rPr>
              <a:t>论说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：包括哲学、政论等文及以议论为主的杂文。笔锋犀利，论证精确。《天说》为哲学论文代表作。《封建论》、《断刑论》为长篇和中篇政论代表作。《晋文公问守原议》《桐叶封弟辩》、《伊尹五就桀赞》等为短篇政论代表。其哲学思想中具有朴素的唯物论成分。其政治思想主要表现为重“势”的进步社会历史观和儒家的民本思想。但也受佛教影响，尤是政治失意时，往往向佛教寻找精神上的解脱。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67564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2dff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dffd"/>
                </a:solidFill>
                <a:latin typeface="Verdana"/>
              </a:rPr>
              <a:t>山水游记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：最为脍炙人口，均写于被贬后，以永州之作更胜。典范之作为永州八记：《始得西山宴游记》、《钴潭记》、《钴潭西小丘记》、《至小丘西小记》、《袁家渴记》、《石渠记》、《石涧记》、《小石城山记》。这些作品，既有借美好景物寄寓自己的遭遇和怨愤；也有作者幽静心境的描写，表现在极度苦闷中转而追求精神的寄托。至于直接刻画山水景色，则或峭拔峻洁，或清邃奇丽，以精巧的语言再现自然美。 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459640" y="1052640"/>
            <a:ext cx="810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90688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2dff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dffd"/>
                </a:solidFill>
                <a:latin typeface="Verdana"/>
              </a:rPr>
              <a:t>传记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：继承了《史记》、《汉书》传统，又有所创新。代表作有《段太尉逸事状》、《梓人传》、《河间传》、《捕蛇者说》等。有些作品在真人真事基础上有夸张虚构，似寓言又似小说。如《宋清传》、《种树郭橐驼传》。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920" y="-3877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2dff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dffd"/>
                </a:solidFill>
                <a:latin typeface="Verdana"/>
              </a:rPr>
              <a:t>寓言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：继承并发展了《庄子》、《韩非子》、《吕氏春秋》、《列子》、《战国策》传统，多用来讽刺、抨击当时社会的丑恶现象。推陈出新，造意奇特，善用各种动物拟人化的艺术形象寄寓哲理或表达政见。代表作有《三戒》（《临江之麋》、《黔之驴》、《永某氏之鼠》）、《传》、等篇。嬉笑怒骂，因物肖形，表现了高度的幽默讽刺艺术。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基础知识积累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一 词类活用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1 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率以货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Verdana"/>
              </a:rPr>
              <a:t>窜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名军中 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2 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杀一老卒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何</a:t>
            </a:r>
            <a:r>
              <a:rPr b="0" lang="zh-CN" sz="3600" spc="-1" strike="noStrike">
                <a:solidFill>
                  <a:srgbClr val="ff3300"/>
                </a:solidFill>
                <a:latin typeface="Verdana"/>
              </a:rPr>
              <a:t>甲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也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3 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奈何欲以乱</a:t>
            </a:r>
            <a:r>
              <a:rPr b="0" lang="zh-CN" sz="3600" spc="-1" strike="noStrike">
                <a:solidFill>
                  <a:srgbClr val="ff3300"/>
                </a:solidFill>
                <a:latin typeface="Verdana"/>
              </a:rPr>
              <a:t>败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郭氏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4 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乃我</a:t>
            </a:r>
            <a:r>
              <a:rPr b="0" lang="zh-CN" sz="3600" spc="-1" strike="noStrike">
                <a:solidFill>
                  <a:srgbClr val="ff3300"/>
                </a:solidFill>
                <a:latin typeface="Verdana"/>
              </a:rPr>
              <a:t>困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汝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zh-CN" sz="3600" spc="-1" strike="noStrike">
                <a:solidFill>
                  <a:srgbClr val="ff3300"/>
                </a:solidFill>
                <a:latin typeface="Verdana"/>
              </a:rPr>
              <a:t>日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群行丐取于市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裂裳</a:t>
            </a:r>
            <a:r>
              <a:rPr b="0" lang="zh-CN" sz="3600" spc="-1" strike="noStrike">
                <a:solidFill>
                  <a:srgbClr val="ff3300"/>
                </a:solidFill>
                <a:latin typeface="Verdana"/>
              </a:rPr>
              <a:t>衣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疮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，</a:t>
            </a:r>
            <a:r>
              <a:rPr b="0" lang="zh-CN" sz="3600" spc="-1" strike="noStrike">
                <a:solidFill>
                  <a:srgbClr val="ff3300"/>
                </a:solidFill>
                <a:latin typeface="Verdana"/>
              </a:rPr>
              <a:t>手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注善药</a:t>
            </a: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227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使动词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299736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ff"/>
                </a:solidFill>
                <a:latin typeface="Verdana"/>
                <a:ea typeface="宋体"/>
              </a:rPr>
              <a:t>名词活用动词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72360" y="364500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形容词作动词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75280" y="429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形容词使动用法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720" y="486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Verdana"/>
                <a:ea typeface="宋体"/>
              </a:rPr>
              <a:t>名词作状语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16720" y="59500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Verdana"/>
                <a:ea typeface="宋体"/>
              </a:rPr>
              <a:t>名词作状语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22920" y="5516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  <a:ea typeface="宋体"/>
              </a:rPr>
              <a:t>破音异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00:50:21Z</dcterms:created>
  <dc:creator>kk</dc:creator>
  <dc:description/>
  <dc:language>en-US</dc:language>
  <cp:lastModifiedBy>kk</cp:lastModifiedBy>
  <dcterms:modified xsi:type="dcterms:W3CDTF">2005-08-21T07:58:16Z</dcterms:modified>
  <cp:revision>10</cp:revision>
  <dc:subject/>
  <dc:title>段太尉逸事状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3000000000001024120</vt:lpwstr>
  </property>
</Properties>
</file>