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cashreg.wav" ContentType="audio/x-wav"/>
  <Override PartName="/ppt/media/image7.jpeg" ContentType="image/jpeg"/>
  <Override PartName="/ppt/media/image1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type.wav" ContentType="audio/x-wav"/>
  <Override PartName="/ppt/media/image20.jpeg" ContentType="image/jpeg"/>
  <Override PartName="/ppt/media/image21.png" ContentType="image/png"/>
  <Override PartName="/ppt/media/camera.wav" ContentType="audio/x-wav"/>
  <Override PartName="/ppt/media/image19.jpeg" ContentType="image/jpeg"/>
  <Override PartName="/ppt/media/image17.jpeg" ContentType="image/jpeg"/>
  <Override PartName="/ppt/media/image2.png" ContentType="image/png"/>
  <Override PartName="/ppt/media/image22.gif" ContentType="image/gif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1-05-09T11:03:00.631000000" idx="2">
    <p:pos x="5636" y="29"/>
    <p:text/>
  </p:cm>
</p:cmLst>
</file>

<file path=ppt/comments/comment3.xml><?xml version="1.0" encoding="utf-8"?>
<p:cmLst xmlns:p="http://schemas.openxmlformats.org/presentationml/2006/main">
  <p:cm authorId="0" dt="2011-05-09T11:02:56.336000000" idx="1">
    <p:pos x="5514" y="2808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E3F-638B-44EA-A3B9-FC89A53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1D9-6957-4BF9-87E1-F500F731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BB2-C814-4BEA-899F-E6659C27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8C4-5624-4DF5-B663-824D2312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C54A-A269-4E1F-8DE2-809C9C91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E99D-04A5-4B03-B877-AFE3E2AB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FB8-6136-45DF-84D0-7C85D672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3BFC-DFD8-4F33-8878-7DF635DC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57D1-760F-4F33-88B0-B23728C9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A42-4346-4C00-9D5D-0374F639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055-8ABE-4983-95DD-65117FB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A64-B537-4A5F-9625-FF2D8CC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7FD-58E7-45A1-8E78-0F0F381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7F7-3876-4D6C-82DF-FF44603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1E98-AD79-40AB-A952-79F3B7C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009-D51E-4014-A1A9-AF350A4D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C89-4C84-4A47-AD94-8E1E8BAA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5159-51DB-4E1F-892E-698B641D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580B-5E02-4AFC-894E-910D77C5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BD93-F611-4D2C-902B-DD345FD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3F32-02CC-4DEA-9FE9-08FB2EB3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026C-1A25-455C-BC49-39E232B0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E30-22E5-440A-BDF8-780977B9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9279-CA03-4722-B893-CB87428A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45C7-7CC3-40E0-A5CA-D1024F3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A98F-BAF1-4628-8B64-E4B9CAC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EC8B-5C62-41D7-B0E6-0107762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AA72-9986-4E9B-9045-136037D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ADB8-B617-40BF-936F-E31FBFB7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2D3A-73BC-4B9F-B59D-4E57A87A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D1B-3BED-4B44-89E0-1ED4ECE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63A-089F-4F5B-8BFB-C6E131E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E12-2F9F-4D58-8D9F-E69C1E1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3AB-219E-45B7-BDF2-9AB9FDD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B2E-B069-40FE-A2BE-07B06344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F2B-A2AA-41F4-B404-D425896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2B44-1F88-4C70-A420-297172CC07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C4D-5581-45F9-A0F6-ABC3298C8A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4F5-4560-4D9B-BB8D-BC14A3EEA78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image" Target="../media/image18.jpe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<Relationship Id="rId8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701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19520" y="914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5050"/>
                </a:solidFill>
                <a:latin typeface="Times New Roman"/>
                <a:ea typeface="隶书"/>
              </a:rPr>
              <a:t>登泰山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334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姚   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920" y="54864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望晚日照城郭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汶水、徂徕如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609480" y="-15840"/>
            <a:ext cx="10287000" cy="6873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10552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半山居雾若带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664680" y="1143000"/>
            <a:ext cx="164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听文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30743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411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ahoma"/>
                <a:ea typeface="隶书"/>
              </a:rPr>
              <a:t>泰山日出图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155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820880"/>
            <a:ext cx="5155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大风扬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幼圆"/>
              </a:rPr>
              <a:t>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亭东自足下皆云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云中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幼圆"/>
              </a:rPr>
              <a:t>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樗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十立者，山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460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出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3908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出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367992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14640" y="3371760"/>
            <a:ext cx="60958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极天云一线异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须臾成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五采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日上，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正赤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丹，下有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红光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动摇承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432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出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520380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4898880"/>
            <a:ext cx="60958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回视日观以西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或得日，或否，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绛皓驳色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而皆若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705080" y="398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日出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3520" y="609480"/>
          <a:ext cx="8001000" cy="5650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001000" cy="565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28600" y="609480"/>
            <a:ext cx="8381880" cy="5722920"/>
            <a:chOff x="228600" y="609480"/>
            <a:chExt cx="8381880" cy="572292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380880" y="609480"/>
              <a:ext cx="8229600" cy="5722920"/>
            </a:xfrm>
            <a:prstGeom prst="rect">
              <a:avLst/>
            </a:prstGeom>
            <a:ln w="57240">
              <a:solidFill>
                <a:srgbClr val="969696"/>
              </a:solidFill>
              <a:miter/>
            </a:ln>
          </p:spPr>
        </p:pic>
        <p:sp>
          <p:nvSpPr>
            <p:cNvPr id="270" name=""/>
            <p:cNvSpPr/>
            <p:nvPr/>
          </p:nvSpPr>
          <p:spPr>
            <a:xfrm>
              <a:off x="4800600" y="502920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" y="1143000"/>
              <a:ext cx="3733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介绍泰山的人文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日观亭为参照物，写其周围的建筑群，表现泰山的古老风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岱祠    碧霞元君祠    皇帝行宫    道中石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4114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7432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40080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介绍泰山的自然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冬季泰山景色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三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多石   （石）多平方   多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三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少土   （石）少圜    少杂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三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无瀑水   无鸟兽音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数里内无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309680" y="2255760"/>
            <a:ext cx="6714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-228600"/>
            <a:ext cx="436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全 文 思 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7800" y="762120"/>
            <a:ext cx="12776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交代泰山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04720" y="838080"/>
            <a:ext cx="7290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记述登山经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1240" y="838080"/>
            <a:ext cx="7290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描绘日出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8760" y="838080"/>
            <a:ext cx="1277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返记人文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23520" y="838080"/>
            <a:ext cx="12776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写自然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981080"/>
            <a:ext cx="976320" cy="507960"/>
          </a:xfrm>
          <a:prstGeom prst="rightArrow">
            <a:avLst>
              <a:gd name="adj1" fmla="val 50000"/>
              <a:gd name="adj2" fmla="val 48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1981080"/>
            <a:ext cx="976320" cy="507960"/>
          </a:xfrm>
          <a:prstGeom prst="rightArrow">
            <a:avLst>
              <a:gd name="adj1" fmla="val 50000"/>
              <a:gd name="adj2" fmla="val 48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1981080"/>
            <a:ext cx="976320" cy="507960"/>
          </a:xfrm>
          <a:prstGeom prst="rightArrow">
            <a:avLst>
              <a:gd name="adj1" fmla="val 50000"/>
              <a:gd name="adj2" fmla="val 48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1905120"/>
            <a:ext cx="976320" cy="507960"/>
          </a:xfrm>
          <a:prstGeom prst="rightArrow">
            <a:avLst>
              <a:gd name="adj1" fmla="val 50000"/>
              <a:gd name="adj2" fmla="val 48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65760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小结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纵观全篇，文章以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为序紧紧围绕作者的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游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进行，叙述了偕友人冬日登山观日出的经过，以精炼的语言，生动地描写了泰山雪后初晴美丽景色和日出时的雄浑景象，写出了泰山的神秀壮丽，能唤起我们对泰山的向往，感觉到祖国山河的壮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19720" y="684360"/>
            <a:ext cx="4572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泰山，古称东岳，又称岱山，岱宗，是我国五大名山之一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南岳衡山、西岳华山、北岳恒山、中岳嵩山并称“五岳”，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因其居东，突兀挺拔，雄伟壮丽，被称为“五岳独长”，“五岳独尊”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位于山东省中部，最高峰玉皇顶，又叫天柱峰，海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历代封建帝王把泰山作为神的化身，常常登山封禅，给它加上许多封号，到处建庙塑神，从而使泰山文物荟萃，和中国几千年的历史文化熔为一体，人们常常把泰山当作崇高伟大的象征，因而泰山成为游览的胜地，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历代文人留下了许多记游作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76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简介泰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7800" y="685800"/>
            <a:ext cx="3959280" cy="594360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152280"/>
            <a:ext cx="847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有人拿了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幅古代字画到文物商店求售，商店经理一看字画的落款，就说其中有一幅肯定是假的。这幅伪作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A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、康熙六年四月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**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写              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B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、乾隆寅壬秋八月既望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**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C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、崇祯庚午三月晦日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**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书      </a:t>
            </a:r>
            <a:r>
              <a:rPr b="0" lang="zh-CN" sz="18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D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、顺治二年乙酉二月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**</a:t>
            </a: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800600"/>
            <a:ext cx="7864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分析：纪年应天干在前地支在后，而</a:t>
            </a:r>
            <a:r>
              <a:rPr b="0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B</a:t>
            </a:r>
            <a:r>
              <a:rPr b="0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落款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地支在前天干在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0" y="2438280"/>
            <a:ext cx="2133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921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1ee66"/>
                </a:solidFill>
                <a:latin typeface="Tahoma"/>
                <a:ea typeface="隶书"/>
              </a:rPr>
              <a:t>晚霞夕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59280" y="602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晚霞夕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448164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801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泰山风景以壮丽著称。累叠的山势，厚重的形体，苍松巨石的烘托，云烟岚光的变化，使它在雄浑中兼有明丽，静穆中透着神奇，成为我国山水名胜的集大成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19520" y="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泰山在祖国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4360" y="47772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20040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7280" y="4038480"/>
            <a:ext cx="10670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3657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汶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849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济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21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  <a:ea typeface="隶书"/>
              </a:rPr>
              <a:t>泰山之</a:t>
            </a:r>
            <a:r>
              <a:rPr b="1" lang="zh-CN" sz="3600" spc="-1" strike="noStrike" u="sng">
                <a:solidFill>
                  <a:srgbClr val="0066cc"/>
                </a:solidFill>
                <a:uFillTx/>
                <a:latin typeface="隶书"/>
                <a:ea typeface="隶书"/>
              </a:rPr>
              <a:t>阳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  <a:ea typeface="隶书"/>
              </a:rPr>
              <a:t>，汶水</a:t>
            </a:r>
            <a:r>
              <a:rPr b="1" lang="zh-CN" sz="3600" spc="-1" strike="noStrike" u="sng">
                <a:solidFill>
                  <a:srgbClr val="0066cc"/>
                </a:solidFill>
                <a:uFillTx/>
                <a:latin typeface="隶书"/>
                <a:ea typeface="隶书"/>
              </a:rPr>
              <a:t>西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  <a:ea typeface="隶书"/>
              </a:rPr>
              <a:t>流；其</a:t>
            </a:r>
            <a:r>
              <a:rPr b="1" lang="zh-CN" sz="3600" spc="-1" strike="noStrike" u="sng">
                <a:solidFill>
                  <a:srgbClr val="0066cc"/>
                </a:solidFill>
                <a:uFillTx/>
                <a:latin typeface="隶书"/>
                <a:ea typeface="隶书"/>
              </a:rPr>
              <a:t>阴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  <a:ea typeface="隶书"/>
              </a:rPr>
              <a:t>，济水</a:t>
            </a:r>
            <a:r>
              <a:rPr b="1" lang="zh-CN" sz="3600" spc="-1" strike="noStrike" u="sng">
                <a:solidFill>
                  <a:srgbClr val="0066cc"/>
                </a:solidFill>
                <a:uFillTx/>
                <a:latin typeface="隶书"/>
                <a:ea typeface="隶书"/>
              </a:rPr>
              <a:t>东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  <a:ea typeface="隶书"/>
              </a:rPr>
              <a:t>流。阳谷皆入汶，阴谷皆入济。当其南北分者，古长城也。最高日观峰，在长城南十五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228600"/>
            <a:ext cx="5084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说明作者登山路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2960" y="457200"/>
            <a:ext cx="449640" cy="1280520"/>
            <a:chOff x="462960" y="457200"/>
            <a:chExt cx="449640" cy="1280520"/>
          </a:xfrm>
        </p:grpSpPr>
        <p:sp>
          <p:nvSpPr>
            <p:cNvPr id="159" name=""/>
            <p:cNvSpPr/>
            <p:nvPr/>
          </p:nvSpPr>
          <p:spPr>
            <a:xfrm>
              <a:off x="614520" y="800280"/>
              <a:ext cx="298080" cy="614160"/>
            </a:xfrm>
            <a:custGeom>
              <a:avLst/>
              <a:gdLst/>
              <a:ahLst/>
              <a:rect l="l" t="t" r="r" b="b"/>
              <a:pathLst>
                <a:path w="42" h="306">
                  <a:moveTo>
                    <a:pt x="0" y="76"/>
                  </a:moveTo>
                  <a:lnTo>
                    <a:pt x="10" y="76"/>
                  </a:lnTo>
                  <a:lnTo>
                    <a:pt x="10" y="306"/>
                  </a:lnTo>
                  <a:lnTo>
                    <a:pt x="31" y="306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21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960" y="457200"/>
              <a:ext cx="31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2960" y="1509120"/>
              <a:ext cx="31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362320" y="1447920"/>
            <a:ext cx="700200" cy="379440"/>
            <a:chOff x="2362320" y="1447920"/>
            <a:chExt cx="700200" cy="379440"/>
          </a:xfrm>
        </p:grpSpPr>
        <p:sp>
          <p:nvSpPr>
            <p:cNvPr id="163" name=""/>
            <p:cNvSpPr/>
            <p:nvPr/>
          </p:nvSpPr>
          <p:spPr>
            <a:xfrm>
              <a:off x="2362320" y="1447920"/>
              <a:ext cx="134640" cy="263880"/>
            </a:xfrm>
            <a:prstGeom prst="ellipse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96040" y="14612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京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09680" y="1828800"/>
            <a:ext cx="1787040" cy="722880"/>
            <a:chOff x="2209680" y="1828800"/>
            <a:chExt cx="1787040" cy="722880"/>
          </a:xfrm>
        </p:grpSpPr>
        <p:grpSp>
          <p:nvGrpSpPr>
            <p:cNvPr id="166" name=""/>
            <p:cNvGrpSpPr/>
            <p:nvPr/>
          </p:nvGrpSpPr>
          <p:grpSpPr>
            <a:xfrm>
              <a:off x="2209680" y="1828800"/>
              <a:ext cx="327240" cy="626400"/>
              <a:chOff x="2209680" y="1828800"/>
              <a:chExt cx="327240" cy="626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322000" y="1828800"/>
                <a:ext cx="101880" cy="485280"/>
                <a:chOff x="2322000" y="1828800"/>
                <a:chExt cx="101880" cy="485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71680" y="1828800"/>
                  <a:ext cx="2160" cy="401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22000" y="2223720"/>
                  <a:ext cx="101880" cy="90360"/>
                </a:xfrm>
                <a:custGeom>
                  <a:avLst/>
                  <a:gdLst/>
                  <a:ahLst/>
                  <a:rect l="l" t="t" r="r" b="b"/>
                  <a:pathLst>
                    <a:path w="53" h="57">
                      <a:moveTo>
                        <a:pt x="0" y="0"/>
                      </a:moveTo>
                      <a:lnTo>
                        <a:pt x="26" y="57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2209680" y="2314440"/>
                <a:ext cx="327240" cy="140760"/>
              </a:xfrm>
              <a:prstGeom prst="ellips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959560" y="2185560"/>
              <a:ext cx="103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齐河　长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16360" y="2722680"/>
            <a:ext cx="93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5360" y="2666880"/>
            <a:ext cx="1767960" cy="1194840"/>
            <a:chOff x="765360" y="2666880"/>
            <a:chExt cx="1767960" cy="1194840"/>
          </a:xfrm>
        </p:grpSpPr>
        <p:grpSp>
          <p:nvGrpSpPr>
            <p:cNvPr id="174" name=""/>
            <p:cNvGrpSpPr/>
            <p:nvPr/>
          </p:nvGrpSpPr>
          <p:grpSpPr>
            <a:xfrm>
              <a:off x="2173320" y="2666880"/>
              <a:ext cx="360000" cy="1047240"/>
              <a:chOff x="2173320" y="2666880"/>
              <a:chExt cx="360000" cy="10472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272680" y="2666880"/>
                <a:ext cx="90000" cy="695520"/>
                <a:chOff x="2272680" y="2666880"/>
                <a:chExt cx="90000" cy="6955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316600" y="2666880"/>
                  <a:ext cx="1800" cy="555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72680" y="3211920"/>
                  <a:ext cx="90000" cy="150480"/>
                </a:xfrm>
                <a:custGeom>
                  <a:avLst/>
                  <a:gdLst/>
                  <a:ahLst/>
                  <a:rect l="l" t="t" r="r" b="b"/>
                  <a:pathLst>
                    <a:path w="53" h="57">
                      <a:moveTo>
                        <a:pt x="0" y="0"/>
                      </a:moveTo>
                      <a:lnTo>
                        <a:pt x="26" y="57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2173320" y="3479040"/>
                <a:ext cx="360000" cy="235080"/>
              </a:xfrm>
              <a:prstGeom prst="rect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65360" y="34956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泰山西北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26920" y="3878280"/>
            <a:ext cx="111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90920" y="3733920"/>
            <a:ext cx="2404080" cy="819720"/>
            <a:chOff x="2590920" y="3733920"/>
            <a:chExt cx="2404080" cy="819720"/>
          </a:xfrm>
        </p:grpSpPr>
        <p:grpSp>
          <p:nvGrpSpPr>
            <p:cNvPr id="182" name=""/>
            <p:cNvGrpSpPr/>
            <p:nvPr/>
          </p:nvGrpSpPr>
          <p:grpSpPr>
            <a:xfrm>
              <a:off x="2590920" y="3733920"/>
              <a:ext cx="792720" cy="819720"/>
              <a:chOff x="2590920" y="3733920"/>
              <a:chExt cx="792720" cy="81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590920" y="3733920"/>
                <a:ext cx="493920" cy="542880"/>
                <a:chOff x="2590920" y="3733920"/>
                <a:chExt cx="493920" cy="542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590920" y="3733920"/>
                  <a:ext cx="417600" cy="460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952000" y="4148640"/>
                  <a:ext cx="132840" cy="12816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0" y="37"/>
                      </a:moveTo>
                      <a:lnTo>
                        <a:pt x="56" y="62"/>
                      </a:lnTo>
                      <a:lnTo>
                        <a:pt x="42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3182040" y="4096800"/>
                <a:ext cx="201600" cy="456840"/>
              </a:xfrm>
              <a:prstGeom prst="rect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500640" y="4111560"/>
              <a:ext cx="149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长城之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635280" y="3813120"/>
            <a:ext cx="76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809880" y="4572000"/>
            <a:ext cx="1563840" cy="1044720"/>
            <a:chOff x="3809880" y="4572000"/>
            <a:chExt cx="1563840" cy="1044720"/>
          </a:xfrm>
        </p:grpSpPr>
        <p:grpSp>
          <p:nvGrpSpPr>
            <p:cNvPr id="190" name=""/>
            <p:cNvGrpSpPr/>
            <p:nvPr/>
          </p:nvGrpSpPr>
          <p:grpSpPr>
            <a:xfrm>
              <a:off x="3809880" y="4572000"/>
              <a:ext cx="1563840" cy="428040"/>
              <a:chOff x="3809880" y="4572000"/>
              <a:chExt cx="1563840" cy="4280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3809880" y="4572000"/>
                <a:ext cx="1113120" cy="250920"/>
                <a:chOff x="3809880" y="4572000"/>
                <a:chExt cx="1113120" cy="250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809880" y="4572000"/>
                  <a:ext cx="987840" cy="21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59920" y="4749480"/>
                  <a:ext cx="163080" cy="73440"/>
                </a:xfrm>
                <a:custGeom>
                  <a:avLst/>
                  <a:gdLst/>
                  <a:ahLst/>
                  <a:rect l="l" t="t" r="r" b="b"/>
                  <a:pathLst>
                    <a:path w="61" h="53">
                      <a:moveTo>
                        <a:pt x="0" y="53"/>
                      </a:moveTo>
                      <a:lnTo>
                        <a:pt x="61" y="47"/>
                      </a:lnTo>
                      <a:lnTo>
                        <a:pt x="21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923720" y="4754160"/>
                <a:ext cx="450000" cy="245880"/>
              </a:xfrm>
              <a:prstGeom prst="ellips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957200" y="52506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泰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724280" y="5638680"/>
            <a:ext cx="145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86400" y="4038480"/>
            <a:ext cx="2681280" cy="864360"/>
            <a:chOff x="5486400" y="4038480"/>
            <a:chExt cx="2681280" cy="864360"/>
          </a:xfrm>
        </p:grpSpPr>
        <p:sp>
          <p:nvSpPr>
            <p:cNvPr id="198" name=""/>
            <p:cNvSpPr/>
            <p:nvPr/>
          </p:nvSpPr>
          <p:spPr>
            <a:xfrm>
              <a:off x="7010640" y="4038480"/>
              <a:ext cx="102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（中谷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486400" y="4114800"/>
              <a:ext cx="2681280" cy="788040"/>
              <a:chOff x="5486400" y="4114800"/>
              <a:chExt cx="2681280" cy="7880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486400" y="4419360"/>
                <a:ext cx="747360" cy="483480"/>
                <a:chOff x="5486400" y="4419360"/>
                <a:chExt cx="747360" cy="48348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5486400" y="4464720"/>
                  <a:ext cx="675360" cy="438120"/>
                </a:xfrm>
                <a:prstGeom prst="line">
                  <a:avLst/>
                </a:prstGeom>
                <a:ln w="39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127920" y="4419360"/>
                  <a:ext cx="105840" cy="9180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1" y="58"/>
                      </a:moveTo>
                      <a:lnTo>
                        <a:pt x="59" y="0"/>
                      </a:lnTo>
                      <a:lnTo>
                        <a:pt x="0" y="11"/>
                      </a:lnTo>
                      <a:lnTo>
                        <a:pt x="31" y="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6477120" y="4114800"/>
                <a:ext cx="227160" cy="209520"/>
              </a:xfrm>
              <a:prstGeom prst="rect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53440" y="4495680"/>
                <a:ext cx="612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南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91520" y="4572000"/>
                <a:ext cx="776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登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629400" y="2743200"/>
            <a:ext cx="2143080" cy="1134000"/>
            <a:chOff x="6629400" y="2743200"/>
            <a:chExt cx="2143080" cy="1134000"/>
          </a:xfrm>
        </p:grpSpPr>
        <p:grpSp>
          <p:nvGrpSpPr>
            <p:cNvPr id="207" name=""/>
            <p:cNvGrpSpPr/>
            <p:nvPr/>
          </p:nvGrpSpPr>
          <p:grpSpPr>
            <a:xfrm>
              <a:off x="6629400" y="2743200"/>
              <a:ext cx="1114920" cy="1134000"/>
              <a:chOff x="6629400" y="2743200"/>
              <a:chExt cx="1114920" cy="11340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6629400" y="2743200"/>
                <a:ext cx="424800" cy="1134000"/>
                <a:chOff x="6629400" y="2743200"/>
                <a:chExt cx="424800" cy="11340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629400" y="2988360"/>
                  <a:ext cx="226080" cy="888840"/>
                  <a:chOff x="6629400" y="2988360"/>
                  <a:chExt cx="226080" cy="8888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V="1">
                    <a:off x="6629400" y="3078000"/>
                    <a:ext cx="163800" cy="799200"/>
                  </a:xfrm>
                  <a:prstGeom prst="line">
                    <a:avLst/>
                  </a:prstGeom>
                  <a:ln w="30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735960" y="2988360"/>
                    <a:ext cx="1195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2">
                        <a:moveTo>
                          <a:pt x="54" y="62"/>
                        </a:moveTo>
                        <a:lnTo>
                          <a:pt x="35" y="0"/>
                        </a:lnTo>
                        <a:lnTo>
                          <a:pt x="0" y="53"/>
                        </a:lnTo>
                        <a:lnTo>
                          <a:pt x="54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6956280" y="2743200"/>
                  <a:ext cx="97920" cy="29952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7377840" y="2754720"/>
                <a:ext cx="36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中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810560" y="2752560"/>
              <a:ext cx="96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越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03160" y="1752480"/>
            <a:ext cx="1393920" cy="963720"/>
            <a:chOff x="5303160" y="1752480"/>
            <a:chExt cx="1393920" cy="963720"/>
          </a:xfrm>
        </p:grpSpPr>
        <p:grpSp>
          <p:nvGrpSpPr>
            <p:cNvPr id="216" name=""/>
            <p:cNvGrpSpPr/>
            <p:nvPr/>
          </p:nvGrpSpPr>
          <p:grpSpPr>
            <a:xfrm>
              <a:off x="5380560" y="2031840"/>
              <a:ext cx="1316520" cy="684360"/>
              <a:chOff x="5380560" y="2031840"/>
              <a:chExt cx="1316520" cy="6843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862600" y="2300040"/>
                <a:ext cx="834480" cy="416160"/>
                <a:chOff x="5862600" y="2300040"/>
                <a:chExt cx="834480" cy="4161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6281640" y="2368440"/>
                  <a:ext cx="415440" cy="347760"/>
                  <a:chOff x="6281640" y="2368440"/>
                  <a:chExt cx="415440" cy="3477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flipV="1">
                    <a:off x="6354000" y="2431800"/>
                    <a:ext cx="343080" cy="284400"/>
                  </a:xfrm>
                  <a:prstGeom prst="line">
                    <a:avLst/>
                  </a:prstGeom>
                  <a:ln w="30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281640" y="2368440"/>
                    <a:ext cx="1371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4">
                        <a:moveTo>
                          <a:pt x="55" y="28"/>
                        </a:moveTo>
                        <a:lnTo>
                          <a:pt x="0" y="0"/>
                        </a:lnTo>
                        <a:lnTo>
                          <a:pt x="13" y="64"/>
                        </a:lnTo>
                        <a:lnTo>
                          <a:pt x="5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5862600" y="2300040"/>
                  <a:ext cx="110160" cy="279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380560" y="2031840"/>
                <a:ext cx="36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西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303160" y="1752480"/>
              <a:ext cx="96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（循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762120"/>
            <a:ext cx="2736000" cy="1219680"/>
            <a:chOff x="6019920" y="762120"/>
            <a:chExt cx="2736000" cy="1219680"/>
          </a:xfrm>
        </p:grpSpPr>
        <p:grpSp>
          <p:nvGrpSpPr>
            <p:cNvPr id="225" name=""/>
            <p:cNvGrpSpPr/>
            <p:nvPr/>
          </p:nvGrpSpPr>
          <p:grpSpPr>
            <a:xfrm>
              <a:off x="6019920" y="762120"/>
              <a:ext cx="1752840" cy="1219680"/>
              <a:chOff x="6019920" y="762120"/>
              <a:chExt cx="1752840" cy="12196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6019920" y="1045080"/>
                <a:ext cx="1005480" cy="936720"/>
                <a:chOff x="6019920" y="1045080"/>
                <a:chExt cx="1005480" cy="9367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6019920" y="1311480"/>
                  <a:ext cx="729000" cy="670320"/>
                  <a:chOff x="6019920" y="1311480"/>
                  <a:chExt cx="729000" cy="6703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V="1">
                    <a:off x="6019920" y="1374120"/>
                    <a:ext cx="663480" cy="607680"/>
                  </a:xfrm>
                  <a:prstGeom prst="line">
                    <a:avLst/>
                  </a:prstGeom>
                  <a:ln w="30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630840" y="1311480"/>
                    <a:ext cx="11808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4">
                        <a:moveTo>
                          <a:pt x="42" y="64"/>
                        </a:moveTo>
                        <a:lnTo>
                          <a:pt x="54" y="0"/>
                        </a:lnTo>
                        <a:lnTo>
                          <a:pt x="0" y="28"/>
                        </a:lnTo>
                        <a:lnTo>
                          <a:pt x="42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>
                  <a:off x="6749280" y="1045080"/>
                  <a:ext cx="276120" cy="3369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7406280" y="762120"/>
                <a:ext cx="36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山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914240" y="762120"/>
              <a:ext cx="84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至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96080" y="1371600"/>
            <a:ext cx="11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险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828800"/>
            <a:ext cx="80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666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长途跋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历尽艰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3124080" y="59277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imes New Roman"/>
                <a:ea typeface="隶书"/>
              </a:rPr>
              <a:t>苍山负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638680" y="9144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明烛天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新课标第一网xkb1.com</dc:description>
  <dc:language>en-US</dc:language>
  <cp:lastModifiedBy>新课标第一网</cp:lastModifiedBy>
  <dcterms:modified xsi:type="dcterms:W3CDTF">2011-05-09T03:03:02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