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3B2-68A0-4228-A24F-E5308A32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8F-BBAA-478E-937A-7EECD2EE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AB3-0AED-42B6-B634-A26B8887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98B-4728-49D4-9C23-6BA3FBA0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87D-7332-4EA0-B3C7-307CA6A5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8E3A-DF40-450F-B3E8-E126CC7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C83A-AE52-40B1-AEE5-1053110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5A3-83A8-4594-A4D6-AF8E4A5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C83-C53F-421D-8B79-D934301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A560-5D93-47AB-84DD-1062119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5C5B-EC9A-4B6D-BE23-BEAB65F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49B-E293-462A-8E59-F4DFB8D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1E81-2693-4570-99FD-0E05365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9AD-1740-4D63-99B7-BB2D280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02C-607E-4E1F-9896-3CCF9CDF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3A2-0540-4E00-BCE8-545822AF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FCD7-00B7-4DCE-87EA-886E90B8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158-FA16-409C-A012-35AB267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CC1-17E3-4FEE-BD81-E060C28E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AAA-DC11-4AF1-A484-42CF6F1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34F-8D39-4872-A6FD-7803F53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3D6-DCAD-4491-80C5-F7086FB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97D-B35A-4574-91DD-38EA2DA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8DB-1693-4AF3-BE36-A151F3A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E5BC-7F4D-4CE9-B494-AE8501EE24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628-7330-45C3-AF94-71C0FDA2DD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4360" y="762120"/>
            <a:ext cx="173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道山亭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　　</a:t>
            </a:r>
            <a:r>
              <a:rPr b="0" lang="zh-CN" sz="48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曾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04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道山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属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累      坂        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沿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溺        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木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席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16080" y="251460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     z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3560" y="4495680"/>
            <a:ext cx="72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j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d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094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阅读课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注意下列词语的读音和写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累                               踬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衿                            瑰诡   </a:t>
            </a: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粤                              </a:t>
            </a: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涂    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中国                            长江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沟通                     于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4480" y="506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重点词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8344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连续，接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20480" y="15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跌倒，绊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97680" y="227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夸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8760" y="2201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奇伟怪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971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“越”，越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79160" y="2887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76400" y="363384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义：指华夏族统辖区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今义：指中华人民共和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35053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古义：指闽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义：指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551664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古义：指是通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义：指使两方能沟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55897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古义：两个词，在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义：表顺接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905120" y="5335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朗读课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38280" y="3075120"/>
            <a:ext cx="4038840" cy="20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翻译课文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700360" cy="4686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7628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一）第一自然段重点句子翻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其途或逆坂如缘絙，或垂崖如一发，或侧径钩出于不测之溪上，皆石芒峭发，择然后可投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翻译：它的道路有的迎着山坡像攀援的粗绳，有的垂直在山崖上像一根头发，有的斜路弯出在深不可测的溪水上，都是石壁极锋利的，看准了下脚的地方然后才可举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石错出其间，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如林立，如士骑满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千里下上，不见首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林立：像树木林立；如士骑满野：像兵马遍布野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虽其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土长川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人，非生而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习水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，不敢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以舟楫自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长川居：本土生长又住在水上；习水事：练习水上功夫；以舟楫自任：担起行船的职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4952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914400"/>
            <a:ext cx="899172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闽，原来附属于周朝，到秦时，开辟了这方土地，列入中原，这才合并为闽中郡。从越国的太末县，和吴地的豫章郡，是（自中原通向）它的通道。这通道到了闽地，陆路就被阻塞在两山当中，而山相连没有间断，累计过了几个驿站才能见到一块平地，小的作为县，大的作为州，然而州、县（城）的四面也都是山。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它的道路有的迎着山坡像攀援的粗绳，有的垂直在山崖上像一丝头发，有的斜路弯出在深不可测的溪流上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路旁）都有石刃从峭壁上刺出，要看准了脚下的地方然后才可以举步。背着、顶着东西的人即使是本地人，也还要侧着脚然后才能够前进。不是那个地方的人很少不被绊倒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181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走水路，水都是从高处奔流而下，岩石交错出于水中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，如树木竖立，如兵马遍布野外，上下千里，见不到头尾。水流穿行在它的空隙间，有的曲折盘绕流淌，有的逆行侧射，它的形状像蚯蚓盘结，像虫形雕刻，旋涡像轮子，水流激射如箭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船逆行而上或顺流而下时，要善于利用水势，稍微有点差错，即刻船破溺水。即使是本地人，不是一生下来就练习水上功夫，也不敢担任起行船的职责。闽地水陆两路的艰险就是这样。汉代曾经把这里的人民迁徙到江淮之间，而使这地方空着，大概因为这地方险狭多阻，难道这是虚言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5306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一、写闽之历史，水陆山水之奇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26280" y="625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１、作者是如何写闽地山水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00200"/>
            <a:ext cx="87631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一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抓住闽地山水奇险的特征，采用正面描写和侧面描写相结合的方式细加描摹。（１）先写山之险。作者把写山和写路结合起来写，以山路之狭长来衬托群山之连绵不断。写行人的艰难行进，更加衬托山路的奇险。（２）再写水之险。作者先写水的千姿百态，然后勾勒了一个行船的惊险场景，最后用人不敢行舟来再一次强调水之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二、大量运用比喻、排比、夸张等修辞手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572000"/>
            <a:ext cx="8839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　　作者写福州山水时，强调险而不恶，怪而不凶，景物给人的感觉是奇、险、美。山是静的，但作者以路写山，把山写活了；水是静的，作者肆意点染，让水赋予了生命。可以说，作者不仅写出了山水的“形”，也写出了山水之“神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福州的州治所在侯官县，对闽地来说是土地的中央，所说的闽中就是这里。它是闽地最平坦宽广的地方，离四面的山都很远，而闽江就在它的南边，大海就在它的东边。城内外都有路，路旁有沟，沟可以沟通大海，用船载物的人白天黑夜都可以聚集（人或物）到自己家门。山上树木茂盛，工匠手艺良好，人们竞相夸耀自己房屋的华丽，即使是下等平苦的人也一定要扩大他们的住宅。而佛教、道教之徒，他们的庙观又特别壮丽。城中有三座山，西边的叫闽山，东边的叫九仙山，北边的叫越王山三座山鼎足而立。附靠着山的，佛教、道教的庙观有数十百处，它那宏伟诡异绝然不同的形状，大概（表明）已经用尽了人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52960" y="5334120"/>
            <a:ext cx="5648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、写福州城的特点和百姓的安居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57400" y="9144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福州城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90520" y="2133720"/>
            <a:ext cx="3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１、地理位置－－－位于闽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２、地势－－－－－平而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３、地域风貌－－－枕江面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４、城市风貌－－－路多，舟船交通便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５、城市建筑－－－居室巨丽，寺院特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６、整体形象－－－三山鼎立，山上寺庙众多而奇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福州是中国东南滨海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一颗明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山青水秀，风光绚丽，人杰地灵，物华天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一座天设人造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福地宝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福州历史悠久，自汉高祖五年〔公元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闽越王无诸定都福州，修筑冶城，福州建城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年历史。唐末因郡城中榕树独盛，称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榕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，又因城内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山、乌山、屏山鼎足而立，又别称 “三山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5300640"/>
            <a:ext cx="25146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福州全景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762120"/>
            <a:ext cx="888516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　　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光禄卿、直昭文馆程公主政福州，在闽地的高耸处，建了一座亭子，这里的山水胜景，城池的宏大，宫室的繁荣，不用走下竹椅而四面观望中，可尽收眼底。程公认为这里在江海之上，作登山四望的观看，所以比得上道家所说的蓬莱、方丈、赢州三座仙山，所以为它起名叫“道山之亭”。闽地因为道路险远，所以做官的常怕到此任职，程公能够依照这地方的长处筑亭，用来寄托他耳目的欢乐，不但忘掉了它路远而危险，又将他的思想提高出于尘埃之外，他的志向多么伟大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876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三、写道山亭四周景色之美，交代了命名的缘由，赞扬了程公的知山乐水，建亭雅趣。半为写景，半为写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447920"/>
            <a:ext cx="79408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程公在这里因为治理州郡而闻名，他既改造州城，又创办学校，而公事之余又建造了这座亭子。城公任期届满，改任广州知府，后任谏议大夫，之后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升中书舍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又入京任史馆修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现在担任越州知府，字公辟，名师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55760" y="4059360"/>
            <a:ext cx="67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四、总述程师孟的政绩和改任情况。点破其余功在于建道山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121932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一、写闽之历史，水陆山水之奇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00320" y="22096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二、写福州城的特点和百姓的安居乐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5480" y="3124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三、写道山亭四周景色之美，交代了命名的缘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6520" y="44956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四、总述程师孟的政绩和改任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676520" y="0"/>
            <a:ext cx="32004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思考问题？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1135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　　文章围绕中心，描写了山水之险，介绍了建筑之美，评述了程公政绩之高。试分析它们之间的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4360" y="300348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答案：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山水险要，建筑不易；此处民居美，宫殿盛更是难得；难得而有成；说明此处政通人和，官员治理有方。作者用迂回曲折的方式赞美了程公的政绩之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91760" y="1128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中宋"/>
              </a:rPr>
              <a:t>写作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3080" y="2535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一、正面描写和侧面描写相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53640" y="3581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二、结构精巧独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79720" y="46483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三、大量运用比喻、夸张和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0513hushui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3809880"/>
            <a:ext cx="3276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今天的闽江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380880"/>
            <a:ext cx="22860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今日闽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657600" y="2590920"/>
            <a:ext cx="175248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山路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76720" y="2819520"/>
            <a:ext cx="26668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水路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67080" y="914400"/>
            <a:ext cx="4876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00ff"/>
                </a:solidFill>
                <a:latin typeface="宋体"/>
              </a:rPr>
              <a:t>曾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0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8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子固，建昌军南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江西南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生于仕宦之家。宋嘉祐二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05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士，授太平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安徽当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司法参军。不久，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入京任馆阁校勘、集贤校理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熙宁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06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任《英宗实录》检讨官，后出为越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浙江绍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判，历任齐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山东济南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襄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湖北襄樊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洪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江西南昌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州，皆有善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8380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　曾巩画像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787320"/>
            <a:ext cx="853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熙宁十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07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月，以度支员外郎直龙图阁，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出任福州知州兼福建路兵马钤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时南剑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南平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乐县巨盗廖恩初降，余党逃匿山林，骚扰人民。曾巩极力招抚，自新者甚众。曾巩奏请在沿海要隘增设巡检，以资防卫。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福州佛寺多，田产富足，僧人相争为住持，曾巩在福州整顿佛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革除官府指派住持制度，让僧众自相推举，禁止官吏向僧人勒索。在福州任职仅一年零一个月，所作诗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余篇，其中《道山亭记》一文，尤为世人所传诵。后历任明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宁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亳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安徽亳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沧州知州；又入京任史馆修撰，升中书舍人，知制诰。后卒于江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南京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追谥“文定”。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著有《元丰类稿》传世，名列唐宋八大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62520" y="914400"/>
            <a:ext cx="487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　　曾巩与道山亭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_x000b__x000c_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宋熙宁十年（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  <a:ea typeface="_x000b__x000c_"/>
              </a:rPr>
              <a:t>1077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年）知福州。在福州任职一年零一个月，撰有诗文五十多篇。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《道山亭记》记述乌石山风景，描写福州城貌，涉及风土民俗，是一篇传诵相当普遍的名作，道山亭亦借此名垂千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曾巩与道山亭" descr=""/>
          <p:cNvPicPr/>
          <p:nvPr/>
        </p:nvPicPr>
        <p:blipFill>
          <a:blip r:embed="rId2"/>
          <a:stretch/>
        </p:blipFill>
        <p:spPr>
          <a:xfrm>
            <a:off x="0" y="457200"/>
            <a:ext cx="3581280" cy="5181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57800"/>
            <a:ext cx="3321000" cy="703440"/>
          </a:xfrm>
          <a:prstGeom prst="rect">
            <a:avLst/>
          </a:prstGeom>
          <a:noFill/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_x000b__x000c_"/>
                <a:ea typeface="华文中宋"/>
              </a:rPr>
              <a:t>曾巩与道山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32440" y="685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3720" y="1628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积累文中重要的实词和虚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637000"/>
            <a:ext cx="67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了解闽地的山水环境、人文氛围；体会程师孟处险境而自若的旷达胸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581360"/>
            <a:ext cx="66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学习本文正面描写和侧面描写相结合的写作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1:41:34Z</dcterms:created>
  <dc:creator>WANG</dc:creator>
  <dc:description/>
  <dc:language>en-US</dc:language>
  <cp:lastModifiedBy>user</cp:lastModifiedBy>
  <dcterms:modified xsi:type="dcterms:W3CDTF">2006-02-19T12:59:27Z</dcterms:modified>
  <cp:revision>11</cp:revision>
  <dc:subject/>
  <dc:title>PowerPoint 演示文稿</dc:title>
</cp:coreProperties>
</file>