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068-899F-4527-BE45-792FA6FF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696-B5D5-4015-95B8-DE0E3C95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993-CA83-4D2B-B753-AF002600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A83-C538-4499-9A77-E0DE6908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00F3-BFF6-48F8-8344-891E1560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FACB-2EDA-45F4-BCDA-FA9953FA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6592-BB45-47AB-A623-696F8B0A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8AAC-F8AC-4BA1-8A9C-D52CAAF0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C952-E3B8-4396-B28E-794E56AC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0A1A-FFF9-4451-8E71-556648DF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2CA1-AFBA-498D-A8B4-3CD3C41C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2D32-DA10-40F4-AE19-1D97C500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8639-8C9B-4203-8390-106690D6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5D8F-08D2-4F82-9CC5-5BE3CFD0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6A5D-E2A4-4BDD-BDE9-C825642F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7BD8-C2F6-4881-A368-BA708DD8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5E8A-634A-477B-B4E1-EC1730AE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4B1F-E79D-4252-AC63-92CE68F6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8261A-89A4-48AC-A4AA-CD7FCF30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E67E1-F768-4C8D-86DC-560FD602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1CEF0-E998-4F1C-B65C-F0E4799F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A2A3E-09B2-4788-B86B-8DFD0C10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A09-AD75-453D-8347-203B95CE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2A02A-6710-4E32-8656-163B7593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73D5D-6B2E-4182-80F0-7B8BF68F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714B-2EC9-41BB-B6AC-6F226DE9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9C009-3803-4F7D-897E-C1AC2683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6118F-4854-48EC-B921-044A437F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9E813-5D7A-4B7E-8A09-634CC515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F76F0-33DA-4ECE-A4C2-B2CC185D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784-6E18-4804-8AE0-BBAA8592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C9D-E771-4C1F-ACF5-A9DA5316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0B2-4B51-4D36-B882-C6EE91EA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298-F79D-4457-833A-7968B90F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966-9C06-48C9-A2D1-C6A46055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635-C315-4F5A-8C9E-313C7049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>
                <a:gd name="textAreaLeft" fmla="*/ 0 w 2101320"/>
                <a:gd name="textAreaRight" fmla="*/ 2101680 w 2101320"/>
                <a:gd name="textAreaTop" fmla="*/ 0 h 1914120"/>
                <a:gd name="textAreaBottom" fmla="*/ 1914480 h 19141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7040"/>
                  <a:gd name="textAreaBottom" fmla="*/ 2057400 h 205704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>
                  <a:gd name="textAreaLeft" fmla="*/ 0 w 163800"/>
                  <a:gd name="textAreaRight" fmla="*/ 163800 w 16380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D3A0-809C-4932-BE99-635E31B15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88280" cy="511200"/>
            </a:xfrm>
            <a:custGeom>
              <a:avLst/>
              <a:gdLst>
                <a:gd name="textAreaLeft" fmla="*/ 0 w 1088280"/>
                <a:gd name="textAreaRight" fmla="*/ 1088640 w 10882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97400" cy="829080"/>
            </a:xfrm>
            <a:custGeom>
              <a:avLst/>
              <a:gdLst>
                <a:gd name="textAreaLeft" fmla="*/ 0 w 797400"/>
                <a:gd name="textAreaRight" fmla="*/ 797760 w 797400"/>
                <a:gd name="textAreaTop" fmla="*/ 0 h 829080"/>
                <a:gd name="textAreaBottom" fmla="*/ 829440 h 82908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>
                <a:gd name="textAreaLeft" fmla="*/ 0 w 805680"/>
                <a:gd name="textAreaRight" fmla="*/ 806040 w 805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8880" cy="771120"/>
            </a:xfrm>
            <a:custGeom>
              <a:avLst/>
              <a:gdLst>
                <a:gd name="textAreaLeft" fmla="*/ 0 w 938880"/>
                <a:gd name="textAreaRight" fmla="*/ 939240 w 93888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91E2-592A-4FC0-A366-2F090BE2F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504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650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664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678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692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706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720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34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>
                <a:gd name="textAreaLeft" fmla="*/ 0 w 2101320"/>
                <a:gd name="textAreaRight" fmla="*/ 2101680 w 2101320"/>
                <a:gd name="textAreaTop" fmla="*/ 0 h 1914120"/>
                <a:gd name="textAreaBottom" fmla="*/ 1914480 h 19141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5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36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7040"/>
                  <a:gd name="textAreaBottom" fmla="*/ 2057400 h 205704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>
                  <a:gd name="textAreaLeft" fmla="*/ 0 w 163800"/>
                  <a:gd name="textAreaRight" fmla="*/ 163800 w 16380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92EA-DF69-4943-9E77-5294AC0088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矩形 9" descr=""/>
          <p:cNvPicPr/>
          <p:nvPr/>
        </p:nvPicPr>
        <p:blipFill>
          <a:blip r:embed="rId1"/>
          <a:stretch/>
        </p:blipFill>
        <p:spPr>
          <a:xfrm>
            <a:off x="725400" y="2266920"/>
            <a:ext cx="7485120" cy="1701720"/>
          </a:xfrm>
          <a:prstGeom prst="rect">
            <a:avLst/>
          </a:prstGeom>
          <a:ln w="0">
            <a:noFill/>
          </a:ln>
        </p:spPr>
      </p:pic>
      <p:sp>
        <p:nvSpPr>
          <p:cNvPr id="791" name="TextBox 10"/>
          <p:cNvSpPr/>
          <p:nvPr/>
        </p:nvSpPr>
        <p:spPr>
          <a:xfrm>
            <a:off x="5364000" y="458136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刘慈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1"/>
          <p:cNvSpPr/>
          <p:nvPr/>
        </p:nvSpPr>
        <p:spPr>
          <a:xfrm>
            <a:off x="755640" y="119700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科幻小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概括小说的主要事件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395280" y="1599840"/>
            <a:ext cx="83678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我”带上了一位因事故而被困在地底深处无法返回地面的女宇航员的“传感眼镜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相当于用她的眼睛去四处游玩。“我”带着她的眼睛完成了她的最后一次地面探索。在结束任务的同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女宇航员也永远留在了地底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环境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609120" y="1268280"/>
            <a:ext cx="81536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围是温度高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摄氏度，压力可以把碳在一秒钟内变成金刚石的液态铁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飞船已下沉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里深处，那里是地球的最深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在地心的世界是那个活动范围不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方米的闷热的控制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飞船里中微子通信设备的能量最后耗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3"/>
          <p:cNvSpPr/>
          <p:nvPr/>
        </p:nvSpPr>
        <p:spPr>
          <a:xfrm>
            <a:off x="2565360" y="52293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与世隔绝，环境险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孤独一人，度过余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 txBox="1"/>
          <p:nvPr/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对比描写了“我”与“她”对草原的感受不同，我对草原有怎样的感受？她对草原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明确：我虽然对草原景色有感叹，但觉得草原的一切都寻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她对草原的一切景致都感到惊喜，渴望地看草原上的每一朵野花，每一棵小草，看草丛中跃动的每一缕阳光，渴望地听草原上的每一种声音。一条突然出现的小溪，小溪中的一条小鱼，都会令她激动不已；一阵不期而至的微风，风中一缕绿草的清香都会让她落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人物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明线</a:t>
            </a:r>
            <a:r>
              <a:rPr b="0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”的经历见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性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木单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孤独寂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热爱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4284720" y="2174760"/>
            <a:ext cx="46800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暗线</a:t>
            </a:r>
            <a:r>
              <a:rPr b="0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” 的故事回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性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热爱自然、单纯可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丰富细腻、热爱科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乐观坚强、献身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 txBox="1"/>
          <p:nvPr/>
        </p:nvSpPr>
        <p:spPr>
          <a:xfrm>
            <a:off x="179280" y="404640"/>
            <a:ext cx="858384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中心思想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通过写她深陷地心只能通过传感眼镜感性地了解地球的故事，歌颂了乐观、敬业为了科学而不怕献身的精神，也表达了最平凡的事物才更需要我们去珍惜的哲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98440" y="333360"/>
            <a:ext cx="8540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小说之所以引人入胜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在于运用了一些艺术技巧：</a:t>
            </a:r>
            <a:br>
              <a:rPr sz="4000"/>
            </a:b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设置悬念，埋下伏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想象奇特，故事曲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一种文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幻小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一种读书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批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动于一种生活态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处逆境仍乐观坚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科幻小说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科幻小说，是一种起源于近代西方的文学体裁，是小说类别之一。用幻想的形式，表现人类在未来世界的物质精神文化生活和科学技术远景，其内容交织着科学事实和预见、想象。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通常将“科学”“幻想”和“小说”视为其三要素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随着近代科学技术的蓬勃发展而产生的一种文学样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介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刘慈欣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著名的科幻作家，被誉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中国当代科幻第一人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要作品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《地球往事三部曲》《球状闪电》《超新星纪元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《三体》获得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届雨果奖最佳长篇小说奖——这是亚洲人首次获得有“科幻界诺贝尔文学奖”之称的雨果奖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刘慈欣的代表作《三体》三部曲被普遍认为是中国科幻文学的里程碑之作，将中国科幻推上了世界的高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直接连接符 4"/>
          <p:cNvSpPr/>
          <p:nvPr/>
        </p:nvSpPr>
        <p:spPr>
          <a:xfrm>
            <a:off x="1116000" y="0"/>
            <a:ext cx="0" cy="9079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5"/>
          <p:cNvSpPr/>
          <p:nvPr/>
        </p:nvSpPr>
        <p:spPr>
          <a:xfrm flipH="1">
            <a:off x="899640" y="836640"/>
            <a:ext cx="1613160" cy="32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任意多边形 6"/>
          <p:cNvGrpSpPr/>
          <p:nvPr/>
        </p:nvGrpSpPr>
        <p:grpSpPr>
          <a:xfrm>
            <a:off x="1096920" y="96840"/>
            <a:ext cx="2414520" cy="798480"/>
            <a:chOff x="1096920" y="96840"/>
            <a:chExt cx="2414520" cy="798480"/>
          </a:xfrm>
        </p:grpSpPr>
        <p:pic>
          <p:nvPicPr>
            <p:cNvPr id="799" name="任意多边形 6" descr=""/>
            <p:cNvPicPr/>
            <p:nvPr/>
          </p:nvPicPr>
          <p:blipFill>
            <a:blip r:embed="rId1"/>
            <a:stretch/>
          </p:blipFill>
          <p:spPr>
            <a:xfrm>
              <a:off x="1096920" y="96840"/>
              <a:ext cx="24145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 rot="10800000">
              <a:off x="1186920" y="188280"/>
              <a:ext cx="22021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TextBox 7"/>
          <p:cNvSpPr/>
          <p:nvPr/>
        </p:nvSpPr>
        <p:spPr>
          <a:xfrm>
            <a:off x="1696680" y="18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习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1" descr="C:\Users\Administrator\课件图12\思考人物\562310.jpg"/>
          <p:cNvPicPr/>
          <p:nvPr/>
        </p:nvPicPr>
        <p:blipFill>
          <a:blip r:embed="rId2"/>
          <a:stretch/>
        </p:blipFill>
        <p:spPr>
          <a:xfrm>
            <a:off x="179280" y="907920"/>
            <a:ext cx="8713800" cy="4681800"/>
          </a:xfrm>
          <a:prstGeom prst="rect">
            <a:avLst/>
          </a:prstGeom>
          <a:ln w="0">
            <a:noFill/>
          </a:ln>
        </p:spPr>
      </p:pic>
      <p:sp>
        <p:nvSpPr>
          <p:cNvPr id="803" name="Rectangle 1"/>
          <p:cNvSpPr/>
          <p:nvPr/>
        </p:nvSpPr>
        <p:spPr>
          <a:xfrm>
            <a:off x="1332000" y="17128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给下列加点字注音。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缀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迟钝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蔚蓝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闲暇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凸现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吟唱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 拢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硅酸盐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铁镍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拍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心有灵犀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"/>
          <p:cNvSpPr/>
          <p:nvPr/>
        </p:nvSpPr>
        <p:spPr>
          <a:xfrm>
            <a:off x="1692360" y="18565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uì                dùn               wè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tū                   yí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lǒng                  guī                 ni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Shè                            x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椭圆 11"/>
          <p:cNvSpPr/>
          <p:nvPr/>
        </p:nvSpPr>
        <p:spPr>
          <a:xfrm>
            <a:off x="1835280" y="2852640"/>
            <a:ext cx="7272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椭圆 12"/>
          <p:cNvSpPr/>
          <p:nvPr/>
        </p:nvSpPr>
        <p:spPr>
          <a:xfrm>
            <a:off x="3780000" y="2781360"/>
            <a:ext cx="712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椭圆 13"/>
          <p:cNvSpPr/>
          <p:nvPr/>
        </p:nvSpPr>
        <p:spPr>
          <a:xfrm>
            <a:off x="5580000" y="278136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椭圆 14"/>
          <p:cNvSpPr/>
          <p:nvPr/>
        </p:nvSpPr>
        <p:spPr>
          <a:xfrm>
            <a:off x="1835280" y="3357720"/>
            <a:ext cx="7272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椭圆 15"/>
          <p:cNvSpPr/>
          <p:nvPr/>
        </p:nvSpPr>
        <p:spPr>
          <a:xfrm>
            <a:off x="3419640" y="3357720"/>
            <a:ext cx="7272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椭圆 16"/>
          <p:cNvSpPr/>
          <p:nvPr/>
        </p:nvSpPr>
        <p:spPr>
          <a:xfrm>
            <a:off x="5580000" y="3284640"/>
            <a:ext cx="7164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椭圆 17"/>
          <p:cNvSpPr/>
          <p:nvPr/>
        </p:nvSpPr>
        <p:spPr>
          <a:xfrm>
            <a:off x="1908000" y="393372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椭圆 18"/>
          <p:cNvSpPr/>
          <p:nvPr/>
        </p:nvSpPr>
        <p:spPr>
          <a:xfrm>
            <a:off x="3564000" y="3860640"/>
            <a:ext cx="71280" cy="73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椭圆 19"/>
          <p:cNvSpPr/>
          <p:nvPr/>
        </p:nvSpPr>
        <p:spPr>
          <a:xfrm>
            <a:off x="6012000" y="3933720"/>
            <a:ext cx="7272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椭圆 20"/>
          <p:cNvSpPr/>
          <p:nvPr/>
        </p:nvSpPr>
        <p:spPr>
          <a:xfrm>
            <a:off x="1835280" y="4437000"/>
            <a:ext cx="7272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椭圆 21"/>
          <p:cNvSpPr/>
          <p:nvPr/>
        </p:nvSpPr>
        <p:spPr>
          <a:xfrm>
            <a:off x="4356000" y="443700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直接连接符 4"/>
          <p:cNvSpPr/>
          <p:nvPr/>
        </p:nvSpPr>
        <p:spPr>
          <a:xfrm>
            <a:off x="1116000" y="0"/>
            <a:ext cx="0" cy="9079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5"/>
          <p:cNvSpPr/>
          <p:nvPr/>
        </p:nvSpPr>
        <p:spPr>
          <a:xfrm flipH="1">
            <a:off x="899640" y="836640"/>
            <a:ext cx="1613160" cy="32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任意多边形 6"/>
          <p:cNvGrpSpPr/>
          <p:nvPr/>
        </p:nvGrpSpPr>
        <p:grpSpPr>
          <a:xfrm>
            <a:off x="1096920" y="96840"/>
            <a:ext cx="2298600" cy="798480"/>
            <a:chOff x="1096920" y="96840"/>
            <a:chExt cx="2298600" cy="798480"/>
          </a:xfrm>
        </p:grpSpPr>
        <p:pic>
          <p:nvPicPr>
            <p:cNvPr id="819" name="任意多边形 6" descr=""/>
            <p:cNvPicPr/>
            <p:nvPr/>
          </p:nvPicPr>
          <p:blipFill>
            <a:blip r:embed="rId1"/>
            <a:stretch/>
          </p:blipFill>
          <p:spPr>
            <a:xfrm>
              <a:off x="1096920" y="96840"/>
              <a:ext cx="22986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"/>
            <p:cNvSpPr/>
            <p:nvPr/>
          </p:nvSpPr>
          <p:spPr>
            <a:xfrm rot="10800000">
              <a:off x="1187280" y="188280"/>
              <a:ext cx="2089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TextBox 7"/>
          <p:cNvSpPr/>
          <p:nvPr/>
        </p:nvSpPr>
        <p:spPr>
          <a:xfrm>
            <a:off x="1332000" y="189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习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1" descr="C:\Users\Administrator\课件图12\图2159.jpg"/>
          <p:cNvPicPr/>
          <p:nvPr/>
        </p:nvPicPr>
        <p:blipFill>
          <a:blip r:embed="rId2"/>
          <a:stretch/>
        </p:blipFill>
        <p:spPr>
          <a:xfrm>
            <a:off x="0" y="620640"/>
            <a:ext cx="8893080" cy="5545080"/>
          </a:xfrm>
          <a:prstGeom prst="rect">
            <a:avLst/>
          </a:prstGeom>
          <a:ln w="0">
            <a:noFill/>
          </a:ln>
        </p:spPr>
      </p:pic>
      <p:sp>
        <p:nvSpPr>
          <p:cNvPr id="823" name="Rectangle 1"/>
          <p:cNvSpPr/>
          <p:nvPr/>
        </p:nvSpPr>
        <p:spPr>
          <a:xfrm>
            <a:off x="395280" y="164736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释下列词语的意思。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有灵犀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涯海角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期而至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4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缀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5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蒙眬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6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闲暇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7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漫步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8)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凸现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971640" y="164736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指彼此心意相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         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极远的地方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或相隔极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          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事先没有约定而意外到来。期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约定时日。至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到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    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①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加以衬托或装饰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使原有事物更加美好。②应景儿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;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凑数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①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眼睛欲闭又开。形容醉态或睡态。　②模糊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分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指空闲的时间。也指空闲自得的样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无目的地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悠闲地走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清楚地显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8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8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8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矩形 9" descr=""/>
          <p:cNvPicPr/>
          <p:nvPr/>
        </p:nvPicPr>
        <p:blipFill>
          <a:blip r:embed="rId1"/>
          <a:stretch/>
        </p:blipFill>
        <p:spPr>
          <a:xfrm>
            <a:off x="725400" y="2266920"/>
            <a:ext cx="7485120" cy="1701720"/>
          </a:xfrm>
          <a:prstGeom prst="rect">
            <a:avLst/>
          </a:prstGeom>
          <a:ln w="0">
            <a:noFill/>
          </a:ln>
        </p:spPr>
      </p:pic>
      <p:sp>
        <p:nvSpPr>
          <p:cNvPr id="826" name="TextBox 10"/>
          <p:cNvSpPr/>
          <p:nvPr/>
        </p:nvSpPr>
        <p:spPr>
          <a:xfrm>
            <a:off x="5364000" y="458136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刘慈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11"/>
          <p:cNvSpPr/>
          <p:nvPr/>
        </p:nvSpPr>
        <p:spPr>
          <a:xfrm>
            <a:off x="755640" y="119700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科幻小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看到标题你可能提出哪些问题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95280" y="1341000"/>
            <a:ext cx="8367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眼睛怎么能被带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眼睛是指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带上她的眼睛干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带上她的眼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谁带上她的眼睛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文章标题的作用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179280" y="1599840"/>
            <a:ext cx="85838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交代人物形象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概括了文章的主要情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设置悬念，吸引读者的阅读兴趣，引发读者的思考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作为文章的线索，贯穿全文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突出主题，点明主旨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一语双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反映作者情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98440" y="115560"/>
            <a:ext cx="85406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解读标题，概括情节。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609480" y="1599840"/>
            <a:ext cx="16588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开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高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结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尾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2411280" y="1599840"/>
            <a:ext cx="63518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要带着她的眼睛去旅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草原见闻令我生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真相大白，我无能为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永远留在了地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离她不会再远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2:01:09Z</dcterms:created>
  <dc:creator>语文备课大师【全免费】</dc:creator>
  <dc:description>语文备课大师【全免费】</dc:description>
  <dc:language>en-US</dc:language>
  <cp:lastModifiedBy>Administrator</cp:lastModifiedBy>
  <dcterms:modified xsi:type="dcterms:W3CDTF">2017-05-18T09:11:22Z</dcterms:modified>
  <cp:revision>53</cp:revision>
  <dc:subject/>
  <dc:title>语文备课大师【全免费】</dc:title>
</cp:coreProperties>
</file>