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6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1.jpeg" ContentType="image/jpeg"/>
  <Override PartName="/ppt/media/image24.gif" ContentType="image/gif"/>
  <Override PartName="/ppt/media/image1.gif" ContentType="image/gif"/>
  <Override PartName="/ppt/media/image23.gif" ContentType="image/gif"/>
  <Override PartName="/ppt/media/image3.png" ContentType="image/png"/>
  <Override PartName="/ppt/media/image40.gif" ContentType="image/gif"/>
  <Override PartName="/ppt/media/image22.gif" ContentType="image/gif"/>
  <Override PartName="/ppt/media/image4.jpeg" ContentType="image/jpeg"/>
  <Override PartName="/ppt/media/image13.gif" ContentType="image/gif"/>
  <Override PartName="/ppt/media/image28.gif" ContentType="image/gif"/>
  <Override PartName="/ppt/media/image5.gif" ContentType="image/gif"/>
  <Override PartName="/ppt/media/image35.gif" ContentType="image/gif"/>
  <Override PartName="/ppt/media/image33.gif" ContentType="image/gif"/>
  <Override PartName="/ppt/media/image9.gif" ContentType="image/gif"/>
  <Override PartName="/ppt/media/image34.gif" ContentType="image/gif"/>
  <Override PartName="/ppt/media/image38.gif" ContentType="image/gif"/>
  <Override PartName="/ppt/media/image41.gif" ContentType="image/gif"/>
  <Override PartName="/ppt/media/image30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46.gif" ContentType="image/gif"/>
  <Override PartName="/ppt/media/image50.gif" ContentType="image/gif"/>
  <Override PartName="/ppt/media/image11.gif" ContentType="image/gif"/>
  <Override PartName="/ppt/media/image48.gif" ContentType="image/gif"/>
  <Override PartName="/ppt/media/image51.gif" ContentType="image/gif"/>
  <Override PartName="/ppt/media/image52.gif" ContentType="image/gif"/>
  <Override PartName="/ppt/media/image39.jpeg" ContentType="image/jpeg"/>
  <Override PartName="/ppt/media/image45.gif" ContentType="image/gif"/>
  <Override PartName="/ppt/media/image8.jpeg" ContentType="image/jpeg"/>
  <Override PartName="/ppt/media/image25.gif" ContentType="image/gif"/>
  <Override PartName="/ppt/media/image2.gif" ContentType="image/gif"/>
  <Override PartName="/ppt/media/image32.gif" ContentType="image/gif"/>
  <Override PartName="/ppt/media/image49.gif" ContentType="image/gif"/>
  <Override PartName="/ppt/media/image12.gif" ContentType="image/gif"/>
  <Override PartName="/ppt/media/image10.gif" ContentType="image/gif"/>
  <Override PartName="/ppt/media/image47.gif" ContentType="image/gif"/>
  <Override PartName="/ppt/media/image7.gif" ContentType="image/gif"/>
  <Override PartName="/ppt/media/image37.gif" ContentType="image/gif"/>
  <Override PartName="/ppt/media/image36.gif" ContentType="image/gif"/>
  <Override PartName="/ppt/media/image6.gif" ContentType="image/gif"/>
  <Override PartName="/ppt/media/image2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4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未知用户" initials="未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40.xml><?xml version="1.0" encoding="utf-8"?>
<p:cmLst xmlns:p="http://schemas.openxmlformats.org/presentationml/2006/main">
  <p:cm authorId="0" dt="2017-05-17T16:57:53.306000000" idx="1">
    <p:pos x="5498" y="13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095-2A63-4EE7-8688-97ED05BD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E6D-266B-408C-BCD2-D70073C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173-EF60-4B4F-917E-B031F4D2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4A5-1C82-4F84-9B62-8AA42342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A01-42CD-43A8-8F39-D4B29BBB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1A0-67C6-45C0-8A29-3EBFB48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911-A8E6-45A8-B708-9A08D43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59F-7417-4279-85D3-27BB1CAC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E77-3DCB-42C8-B744-AD885090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5B5-2E60-479E-8AD0-E5711A58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4B0-A531-41B9-A72C-8A41CC6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795-380C-4765-9CFC-71380D6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DE4A-1442-4571-956C-993C53DCC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<Relationship Id="rId4" Type="http://schemas.openxmlformats.org/officeDocument/2006/relationships/comments" Target="../comments/comment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带上她的眼睛》设置了悬念，为什么要带上别人的眼睛去旅行，眼睛还能单独被带走吗，她的眼睛看到了什么等等，让我们急于读下去。“眼睛”指是一付传感眼镜。“我”戴上它时，所看到的一切图象由超高频信息波发射出去，可以被远方的另一个戴同样传感眼镜的人接收到，于是“她”就能看到“我”所看到的一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403280" cy="1125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5805360"/>
            <a:ext cx="277164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997360"/>
            <a:ext cx="11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907920"/>
            <a:ext cx="1800000" cy="4969080"/>
          </a:xfrm>
          <a:custGeom>
            <a:avLst/>
            <a:gdLst>
              <a:gd name="textAreaLeft" fmla="*/ 1150200 w 1800000"/>
              <a:gd name="textAreaRight" fmla="*/ 1800360 w 180000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000" y="476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qi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551664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k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0464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5516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贝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2997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692280"/>
            <a:ext cx="1873080" cy="5473440"/>
          </a:xfrm>
          <a:custGeom>
            <a:avLst/>
            <a:gdLst>
              <a:gd name="textAreaLeft" fmla="*/ 1196640 w 1873080"/>
              <a:gd name="textAreaRight" fmla="*/ 1873440 w 1873080"/>
              <a:gd name="textAreaTop" fmla="*/ 142560 h 5473440"/>
              <a:gd name="textAreaBottom" fmla="*/ 5330880 h 54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33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ji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5589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3336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房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551664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间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1871640" cy="367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16720" y="1484280"/>
            <a:ext cx="194292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闲暇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ián      xi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泛指闲空没有事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吟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ín        ch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吟咏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ān         wè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顿抚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迟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í        dù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想、感官、行动等反应慢，不灵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é         lǒ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在一起；闭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期而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ù   qī   ér    z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先没有约定而意外到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笼罩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ǒng       zh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广泛覆盖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2050920" cy="115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有灵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xīn    yǒu   líng    x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双方心意相通，对于彼此的意蕴都心领神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涯海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iān    yá    hǎi    jiǎ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极远的地方，或相隔极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iǎn   zhu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加以衬托或装饰，使原有事物更加美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朦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méng     ló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糊不清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寂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ì   m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寂静无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瞬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ùn      jiā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眼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浮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fú  zà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急躁，不沉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62728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迹罕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rén    jì    hǎn    zh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罕：少。人很少到的地方。指偏僻荒凉的地方很少有人来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气势磅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ì    shì    páng    b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容宏伟壮观，雄壮有气势的样子（多形容景物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隐时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í    yǐn   shí    xi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会儿隐没，一会儿出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uán     x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物体整个空间情况的全部信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40000" y="6442200"/>
            <a:ext cx="680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整体感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请用简洁的语言概括小说的主要情节和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”带上一位因事故而被困在地底深处无法返回地面的女宇航员的“眼睛”去度假，完成了她的最后一次地面探索。在度假结束的同时，女宇航员也永远地留在了地心深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0" y="5013360"/>
            <a:ext cx="228600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12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结合课文内容来分析“我”和小姑娘这两个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“我”是一 个 性 格 豪 爽 而又缺乏耐心，心地善良而又对生活充满抱怨的一 个 科 学 工 作 者 的 形 象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】小姑娘：敬业精神，献身精神；乐观坚强，努力享受美好事物；心地善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说的两条线索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“我”的经历见闻转变为主线，以“她”的故事回述为暗线。时间一个向前发展，一个往后推移，又同在最后交叉融合回到同一平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中的主任是一个怎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话语不多、沉着镇定，但关心下属、富有同情心和爱心的人物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—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端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带着她的眼睛去旅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——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展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草原上欣赏花草和月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4——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潮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“落日六号”失事，她在地心乐观勇敢地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6——4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结局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“我”受到感染，离她不会再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6400" cy="620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71928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运用第一人称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增加了文章的真实性，便于叙述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从主任的介绍中你获取了眼睛主人的哪些信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轻，女宇航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332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眼睛的主人给“我”最初的印象是什么？作者这样写的目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好像刚毕业的小姑娘，娇小，一副可怜兮兮的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反衬出她的乐观坚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某些方面可能比地狱还稍差些”，这句话有怎样的表达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出眼睛的主人生存的环境极其险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40000" y="5776920"/>
            <a:ext cx="6804000" cy="108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刘慈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9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936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Users\Administrator\Desktop\gamersky_02small_04.jpg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1332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四段话在文中起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承上启下，设置悬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传感眼镜有什么特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超高频信息波发射看到的图像，可以被远方的另一个戴同样传感眼镜的人接收到；通过采集戴着它的人的脑电波，把触觉和味觉一同发射出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66200" y="765000"/>
            <a:ext cx="1477800" cy="129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姑娘为什么这样喜欢花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她很长时间看不到花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姑娘为什么感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姑娘平时感受不到清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我感到，她对这个世界的情感已丰富到不正常的程度。”这句话起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设置悬念，表现了她对这个世界的情感到了“不正常的程度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-3132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姑娘为什么哼唱《月光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表现了她对月亮的喜爱之情，她想欣赏美丽的月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姑娘的叹息声预示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预示着小姑娘遇到了困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“我对眼前的景色大发感叹，但从她的眼睛中，我听到了一阵轻轻的抽泣声。”我为什么大发感叹？她为什么抽泣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我大发感叹是因为景色半阔，沙漠已变成了草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她抽泣是因为她被封闭在地心，常梦到草原，此刻回到梦里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551640" y="5516640"/>
            <a:ext cx="2592360" cy="1341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16000" y="5516640"/>
            <a:ext cx="259236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在本部分对比描写了“我”与“她”对草原的感受不同，我对草原有怎样的感受？她对草原有怎样的感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我虽然对草原景色有感叹，但觉得草原的一切都寻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而她对草原的一切景致都感到惊喜，渴望地看草原上的每一朵野花，每一棵小草，看草丛中跃动的每一缕阳光，渴望地听草原上的每一种声音。一条突然出现的小溪，小溪中的一条小鱼，都会令她激动不已；一阵不期而至的微风，风中一缕绿草的清香都会让她落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在我的意识深处，也有一棵小小的种子留了下来。” “种子”指什么？这句有什么表达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“种子”指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次旅行看到的情景对“我”精神方面的影响：我已开始感受自然界的诗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作用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对前面所写的在裤脚上发现了两三棵草籽的引申，暗示了作者要表达的主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35640" y="5300640"/>
            <a:ext cx="370836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我”为什么现在开始关注绿芽，注意鸟鸣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”受到了她的感染，在她的影响下，也渐渐懂得了珍惜看到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我”意识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姑娘不应该是在太空，她可能在地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我”明白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明白了她为什么珍惜看到的一切，明白了她为什么珍爱自然，明白了种种疑问和悬念，这都是因为她是“落日六号”的宇航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为什么描写“落日一号”发射时的情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详细描写“落日一号”发射时的情景，给人以视觉上的感受，增加了文章的真实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5252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80000" y="6093000"/>
            <a:ext cx="1360440" cy="765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783560" y="6093000"/>
            <a:ext cx="1360440" cy="76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宇宙航行是寂寞的，但宇航员们能看到无限的太空和壮丽的星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地航飞船上的地航员们，只能从飞船上的全息后视电视中能看到这样的情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炽热的岩浆剌目地闪亮着，翻滚着，随着飞船的下潜，在船尾飞快地合拢起来，瞬间充满了飞船通过的空间。”这句话运用了什么写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比。突出了地航员和宇航员不同的感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71640" y="6354720"/>
            <a:ext cx="637236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用简洁的语言概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的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了“落日六号”失事的经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好在‘落日六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舱的船体是可靠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船上的中微子通讯系统仍和地面控制中心保持着完好的联系。以后的一年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日六号”航行组仍坚持工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从地核中得到的大量宝贵资料发送到地面。”这句话表现了地航员怎样的精神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私奉献、不怕牺牲、在恶劣的环境中仍然坚持工作的探索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136000" y="0"/>
            <a:ext cx="100800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生字、生词，了解并识记作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抓住“草原”“落日六号”“透明地球”等关键词，把握小说的情节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女宇航员坚强乐观、勇敢善良、珍爱自然，大义大勇的精神品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珍惜目前能看到的，珍惜拥有的一切，就是幸福的主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835280" y="1557360"/>
            <a:ext cx="6624360" cy="62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6335640" cy="62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地心只有她一个人，体会她会有怎样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孤独寂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中的数字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明她的生存空间狭小，生活时间将很长，突出了她一人生活在地心的悲戚孤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164360" y="1052640"/>
            <a:ext cx="197964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她的录音表现了她怎样的精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 科 学  献  身、坚强乐观、勇敢善良、珍爱自然、热爱生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在以后的岁月中，我到过很多地方，每到一个处，我都喜欢躺在那里的大地上”，我“喜欢躺在那里的大地上”的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可以看到停泊在地球中心的“落日六号”地航飞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】可以感受到从几千公里深的地球中心传出的她的心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】可以想象着金色的阳光和银色的月光透射到这个星球的中心，听到了那里传出的她吟唱的《月光》，还听到她那轻柔的话音，从而产生“不管走到天涯海角，我离她都不会再远了”的想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人物，感悟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中这么多的伏笔和照应，归根结底，都是为了表现出小姑娘的处境。小姑娘的处境怎么样 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姑娘身陷绝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她的心态如何？你从哪里看出来的？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静。从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段里找到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372360" y="2133720"/>
            <a:ext cx="277164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身陷绝境却如此平静，请问小姑娘强大的精神力量从何而来？带着这个问题，让我们齐声朗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自然段，看看小姑娘具有怎样的性格特点和精神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强烈的敬业精神 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为科学献 身的精神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对生养了自己的这颗星球的无限的热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659640" y="2781360"/>
            <a:ext cx="2484360" cy="1700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伏笔和照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伏笔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文章或文艺作品中，在前段里为后段所作的提示或暗示。它常常与照应配合使用，即所谓前有伏笔，后有照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课文中运用伏笔的地方，并找出文中照应的文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一个好像刚毕业的小姑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照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飞船上的生命循环系统还可以运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她将在这不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方米的地心世界里度过自己的余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3480" cy="647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210520" y="0"/>
            <a:ext cx="933480" cy="64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热，热得像——地狱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照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飞船被裹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公里厚的物质中”，“周围是温度高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摄氏度，压力可以把碳在一秒中内变成金刚石的液态铁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伏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呀，真美，能闻闻它吗？不，别拔下它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照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生命算什么，仅仅能用脆弱来描述它吗？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920000" y="5705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564000" y="570564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文总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写的是人类深入地球内部进行探险，地层飞船在航行中失事，下沉到地心，船上只剩下一名年轻的女领航员，她只能在封闭的地心渡过余生的故事。作者讲故事的技巧非常高明，他用简朴的语言，轻易地操控着读者的阅读体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19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566100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765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种操控有情节的：通过大量的伏笔与照应，使情节的发展既在意外又在意中。有人物的：故事中的女生最初给人的感觉是娇小、楚楚可怜，让读者产生同情和怜惜的柔情；随着故事的发展，她无理而任性，让读者觉得讨厌；而最终她的牺牲精神又让读者感佩。作者在塑造人物时，善于通过我与“她”的对比，突出了人物的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300720" y="5805360"/>
            <a:ext cx="284328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写她深陷地心只能通过传感眼镜感性地了解地球的故事，歌颂了乐观、敬业为了科学而不怕献身的精神，也表达了最平凡的事物才更需要我们去珍惜的哲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34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908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简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1979640" cy="537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0"/>
            <a:ext cx="71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刘慈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大陆新生代科幻的主要代表作家，自上世纪九十年代开始发表科幻作品，曾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连续五年获得科幻小说银河奖。代表作主要有长篇小说《三体》三部曲、《球状闪电》、《超新星纪元》、《魔鬼积木》等，中短篇《乡村教师》、《朝闻道》、《流浪地球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16720" y="5923080"/>
            <a:ext cx="2627280" cy="93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后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无论生活多么忙碌，都不要失去对大自然的敏锐的感受力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②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工作学习之余，亲近大自然，发现并珍爱身边的一切美好，让温情永驻心间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6080" cy="1341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③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时刻让你的眼睛探索这个世界的美好，相对于那些无法接触光明的人，我们没有理由说这个世界是灰色的，让我们带上他们都“眼睛”，去发现那些如花般美好、绚烂的事物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体知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科幻小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是一种起源于近代西方的文学体裁，是小说类别之一。用幻想的形式，表现人类在未来世界的物质精神文化生活和科学技术远景，其内容交织着科学事实和预见、想象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常将“科学”“幻想”和“小说”视为其三要素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随着近代科学技术的蓬勃发展而产生的一种文学样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136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225440" cy="1557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zhuì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步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迟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ù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闲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iá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零零               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è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蓝                 合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yí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唱                  吐鲁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ā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笼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ǒ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罩                 忙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j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拍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è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灵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xī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ù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间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iè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波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s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51280" y="692280"/>
            <a:ext cx="114624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42900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1728720" cy="5327640"/>
          </a:xfrm>
          <a:custGeom>
            <a:avLst/>
            <a:gdLst>
              <a:gd name="textAreaLeft" fmla="*/ 1104480 w 1728720"/>
              <a:gd name="textAreaRight" fmla="*/ 1729080 w 172872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765000"/>
            <a:ext cx="15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595008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ǐ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765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屏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59500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屏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3357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907920"/>
            <a:ext cx="1655640" cy="5689800"/>
          </a:xfrm>
          <a:custGeom>
            <a:avLst/>
            <a:gdLst>
              <a:gd name="textAreaLeft" fmla="*/ 1057680 w 1655640"/>
              <a:gd name="textAreaRight" fmla="*/ 1656000 w 1655640"/>
              <a:gd name="textAreaTop" fmla="*/ 148320 h 5689800"/>
              <a:gd name="textAreaBottom" fmla="*/ 5541480 h 56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2360" y="476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5877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12000" y="40464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泊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587700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湖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1584360" cy="4032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172872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300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836640"/>
            <a:ext cx="1800000" cy="5545080"/>
          </a:xfrm>
          <a:custGeom>
            <a:avLst/>
            <a:gdLst>
              <a:gd name="textAreaLeft" fmla="*/ 1150200 w 1800000"/>
              <a:gd name="textAreaRight" fmla="*/ 1800360 w 1800000"/>
              <a:gd name="textAreaTop" fmla="*/ 144360 h 5545080"/>
              <a:gd name="textAreaBottom" fmla="*/ 5400720 h 55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4046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80536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h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33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考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57340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杏核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3213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981000"/>
            <a:ext cx="1657440" cy="5327640"/>
          </a:xfrm>
          <a:custGeom>
            <a:avLst/>
            <a:gdLst>
              <a:gd name="textAreaLeft" fmla="*/ 1059120 w 1657440"/>
              <a:gd name="textAreaRight" fmla="*/ 1657800 w 1657440"/>
              <a:gd name="textAreaTop" fmla="*/ 138600 h 5327640"/>
              <a:gd name="textAreaBottom" fmla="*/ 518904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0464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mē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0720" y="33336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闷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5805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mè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96360" y="5734080"/>
            <a:ext cx="15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沉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1512720" cy="3887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165564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41720"/>
            <a:ext cx="12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836640"/>
            <a:ext cx="1656000" cy="5400720"/>
          </a:xfrm>
          <a:custGeom>
            <a:avLst/>
            <a:gdLst>
              <a:gd name="textAreaLeft" fmla="*/ 1058040 w 1656000"/>
              <a:gd name="textAreaRight" fmla="*/ 1656360 w 1656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47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g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40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树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580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580536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冠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21300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692280"/>
            <a:ext cx="1657440" cy="5832360"/>
          </a:xfrm>
          <a:custGeom>
            <a:avLst/>
            <a:gdLst>
              <a:gd name="textAreaLeft" fmla="*/ 1059120 w 1657440"/>
              <a:gd name="textAreaRight" fmla="*/ 1657800 w 1657440"/>
              <a:gd name="textAreaTop" fmla="*/ 151920 h 5832360"/>
              <a:gd name="textAreaBottom" fmla="*/ 5680440 h 58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404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lě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141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é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58770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è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40464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0" y="314172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累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595008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劳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1366560" cy="39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230508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443640" y="4292640"/>
            <a:ext cx="230508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16:23:38Z</dcterms:created>
  <dc:creator>未知用户</dc:creator>
  <dc:description/>
  <dc:language>en-US</dc:language>
  <cp:lastModifiedBy>微软用户</cp:lastModifiedBy>
  <dcterms:modified xsi:type="dcterms:W3CDTF">2018-10-28T02:09:57Z</dcterms:modified>
  <cp:revision>9</cp:revision>
  <dc:subject/>
  <dc:title>幻灯片 1</dc:title>
</cp:coreProperties>
</file>