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7E5-1201-4A5E-989E-0D87469C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7AB-2581-49F4-AA11-BA715D81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57ECA-DAEA-49F9-B7C4-CB7BB439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2E10D-1AEA-4988-97E8-7B50C594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B23CA-5105-42C5-9083-1FBBC959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9208E-3887-4E52-B207-265F13ED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C3FA5-517D-4543-87B0-652EB8A1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A1D0F-C5F5-4F6E-883A-31064305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BFC2C-7B7F-4B49-8BA3-A147C4BF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CDB7E-7330-45A2-8BFD-61803E6E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B47EB-4D6D-45BB-93C9-2477B343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93C26-33A7-46FD-A5B7-6B081E37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67A-338D-499D-81BA-1BA1DB14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C05A0-15B5-43FB-A1A8-1C176549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9B852-018C-4905-A19F-2EB99C72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11BB3-F7B5-4499-BD27-D9027E0C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3E5A6-A3F0-4C0D-B4E9-628C412D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30B2E-464A-4025-8FAB-0032149E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E7AB7-8CFD-4BDF-89AA-64B57DA0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8E74D-8E66-4C7E-A809-08E49D64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5C393-FB73-4EFE-8A43-2FEDFEA0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87B6D-9C94-4DC4-927D-B476CF0D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008B7-4CEA-4987-98D8-6ACEC322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AEF-4133-4BFA-A567-502A4B46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9D8F8-CE92-4776-9A71-6172D261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B5CBB-3A80-4E3A-B322-BC8C8C3E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DEDF7-B48D-4716-9934-AFF526EA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61702-68FD-4728-99C4-B4C4713C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15CFB-8ED7-4179-9B47-6F520DA6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0FE6D-1B69-4195-B52F-064F5280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40CF3-57A3-4C25-A29B-AAD3B620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41EB4-84C3-463A-9EA8-B92E630A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4946A-362E-4DA8-B5C1-8D39B3FE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002D1-4DC3-474F-B2BC-92BF0FF7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FC51-CB4B-4AC9-B9D3-7267394B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EA7A9-B4C0-44BE-BC63-4366EFCA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A8833-D9E8-4A8B-851F-DBA5BCC3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2E590-22CC-4515-ACE5-B8606DA6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2DF1B-28EC-48D2-BFB1-F2A2566B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D05F6-A663-4C18-AF7C-3ABDA9EA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B8D48-F841-453A-8F6B-8D851D32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5AB25-AA80-49AD-8B9D-30AE22C4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564F3-2F9B-46AA-8E87-A8FCA981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BABD6-1C72-4C12-ACB3-589FD33F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C137D-14E3-4933-BDF8-3C7AEB34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8260-DE90-4C01-A78D-98490612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755EF-5A60-44CF-B4A8-78D9397D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155B8-7303-473C-A49D-0CCB3DB5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89840-F6C6-4334-9B2C-FBBD46AF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FDECE-5BC1-4FEA-9CEC-B4970EC8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C4EE4-21B4-49D7-9FE3-1A73DF63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7984-E1BD-448F-BFDB-A8437A15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7B9B-4043-4367-ABB4-065E7271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D7F5-849A-4E8D-9D53-AE4E6524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3845-F932-4F4E-A15C-E57A2912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282C-D64D-4822-90FF-DEC1165D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A8B-ED14-4E3F-BDF8-6A709EC5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E34D-B350-46D3-BE36-7FA5D5A7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3491-E7F2-4208-AC81-3A9613F4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3218-824B-44DB-9DB8-CB2F42E8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3D4A-2E40-4AC0-BA30-DCB18797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A99B-1E4A-4AB7-85CD-D6E6B7B2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326A-8220-4225-AC6F-36A513A9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353E0-F896-40E0-9A45-2EC3E43A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536C2-32BF-4AFA-AA60-D51909F7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5CE6F-02E4-4C81-A5B2-195E947D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F4EDD-09AB-4E4B-BE75-06A1C4EE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8C2-44C0-478B-9EC1-0B3942E3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642A-FCFF-4D17-A856-8430AE2F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B7234-221E-4390-A6A1-DAF367E5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6E7BF-38DD-4872-9282-18803431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EF3F8-204B-4DC0-BDAB-E2C3C420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9FFFC-355F-47A3-A6DA-BC004049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30FE-723D-4FD5-BC51-29237B10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0633-C72A-4E0B-8FDC-D26E6458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44AFB-7D50-467F-8A15-1E1E02BE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A66B6-C553-4367-8C8B-E8B8AFFC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BE989-2D4F-4787-A92B-0B71E19D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064-A6DA-450F-85AE-4265B8A2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92E22-DE21-438D-ABB7-621D10B9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69726-71E5-43E6-AE04-11843837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D26C0-91EB-4AAC-8D8C-D662749D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07800-1711-4A24-8979-881CDEB1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6F11F-ACDF-490A-8FD1-3A1FDEED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035C-8A5D-48C7-ABA5-C6E31CDA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A700C-EEB7-4952-915F-BB0956B4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AAC92-129F-41A5-B88D-3E67FA94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1DA8F-99A3-4C88-94FD-1BCF2CA1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AB822-98D8-4A54-9937-DB9E0B4F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C272-AB77-4679-BF83-1A7DDE30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EA5F5-2DFE-4A1F-A109-65C1D57C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35FB1-C37F-4DBD-A70B-F5971D8D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7332B-1505-41C4-85F8-4EFA4C50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39177-375C-4327-AF7A-2FB9B619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CCF62-6156-409D-BE19-10C32E7D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F0565-3BC9-4951-904E-7C147C40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5F560-4150-4B88-9C01-5FE03F3E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58722-B249-4E5A-9208-D430623C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9033D-62F3-48C1-B795-C9BAA9AD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2580B-6320-4862-9A7A-63DF6420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CFE-2443-4505-97F6-793C559C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3E395-E6B2-4DC7-A3E8-FDDF4CD0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A8C7B-B443-482D-BCBF-7889680D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DC5D4-61D6-4BE6-AC10-D7E842A2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43DF1-3FDB-472B-B9ED-A303A837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614B3-AFA4-49DB-8E3B-597911B4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D4ACE-879C-4DCD-95A2-2AB1BC4D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DD575-9580-4129-881C-62F51090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13527-C7AD-4C08-BE16-A8299D85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BF183-3940-4C35-94CA-34742BCA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4A1EA-448A-4E0B-BCED-9B27C689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E4A-8E6A-444C-8AAB-9CD74E01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5E2F6-DE3D-4309-A213-4C3C063B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43D39-CA9B-4DC0-A40B-02F5007C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EECA3-7A34-42E5-8FF0-10BCAF1D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F2E0E-14E2-403F-AF95-D02AFD43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F28F9-761E-46C9-AC93-F42115A0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DF607-0572-4236-AE9C-5F2062BF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2BDD9-5D2F-47A8-8A28-64A0FECA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AA23F-BCF4-44C7-9854-0A17A9A6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DC39A-0A88-48DB-843F-AC9E5E75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82DA0-C4A6-4C90-9BBA-C86C3BE7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8DF-DB63-434C-9B2E-38127272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AE42B-4CA8-4D6A-81AC-844FF747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91076-9091-44B5-8612-5BCC58B7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42823-C645-401B-BA2D-192BC74B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E5F56-5C51-4CB9-9D11-1202F478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A902C-707D-4062-B079-EC10A4CC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1D0FF-1458-4F3F-B1BF-30BB33EB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B7B48-FA54-4258-9903-5F867478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10246-4297-4711-8364-574D69BA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2FC42-4E84-4472-B1D0-1B78729F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63EAF-9F44-4C4D-A3D9-FFA586FB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A98-D6C1-4704-90CA-8CD24181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9EAFC-574A-428D-919C-CC4864A7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0BE49-2479-431A-89C0-66EB8BCD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EE32D-5545-4C91-B7B8-5FE3DB3C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6DDF0-B7CA-4335-BACF-51766DAE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B334E-4537-4953-B4B3-E4C08344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F2D92-011F-435A-A714-D59D3F99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DC86D-FF2C-4BA5-B31B-BC63BFAB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0C2AC-AB88-47A6-ABD8-B96AFBBE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7B173-C7FD-437E-B26C-51D55A1F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E0FD4-BA3D-4CCF-8A10-5FA6FC43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3740-6E2A-4C88-9AEB-EFE557582EDF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4257-0C40-4BFF-B76D-67D26A23E3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任意多边形 53254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接连接符 53255"/>
          <p:cNvSpPr/>
          <p:nvPr/>
        </p:nvSpPr>
        <p:spPr>
          <a:xfrm>
            <a:off x="457200" y="6531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任意多边形 53254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53255"/>
          <p:cNvSpPr/>
          <p:nvPr/>
        </p:nvSpPr>
        <p:spPr>
          <a:xfrm>
            <a:off x="457200" y="6531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8550-8844-4383-9AAA-0DF26B30D0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任意多边形 53254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53255"/>
          <p:cNvSpPr/>
          <p:nvPr/>
        </p:nvSpPr>
        <p:spPr>
          <a:xfrm>
            <a:off x="457200" y="6531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F04C-2DEC-4E1A-9E59-FC03DFB399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任意多边形 53254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53255"/>
          <p:cNvSpPr/>
          <p:nvPr/>
        </p:nvSpPr>
        <p:spPr>
          <a:xfrm>
            <a:off x="457200" y="6531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C322-0111-45B2-AFA3-3C9EF59A05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任意多边形 54278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54279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C14B-3B8A-464D-9FB0-5435E4C06D48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任意多边形 53254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53255"/>
          <p:cNvSpPr/>
          <p:nvPr/>
        </p:nvSpPr>
        <p:spPr>
          <a:xfrm>
            <a:off x="457200" y="6531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E9D3-A9D9-4E2B-9F1B-38D801EE5E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任意多边形 53254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53255"/>
          <p:cNvSpPr/>
          <p:nvPr/>
        </p:nvSpPr>
        <p:spPr>
          <a:xfrm>
            <a:off x="457200" y="6531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86C6-103C-4F06-A3AE-6F900D406F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任意多边形 53254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53255"/>
          <p:cNvSpPr/>
          <p:nvPr/>
        </p:nvSpPr>
        <p:spPr>
          <a:xfrm>
            <a:off x="457200" y="6531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633A-37BE-462B-8FF9-E96803D372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任意多边形 53254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53255"/>
          <p:cNvSpPr/>
          <p:nvPr/>
        </p:nvSpPr>
        <p:spPr>
          <a:xfrm>
            <a:off x="457200" y="6531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E2BC-C5D6-49CE-9B5B-50F6930AD4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任意多边形 53254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53255"/>
          <p:cNvSpPr/>
          <p:nvPr/>
        </p:nvSpPr>
        <p:spPr>
          <a:xfrm>
            <a:off x="457200" y="6531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2C01-1275-415E-8013-A0CF99F6FA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53254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53255"/>
          <p:cNvSpPr/>
          <p:nvPr/>
        </p:nvSpPr>
        <p:spPr>
          <a:xfrm>
            <a:off x="457200" y="6531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65BA-7B4C-4FF6-B399-48D2047A03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任意多边形 53254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53255"/>
          <p:cNvSpPr/>
          <p:nvPr/>
        </p:nvSpPr>
        <p:spPr>
          <a:xfrm>
            <a:off x="457200" y="65311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BE0C-B42C-4E13-A31D-732B1A2B92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文本框 6146"/>
          <p:cNvSpPr/>
          <p:nvPr/>
        </p:nvSpPr>
        <p:spPr>
          <a:xfrm>
            <a:off x="539640" y="333360"/>
            <a:ext cx="7993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曾经有这样一个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        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在人类还没发明电报的时候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他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小说中的人物已经在用电报传递信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         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在人类还没制造出飞机的时候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他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小说中的人物已经驾驶直升机来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        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在人类还没有着手登月工程的时候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他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小说中的人物已经坐在一颗大炮弹里，被巨炮发射到月球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  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你们知道“他”是谁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6147"/>
          <p:cNvSpPr/>
          <p:nvPr/>
        </p:nvSpPr>
        <p:spPr>
          <a:xfrm>
            <a:off x="611280" y="4146480"/>
            <a:ext cx="70578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凡尔纳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楷体"/>
              </a:rPr>
              <a:t>  法国著名的科幻和探险小说家，“科学时代的预言家”和“现代科学幻想之父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6148"/>
          <p:cNvSpPr/>
          <p:nvPr/>
        </p:nvSpPr>
        <p:spPr>
          <a:xfrm>
            <a:off x="3103200" y="551664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楷体"/>
              </a:rPr>
              <a:t>被誉为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“中国当代科幻第一人”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楷体"/>
              </a:rPr>
              <a:t>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解读标题，概括情节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09120" y="1196640"/>
            <a:ext cx="8153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带上她的眼睛去干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带上她的眼睛去度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为什么要带上她的眼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因为她是“落日六号”的领航员，飞船在地心出了事故，所以她被困在了地心。所以带上小女孩的眼睛最后一次领略地球表面的风光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0" y="18900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．作者记叙了一个怎样的故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这篇课文主要讲的是“落日六号”地航飞船失事了，领航员小姑娘被困在了地心，再也无法看见地面世界，所以主任让我带上她的眼睛去度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．给文章划分段落，概括大意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段（带上眼睛）开端：我带上她的眼睛去休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段（奇怪表现）发展：草原旅行我与她感受迥异，令我生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段（落日六号）高潮：她因落日六号出事被困地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四段（被困地心）结局：我能感受她的歌声与话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3600" y="117000"/>
            <a:ext cx="896148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Garamond"/>
                <a:ea typeface="楷体"/>
              </a:rPr>
              <a:t>研读课文第一部分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文本框 14339"/>
          <p:cNvSpPr/>
          <p:nvPr/>
        </p:nvSpPr>
        <p:spPr>
          <a:xfrm>
            <a:off x="811080" y="765000"/>
            <a:ext cx="42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眼睛的主人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340"/>
          <p:cNvSpPr/>
          <p:nvPr/>
        </p:nvSpPr>
        <p:spPr>
          <a:xfrm>
            <a:off x="3736800" y="2706840"/>
            <a:ext cx="595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疑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41"/>
          <p:cNvSpPr/>
          <p:nvPr/>
        </p:nvSpPr>
        <p:spPr>
          <a:xfrm>
            <a:off x="882720" y="3141720"/>
            <a:ext cx="36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小姑娘的表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342"/>
          <p:cNvSpPr/>
          <p:nvPr/>
        </p:nvSpPr>
        <p:spPr>
          <a:xfrm>
            <a:off x="60480" y="5851440"/>
            <a:ext cx="11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疑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343"/>
          <p:cNvSpPr/>
          <p:nvPr/>
        </p:nvSpPr>
        <p:spPr>
          <a:xfrm>
            <a:off x="550800" y="1336680"/>
            <a:ext cx="85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一个刚毕业的小姑娘，在肥大的太空服中，显得很娇小，她面前有一支失重的铅笔飘在空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14344"/>
          <p:cNvSpPr/>
          <p:nvPr/>
        </p:nvSpPr>
        <p:spPr>
          <a:xfrm>
            <a:off x="345960" y="3610080"/>
            <a:ext cx="854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这个决定对她似乎很艰难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她的双手在太空服的手套里，握在胸前，双眼半闭着，似乎认为地球在我们这次短暂的旅行后就要爆炸了，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我不由笑出声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1"/>
          <p:cNvSpPr/>
          <p:nvPr/>
        </p:nvSpPr>
        <p:spPr>
          <a:xfrm>
            <a:off x="5545080" y="27068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姑娘是谁？她在哪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2747160" y="588636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表现更加奇怪，为什么她作出选择如此艰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0" y="260280"/>
            <a:ext cx="9144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眼睛的主人给“我”最初的印象是什么？作者这样写的目的是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明确：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印象：好像刚毕业的小姑娘，娇小，一副可怜兮兮的样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．“某些方面可能比地狱还稍差些”，这句话有怎样的表达作用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明确：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突出眼睛的主人生存的环境极其险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  <a:ea typeface="楷体"/>
              </a:rPr>
              <a:t>研读课文第二部分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7" name="文本框 15363"/>
          <p:cNvSpPr/>
          <p:nvPr/>
        </p:nvSpPr>
        <p:spPr>
          <a:xfrm>
            <a:off x="1830240" y="98100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眼睛”在文章中具体指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5364"/>
          <p:cNvSpPr/>
          <p:nvPr/>
        </p:nvSpPr>
        <p:spPr>
          <a:xfrm>
            <a:off x="1855440" y="32115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我带上她的眼睛去了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5365"/>
          <p:cNvSpPr/>
          <p:nvPr/>
        </p:nvSpPr>
        <p:spPr>
          <a:xfrm>
            <a:off x="839880" y="1630440"/>
            <a:ext cx="807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所谓眼睛就是一幅传感眼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，当你戴上它时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…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它还能通过采集戴着它的人的脑电波，把触觉和味觉一同发射出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5366"/>
          <p:cNvSpPr/>
          <p:nvPr/>
        </p:nvSpPr>
        <p:spPr>
          <a:xfrm>
            <a:off x="1187280" y="3860640"/>
            <a:ext cx="77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大草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5367"/>
          <p:cNvSpPr/>
          <p:nvPr/>
        </p:nvSpPr>
        <p:spPr>
          <a:xfrm>
            <a:off x="839880" y="4329000"/>
            <a:ext cx="793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这是高山与草原的交接处，大草原从我面前一直延伸到天边，背后的群山覆盖着绿色的森林，几座还有银色的雪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0000"/>
                </a:solidFill>
                <a:latin typeface="Garamond"/>
                <a:ea typeface="黑体"/>
              </a:rPr>
              <a:t>广阔无垠的大草原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63" name="内容占位符 68611" descr="2"/>
          <p:cNvPicPr/>
          <p:nvPr/>
        </p:nvPicPr>
        <p:blipFill>
          <a:blip r:embed="rId1"/>
          <a:stretch/>
        </p:blipFill>
        <p:spPr>
          <a:xfrm>
            <a:off x="684360" y="1197000"/>
            <a:ext cx="7632720" cy="4772160"/>
          </a:xfrm>
          <a:prstGeom prst="rect">
            <a:avLst/>
          </a:prstGeom>
          <a:ln w="0">
            <a:noFill/>
          </a:ln>
        </p:spPr>
      </p:pic>
      <p:pic>
        <p:nvPicPr>
          <p:cNvPr id="564" name="文本框 68612" descr=""/>
          <p:cNvPicPr/>
          <p:nvPr/>
        </p:nvPicPr>
        <p:blipFill>
          <a:blip r:embed="rId2"/>
          <a:stretch/>
        </p:blipFill>
        <p:spPr>
          <a:xfrm>
            <a:off x="4067280" y="2852640"/>
            <a:ext cx="407484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0000"/>
                </a:solidFill>
                <a:latin typeface="Garamond"/>
                <a:ea typeface="黑体"/>
              </a:rPr>
              <a:t>星星点点的小花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66" name="内容占位符 70659" descr="fense_huacong-006"/>
          <p:cNvPicPr/>
          <p:nvPr/>
        </p:nvPicPr>
        <p:blipFill>
          <a:blip r:embed="rId1"/>
          <a:stretch/>
        </p:blipFill>
        <p:spPr>
          <a:xfrm>
            <a:off x="971640" y="1341360"/>
            <a:ext cx="7488000" cy="47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文本框 71681"/>
          <p:cNvSpPr/>
          <p:nvPr/>
        </p:nvSpPr>
        <p:spPr>
          <a:xfrm>
            <a:off x="2424960" y="63972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看到了野花，小姑娘是什么表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71682"/>
          <p:cNvSpPr/>
          <p:nvPr/>
        </p:nvSpPr>
        <p:spPr>
          <a:xfrm>
            <a:off x="826920" y="134136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她突然惊叫：“呀，花，有花啊！上次我来时没有的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呀，真美！能闻闻它吗？不，别拔下它！”请求我闻一闻花香而不要采下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啊，我也闻到了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真像一首隐隐传来的小夜曲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0000"/>
                </a:solidFill>
                <a:latin typeface="Garamond"/>
                <a:ea typeface="黑体"/>
              </a:rPr>
              <a:t>淹没在草丛中的小溪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70" name="内容占位符 75779" descr="50"/>
          <p:cNvPicPr/>
          <p:nvPr/>
        </p:nvPicPr>
        <p:blipFill>
          <a:blip r:embed="rId1"/>
          <a:stretch/>
        </p:blipFill>
        <p:spPr>
          <a:xfrm>
            <a:off x="755640" y="1268280"/>
            <a:ext cx="7704000" cy="4530960"/>
          </a:xfrm>
          <a:prstGeom prst="rect">
            <a:avLst/>
          </a:prstGeom>
          <a:ln w="0">
            <a:noFill/>
          </a:ln>
        </p:spPr>
      </p:pic>
      <p:pic>
        <p:nvPicPr>
          <p:cNvPr id="571" name="文本框 68612" descr=""/>
          <p:cNvPicPr/>
          <p:nvPr/>
        </p:nvPicPr>
        <p:blipFill>
          <a:blip r:embed="rId2"/>
          <a:stretch/>
        </p:blipFill>
        <p:spPr>
          <a:xfrm>
            <a:off x="4067280" y="2852640"/>
            <a:ext cx="4074840" cy="14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文本框 74753"/>
          <p:cNvSpPr/>
          <p:nvPr/>
        </p:nvSpPr>
        <p:spPr>
          <a:xfrm>
            <a:off x="2795760" y="7650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看到小溪，小姑娘又有怎样的要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4754"/>
          <p:cNvSpPr/>
          <p:nvPr/>
        </p:nvSpPr>
        <p:spPr>
          <a:xfrm>
            <a:off x="1332000" y="2421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小姑娘为什么想感受下清凉的溪水，并请求我将湿漉漉的手举高，让草原的微风慢慢吹干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74755"/>
          <p:cNvSpPr/>
          <p:nvPr/>
        </p:nvSpPr>
        <p:spPr>
          <a:xfrm>
            <a:off x="2458800" y="155736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我真想把手伸到小河里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74756"/>
          <p:cNvSpPr/>
          <p:nvPr/>
        </p:nvSpPr>
        <p:spPr>
          <a:xfrm>
            <a:off x="2819880" y="4403880"/>
            <a:ext cx="298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你那儿很热吧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热，热得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地狱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55299" descr="W020150825593660511965"/>
          <p:cNvPicPr/>
          <p:nvPr/>
        </p:nvPicPr>
        <p:blipFill>
          <a:blip r:embed="rId1"/>
          <a:stretch/>
        </p:blipFill>
        <p:spPr>
          <a:xfrm>
            <a:off x="3703680" y="4680"/>
            <a:ext cx="5465880" cy="388800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55304" descr="182681109"/>
          <p:cNvPicPr/>
          <p:nvPr/>
        </p:nvPicPr>
        <p:blipFill>
          <a:blip r:embed="rId2"/>
          <a:stretch/>
        </p:blipFill>
        <p:spPr>
          <a:xfrm>
            <a:off x="403200" y="3206880"/>
            <a:ext cx="2595600" cy="345600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55305"/>
          <p:cNvSpPr/>
          <p:nvPr/>
        </p:nvSpPr>
        <p:spPr>
          <a:xfrm>
            <a:off x="39600" y="189000"/>
            <a:ext cx="3498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刘慈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主要作品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地球往事三部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球状闪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超新星纪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三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三部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5306"/>
          <p:cNvSpPr/>
          <p:nvPr/>
        </p:nvSpPr>
        <p:spPr>
          <a:xfrm>
            <a:off x="3132000" y="3886200"/>
            <a:ext cx="594072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楷体"/>
                <a:ea typeface="楷体"/>
              </a:rPr>
              <a:t>2015</a:t>
            </a:r>
            <a:r>
              <a:rPr b="0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年</a:t>
            </a:r>
            <a:r>
              <a:rPr b="0" lang="en-US" sz="3200" spc="-1" strike="noStrike">
                <a:solidFill>
                  <a:srgbClr val="000099"/>
                </a:solidFill>
                <a:latin typeface="楷体"/>
                <a:ea typeface="楷体"/>
              </a:rPr>
              <a:t>8</a:t>
            </a:r>
            <a:r>
              <a:rPr b="0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月</a:t>
            </a:r>
            <a:r>
              <a:rPr b="0" lang="en-US" sz="3200" spc="-1" strike="noStrike">
                <a:solidFill>
                  <a:srgbClr val="000099"/>
                </a:solidFill>
                <a:latin typeface="楷体"/>
                <a:ea typeface="楷体"/>
              </a:rPr>
              <a:t>23</a:t>
            </a:r>
            <a:r>
              <a:rPr b="0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日，</a:t>
            </a:r>
            <a:r>
              <a:rPr b="0" lang="en-US" sz="3200" spc="-1" strike="noStrike">
                <a:solidFill>
                  <a:srgbClr val="000099"/>
                </a:solidFill>
                <a:latin typeface="楷体"/>
                <a:ea typeface="楷体"/>
              </a:rPr>
              <a:t>《</a:t>
            </a:r>
            <a:r>
              <a:rPr b="0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三体</a:t>
            </a:r>
            <a:r>
              <a:rPr b="0" lang="en-US" sz="3200" spc="-1" strike="noStrike">
                <a:solidFill>
                  <a:srgbClr val="000099"/>
                </a:solidFill>
                <a:latin typeface="楷体"/>
                <a:ea typeface="楷体"/>
              </a:rPr>
              <a:t>》</a:t>
            </a:r>
            <a:r>
              <a:rPr b="0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获得第</a:t>
            </a:r>
            <a:r>
              <a:rPr b="0" lang="en-US" sz="3200" spc="-1" strike="noStrike">
                <a:solidFill>
                  <a:srgbClr val="000099"/>
                </a:solidFill>
                <a:latin typeface="楷体"/>
                <a:ea typeface="楷体"/>
              </a:rPr>
              <a:t>73</a:t>
            </a:r>
            <a:r>
              <a:rPr b="0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届雨果奖最佳长篇小说奖</a:t>
            </a:r>
            <a:r>
              <a:rPr b="0" lang="en-US" sz="3200" spc="-1" strike="noStrike">
                <a:solidFill>
                  <a:srgbClr val="000099"/>
                </a:solidFill>
                <a:latin typeface="楷体"/>
                <a:ea typeface="楷体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这是亚洲人首次获得有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“科幻界诺贝尔文学奖”</a:t>
            </a:r>
            <a:r>
              <a:rPr b="0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之称的雨果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代表作</a:t>
            </a:r>
            <a:r>
              <a:rPr b="0" lang="en-US" sz="3200" spc="-1" strike="noStrike">
                <a:solidFill>
                  <a:srgbClr val="000099"/>
                </a:solidFill>
                <a:latin typeface="楷体"/>
                <a:ea typeface="楷体"/>
              </a:rPr>
              <a:t>《</a:t>
            </a:r>
            <a:r>
              <a:rPr b="0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三体</a:t>
            </a:r>
            <a:r>
              <a:rPr b="0" lang="en-US" sz="3200" spc="-1" strike="noStrike">
                <a:solidFill>
                  <a:srgbClr val="000099"/>
                </a:solidFill>
                <a:latin typeface="楷体"/>
                <a:ea typeface="楷体"/>
              </a:rPr>
              <a:t>》</a:t>
            </a:r>
            <a:r>
              <a:rPr b="0" lang="zh-CN" sz="3200" spc="-1" strike="noStrike">
                <a:solidFill>
                  <a:srgbClr val="000099"/>
                </a:solidFill>
                <a:latin typeface="楷体"/>
                <a:ea typeface="楷体"/>
              </a:rPr>
              <a:t>三部曲被普遍认为是中国科幻文学的里程碑之作，将中国科幻推上了世界的高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0" y="42984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作者在本部分对比描写了“我”与“她”对草原的感受不同，我对草原有怎样的感受？她对草原有怎样的感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明确：我虽然对草原景色有感叹，但觉得草原的一切都寻常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而她对草原的一切景致都感到惊喜，渴望地看草原上的每一朵野花，每一棵小草，看草丛中跃动的每一缕阳光，渴望地听草原上的每一种声音。一条突然出现的小溪，小溪中的一条小鱼，都会令她激动不已；一阵不期而至的微风，风中一缕绿草的清香都会让她落泪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  <a:ea typeface="黑体"/>
              </a:rPr>
              <a:t>静谧美好的月光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78" name="内容占位符 73731" descr="7e7a0e05-be8a-4953-a6e5-9e83f6f6f0ae"/>
          <p:cNvPicPr/>
          <p:nvPr/>
        </p:nvPicPr>
        <p:blipFill>
          <a:blip r:embed="rId1"/>
          <a:stretch/>
        </p:blipFill>
        <p:spPr>
          <a:xfrm>
            <a:off x="539640" y="1773360"/>
            <a:ext cx="8229600" cy="3456000"/>
          </a:xfrm>
          <a:prstGeom prst="rect">
            <a:avLst/>
          </a:prstGeom>
          <a:ln w="0">
            <a:noFill/>
          </a:ln>
        </p:spPr>
      </p:pic>
      <p:pic>
        <p:nvPicPr>
          <p:cNvPr id="579" name="文本框 68612" descr=""/>
          <p:cNvPicPr/>
          <p:nvPr/>
        </p:nvPicPr>
        <p:blipFill>
          <a:blip r:embed="rId2"/>
          <a:stretch/>
        </p:blipFill>
        <p:spPr>
          <a:xfrm>
            <a:off x="3541680" y="2852640"/>
            <a:ext cx="4600440" cy="14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文本框 72705"/>
          <p:cNvSpPr/>
          <p:nvPr/>
        </p:nvSpPr>
        <p:spPr>
          <a:xfrm>
            <a:off x="3956760" y="1904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在月光下，姑娘做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72706"/>
          <p:cNvSpPr/>
          <p:nvPr/>
        </p:nvSpPr>
        <p:spPr>
          <a:xfrm>
            <a:off x="826920" y="911160"/>
            <a:ext cx="801396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月亮刚升起来，月光下的草原在沉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小姑娘没有回答我的问题，而是自己轻轻哼起了一首曲子，哼了一小段后，她说：“这是德彪西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月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那轻柔的旋律一直在我的梦中飘荡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72707"/>
          <p:cNvSpPr/>
          <p:nvPr/>
        </p:nvSpPr>
        <p:spPr>
          <a:xfrm>
            <a:off x="755640" y="3141720"/>
            <a:ext cx="8137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"/>
              </a:rPr>
              <a:t>我带着她的眼睛在草原上转了一天，她渴望看草原上的每一朵野花，每一棵小草，看草丛中跃动的每一缕阳光；一条突然出现的小溪，一阵不期而至的微风，都会令她激动不已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小姑娘的表现是不是有些奇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72708"/>
          <p:cNvSpPr/>
          <p:nvPr/>
        </p:nvSpPr>
        <p:spPr>
          <a:xfrm>
            <a:off x="5715360" y="60087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疑问重重，悬念不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72709"/>
          <p:cNvSpPr/>
          <p:nvPr/>
        </p:nvSpPr>
        <p:spPr>
          <a:xfrm>
            <a:off x="755640" y="5372280"/>
            <a:ext cx="70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我感到，她对这个世界的情感已丰富到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正常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的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3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Garamond"/>
                <a:ea typeface="楷体"/>
              </a:rPr>
              <a:t>研读课文第三部分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6" name="文本框 3076"/>
          <p:cNvSpPr/>
          <p:nvPr/>
        </p:nvSpPr>
        <p:spPr>
          <a:xfrm>
            <a:off x="2048760" y="9097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小姑娘的具体身份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3078"/>
          <p:cNvSpPr/>
          <p:nvPr/>
        </p:nvSpPr>
        <p:spPr>
          <a:xfrm>
            <a:off x="1816920" y="2133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小姑娘在什么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3079"/>
          <p:cNvSpPr/>
          <p:nvPr/>
        </p:nvSpPr>
        <p:spPr>
          <a:xfrm>
            <a:off x="923760" y="3841920"/>
            <a:ext cx="78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为什么她对这个世界的情感已经丰富到了不正常的程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3080"/>
          <p:cNvSpPr/>
          <p:nvPr/>
        </p:nvSpPr>
        <p:spPr>
          <a:xfrm>
            <a:off x="2678040" y="1557360"/>
            <a:ext cx="30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她是“落日六号”的领航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3081"/>
          <p:cNvSpPr/>
          <p:nvPr/>
        </p:nvSpPr>
        <p:spPr>
          <a:xfrm>
            <a:off x="1474920" y="270972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她在地球的最深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地心，被束缚在一个活动范围不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立方的闷热的控制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3082"/>
          <p:cNvSpPr/>
          <p:nvPr/>
        </p:nvSpPr>
        <p:spPr>
          <a:xfrm>
            <a:off x="1042920" y="4813200"/>
            <a:ext cx="79549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落日六号”地航飞船失事了。领航员小姑娘被困在了地心，再也无法看到地面世界，所以主任让我带上她的眼睛去度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是她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最后一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领略地球的美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文本框 5123"/>
          <p:cNvSpPr/>
          <p:nvPr/>
        </p:nvSpPr>
        <p:spPr>
          <a:xfrm>
            <a:off x="1833840" y="48420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拨云见月，揭示谜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5124"/>
          <p:cNvSpPr/>
          <p:nvPr/>
        </p:nvSpPr>
        <p:spPr>
          <a:xfrm>
            <a:off x="692280" y="1339920"/>
            <a:ext cx="8040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悬念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，文章的开头或文章中提出问题，摆出矛盾或设置疑团，引起读者的关注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悬念的特点，是将疑问悬在那里，或者“顾左右而言他”，故意不予理会，或者做出种种猜想，令人念念不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5125"/>
          <p:cNvSpPr/>
          <p:nvPr/>
        </p:nvSpPr>
        <p:spPr>
          <a:xfrm>
            <a:off x="615960" y="4032360"/>
            <a:ext cx="8221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作者不急于揭开谜底，解开矛盾，而是蕴蓄比较长的时间后，再开“悬念”，写出结局，回答先前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5126"/>
          <p:cNvSpPr/>
          <p:nvPr/>
        </p:nvSpPr>
        <p:spPr>
          <a:xfrm>
            <a:off x="4458960" y="575784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在文章的情节发展中，悬念让文章波澜起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文本框 24577"/>
          <p:cNvSpPr/>
          <p:nvPr/>
        </p:nvSpPr>
        <p:spPr>
          <a:xfrm>
            <a:off x="395280" y="61920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本文曾获得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999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第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届银河奖一等奖，其能够获奖的一个重要因素就是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构思的巧妙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例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自然段：是一个好像刚毕业的小姑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8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自然段：飞船上的生命循环系统还可以运行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0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至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，她将在这不到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立方米的地心世界里度过自己的余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分析：刚刚毕业的小姑娘，花季刚刚开始，就被终身囚禁，太惨了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文本框 24579"/>
          <p:cNvSpPr/>
          <p:nvPr/>
        </p:nvSpPr>
        <p:spPr>
          <a:xfrm>
            <a:off x="546120" y="171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在本文中，开头的那句“是一个好像刚毕业的小姑娘”是为后文所做的提示或暗示，这样的表现手法叫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24580"/>
          <p:cNvSpPr/>
          <p:nvPr/>
        </p:nvSpPr>
        <p:spPr>
          <a:xfrm>
            <a:off x="588960" y="1963800"/>
            <a:ext cx="8399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伏笔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指在文章或文艺作品中，在前文里为后文所做的提示或暗示。它常常与照应配合使用，即所谓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前有伏笔，后有照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。伏笔通常比较隐蔽，巧妙的伏笔，在看到照应之前，貌似闲笔。所以说，巧妙地运用伏笔与照应，可以收到虽在意料之外，却在情理之中的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文中像这样的伏笔与照应还有不少，我们一起去寻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文本框 23553"/>
          <p:cNvSpPr/>
          <p:nvPr/>
        </p:nvSpPr>
        <p:spPr>
          <a:xfrm>
            <a:off x="2440080" y="1249200"/>
            <a:ext cx="28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伏笔：热，热得像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地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23554"/>
          <p:cNvSpPr/>
          <p:nvPr/>
        </p:nvSpPr>
        <p:spPr>
          <a:xfrm>
            <a:off x="755640" y="1773360"/>
            <a:ext cx="758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照应：飞船被裹在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6000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多公里厚的物质中，周围是温度高达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摄氏度，压力可以把碳在一秒内变成金刚石的液态铁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23555"/>
          <p:cNvSpPr/>
          <p:nvPr/>
        </p:nvSpPr>
        <p:spPr>
          <a:xfrm>
            <a:off x="2393640" y="34290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伏笔：呀，真美，能闻闻它吗？不，别拔下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23556"/>
          <p:cNvSpPr/>
          <p:nvPr/>
        </p:nvSpPr>
        <p:spPr>
          <a:xfrm>
            <a:off x="2392920" y="4005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照应：生命算什么，仅仅能用脆弱来描述它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23557"/>
          <p:cNvSpPr/>
          <p:nvPr/>
        </p:nvSpPr>
        <p:spPr>
          <a:xfrm>
            <a:off x="539640" y="458136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小花的生命是脆弱的，小姑娘的生命同样是脆弱的。所以说，文中这么多伏笔和照应，归根结底，都是为了表现出小姑娘的处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23558"/>
          <p:cNvSpPr/>
          <p:nvPr/>
        </p:nvSpPr>
        <p:spPr>
          <a:xfrm>
            <a:off x="1066680" y="2602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主要写作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标题 1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33"/>
                </a:solidFill>
                <a:latin typeface="Arial"/>
              </a:rPr>
              <a:t>环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内容占位符 2"/>
          <p:cNvSpPr/>
          <p:nvPr/>
        </p:nvSpPr>
        <p:spPr>
          <a:xfrm>
            <a:off x="609480" y="1268280"/>
            <a:ext cx="81536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围是温度高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摄氏度，压力可以把碳在一秒钟内变成金刚石的液态铁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船已下沉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里深处，那里是地球的最深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在地心的世界是那个活动范围不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方米的闷热的控制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船里中微子通信设备的能量最后耗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3"/>
          <p:cNvSpPr/>
          <p:nvPr/>
        </p:nvSpPr>
        <p:spPr>
          <a:xfrm>
            <a:off x="2565360" y="52293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与世隔绝，环境险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孤独一人，度过余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4101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楷体"/>
              </a:rPr>
              <a:t>分析人物，感悟精神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4104"/>
          <p:cNvSpPr/>
          <p:nvPr/>
        </p:nvSpPr>
        <p:spPr>
          <a:xfrm>
            <a:off x="1770120" y="91116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虽身处绝境，小姑娘的心态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"/>
              </a:rPr>
              <a:t>从哪里看出来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4105"/>
          <p:cNvSpPr/>
          <p:nvPr/>
        </p:nvSpPr>
        <p:spPr>
          <a:xfrm>
            <a:off x="5121000" y="1523880"/>
            <a:ext cx="14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平静。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4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4106"/>
          <p:cNvSpPr/>
          <p:nvPr/>
        </p:nvSpPr>
        <p:spPr>
          <a:xfrm>
            <a:off x="60480" y="2070000"/>
            <a:ext cx="863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身处绝境却如此平静，小姑娘强大的精神力量从何而来？齐声朗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4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"/>
              </a:rPr>
              <a:t>4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两个自然段，看看她具有怎样的性格特点和精神品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4107"/>
          <p:cNvSpPr/>
          <p:nvPr/>
        </p:nvSpPr>
        <p:spPr>
          <a:xfrm>
            <a:off x="3131640" y="3673440"/>
            <a:ext cx="2131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强烈的敬业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为科学献身的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乐观坚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热爱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善于发现“美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图片 7169" descr="2008102822422024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文本框 7170"/>
          <p:cNvSpPr/>
          <p:nvPr/>
        </p:nvSpPr>
        <p:spPr>
          <a:xfrm>
            <a:off x="826920" y="76500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科幻小说，是小说类别之一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是用幻想的形式，表现人类在未来世界的物质精神文化生活和科学技术远景，其内容交织着科学事实和预见、想象。通常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科学”、“幻想”和“小说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视为其三要素。是随着近代科学技术的蓬勃发展而产生的一种文学样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科幻爱好者中盛传的一则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世界上最短的科幻小说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是这样的：地球上最后一个人坐在房间里。这时响起了敲门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标题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33"/>
                </a:solidFill>
                <a:latin typeface="Garamond"/>
                <a:ea typeface="宋体"/>
              </a:rPr>
              <a:t>人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890280" y="1347480"/>
            <a:ext cx="36543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内容占位符 5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明线</a:t>
            </a:r>
            <a:r>
              <a:rPr b="0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”的经历见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性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木单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孤独寂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热爱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占位符 6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内容占位符 7"/>
          <p:cNvSpPr/>
          <p:nvPr/>
        </p:nvSpPr>
        <p:spPr>
          <a:xfrm>
            <a:off x="4284720" y="2174760"/>
            <a:ext cx="46800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暗线</a:t>
            </a:r>
            <a:r>
              <a:rPr b="0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” 的故事回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性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热爱自然、单纯可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丰富细腻、热爱科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乐观坚强、献身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79881" descr="shuiboshangdetoumingdiqiutupiansucai_5160296"/>
          <p:cNvPicPr/>
          <p:nvPr/>
        </p:nvPicPr>
        <p:blipFill>
          <a:blip r:embed="rId1"/>
          <a:stretch/>
        </p:blipFill>
        <p:spPr>
          <a:xfrm>
            <a:off x="0" y="0"/>
            <a:ext cx="9144000" cy="7132680"/>
          </a:xfrm>
          <a:prstGeom prst="rect">
            <a:avLst/>
          </a:prstGeom>
          <a:ln w="0">
            <a:noFill/>
          </a:ln>
        </p:spPr>
      </p:pic>
      <p:sp>
        <p:nvSpPr>
          <p:cNvPr id="619" name="文本框 79875"/>
          <p:cNvSpPr/>
          <p:nvPr/>
        </p:nvSpPr>
        <p:spPr>
          <a:xfrm>
            <a:off x="808200" y="62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79876"/>
          <p:cNvSpPr/>
          <p:nvPr/>
        </p:nvSpPr>
        <p:spPr>
          <a:xfrm>
            <a:off x="366840" y="117360"/>
            <a:ext cx="877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朗读课文第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46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47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两个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在以后的岁月中，地球常常在我脑海中就变得透明了，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感受到了从地球中心传出的她的心跳，听到了她吟唱的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月光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一个想法安慰着我：不管走到天涯海角，我离她都不会再远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79880"/>
          <p:cNvSpPr/>
          <p:nvPr/>
        </p:nvSpPr>
        <p:spPr>
          <a:xfrm>
            <a:off x="289080" y="4070520"/>
            <a:ext cx="885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小姑娘的精神光芒穿透了</a:t>
            </a:r>
            <a:r>
              <a:rPr b="1" lang="en-US" sz="3600" spc="-1" strike="noStrike">
                <a:solidFill>
                  <a:srgbClr val="c00000"/>
                </a:solidFill>
                <a:latin typeface="黑体"/>
                <a:ea typeface="黑体"/>
              </a:rPr>
              <a:t>6000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多公里厚的地层，将这颗蔚蓝的星球照耀得晶莹剔透，璀璨夺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小姑娘对我的影响之大，小姑娘的献身精神激励着人们不断地探索宇宙的奥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179280" y="404640"/>
            <a:ext cx="85838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这篇文章表达了怎样的中心思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明确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通过写她深陷地心只能通过传感眼镜感性地了解地球的故事，歌颂了乐观、敬业为了科学而不怕献身的精神，也表达了最平凡的事物才更需要我们去珍惜的哲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图片 19457" descr="2008102822422024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19458"/>
          <p:cNvSpPr/>
          <p:nvPr/>
        </p:nvSpPr>
        <p:spPr>
          <a:xfrm>
            <a:off x="539640" y="1197000"/>
            <a:ext cx="82821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拓展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目前看来，身陷绝境的小姑娘获救的希望是渺茫的，那青春的面容将被永远封闭在地心，令人心痛却不能为力。但科技的飞速发展给人们带来希望。经过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的研制，第一艘能够走进地心航行的地航飞船“落日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号”研制成功。你能荣幸，成了“落日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号”地航飞船的地航员，进入地心，找到了“落日六号”并同它成功对接。接下来会发生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请你展开想象，续写一段文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小结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认识一种文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科幻小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学习一种读书方法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批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感动于一种生活态度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处逆境仍乐观坚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楷体"/>
                <a:ea typeface="楷体"/>
              </a:rPr>
              <a:t>    </a:t>
            </a:r>
            <a:r>
              <a:rPr b="0" lang="zh-CN" sz="3800" spc="-1" strike="noStrike">
                <a:solidFill>
                  <a:srgbClr val="006633"/>
                </a:solidFill>
                <a:latin typeface="楷体"/>
                <a:ea typeface="楷体"/>
              </a:rPr>
              <a:t>如果来一场说走就走的旅行，你会带上</a:t>
            </a:r>
            <a:r>
              <a:rPr b="0" lang="en-US" sz="3800" spc="-1" strike="noStrike">
                <a:solidFill>
                  <a:srgbClr val="006633"/>
                </a:solidFill>
                <a:latin typeface="楷体"/>
                <a:ea typeface="楷体"/>
              </a:rPr>
              <a:t>…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26" name="内容占位符 9231" descr="U10080P1275DT20130917180657"/>
          <p:cNvPicPr/>
          <p:nvPr/>
        </p:nvPicPr>
        <p:blipFill>
          <a:blip r:embed="rId1"/>
          <a:stretch/>
        </p:blipFill>
        <p:spPr>
          <a:xfrm>
            <a:off x="826920" y="1628640"/>
            <a:ext cx="3286440" cy="2195640"/>
          </a:xfrm>
          <a:prstGeom prst="rect">
            <a:avLst/>
          </a:prstGeom>
          <a:ln w="0">
            <a:noFill/>
          </a:ln>
        </p:spPr>
      </p:pic>
      <p:pic>
        <p:nvPicPr>
          <p:cNvPr id="527" name="内容占位符 9232" descr="sy_45623047726"/>
          <p:cNvPicPr/>
          <p:nvPr/>
        </p:nvPicPr>
        <p:blipFill>
          <a:blip r:embed="rId2"/>
          <a:stretch/>
        </p:blipFill>
        <p:spPr>
          <a:xfrm>
            <a:off x="5003640" y="1628640"/>
            <a:ext cx="3297240" cy="2195640"/>
          </a:xfrm>
          <a:prstGeom prst="rect">
            <a:avLst/>
          </a:prstGeom>
          <a:ln w="0">
            <a:noFill/>
          </a:ln>
        </p:spPr>
      </p:pic>
      <p:pic>
        <p:nvPicPr>
          <p:cNvPr id="528" name="内容占位符 9233" descr="20130822091320287001"/>
          <p:cNvPicPr/>
          <p:nvPr/>
        </p:nvPicPr>
        <p:blipFill>
          <a:blip r:embed="rId3"/>
          <a:stretch/>
        </p:blipFill>
        <p:spPr>
          <a:xfrm>
            <a:off x="826920" y="3933720"/>
            <a:ext cx="3275280" cy="2194200"/>
          </a:xfrm>
          <a:prstGeom prst="rect">
            <a:avLst/>
          </a:prstGeom>
          <a:ln w="0">
            <a:noFill/>
          </a:ln>
        </p:spPr>
      </p:pic>
      <p:pic>
        <p:nvPicPr>
          <p:cNvPr id="529" name="内容占位符 9238" descr="49x58PICSfC"/>
          <p:cNvPicPr/>
          <p:nvPr/>
        </p:nvPicPr>
        <p:blipFill>
          <a:blip r:embed="rId4"/>
          <a:stretch/>
        </p:blipFill>
        <p:spPr>
          <a:xfrm>
            <a:off x="5003640" y="3933720"/>
            <a:ext cx="3275280" cy="2195640"/>
          </a:xfrm>
          <a:prstGeom prst="rect">
            <a:avLst/>
          </a:prstGeom>
          <a:ln w="0">
            <a:noFill/>
          </a:ln>
        </p:spPr>
      </p:pic>
      <p:sp>
        <p:nvSpPr>
          <p:cNvPr id="530" name="文本框 9239"/>
          <p:cNvSpPr/>
          <p:nvPr/>
        </p:nvSpPr>
        <p:spPr>
          <a:xfrm>
            <a:off x="4080240" y="17582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通讯工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9241"/>
          <p:cNvSpPr/>
          <p:nvPr/>
        </p:nvSpPr>
        <p:spPr>
          <a:xfrm>
            <a:off x="4577400" y="2029320"/>
            <a:ext cx="485280" cy="10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美  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9242"/>
          <p:cNvSpPr/>
          <p:nvPr/>
        </p:nvSpPr>
        <p:spPr>
          <a:xfrm>
            <a:off x="4080240" y="413460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家人朋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9243"/>
          <p:cNvSpPr/>
          <p:nvPr/>
        </p:nvSpPr>
        <p:spPr>
          <a:xfrm>
            <a:off x="4570920" y="4423320"/>
            <a:ext cx="485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金 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12290" descr="8175703_224905083329_2"/>
          <p:cNvPicPr/>
          <p:nvPr/>
        </p:nvPicPr>
        <p:blipFill>
          <a:blip r:embed="rId1"/>
          <a:stretch/>
        </p:blipFill>
        <p:spPr>
          <a:xfrm>
            <a:off x="395280" y="260280"/>
            <a:ext cx="5143680" cy="5977080"/>
          </a:xfrm>
          <a:prstGeom prst="rect">
            <a:avLst/>
          </a:prstGeom>
          <a:ln w="0">
            <a:noFill/>
          </a:ln>
        </p:spPr>
      </p:pic>
      <p:sp>
        <p:nvSpPr>
          <p:cNvPr id="535" name="文本框 12291"/>
          <p:cNvSpPr/>
          <p:nvPr/>
        </p:nvSpPr>
        <p:spPr>
          <a:xfrm>
            <a:off x="6922080" y="382680"/>
            <a:ext cx="667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眼睛还能被带去旅游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11265" descr="2008102822422024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1266"/>
          <p:cNvSpPr/>
          <p:nvPr/>
        </p:nvSpPr>
        <p:spPr>
          <a:xfrm>
            <a:off x="1908000" y="1773360"/>
            <a:ext cx="61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0000"/>
              </a:buClr>
              <a:buFont typeface="Arial"/>
              <a:buAutoNum type="arabicPlain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带上她的眼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刘慈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内容占位符 2"/>
          <p:cNvSpPr/>
          <p:nvPr/>
        </p:nvSpPr>
        <p:spPr>
          <a:xfrm>
            <a:off x="0" y="189000"/>
            <a:ext cx="9144000" cy="59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校正读音，积累语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人迹罕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j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z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：罕：少。人很少到的地方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指偏僻荒凉的地方很少有人来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浮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：急躁，不沉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气势磅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 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：形容宏伟壮观，雄壮有气势的样子（多形容景物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时隐时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s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：一会儿隐没，一会儿出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笼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 z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：广泛覆盖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全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：物体整个空间情况的全部信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天涯海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j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：形容极远的地方，或相隔极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看到标题你可能提出哪些问题？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95280" y="1341000"/>
            <a:ext cx="8367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睛怎么能被带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睛是指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带上她的眼睛干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带上她的眼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谁带上她的眼睛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文章标题的作用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79280" y="1599840"/>
            <a:ext cx="85838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交代人物形象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概括了文章的主要情节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设置悬念，吸引读者的阅读兴趣，引发读者的思考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作为文章的线索，贯穿全文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突出主题，点明主旨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一语双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反映作者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2T13:15:38Z</dcterms:created>
  <dc:creator>lenovo</dc:creator>
  <dc:description/>
  <dc:language>en-US</dc:language>
  <cp:lastModifiedBy>Administrator</cp:lastModifiedBy>
  <dcterms:modified xsi:type="dcterms:W3CDTF">2017-06-07T04:37:21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55</vt:lpwstr>
  </property>
</Properties>
</file>