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C0F-BAFF-402E-ACE1-BB0BDB7B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6D3-0733-458B-8CF8-AC5FE023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E78-E231-43CA-B4DF-97A0EC9A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7F8-7ED2-405A-BFD1-D8E6008D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0434-7641-4468-A6D1-D8C7375D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9574-C3FA-4B9E-A21D-5288B96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ABAA-954F-41C8-89CA-6A879496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3CA7-9E88-4831-9E67-B1334450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CBD3-F992-4108-9B2A-2237577C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4A1F-4F84-451B-B05A-E1AF95E3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355F-1B32-4E46-8A4C-F703EAF6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92A-6C3C-46D0-87FA-8E7A62D9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0673-8914-4195-9F86-0E45C739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8703-D9E0-4654-9953-C82954C7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12E6-B405-493D-8AB2-84CA69C4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D043-DBEF-4674-9814-A19D1E9F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61A0-633E-4FE1-9461-D8ADF146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45D-172F-48AE-8FB0-36FFB68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9C9-E355-4460-A81A-E38E796A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EC9-5EBA-43E4-A71D-444A3A17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77C-1220-423F-881B-E4184EA3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415-D478-428C-AF87-2A1AD40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B8F-3280-4671-98D9-0720E49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639-A466-4486-B786-4C0E1513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5084-D445-4A34-A546-7D26A347D5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9FBD-7899-40F4-844B-10709B3336A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9640" y="333360"/>
            <a:ext cx="799308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曾经有这样一个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   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在人类还没发明电报的时候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他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小说中的人物已经在用电报传递信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    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在人类还没制造出飞机的时候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他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小说中的人物已经驾驶直升机来往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        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在人类还没有着手登月工程的时候，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他</a:t>
            </a: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小说中的人物已经坐在一颗大炮弹里，被巨炮发射到月球上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Arial"/>
                <a:ea typeface="楷体"/>
              </a:rPr>
              <a:t>       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你们知道“他”是谁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4292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凡尔纳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楷体"/>
              </a:rPr>
              <a:t>  法国著名的科幻和探险小说家，“科学时代的预言家”和“现代科学幻想之父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68280" y="537372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楷体"/>
              </a:rPr>
              <a:t>你们知道被誉为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“中国当代科幻第一人”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楷体"/>
              </a:rPr>
              <a:t>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62373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授课人：合肥市第十三中学  张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Garamond"/>
                <a:ea typeface="黑体"/>
              </a:rPr>
              <a:t>星星点点的小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48800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68480" y="6397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看到了野花，小姑娘是什么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34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她突然惊叫：“呀，花，有花啊！上次我来时没有的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呀，真美！能闻闻它吗？不，别拔下它！”请求我闻一闻花香而不要采下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啊，我也闻到了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真像一首隐隐传来的小夜曲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Garamond"/>
                <a:ea typeface="黑体"/>
              </a:rPr>
              <a:t>淹没在草丛中的小溪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0400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09040" y="765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看到小溪，小姑娘又有怎样的要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242100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小姑娘为什么想感受下清凉的溪水，并请求我将湿漉漉的手举高，让草原的微风慢慢吹干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90960" y="15573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我真想把手伸到小河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47280" y="34704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你那儿很热吧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热，热得像……地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  <a:ea typeface="黑体"/>
              </a:rPr>
              <a:t>静谧美好的月光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2296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6840" y="692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在月光下，姑娘做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557360"/>
            <a:ext cx="80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亮刚升起来，月光下的草原在沉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小姑娘没有回答我的问题，而是自己轻轻哼起了一首曲子，哼了一小段后，她说：“这是德彪西的《月光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那轻柔的旋律一直在我的梦中飘荡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28464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我带着她的眼睛在草原上转了一天，她渴望看草原上的每一朵野花，每一棵小草，看草丛中跃动的每一缕阳光；一条突然出现的小溪，一阵不期而至的微风，都会令她激动不已…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小姑娘的表现是不是有些奇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30440" y="5516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疑问重重，悬念不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82640" y="494172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我感到，她对这个世界的情感已丰富到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不正常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的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Garamond"/>
                <a:ea typeface="楷体"/>
              </a:rPr>
              <a:t>研读课文第三部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2113920" y="11253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小姑娘的具体身份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3520" y="2276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小姑娘在什么地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58760" y="363060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为什么她对这个世界的情感已经丰富到了不正常的程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84760" y="1700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她是“落日六号”的领航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28526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她在地球的最深处——地心，被束缚在一个活动范围不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立方的闷热的控制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167360"/>
            <a:ext cx="7272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落日六号”地航飞船失事了。领航员小姑娘被困在了地心，再也无法看到地面世界，所以主任让我带上她的眼睛去度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这是她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最后一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领略地球的美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651680" y="484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拨云见月，揭示谜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1268280"/>
            <a:ext cx="63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悬念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，文章的开头或文章中提出问题，摆出矛盾或设置疑团，引起读者的关注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悬念的特点，是将疑问悬在那里，或者“顾左右而言他”，故意不予理会，或者做出种种猜想，令人念念不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500280"/>
            <a:ext cx="64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作者不急于揭开谜底，解开矛盾，而是蕴蓄比较长的时间后，再开“悬念”，写出结局，回答先前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000" y="508464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在文章的情节发展中，悬念让文章波澜起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文曾获得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999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第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届银河奖一等奖，其能够获奖的一个重要因素就是构思的巧妙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然段：是一个好像刚毕业的小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然段：飞船上的生命循环系统还可以运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，她将在这不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立方米的地心世界里度过自己的余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析：刚刚毕业的小姑娘，花季刚刚开始，就被终身囚禁，太惨了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924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在本文中，开头的那句“是一个好像刚毕业的小姑娘”是为后文所做的提示或暗示，这样的表现手法叫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37893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伏笔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指在文章或文艺作品中，在前文里为后文所做的提示或暗示。它常常与照应配合使用，即所谓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前有伏笔，后有照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。伏笔通常比较隐蔽，巧妙的伏笔，在看到照应之前，貌似闲笔。所以说，巧妙地运用伏笔与照应，可以收到虽在意料之外，却在情理之中的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文中像这样的伏笔与照应还有不少，我们一起去寻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10160" y="12492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伏笔：热，热得像——地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989000"/>
            <a:ext cx="75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照应：飞船被裹在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公里厚的物质中，周围是温度高达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摄氏度，压力可以把碳在一秒内变成金刚石的液态铁镍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69240" y="34290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伏笔：呀，真美，能闻闻它吗？不，别拔下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81960" y="4005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照应：生命算什么，仅仅能用脆弱来描述它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86900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小花的生命是脆弱的，小姑娘的生命同样是脆弱的。所以说，文中这么多伏笔和照应，归根结底，都是为了表现出小姑娘的处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45720" y="260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主要写作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5833800" cy="388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259560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89000"/>
            <a:ext cx="273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刘慈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主要作品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《地球往事三部曲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《球状闪电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《超新星纪元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《三体》三部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4245120"/>
            <a:ext cx="59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2015</a:t>
            </a: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年</a:t>
            </a: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8</a:t>
            </a: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月</a:t>
            </a: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23</a:t>
            </a: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日，《三体》获得第</a:t>
            </a: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73</a:t>
            </a: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届雨果奖最佳长篇小说奖——这是亚洲人首次获得有</a:t>
            </a:r>
            <a:r>
              <a:rPr b="0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“科幻界诺贝尔文学奖”</a:t>
            </a: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之称的雨果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99"/>
                </a:solidFill>
                <a:latin typeface="楷体"/>
                <a:ea typeface="楷体"/>
              </a:rPr>
              <a:t>代表作《三体》三部曲被普遍认为是中国科幻文学的里程碑之作，将中国科幻推上了世界的高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Garamond"/>
                <a:ea typeface="楷体"/>
              </a:rPr>
              <a:t>分析人物，感悟精神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82920" y="1125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小姑娘的处境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3160" y="112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身陷绝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09520" y="1844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小姑娘的心态如何？从哪里看出来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37720" y="184464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平静。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4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2421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身处绝境却如此平静，小姑娘强大的精神力量从何而来？齐声朗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4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两个自然段，看看她具有怎样的性格特点和精神品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0160" y="3645000"/>
            <a:ext cx="16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强烈的敬业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为科学献身的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乐观坚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热爱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善于发现“美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916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悲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6320" y="311688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由衷的敬佩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2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0820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3336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朗读课文第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46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47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个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以后的岁月中，地球常常在我脑海中就变得透明了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受到了从地球中心传出的她的心跳，听到了她吟唱的《月光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一个想法安慰着我：不管走到天涯海角，我离她都不会再远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378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姑娘的精神光芒穿透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600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多公里厚的地层，将这颗蔚蓝的星球照耀得晶莹剔透，璀璨夺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姑娘对我的影响之大，小姑娘的献身精神激励着人们不断地探索宇宙的奥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9640" y="1197000"/>
            <a:ext cx="8282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目前看来，身陷绝境的小姑娘获救的希望是渺茫的，那青春的面容将被永远封闭在地心，令人心痛却不能为力。但科技的飞速发展给人们带来希望。经过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的研制，第一艘能够走进地心航行的地航飞船“落日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号”研制成功。你能荣幸，成了“落日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号”地航飞船的地航员，进入地心，找到了“落日六号”并同它成功对接。接下来会发生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请你展开想象，续写一段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765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科幻小说，是小说类别之一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是用幻想的形式，表现人类在未来世界的物质精神文化生活和科学技术远景，其内容交织着科学事实和预见、想象。通常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科学”、“幻想”和“小说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视为其三要素。是随着近代科学技术的蓬勃发展而产生的一种文学样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科幻爱好者中盛传的一则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世界上最短的科幻小说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是这样的：地球上最后一个人坐在房间里。这时响起了敲门声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楷体"/>
                <a:ea typeface="楷体"/>
              </a:rPr>
              <a:t>    </a:t>
            </a:r>
            <a:r>
              <a:rPr b="0" lang="zh-CN" sz="3800" spc="-1" strike="noStrike">
                <a:solidFill>
                  <a:srgbClr val="006633"/>
                </a:solidFill>
                <a:latin typeface="楷体"/>
                <a:ea typeface="楷体"/>
              </a:rPr>
              <a:t>如果来一场说走就走的旅行，你会带上…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3286440" cy="2195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297240" cy="2195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275280" cy="2194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003640" y="3933720"/>
            <a:ext cx="3275280" cy="219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80240" y="17582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通讯工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7400" y="2029320"/>
            <a:ext cx="485280" cy="10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美  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80240" y="413460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家人朋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0920" y="4423320"/>
            <a:ext cx="4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金 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143680" cy="597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922080" y="382680"/>
            <a:ext cx="667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眼睛还能被带去旅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8000" y="1773360"/>
            <a:ext cx="61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带上她的眼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刘慈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Garamond"/>
                <a:ea typeface="楷体"/>
              </a:rPr>
              <a:t>研读课文第一部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1605240" y="981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眼睛的主人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10160" y="2492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疑问：姑娘是谁？她在哪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83560" y="3141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小姑娘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26120" y="534816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疑问：表现更加奇怪，为什么她作出选择如此艰难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1484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一个刚毕业的小姑娘，在肥大的太空服中，显得很娇小，她面前有一支失重的铅笔飘在空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825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这个决定对她似乎很艰难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她的双手在太空服的手套里，握在胸前，双眼半闭着，似乎认为地球在我们这次短暂的旅行后就要爆炸了，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我不由笑出声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  <a:ea typeface="楷体"/>
              </a:rPr>
              <a:t>研读课文第二部分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851120" y="1197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眼睛”在文章中具体指代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49320" y="30686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我带上她的眼睛去了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1773360"/>
            <a:ext cx="77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所谓眼睛就是一幅传感眼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，当你戴上它时，…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它还能通过采集戴着它的人的脑电波，把触觉和味觉一同发射出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3645000"/>
            <a:ext cx="77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大草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5480" y="4257720"/>
            <a:ext cx="70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这是高山与草原的交接处，大草原从我面前一直延伸到天边，背后的群山覆盖着绿色的森林，几座还有银色的雪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Garamond"/>
                <a:ea typeface="黑体"/>
              </a:rPr>
              <a:t>广阔无垠的大草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632720" cy="4772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67280" y="285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看见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2T13:15:38Z</dcterms:created>
  <dc:creator>lenovo</dc:creator>
  <dc:description/>
  <dc:language>en-US</dc:language>
  <cp:lastModifiedBy>lenovo</cp:lastModifiedBy>
  <dcterms:modified xsi:type="dcterms:W3CDTF">2017-05-23T13:30:22Z</dcterms:modified>
  <cp:revision>26</cp:revision>
  <dc:subject/>
  <dc:title>幻灯片 1</dc:title>
</cp:coreProperties>
</file>