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5BB-AA4D-4667-8DD2-7E508553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197-392F-434A-B8BA-5AED835F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E05-EB4C-48E4-923A-9C0C693C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EF05-A3FB-4C6D-B8B4-30F3711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54AB-BB9D-47D4-934D-04227F15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6DE-AE12-4509-9519-E27B983B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3DD5-F9D4-4DC3-BCA4-EC91E1E2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770-4318-4F51-9821-DFF0D634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7CAF-6E07-441B-AE79-536D98A1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103-2A42-4EB7-A0D0-F74FFDF3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9CF3-5109-453F-9D14-BCFEAC39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455-4DFA-448F-8842-0DF9B2AB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376D-10AC-45AC-AFA6-DFD57BE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C7A-3917-4FFD-B5B3-97386D0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FC2B-0275-4A6F-83A3-5127096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F7AD-27BC-4270-9FAF-13A9B179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D0C7-A978-4DE6-BBC8-8FF65B58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1C4-38B3-4F9E-BFF8-69A0C1BB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025-07D0-410A-B62C-27636459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609-2F8E-44D8-BD96-58712C64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18F-B179-41DC-88FF-F2DB118A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54B-9538-46F3-841C-D47B974F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DC0-C979-40B1-B49F-374FAAB4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F3A-3EFB-4F64-B751-7C68C2A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9BD9-FC2B-4841-A568-8E7761C1C11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23A-A7EF-4EDF-8F99-B8B2A82DE54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1532;&#20108;&#21333;&#20803;&#20809;&#30424;/12&#12289;&#22810;&#25910;&#20102;&#19977;&#20116;&#26007;" TargetMode="External"/><Relationship Id="rId3" Type="http://schemas.openxmlformats.org/officeDocument/2006/relationships/hyperlink" Target="file:///&#31532;&#20108;&#21333;&#20803;&#20809;&#30424;/12&#12289;&#22810;&#25910;&#20102;&#19977;&#20116;&#26007;" TargetMode="External"/><Relationship Id="rId4" Type="http://schemas.openxmlformats.org/officeDocument/2006/relationships/hyperlink" Target="file:///&#31532;&#20108;&#21333;&#20803;&#20809;&#30424;/12&#12289;&#22810;&#25910;&#20102;&#19977;&#20116;&#26007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0" y="476280"/>
            <a:ext cx="608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多收了三五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5003640" cy="501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00000" y="3284640"/>
            <a:ext cx="3095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叶圣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54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72085e"/>
                </a:solidFill>
                <a:latin typeface="Arial"/>
              </a:rPr>
              <a:t>问题探究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557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197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． 故事写的是旧毡帽朋友的不幸，为什么用《多收了三五斗》作题目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781360"/>
            <a:ext cx="72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2492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　　用丰收反衬农民的不幸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3141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．故事最后一段这个尾声有什么深刻含义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43657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说明“丰收成灾”“谷贱伤农”并非一时一地的个别现象，而是当时普遍的社会现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6000" y="83664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３．“旧毡帽们”为什么一定要将米卖给万盛米行呢？真的是因为“命里注定”或者“米行里有的是洋钱”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85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不是。一是洋米、洋面大量倾销。二是米行同行共议。三是到别处卖还要捐钱。四是要交租、吃饭、种地。五是路路断绝，逃荒、打工无出路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87280" y="765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你概括一下旧毡帽朋友们的性格特征，并说一说与他们在船上的议论所表现出来的性格侧面是否矛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997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忠厚老实。    船上对话片断反映了他们身上也具有一定的反抗精神和斗争意识。两者之间不矛盾，黑暗的社会现实使得这些忠厚老实的农民也产生了抗争意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765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讨论本文的主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小说以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世纪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年代初期江南农村为背景，通过旧毡帽朋友们“丰收成灾”的遭遇，多方面写出了“多收了三五斗”的农民只能更加不幸与无奈的原因，描绘了旧中国农民共同的悲惨命运，表现了作家对乡村 、对农民的真挚的同情，让我们体会到作家对当时社会的愤恨之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21331200">
            <a:off x="1026000" y="206316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展开丰富的想象和联想，由“旧毡帽”粜米回家后和家人的对话写一个小课本剧，然后和同学一起表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549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隶书"/>
              </a:rPr>
              <a:t>叶圣陶简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557360"/>
            <a:ext cx="864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叶圣陶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(1894—1988),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现代著名作家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儿童文学作家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教育家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原名叶绍钧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江苏苏州人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幼年时父亲在地主家做帐房先生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家境清苦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192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年与郑振铎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茅盾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朱自清等人组织发起文学研究会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作品有童话集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&lt;&lt;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稻草人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&gt;&gt;.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长篇小说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&lt;&lt;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倪焕之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&gt;&gt;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等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456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24000" y="69228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行楷"/>
              </a:rPr>
              <a:t>叶圣陶纪念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63640" y="404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隶书"/>
              </a:rPr>
              <a:t>叶圣陶题词教育碑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76500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给下列加线的字注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57360"/>
            <a:ext cx="9325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埠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头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占卜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作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梗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粜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斛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子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廒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间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褡裢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沽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 执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拗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呷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写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停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泊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船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舷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不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屑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4000" spc="-1" strike="noStrike" u="sng">
                <a:solidFill>
                  <a:srgbClr val="0066ff"/>
                </a:solidFill>
                <a:uFillTx/>
                <a:latin typeface="Arial"/>
              </a:rPr>
              <a:t>嗤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773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ù                     zhānbǔ                  gěng               tiào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70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ú                       áo                        dālián               k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3573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gū                          niù                  xiā                              xi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4508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bó                      xián                       xiè                      ch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5300640"/>
            <a:ext cx="2447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第二单元光盘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\12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、多收了三五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00000" y="981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本文的主人公是谁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?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写了有关他们的哪几件事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421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主人公是旧毡帽朋友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.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写了他们</a:t>
            </a:r>
            <a:r>
              <a:rPr b="1" i="1" lang="zh-CN" sz="3600" spc="-1" strike="noStrike" u="sng">
                <a:solidFill>
                  <a:srgbClr val="dc5900"/>
                </a:solidFill>
                <a:uFillTx/>
                <a:latin typeface="华文楷体"/>
                <a:ea typeface="华文楷体"/>
              </a:rPr>
              <a:t>粜米</a:t>
            </a:r>
            <a:r>
              <a:rPr b="1" lang="zh-CN" sz="3600" spc="-1" strike="noStrike">
                <a:solidFill>
                  <a:srgbClr val="dc5900"/>
                </a:solidFill>
                <a:latin typeface="华文楷体"/>
                <a:ea typeface="华文楷体"/>
              </a:rPr>
              <a:t>、</a:t>
            </a:r>
            <a:r>
              <a:rPr b="1" i="1" lang="zh-CN" sz="3600" spc="-1" strike="noStrike" u="sng">
                <a:solidFill>
                  <a:srgbClr val="dc5900"/>
                </a:solidFill>
                <a:uFillTx/>
                <a:latin typeface="华文楷体"/>
                <a:ea typeface="华文楷体"/>
              </a:rPr>
              <a:t>购物</a:t>
            </a:r>
            <a:r>
              <a:rPr b="1" i="1" lang="zh-CN" sz="3600" spc="-1" strike="noStrike">
                <a:solidFill>
                  <a:srgbClr val="dc5900"/>
                </a:solidFill>
                <a:latin typeface="华文楷体"/>
                <a:ea typeface="华文楷体"/>
              </a:rPr>
              <a:t>、</a:t>
            </a:r>
            <a:r>
              <a:rPr b="1" i="1" lang="zh-CN" sz="3600" spc="-1" strike="noStrike" u="sng">
                <a:solidFill>
                  <a:srgbClr val="dc5900"/>
                </a:solidFill>
                <a:uFillTx/>
                <a:latin typeface="华文楷体"/>
                <a:ea typeface="华文楷体"/>
              </a:rPr>
              <a:t>会饮</a:t>
            </a:r>
            <a:r>
              <a:rPr b="1" lang="zh-CN" sz="3600" spc="-1" strike="noStrike" u="sng">
                <a:solidFill>
                  <a:srgbClr val="dc5900"/>
                </a:solidFill>
                <a:uFillTx/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三件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12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(1-34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贱价粜米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4000" y="1773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(35-44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街头购物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349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(45-70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船上议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1557360"/>
            <a:ext cx="431640" cy="122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4842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(1-70)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旧毡帽朋友   三幅场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213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(71)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相同的故事第二天在这个镇上和其他地方重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7628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整体感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梳理课文结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1:20:55Z</dcterms:created>
  <dc:creator>MC SYSTEM</dc:creator>
  <dc:description/>
  <dc:language>en-US</dc:language>
  <cp:lastModifiedBy>MC SYSTEM</cp:lastModifiedBy>
  <dcterms:modified xsi:type="dcterms:W3CDTF">2005-10-05T07:00:58Z</dcterms:modified>
  <cp:revision>21</cp:revision>
  <dc:subject/>
  <dc:title>幻灯片 1</dc:title>
</cp:coreProperties>
</file>