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16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E88-C23C-4C57-A192-0578BD72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405-374A-4CB6-95B3-BA5E0B02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A76-1220-4924-B769-4D0D8513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D49-9F90-4E9B-A309-14C48735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ABE-AC7C-4478-A32D-762F9C67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1ED-E9AE-4FFE-8F8D-BDDE4915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407-B791-4406-9228-B42C45FF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96B-3CC9-4D2A-941F-FEC91311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09B-04BB-40E2-84E1-AC909788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E24-6FFB-415B-A17B-4DDCD8B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C4D-09DC-4640-A630-C1F3124B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FDF-5358-4118-A485-745EF54A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3C99-03DD-45CA-AFD8-E6F6E64F3B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cysy.com/wlzy/26641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2008red.com/member_pic_243/files/feg28/html/article_6162_1.s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3gbaby.com/Albums/13/viewAlbum92223.html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ecool.com/pic/show/311/48558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nana2539.bokee.com/viewdiary.14710447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86gem.com/news/200771084751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bs.bokee.com/ThreadTree.previous.237.255121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2000" y="98100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Arial"/>
                <a:ea typeface="华文行楷"/>
              </a:rPr>
              <a:t>动人的北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4221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林语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62064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选材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76500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全景式描写又处处是具体可感的画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06864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表现手法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29242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比、比喻、排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172360" y="5937120"/>
            <a:ext cx="717480" cy="693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5950080"/>
            <a:ext cx="717480" cy="693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47242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表达方式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抒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000800" y="1197000"/>
            <a:ext cx="21913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清明上河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172360" y="5937120"/>
            <a:ext cx="7174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6516720" cy="4608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2771640" cy="465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50920" y="404640"/>
            <a:ext cx="48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奥运北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4284720" cy="479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40000" y="333360"/>
            <a:ext cx="6804000" cy="3567240"/>
          </a:xfrm>
          <a:prstGeom prst="rect">
            <a:avLst/>
          </a:prstGeom>
          <a:solidFill>
            <a:srgbClr val="ffff00">
              <a:alpha val="38000"/>
            </a:srgbClr>
          </a:solidFill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林语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(1895-1976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福建龙溪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散文家、小说家、学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9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后为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《语丝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主要撰稿人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9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主编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《论语》半月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9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创办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《人间世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9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创办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宇宙风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成为论语派主要人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9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后，在美国用英文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吾国与吾民》、《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京华烟云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杂文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剪拂集》《大荒集》《我的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他是一个传统文化故土和西方文化新壤混合培养出来的知识分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0720" y="907920"/>
            <a:ext cx="4643280" cy="2860200"/>
          </a:xfrm>
          <a:prstGeom prst="rect">
            <a:avLst/>
          </a:prstGeom>
          <a:solidFill>
            <a:srgbClr val="ff9900">
              <a:alpha val="18000"/>
            </a:srgbClr>
          </a:solidFill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提倡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幽默、闲适、性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主张“以自我为中心，以闲适为笔调”，采取与政治保持距离的自由主义立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826920" y="1989000"/>
            <a:ext cx="79218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形散神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474840"/>
            <a:ext cx="647640" cy="433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476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北平又像是一株古木老树</a:t>
            </a:r>
            <a:r>
              <a:rPr b="1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1268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北平是一个珠玉之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206064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北平像是一个国王的梦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28526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北平是清静的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每家都有一个院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357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北平有多样性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多样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450864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北平有五颜六色旧与新的色彩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都具有历史典故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5229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北平是理想的居住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588000" y="1341360"/>
            <a:ext cx="158112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0082">
                        <a:alpha val="27058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形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0082">
                      <a:alpha val="27058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339920"/>
            <a:ext cx="647640" cy="433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131920"/>
            <a:ext cx="647640" cy="433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851200"/>
            <a:ext cx="647640" cy="433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3645000"/>
            <a:ext cx="647640" cy="433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437000"/>
            <a:ext cx="647640" cy="433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5229360"/>
            <a:ext cx="647640" cy="433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55640" y="0"/>
            <a:ext cx="71280" cy="6858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24000" y="1413000"/>
            <a:ext cx="21049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2708280"/>
            <a:ext cx="1368360" cy="792000"/>
          </a:xfrm>
          <a:prstGeom prst="rightArrow">
            <a:avLst>
              <a:gd name="adj1" fmla="val 50000"/>
              <a:gd name="adj2" fmla="val 431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907920"/>
            <a:ext cx="4752720" cy="703440"/>
          </a:xfrm>
          <a:prstGeom prst="rect">
            <a:avLst/>
          </a:prstGeom>
          <a:solidFill>
            <a:srgbClr val="fcfca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故都北平的动人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—老成、豪爽、包容、守旧容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3284640"/>
            <a:ext cx="4787640" cy="825120"/>
          </a:xfrm>
          <a:prstGeom prst="rect">
            <a:avLst/>
          </a:prstGeom>
          <a:solidFill>
            <a:srgbClr val="ff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作者的情感—优雅情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907920"/>
            <a:ext cx="6264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11280" y="1052640"/>
            <a:ext cx="4104000" cy="1191240"/>
          </a:xfrm>
          <a:prstGeom prst="rect">
            <a:avLst/>
          </a:prstGeom>
          <a:solidFill>
            <a:srgbClr val="ffff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故都的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3141720"/>
            <a:ext cx="7921800" cy="1434600"/>
          </a:xfrm>
          <a:prstGeom prst="rect">
            <a:avLst/>
          </a:prstGeom>
          <a:solidFill>
            <a:srgbClr val="ffff9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cc"/>
                </a:solidFill>
                <a:latin typeface="Arial"/>
              </a:rPr>
              <a:t>神：</a:t>
            </a: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清、静、悲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19:59Z</dcterms:created>
  <dc:creator>微软用户</dc:creator>
  <dc:description/>
  <dc:language>en-US</dc:language>
  <cp:lastModifiedBy>宋协刚</cp:lastModifiedBy>
  <dcterms:modified xsi:type="dcterms:W3CDTF">2007-12-27T07:38:53Z</dcterms:modified>
  <cp:revision>24</cp:revision>
  <dc:subject/>
  <dc:title>幻灯片 1</dc:title>
</cp:coreProperties>
</file>