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10D-6EB6-424A-B724-782D5CF9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5FC-16A0-4DF1-AE22-DD224079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D0D-66F8-401C-85AC-9D04ED2F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7A5-5C96-4DD5-9277-DC6B7291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269-517A-480F-823D-FEB8A65C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370-6B76-4BC2-B7AF-C6628EB1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E29-A628-49BC-9AD9-6EBD124E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431-EB27-4819-A2B9-D174E72A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0E0-162A-460F-B676-60E57AC7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2EA-7DA0-4505-9F57-1D4B032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A4C-A986-47C3-B391-339CCA03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33B-18CF-4253-B924-8B25BA2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A93C-19A7-4E2A-B5D5-71AE3A0784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5280" y="6021360"/>
            <a:ext cx="171468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2.xm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http://news.xinhuanet.com/photo/2004-04/21/content_1433182.htm" TargetMode="External"/><Relationship Id="rId7" Type="http://schemas.openxmlformats.org/officeDocument/2006/relationships/image" Target="../media/image17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</a:rPr>
              <a:t>地球</a:t>
            </a:r>
            <a:r>
              <a:rPr b="1" i="1" lang="zh-CN" sz="6600" spc="-1" strike="noStrike">
                <a:solidFill>
                  <a:srgbClr val="000000"/>
                </a:solidFill>
                <a:latin typeface="Arial"/>
              </a:rPr>
              <a:t>病</a:t>
            </a:r>
            <a:r>
              <a:rPr b="1" lang="zh-CN" sz="6600" spc="-1" strike="noStrike">
                <a:solidFill>
                  <a:srgbClr val="009900"/>
                </a:solidFill>
                <a:latin typeface="Arial"/>
              </a:rPr>
              <a:t>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8764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940000" y="1700280"/>
            <a:ext cx="101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临朐县龙泉小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徐景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宇航员空中看到的臭氧层空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2920" y="1557000"/>
            <a:ext cx="4038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9800" y="2349360"/>
            <a:ext cx="4030920" cy="3238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64000" y="2349360"/>
            <a:ext cx="3311640" cy="323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4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破坏臭氧层的罪魁祸首——温室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772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468360" y="1557360"/>
            <a:ext cx="4032360" cy="2178000"/>
            <a:chOff x="468360" y="1557360"/>
            <a:chExt cx="4032360" cy="217800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468360" y="1557360"/>
              <a:ext cx="4032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84360" y="1916280"/>
              <a:ext cx="21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Arial"/>
                </a:rPr>
                <a:t>工厂冒出的浓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984920" y="1562040"/>
            <a:ext cx="22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643280" y="1628640"/>
            <a:ext cx="3816360" cy="2087640"/>
            <a:chOff x="4643280" y="1628640"/>
            <a:chExt cx="3816360" cy="208764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4643280" y="1628640"/>
              <a:ext cx="381636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227640" y="177804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汽车排放的尾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68360" y="4005360"/>
            <a:ext cx="4032360" cy="2506680"/>
            <a:chOff x="468360" y="4005360"/>
            <a:chExt cx="4032360" cy="2506680"/>
          </a:xfrm>
        </p:grpSpPr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468360" y="4005360"/>
              <a:ext cx="403236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76240" y="40575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99"/>
                  </a:solidFill>
                  <a:latin typeface="Arial"/>
                </a:rPr>
                <a:t>农田焚烧的秸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643280" y="4005360"/>
            <a:ext cx="4032360" cy="2519280"/>
            <a:chOff x="4643280" y="4005360"/>
            <a:chExt cx="4032360" cy="2519280"/>
          </a:xfrm>
        </p:grpSpPr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4643280" y="4005360"/>
              <a:ext cx="403236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342040" y="42004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</a:rPr>
                <a:t>田间喷洒的农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"/>
    <p:sndAc>
      <p:stSnd>
        <p:snd r:embed="rId7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981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60280"/>
            <a:ext cx="81532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臭氧层破坏带来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于臭氧层变薄，甚至出现空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紫外线没有了阻拦，直接照射到了地球上。紫外线的长期照射，对人、动物都具有非常严重的副作用。靠近南极和北极居住的人患皮肤癌的越来越多，许多人还得了白内障。长时间的紫外线照射，甚至能致人死亡，破坏植物的光合作用和授粉能力，导致农业减产。臭氧层被破坏，直接威胁着地球上所有动植物和人类的安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45720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年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为国际保护臭氧层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379651" descr=""/>
          <p:cNvPicPr/>
          <p:nvPr/>
        </p:nvPicPr>
        <p:blipFill>
          <a:blip r:embed="rId2"/>
          <a:srcRect l="0" t="0" r="0" b="10106"/>
          <a:stretch/>
        </p:blipFill>
        <p:spPr>
          <a:xfrm>
            <a:off x="179280" y="549360"/>
            <a:ext cx="4824360" cy="3600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720" y="620280"/>
            <a:ext cx="36100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护臭氧层的举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，中国政府批准了《中国消耗臭氧层物质逐步淘汰方案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中国政府从全球利益出发，果断在控制和减少温室气体排放的《京都议定书》上签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前，我国已研制出了新一代的“无氟”绿色冰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3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保护臭氧层从我做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204640"/>
            <a:ext cx="815328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二、空中杀手——酸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69850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酸雨是大气污染的结果。人类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在生 产和生活中燃烧煤炭和石油，生 成的二氧化硫和氮氧化物进入大气，在阳光、水汽、浮尘的作用下，发生化学反应，生成硫酸、硝酸或硫酸盐、硝酸盐的微滴，飘在空中，遇到降雨或雪 ，随着它们一起落下，雨和雪就成为酸雨或酸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7909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酸雨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40323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643280" y="1557360"/>
            <a:ext cx="3600360" cy="2305080"/>
            <a:chOff x="4643280" y="1557360"/>
            <a:chExt cx="3600360" cy="230508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643280" y="1557360"/>
              <a:ext cx="3600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002560" y="1557360"/>
              <a:ext cx="252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对动物体的影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69800" y="3938760"/>
            <a:ext cx="3957840" cy="2187360"/>
            <a:chOff x="469800" y="3938760"/>
            <a:chExt cx="3957840" cy="2187360"/>
          </a:xfrm>
        </p:grpSpPr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469800" y="3938760"/>
              <a:ext cx="395784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260000" y="407664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湖泊酸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643280" y="3500280"/>
            <a:ext cx="3810240" cy="2092320"/>
            <a:chOff x="4643280" y="3500280"/>
            <a:chExt cx="3810240" cy="2092320"/>
          </a:xfrm>
        </p:grpSpPr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4643280" y="3500280"/>
              <a:ext cx="381024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003640" y="472896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对建筑、机械的腐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"/>
    <p:sndAc>
      <p:stSnd>
        <p:snd r:embed="rId7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可怕的温室效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3816360" cy="2517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716000" y="1268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量排放的二氧化碳气体，会在大气中形成一个保温层。它们使阳光长驱直入到达地面，使地球表面的温度升高，同时又吸收地面散发出来的热，不让阳光照射的热能跑出去，使地球变成一个大暖房。这种现象很像暖室中的情形，科学家把它叫做温室效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3887640" cy="274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温室效应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3959280" cy="216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857840" y="1628640"/>
            <a:ext cx="3817800" cy="446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69800" y="3938760"/>
            <a:ext cx="403092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6" name="chimes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</a:rPr>
              <a:t>小行动保护大地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038480" cy="302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92360" y="5084640"/>
            <a:ext cx="6192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粗隸"/>
              </a:rPr>
              <a:t>美丽地球，你我做起</a:t>
            </a:r>
            <a:endParaRPr b="1" lang="en-US" sz="1800" spc="1" strike="noStrike">
              <a:ln w="12600">
                <a:solidFill>
                  <a:srgbClr val="ff66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粗隸"/>
              <a:ea typeface="文鼎粗隸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450864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Staccato222 BT"/>
                <a:ea typeface="PMingLiU"/>
              </a:rPr>
              <a:t>Greenhous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5840" y="457200"/>
            <a:ext cx="1020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宇航员看到的地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10085" r="0" b="0"/>
          <a:stretch/>
        </p:blipFill>
        <p:spPr>
          <a:xfrm>
            <a:off x="611280" y="260280"/>
            <a:ext cx="7200720" cy="616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</a:rPr>
              <a:t>共同托起地球的明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尽量少用方便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节约用电、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少用清洁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种花栽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尽量乘坐公交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使用太阳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81636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87280" y="141300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保护地球在行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画家：请你画一幅“珍爱地球，保护环境”的环保宣传画或写一条环保宣传标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广告设计师：请你设计一个“人人都来保护地球”的广告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小作家：请写一份倡议书，号召人们要自觉保护地球、美化环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使者：请围绕“世界地球日”策划一次绿色行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小研究员：请确定一个环保小课题开展研究活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18" b="0"/>
          <a:stretch/>
        </p:blipFill>
        <p:spPr>
          <a:xfrm>
            <a:off x="250920" y="-228600"/>
            <a:ext cx="9448560" cy="7086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 rot="5400000">
            <a:off x="-2057040" y="259056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愿我们的地球更美好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美丽的家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4037040" cy="2489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3961080" cy="237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4176720" cy="2762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716360" y="3933720"/>
            <a:ext cx="3888000" cy="269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6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3600720" cy="252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2881440" cy="277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411280" y="4410000"/>
            <a:ext cx="4105440" cy="244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547640" y="3213000"/>
            <a:ext cx="1224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山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651640" y="3141720"/>
            <a:ext cx="1871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水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020000" y="4797360"/>
            <a:ext cx="9144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天蓝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 spd="slow">
    <p:cover dir="l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地球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4365720"/>
            <a:ext cx="352908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3303720" cy="2951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003640" y="3933720"/>
            <a:ext cx="3384720" cy="26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世界地球日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87280" y="1197000"/>
            <a:ext cx="35290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8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地球为什么会得病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人类在创造巨大物质财富的同时，对环境的破坏也在加剧，严重的环境污染、生态失衡……使我们赖以生存的家园正处在危机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8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医生：</a:t>
            </a:r>
            <a:r>
              <a:rPr b="0" lang="zh-CN" sz="4000" spc="-1" strike="noStrike">
                <a:solidFill>
                  <a:srgbClr val="00ff00"/>
                </a:solidFill>
                <a:latin typeface="Arial"/>
              </a:rPr>
              <a:t>地球得了哪些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臭氧层遭破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酸雨——空中杀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可怕的温室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27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MingLiU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60880" y="198900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、来自臭氧层的报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说说看：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你了解臭氧层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3440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大气层中，离地面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千米至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千米处是一个特殊的空气层，叫臭氧层。别看它的名字难听，它可是地球上生命的保护伞，来自太阳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99﹪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紫外线被它拦截在地球之外。如果没有臭氧层，人和动物就无法在地球上生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科学家经过对臭氧层的长期观察，发现在北美洲、欧洲及大洋洲上空，臭氧层正在变薄，南极上空的臭氧层已经出现了“空洞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1:42:02Z</dcterms:created>
  <dc:creator>雨林木风</dc:creator>
  <dc:description/>
  <dc:language>en-US</dc:language>
  <cp:lastModifiedBy>User</cp:lastModifiedBy>
  <dcterms:modified xsi:type="dcterms:W3CDTF">2011-05-20T08:54:21Z</dcterms:modified>
  <cp:revision>192</cp:revision>
  <dc:subject/>
  <dc:title>幻灯片 1</dc:title>
</cp:coreProperties>
</file>