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chimes.wav" ContentType="audio/x-wav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1504-E9AD-4B2B-813F-C2DEBB3E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2510-F7EF-4CD2-8DDA-31B37DFD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BFB8-CDC2-44EC-8B13-DDA64C35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64C3-A36B-4AF6-8019-B2787F56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FD674-C961-414D-9659-CFD3EBF7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0E77-6C96-486B-8749-B4ACA16E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FC78-D2FB-4B80-8807-C345343D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E93B-4A29-4F1F-8E33-6B251530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BCD7-9EEF-4A5B-8752-53B51A03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C62C-3F34-4288-BA10-CD4F05E5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8462-B1BE-43B3-B1B8-FEBAFCDD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353C-B5C9-4101-B95B-C044CEE2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CF3C-F1CC-4679-9BAA-05BCDC20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EA90-C35C-46CB-91BB-01B5B511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ED27-6CFD-4653-A240-88F3EC34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9601-DBF2-4842-9F57-D2E8855D6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BFCD-222C-4CF4-8763-1894811A1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C03EA-B54B-4327-A26F-73B05785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B1298-F474-4747-AF6D-05F489AF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5EF96-7E84-43EE-940F-9FABEB8B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F5DF0-2548-4D8E-A1E7-C0634BE9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6B57E-E1E0-4C60-AF95-FC217C49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9561-DC31-4B4B-855F-D5C4A3DF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42B49-98B6-4C26-84F5-810C7704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DF569-C5D2-4D89-8DE1-2C16D791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C7D18-8D11-4028-9A4A-3C4D19AB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A1298-C0CD-4034-9876-8ACEC74F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2B0F6-E9EA-4BFC-B7B9-5EC6F4DC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AB3D2-B92C-4673-9A6E-8CABB3559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B3078-D299-496D-A003-8817F86D1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B462A-A7D9-4242-B17B-F6EDC90C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BB50C-50C1-4F31-8B25-811990F9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48D2A-81E8-4BA5-96CE-C683E84E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43E0-C732-4442-8618-01B01D85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D89B4-FEC1-487B-AD8A-1CBAA33B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83975-33EE-42BD-9CB2-F12B60F0A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05505-9BF9-483C-AE55-FC45A271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32EC2-5A59-456B-97FA-4DFAD359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96286-FC3B-4DF6-B93F-B617CAE6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804FF-9414-499B-ADC8-8CBD9A36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6204A-B375-45BD-95A5-F292DD00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CBF25-FE9B-4065-AB59-4C629FC38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22408-8357-4514-86A0-D148B3DA1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FEA65-726C-4859-8136-07D6F6A66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65E4-E7DE-48C0-8104-0CC1CE0F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5B15E-7B85-4E71-8AAD-EEA9043ED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9BEC1-ADE2-4939-BFD4-70C0FA0D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CD24D-C001-4D04-8EAD-A13E7F80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67CD1-BA8E-4228-A313-4474F463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32592-C379-4438-B45C-E6835F93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825EC-25A2-4EC8-96B8-91FE2E89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62533-D5F8-4E65-A221-FDA95B87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B8B02-3F6B-44F7-9750-CB8A4944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2FF91-ABDD-4665-805A-E71E0EBF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61416-6D77-4F2B-AC18-5137FD18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2715-BCF5-482E-A4E9-EFBDA3A1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C73D7-0F76-407A-90AE-0BB77FE8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4D96-0B41-4B6C-A2A9-5298BEDA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7B10-6598-40AB-A5DF-C47B2AA4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9CB4-852D-455F-ABF5-39937B82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81D0-1199-44F5-BBFA-D6802D6D61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2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88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02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16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30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44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58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72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74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20B6-3CC9-4E9A-A8FC-F48C267A5E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30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44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94FD-7524-4E9E-BF20-1279D569B6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94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44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9A4B-4D0F-4AB6-8420-5FC15C39D9A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91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ABD0-0500-4753-AAF9-E9944E5EF0C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&#34678;&#24651;&#33457;.mp3" TargetMode="External"/><Relationship Id="rId3" Type="http://schemas.openxmlformats.org/officeDocument/2006/relationships/hyperlink" Target="file:///&#34678;&#24651;&#33457;.mp3" TargetMode="External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5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词的基本知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连州一中  胡力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4EDC4-4B2C-4AC1-9A7D-FD7A213BB8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</a:rPr>
              <a:t>作者介绍</a:t>
            </a:r>
            <a:br>
              <a:rPr sz="5400"/>
            </a:b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柳永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约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987—1053)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，初名三变，字耆卿，崇安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今属福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人。晚年任屯田员外郎，后人称他为柳屯田。排行第七，也称柳七郎，或柳七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出身于书香仕宦之家，但个人世路坎坷，多次应进士试，不第。生活落拓，长期出入歌楼舞馆，与歌妓们相处密切，靠为她们填词作曲维持生活。正由于这样的生活境遇，使他成为我国历史上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第一个专业词人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精通音律，既擅长作歌词，又擅长谱写乐曲。他创制了许多词调，而且这些词调得到广泛的传播，是当时知名度很高的音乐家。许多歌妓因善于演唱他所作的词，或者得到他的嘉许使得身价大大提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0CBD-3346-4C06-B391-7B8D80F4B9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8408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柳永是词史上第一个大量创制慢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长调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的词人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的《乐章集》中有一半属于长调。在他之前，慢词只是个别人试作，还不怎么流行。由于他的提倡，使得慢词广为流行，形成了与小令并驾齐驱的局面。长调的运用，扩大了词的容量，使词的表现手法得到发展和丰富。其中最为突出的是他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擅长于铺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柳词“铺叙展衍，备足无遗”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李之仪《姑溪词跋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望海潮》和《雨霖铃》都是善用铺叙手法的范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柳永作词雅俗兼擅，以俗为主，他继承和发展了民间词的传统，开创了文人俚词一路。他的词作具有很深广的群众基础，形成“凡有井水饮处即能歌柳词”的局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19BC-F922-4A17-97DD-B3A2D2E616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" descr="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49600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/>
              </a:rPr>
              <a:t>           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/>
              </a:rPr>
              <a:t>蝶恋花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伫倚危楼风细细，望极春愁，黯黯生天际。草色烟光残照里，无言谁会凭阑意。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 拟把疏狂图一醉，对酒当歌，强乐还无味。衣带渐宽终不悔，为伊消得人憔悴。</a:t>
            </a:r>
            <a:r>
              <a:rPr b="0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4"/>
          <a:stretch/>
        </p:blipFill>
        <p:spPr>
          <a:xfrm>
            <a:off x="3995640" y="3141720"/>
            <a:ext cx="933480" cy="84780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5"/>
          <a:stretch/>
        </p:blipFill>
        <p:spPr>
          <a:xfrm>
            <a:off x="3995640" y="3357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9799-C3B9-40DB-B3FD-E45F6B47AEA1}" type="slidenum">
              <a:t>12</a:t>
            </a:fld>
          </a:p>
        </p:txBody>
      </p:sp>
    </p:spTree>
  </p:cSld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667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667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96315" fill="hold"/>
                                        <p:tgtEl>
                                          <p:spTgt spid="6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826920" y="57340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伊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消得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憔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716360" y="1484280"/>
            <a:ext cx="9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930400" y="843120"/>
            <a:ext cx="30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重点字词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8360" y="162864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危楼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风细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11280" y="2421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黯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天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55640" y="3284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疏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图一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316160" y="4005360"/>
            <a:ext cx="16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强乐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371960" y="4869000"/>
            <a:ext cx="20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衣带渐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终不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284720" y="17002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久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960160" y="1700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高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564000" y="249228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因离别而伤心的样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716360" y="357336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284720" y="3356640"/>
            <a:ext cx="107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打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651640" y="3357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放纵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276720" y="407664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勉强寻欢作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443640" y="4076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924360" y="486900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形容人越来越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643280" y="57340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值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9E05-1AAE-4C61-8A17-32D5041FF8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3924360" y="2852640"/>
            <a:ext cx="933480" cy="84780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285840" y="792360"/>
            <a:ext cx="8858160" cy="26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思考：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这是一首抒发了什么感情内容的词？应用怎样的感情基调朗读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9575-6AF6-4F3B-8612-F6C677F676AF}" type="slidenum">
              <a:t>14</a:t>
            </a:fld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0" y="830160"/>
            <a:ext cx="8604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感情内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思念意中人，抒发刻骨相思之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0" y="2925720"/>
            <a:ext cx="4140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感情基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低缓，哀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 rot="1702800">
            <a:off x="4211280" y="4005000"/>
            <a:ext cx="933480" cy="84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BD78-7E8C-456B-AE3F-56BAD381199D}" type="slidenum">
              <a:t>15</a:t>
            </a:fld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-252720" y="476280"/>
            <a:ext cx="93963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词中哪些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字、词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意象）或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句子</a:t>
            </a: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特别能让我们感受到这种刻骨的相思和哀愁的感情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763640" y="2997360"/>
            <a:ext cx="72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804000" y="2997360"/>
            <a:ext cx="863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067280" y="3645000"/>
            <a:ext cx="345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476360" y="4869000"/>
            <a:ext cx="352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826920" y="6093000"/>
            <a:ext cx="2665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933480" cy="84780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7164360" y="1916280"/>
            <a:ext cx="933480" cy="84744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4"/>
          <a:stretch/>
        </p:blipFill>
        <p:spPr>
          <a:xfrm>
            <a:off x="4067280" y="2781360"/>
            <a:ext cx="933480" cy="84780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0" y="3927240"/>
            <a:ext cx="8640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伫倚危楼  草色  残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衣带渐宽终不悔，为伊消得人憔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0" y="189000"/>
            <a:ext cx="771480" cy="101916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？</a:t>
            </a:r>
            <a:endParaRPr b="1" i="1" lang="en-US" sz="8000" spc="1" strike="noStrike">
              <a:ln w="12600">
                <a:solidFill>
                  <a:srgbClr val="ff3300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5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10D7-7511-4ACD-822C-B131181980C9}" type="slidenum">
              <a:t>16</a:t>
            </a:fld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1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14" dur="3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1" fill="hold"/>
                                        <p:tgtEl>
                                          <p:spTgt spid="7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100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1000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2"/>
          <a:stretch/>
        </p:blipFill>
        <p:spPr>
          <a:xfrm rot="876600">
            <a:off x="3924360" y="3357360"/>
            <a:ext cx="933480" cy="84744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品味意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39640" y="2490480"/>
            <a:ext cx="286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草色  残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780000" y="26370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148360" y="2490480"/>
            <a:ext cx="352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愁  离情别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63480" y="30351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68360" y="443520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凭栏登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580000" y="450684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思乡怀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851280" y="4581360"/>
            <a:ext cx="1047600" cy="486000"/>
          </a:xfrm>
          <a:custGeom>
            <a:avLst/>
            <a:gdLst>
              <a:gd name="textAreaLeft" fmla="*/ 163440 w 1047600"/>
              <a:gd name="textAreaRight" fmla="*/ 946440 w 1047600"/>
              <a:gd name="textAreaTop" fmla="*/ 136440 h 486000"/>
              <a:gd name="textAreaBottom" fmla="*/ 34956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6071"/>
                </a:moveTo>
                <a:lnTo>
                  <a:pt x="16822" y="6071"/>
                </a:lnTo>
                <a:lnTo>
                  <a:pt x="16822" y="0"/>
                </a:lnTo>
                <a:lnTo>
                  <a:pt x="21600" y="10800"/>
                </a:lnTo>
                <a:lnTo>
                  <a:pt x="16822" y="21600"/>
                </a:lnTo>
                <a:lnTo>
                  <a:pt x="16822" y="15529"/>
                </a:lnTo>
                <a:lnTo>
                  <a:pt x="3375" y="15529"/>
                </a:lnTo>
                <a:close/>
              </a:path>
              <a:path w="21600" h="21600">
                <a:moveTo>
                  <a:pt x="0" y="6071"/>
                </a:moveTo>
                <a:lnTo>
                  <a:pt x="675" y="6071"/>
                </a:lnTo>
                <a:lnTo>
                  <a:pt x="675" y="15529"/>
                </a:lnTo>
                <a:lnTo>
                  <a:pt x="0" y="15529"/>
                </a:lnTo>
                <a:close/>
              </a:path>
              <a:path w="21600" h="21600">
                <a:moveTo>
                  <a:pt x="1350" y="6071"/>
                </a:moveTo>
                <a:lnTo>
                  <a:pt x="2700" y="6071"/>
                </a:lnTo>
                <a:lnTo>
                  <a:pt x="2700" y="15529"/>
                </a:lnTo>
                <a:lnTo>
                  <a:pt x="1350" y="15529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B5CF-0AE2-4181-9425-9D96CFD75B85}" type="slidenum">
              <a:t>17</a:t>
            </a:fld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7" name="" descr=""/>
          <p:cNvPicPr/>
          <p:nvPr/>
        </p:nvPicPr>
        <p:blipFill>
          <a:blip r:embed="rId2"/>
          <a:stretch/>
        </p:blipFill>
        <p:spPr>
          <a:xfrm rot="876600">
            <a:off x="3924360" y="3357360"/>
            <a:ext cx="933480" cy="84744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663480" y="30351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例：王孙游兮不归，春草生兮萋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——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淮南小山《招隐士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青青河边草，绵绵思古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——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《饮马长城窟行》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芳草无情，更在斜阳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——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范仲淹《苏幕遮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夕阳西下，断肠人在天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        ——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马致远《天净沙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39640" y="618840"/>
            <a:ext cx="286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草色  残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780000" y="76500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148360" y="618840"/>
            <a:ext cx="352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愁  离情别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19FB-B21D-431F-99E3-F2DFBBF0C35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/>
          <p:cNvPicPr/>
          <p:nvPr/>
        </p:nvPicPr>
        <p:blipFill>
          <a:blip r:embed="rId2"/>
          <a:stretch/>
        </p:blipFill>
        <p:spPr>
          <a:xfrm rot="876600">
            <a:off x="3924360" y="3357360"/>
            <a:ext cx="933480" cy="84744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>
            <a:off x="663480" y="30351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95280" y="431280"/>
            <a:ext cx="8748720" cy="54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明月——思亲、思故、思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如： “但原人长久，千里共婵娟”（苏轼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  “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我寄愁心与明月，随君直到夜朗西”（李白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凭栏登高——凭吊怀古、思乡怀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松兰梅竹——坚贞高洁的品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杨柳——惜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杜鹃——沦落失意、哀怨凄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猿啼——羁旅苦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BC18-685C-4DF3-9AD1-9472500DC59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词最初称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曲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曲子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是配音乐的。从配音乐这一点上说，它和乐府是同一类的文学体裁，也同样是来自民间文学。后来词也跟乐府一样，逐渐跟音乐分离了，成为诗的别体，所以有人把词称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诗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文人的词深受律诗的影响，所以词中的律句特别多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E7D7E-027B-4261-B422-64A51119CF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/>
          </p:nvPr>
        </p:nvSpPr>
        <p:spPr>
          <a:xfrm>
            <a:off x="603360" y="761760"/>
            <a:ext cx="8007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作者为了抒发春愁之情，他描写了哪些景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209680" y="2666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236000" y="256536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209680" y="33526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细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39625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草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286000" y="4572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烟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057400" y="51055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残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380360" y="41497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春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-66600" y="3581280"/>
            <a:ext cx="2384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极目远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伫倚危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337560" y="3357720"/>
            <a:ext cx="2029680" cy="22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（凄美伤感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黄昏春望图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581280" y="3581280"/>
            <a:ext cx="609840" cy="2057400"/>
          </a:xfrm>
          <a:custGeom>
            <a:avLst/>
            <a:gdLst>
              <a:gd name="textAreaLeft" fmla="*/ 0 w 609840"/>
              <a:gd name="textAreaRight" fmla="*/ 220320 w 6098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286000" y="3657600"/>
            <a:ext cx="76320" cy="1905120"/>
          </a:xfrm>
          <a:custGeom>
            <a:avLst/>
            <a:gdLst>
              <a:gd name="textAreaLeft" fmla="*/ 48960 w 76320"/>
              <a:gd name="textAreaRight" fmla="*/ 76320 w 763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3200400" y="2924280"/>
            <a:ext cx="4179960" cy="47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276720" y="2438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切景语皆情语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292720" y="4149720"/>
            <a:ext cx="2303640" cy="990720"/>
          </a:xfrm>
          <a:prstGeom prst="leftRightArrow">
            <a:avLst>
              <a:gd name="adj1" fmla="val 50000"/>
              <a:gd name="adj2" fmla="val 4628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情景交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09480" y="1752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作者用什么手法把“景”和“情”系起来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09480" y="1219320"/>
            <a:ext cx="713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作者观景的立足点在哪里？有何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AA9F-C378-45B9-83B0-8ED6DD6673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/>
          </p:nvPr>
        </p:nvSpPr>
        <p:spPr>
          <a:xfrm>
            <a:off x="60948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对孤寂无奈，作者想用什么来排解心中相思的痛苦？结果如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" y="27432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春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048120" y="2743200"/>
            <a:ext cx="129528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借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狂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257800" y="2895480"/>
            <a:ext cx="363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借酒消愁愁更愁 （“强乐还无味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476360" y="2895480"/>
            <a:ext cx="1800360" cy="914400"/>
          </a:xfrm>
          <a:prstGeom prst="rightArrow">
            <a:avLst>
              <a:gd name="adj1" fmla="val 50000"/>
              <a:gd name="adj2" fmla="val 492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消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067280" y="3048120"/>
            <a:ext cx="1657080" cy="761760"/>
          </a:xfrm>
          <a:prstGeom prst="rightArrow">
            <a:avLst>
              <a:gd name="adj1" fmla="val 50000"/>
              <a:gd name="adj2" fmla="val 5438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763640" y="4419720"/>
            <a:ext cx="4176720" cy="14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衣带渐宽终不悔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为伊消得人憔悴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638680" y="4648320"/>
            <a:ext cx="2678400" cy="838080"/>
          </a:xfrm>
          <a:prstGeom prst="leftArrow">
            <a:avLst>
              <a:gd name="adj1" fmla="val 50000"/>
              <a:gd name="adj2" fmla="val 798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不后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08160" y="4572000"/>
            <a:ext cx="1277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词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600200" y="480060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09480" y="16002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春愁”令人如此痛苦难熬，作者后悔了吗？词中哪些句子说明了这个问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BE5D-3DA5-4B51-B534-1EE2A251D0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</a:rPr>
              <a:t>鉴赏要点</a:t>
            </a:r>
            <a:br>
              <a:rPr sz="5400"/>
            </a:br>
            <a:endParaRPr b="0" lang="en-US" sz="5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情景交融是此词的艺术特色之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上片从凭栏的所见所感，将春景和春愁极其自然地融为一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词眼鲜明突出是其艺术特色之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词的末尾两句，非常警策，是此词的词眼。不仅写出了对爱情的坚贞执著，矢志不移，而且创造了一个相对独立而形象鲜明的艺术境界。所谓形象大于思维，这两句所构成的境界，不仅可以用来表现本词所要表现的真挚爱情，也可用以表达对理想、对事业等的执著追求和坚定的信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8560-B4A7-4508-9E0B-2E48B92C5A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隶书"/>
              </a:rPr>
              <a:t>名句品味与探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995640" y="3141720"/>
            <a:ext cx="933480" cy="84780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8820000" y="1555200"/>
            <a:ext cx="527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楷体_GB2312"/>
              </a:rPr>
              <a:t>为伊消得人憔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-4859280" y="1484280"/>
            <a:ext cx="485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衣带渐宽终不悔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0" y="4340520"/>
            <a:ext cx="91440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思考探究一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柳句源自《古诗十九首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·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行行重行行》“相去日已远，衣带日已缓”，柳句与原句在表达上有什么异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同：都表达了相思之苦，写相思使人消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异：原句写恩爱夫妻间相思，柳句写情人间相思；原句只写想瘦了人，柳句则说想瘦了也不后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8304-53D5-4269-9E6C-D5E47C53584B}" type="slidenum">
              <a:t>23</a:t>
            </a:fld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803 -0.00971 L 0.56094 -0.00971 E">
                                      <p:cBhvr>
                                        <p:cTn id="340" dur="2000" fill="hold"/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896 0.02106 L -0.50104 0.00742 E">
                                      <p:cBhvr>
                                        <p:cTn id="342" dur="2000" fill="hold"/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7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468360" y="148428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衣带渐宽终不悔，为伊消得人憔悴。”这两句表达了作者对爱情的坚贞执著，矢志不移的精神。结合现实，这两句还可以表达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57200" y="380988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例：对理想、学业、事业等的执著追求和坚定信念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1187280" y="765000"/>
            <a:ext cx="122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探究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3FC4-7EC0-41EB-8766-F1DC97C0215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4500720" y="3716280"/>
            <a:ext cx="933120" cy="84780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王国维《人间词话》“三种境界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0" y="2179080"/>
            <a:ext cx="939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古今成大事业大学问者，必经过三种之境界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境：“昨夜西风凋碧树。独上高楼，望尽天涯路”（晏殊《蝶恋花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境：“衣带渐宽终不悔，为伊消得人憔悴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境：“众里寻他千百度，蓦然回首，那人却在，灯火阑珊处”（辛弃疾《青玉案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1D05-9367-460F-AEAD-8976245C4801}" type="slidenum">
              <a:t>25</a:t>
            </a:fld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 rot="876600">
            <a:off x="3924360" y="3357360"/>
            <a:ext cx="933480" cy="847440"/>
          </a:xfrm>
          <a:prstGeom prst="rect">
            <a:avLst/>
          </a:prstGeom>
          <a:ln w="0">
            <a:noFill/>
          </a:ln>
        </p:spPr>
      </p:pic>
      <p:sp>
        <p:nvSpPr>
          <p:cNvPr id="771" name=""/>
          <p:cNvSpPr/>
          <p:nvPr/>
        </p:nvSpPr>
        <p:spPr>
          <a:xfrm>
            <a:off x="395280" y="266364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王国维《人间词话》说“古今之成大事业、大学问者，必经过三种境界”，被他借用来形容“第二境”的便是柳永的这两句词，它概括了一种锲而不舍的坚毅性格和执着态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3299-9969-498E-A253-E4968C5D980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50752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隶书"/>
              </a:rPr>
              <a:t>欣赏品味探究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 rot="3237600">
            <a:off x="3956040" y="2892240"/>
            <a:ext cx="862200" cy="782640"/>
          </a:xfrm>
          <a:prstGeom prst="rect">
            <a:avLst/>
          </a:prstGeom>
          <a:ln w="0">
            <a:noFill/>
          </a:ln>
        </p:spPr>
      </p:pic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欣赏（喜欢）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          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-181080" y="4718160"/>
            <a:ext cx="932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：我欣赏“伫倚危楼风细细，望极春愁，黯黯生天际”，因为“伫倚”意象已为全词定下思念之调，加之写“春愁”从天边长过来，表达脱俗又显得韵味无穷，为全词埋下绵绵愁思之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780000" y="2133720"/>
            <a:ext cx="482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403280" y="2781360"/>
            <a:ext cx="727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0E04-91C9-4AB7-AABD-73D3E2B6821D}" type="slidenum">
              <a:t>27</a:t>
            </a:fld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324000" y="765000"/>
            <a:ext cx="340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 展 阅 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11280" y="1340280"/>
            <a:ext cx="8207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蝶恋花－－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晏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槛菊愁烟兰泣露，罗幕轻寒，燕子双飞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月不谙离恨苦，斜光到晓穿朱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昨夜西风凋碧树，独上高楼，望尽天涯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欲寄彩笺无尺素，山长水远知何处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09480" y="4419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起句写了什么景物？寄寓作者什么感情？运用了什么艺术手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355840" y="5589720"/>
            <a:ext cx="36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本词的“词眼”是哪个词？谈谈你的看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0EB4-8F25-4CFA-B01A-E7EC4371911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参考答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起句描写了晓庭圃中的景物：菊花笼罩着一层轻烟薄雾，脉脉含愁；兰花上沾有露珠，默默饮泣。这里用“愁烟”、“泣露”将它们人格化，将主观色彩移于客观景物，寄寓了作者的哀愁。采用的是融情于景（情景交融）的艺术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离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6D0A-C026-40CB-AF48-D4FFF9DF540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42472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词是长短句，但是全篇的字数是有一定的。每句的平仄也是有一定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词大致可分为三类：⑴小令（五十八字以内）；⑵中调（五十九至九十字）；⑶长调（九十一字以外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敦煌曲子词中，已经有一些中调和长调。宋初柳永写了一些长调。苏轼、秦观、黄庭坚等人继起，长调就盛行起来了。长调的特点，除了字数较多以外，就是一般用韵较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5C93A-4742-457C-9DA4-F4DF8DBD3E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-360" y="593280"/>
            <a:ext cx="86979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词牌，就是词的格式的名称。词的格式和律诗的格式不同：律诗只有四种格式，而词则总共有一千多个格式（这些格式称为词谱）。人们不好把它们称为第一式、第二式等等，所以给它们起了一些名字。这些名字就是词牌。有时候，几个格式合用一个词牌，因为它们是同一个格式的若干变体；有时候，同一个格式而有几个名称，那只因为各家叫名不同罢了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EB7C7-0EF1-49CE-B3C8-32C7A7FB71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关于词牌的来源，大约有下面的</a:t>
            </a:r>
            <a:br>
              <a:rPr sz="3400"/>
            </a:b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三种情况：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8893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⑴本来是乐曲的名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例如《菩萨蛮》，据说是由于唐代大中初年，女蛮国进贡，她们梳着高髻，戴着金冠，满身璎珞（璎珞是身上佩挂的珠宝），象菩萨。当时教坊因此谱成《菩萨蛮曲》。据说唐宜宗爱唱《菩萨蛮》词，可见是当时风行一时的曲子。《西江月》、《风入松》、《蝶恋花》等，都是属于这一类的。这些都是来自民间的曲调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3C4DD-C79A-4AF1-BD7B-F2FAABF32C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876924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⑵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摘取一首词中的几个字作为词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例如《忆秦娥》，因为依照这个格式写出的最初一首词开头两句是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箫声咽，秦娥梦断秦楼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所以词牌就叫《忆秦娥》，又叫《秦楼月》。《忆江南》本名《望江南》，又名《谢秋娘》但因白居易有一首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江南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词，最后一句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不忆江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所以词牌又叫《忆江南》。《如梦令》原名《忆仙姿》，改名《如梦令》，这是因为后唐庄宗所写的《忆仙姿》中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梦，如梦，残月落花烟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句。《念奴娇》又叫《大江东去》，这是由于苏轼有一首《念奴娇》，第一句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江东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又叫《酹江月》，因为苏轼这首词最后三个字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酹江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FD2BE-A3E0-4355-8DF6-55A0E980B9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⑶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本来就是词的题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《踏歌词》咏的是舞蹈，《舞马词》咏的是舞马，《欸乃曲》咏的是泛舟，《渔歌子》咏的是打鱼，《浪淘沙》咏的是浪淘沙，《抛球乐》咏的是抛绣球，《更漏子》咏的是夜。这种情况是最普遍的。凡是词牌下面注明“本意”的，就是说，词牌同时也是词题，不另有题目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但是，绝大多数的词都不是用“本意”的，因此，词牌之外还有词题。一般是在词牌下面用较小的字注出词题。在这种情况下，词题和词牌不发生任何关系。一首《浪淘沙》可以完全不讲到浪，也不讲到沙；一首《忆江南》也可以完全不讲到江南。这样，词牌只不过是词谱的名罢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D6C54-632D-4E8F-A6E1-A2AB28816F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"/>
          <p:cNvGrpSpPr/>
          <p:nvPr/>
        </p:nvGrpSpPr>
        <p:grpSpPr>
          <a:xfrm>
            <a:off x="-681840" y="1219320"/>
            <a:ext cx="2009160" cy="4647960"/>
            <a:chOff x="-681840" y="1219320"/>
            <a:chExt cx="2009160" cy="4647960"/>
          </a:xfrm>
        </p:grpSpPr>
        <p:sp>
          <p:nvSpPr>
            <p:cNvPr id="648" name=""/>
            <p:cNvSpPr/>
            <p:nvPr/>
          </p:nvSpPr>
          <p:spPr>
            <a:xfrm>
              <a:off x="228600" y="1219320"/>
              <a:ext cx="1066680" cy="4647960"/>
            </a:xfrm>
            <a:prstGeom prst="rect">
              <a:avLst/>
            </a:prstGeom>
            <a:noFill/>
            <a:ln w="76320">
              <a:solidFill>
                <a:srgbClr val="3c824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-681840" y="1447920"/>
              <a:ext cx="2009160" cy="42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3c8246"/>
                  </a:solidFill>
                  <a:latin typeface="华文行楷"/>
                  <a:ea typeface="华文行楷"/>
                </a:rPr>
                <a:t>词  的 常 识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523880" y="83808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522c"/>
                </a:solidFill>
                <a:latin typeface="Times New Roman"/>
              </a:rPr>
              <a:t>别名：诗余、曲子词、乐府、长短句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523880" y="1905120"/>
            <a:ext cx="8232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522c"/>
                </a:solidFill>
                <a:latin typeface="Times New Roman"/>
              </a:rPr>
              <a:t>形式：有词牌，有标题，一般都是两段（片），</a:t>
            </a:r>
            <a:br>
              <a:rPr sz="2800"/>
            </a:br>
            <a:r>
              <a:rPr b="1" lang="zh-CN" sz="2800" spc="-1" strike="noStrike">
                <a:solidFill>
                  <a:srgbClr val="26522c"/>
                </a:solidFill>
                <a:latin typeface="Times New Roman"/>
              </a:rPr>
              <a:t>            句子长短不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523880" y="3124080"/>
            <a:ext cx="701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522c"/>
                </a:solidFill>
                <a:latin typeface="Times New Roman"/>
              </a:rPr>
              <a:t>分类：按字数——小令、中调、长调。</a:t>
            </a:r>
            <a:br>
              <a:rPr sz="2800"/>
            </a:br>
            <a:r>
              <a:rPr b="1" lang="zh-CN" sz="2800" spc="-1" strike="noStrike">
                <a:solidFill>
                  <a:srgbClr val="26522c"/>
                </a:solidFill>
                <a:latin typeface="Times New Roman"/>
              </a:rPr>
              <a:t>             按段落——单调、双调、三叠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523880" y="44197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522c"/>
                </a:solidFill>
                <a:latin typeface="Times New Roman"/>
              </a:rPr>
              <a:t>派别：婉约（柳永、姜夔、李清照、秦观等）</a:t>
            </a:r>
            <a:br>
              <a:rPr sz="2800"/>
            </a:br>
            <a:r>
              <a:rPr b="1" lang="zh-CN" sz="2800" spc="-1" strike="noStrike">
                <a:solidFill>
                  <a:srgbClr val="26522c"/>
                </a:solidFill>
                <a:latin typeface="Times New Roman"/>
              </a:rPr>
              <a:t>            豪放（苏轼、辛弃疾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267080" y="5715000"/>
            <a:ext cx="21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《东坡乐府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40080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《稼轩长短句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60020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《敦煌曲子词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197A-57B5-49FE-9658-F6B014C984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658" name="" descr="蝶恋花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341360"/>
            <a:ext cx="4572000" cy="212400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4"/>
          <a:stretch/>
        </p:blipFill>
        <p:spPr>
          <a:xfrm>
            <a:off x="2209680" y="4724280"/>
            <a:ext cx="1524240" cy="124488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5"/>
          <a:stretch/>
        </p:blipFill>
        <p:spPr>
          <a:xfrm>
            <a:off x="5334120" y="1981080"/>
            <a:ext cx="1523880" cy="124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0EFC-7197-4C1B-8F95-53FEC5EB7A54}" type="slidenum">
              <a:t>9</a:t>
            </a:fld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2:23:54Z</dcterms:created>
  <dc:creator>MC SYSTEM</dc:creator>
  <dc:description/>
  <dc:language>en-US</dc:language>
  <cp:lastModifiedBy>hto</cp:lastModifiedBy>
  <dcterms:modified xsi:type="dcterms:W3CDTF">2006-03-21T14:27:15Z</dcterms:modified>
  <cp:revision>8</cp:revision>
  <dc:subject/>
  <dc:title>幻灯片 1</dc:title>
</cp:coreProperties>
</file>