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E9F-4387-4A34-87C4-DB94FE6F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C08-BBAC-49E4-87A0-0AA2B285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D9C-88BB-4457-BEB8-9261E489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B16-E0E3-402F-898A-4E6CD874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17E-F355-473A-ABF8-8B774D7C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49D-7D76-4313-9564-2E52312D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B4A-357B-4262-BC53-D4896271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9D6-5F07-482E-AD07-3DA74FCE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F2C-EBE6-4CE2-9269-E25195FB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2B9-817E-41CD-B4F3-7059655D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4DF-E6FE-4813-B983-922A03B7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C3E-F656-4FA4-9823-53315CF9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4DD5-C94A-4C9B-B401-228B12ED59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baike.baidu.com/view/155438.htm" TargetMode="External"/><Relationship Id="rId3" Type="http://schemas.openxmlformats.org/officeDocument/2006/relationships/hyperlink" Target="http://baike.baidu.com/view/137703.htm" TargetMode="External"/><Relationship Id="rId4" Type="http://schemas.openxmlformats.org/officeDocument/2006/relationships/hyperlink" Target="http://baike.baidu.com/view/20013.ht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19280" y="836640"/>
            <a:ext cx="4824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登飞来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932360" y="3933720"/>
            <a:ext cx="259236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黑体"/>
              </a:rPr>
              <a:t>王安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111456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529128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4797360"/>
            <a:ext cx="1400040" cy="2060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96360" y="5382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3208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09480"/>
            <a:ext cx="831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  <a:ea typeface="华文行楷"/>
              </a:rPr>
              <a:t>       </a:t>
            </a:r>
            <a:r>
              <a:rPr b="1" lang="zh-CN" sz="4000" spc="-1" strike="noStrike">
                <a:solidFill>
                  <a:srgbClr val="666633"/>
                </a:solidFill>
                <a:latin typeface="Times New Roman"/>
                <a:ea typeface="华文行楷"/>
              </a:rPr>
              <a:t>名句赏析：不畏浮云遮望眼，只缘身在最高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78480" y="2089080"/>
            <a:ext cx="590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释义：不怕被漂浮的云彩遮挡住双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只是因为自己处在（山）的最高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93372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666633"/>
                </a:solidFill>
                <a:latin typeface="Times New Roman"/>
                <a:ea typeface="华文行楷"/>
              </a:rPr>
              <a:t>哲理：观察事物，解决问题，要站得高，看得远，否则会被眼前的小事所羁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1052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北宋仁宗时候，大批农民失去田产，沦为佃户，遭受沉重的剥削和压迫。为了争取生存的权利，他们只有拿起武器，铤而走险。于是王安石就推行了一系列的新法，变法以“富国强兵”为目标。在此期间，每项新法在推行后，基本上收到了预期的效果，可是各项新法的实施或多或少地触犯了中、上级官员、皇室、豪强和高利贷者的利益，因此在新法实施的过程中受到了很大的阻力。所以，他一登到山岭高塔，就联想到鸡鸣日出时光明灿烂的奇景，通过对这种景物的憧憬，表达了对自己前途的展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404640"/>
            <a:ext cx="2808000" cy="6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bb0d8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有关材料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bb0d8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54936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42920" y="1341360"/>
            <a:ext cx="684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有站的高才能望得远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安石的一生都致力于变法革新，他满怀着要求改变现实的雄心壮志，希望有一天能施展他治国平天下的雄才伟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105264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登飞来峰》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登飞来峰》是一首哲理诗。这首诗借写景抒发了诗人广阔的政治胸怀，以理入诗，表现了作者高瞻远瞩、不畏困难的心怀。一二句叙述自己行动，为后文议论打好基础。三四句议论，由前两句自己的生活经验体悟到一种人生哲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8000" y="154620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912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920" y="12193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45720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飞来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220968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王安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4382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3808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733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Times New Roman"/>
                <a:ea typeface="长城行楷体"/>
              </a:rPr>
              <a:t>作者简介：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行楷"/>
              </a:rPr>
              <a:t>王安石，字介甫，晚号半山。唐宋八大家之一。著有《临川先生文集》。宋神宗时，他致力于政治改革，表现了他勇于革新，不畏众议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844640"/>
            <a:ext cx="8351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王安石（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1021——1086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），字介甫，号半山老人，北宋大政治家，当过宰相，在神宗皇帝支持下实行改革，历史上叫做“王安石变法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王安石又是文学家，诗和散文都写得很好。他十分注重修辞，据说，他的名句“春风又绿江南岸”经过几十次修改才选定“绿”字，千百年来传为美谈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27280" y="404640"/>
            <a:ext cx="352908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了解作者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6825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6825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40" y="1557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bb0d8d"/>
                </a:solidFill>
                <a:latin typeface="黑体"/>
                <a:ea typeface="黑体"/>
              </a:rPr>
              <a:t>飞来峰在杭州西湖灵隐寺附近。公元</a:t>
            </a:r>
            <a:r>
              <a:rPr b="1" lang="zh-CN" sz="4400" spc="-1" strike="noStrike">
                <a:solidFill>
                  <a:srgbClr val="bb0d8d"/>
                </a:solidFill>
                <a:latin typeface="黑体"/>
                <a:ea typeface="黑体"/>
              </a:rPr>
              <a:t>1050</a:t>
            </a:r>
            <a:r>
              <a:rPr b="1" lang="zh-CN" sz="4400" spc="-1" strike="noStrike">
                <a:solidFill>
                  <a:srgbClr val="bb0d8d"/>
                </a:solidFill>
                <a:latin typeface="黑体"/>
                <a:ea typeface="黑体"/>
              </a:rPr>
              <a:t>年夏天，王安石在浙江鄞县</a:t>
            </a:r>
            <a:r>
              <a:rPr b="1" lang="zh-CN" sz="4400" spc="-1" strike="noStrike">
                <a:solidFill>
                  <a:srgbClr val="bb0d8d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bb0d8d"/>
                </a:solidFill>
                <a:latin typeface="黑体"/>
                <a:ea typeface="黑体"/>
              </a:rPr>
              <a:t>现在的浙江宁波</a:t>
            </a:r>
            <a:r>
              <a:rPr b="1" lang="zh-CN" sz="4400" spc="-1" strike="noStrike">
                <a:solidFill>
                  <a:srgbClr val="bb0d8d"/>
                </a:solidFill>
                <a:latin typeface="黑体"/>
                <a:ea typeface="黑体"/>
              </a:rPr>
              <a:t>)</a:t>
            </a:r>
            <a:r>
              <a:rPr b="1" lang="zh-CN" sz="4400" spc="-1" strike="noStrike">
                <a:solidFill>
                  <a:srgbClr val="bb0d8d"/>
                </a:solidFill>
                <a:latin typeface="黑体"/>
                <a:ea typeface="黑体"/>
              </a:rPr>
              <a:t>做县，任满以后回江西临川故乡，路过杭州的时候，写了这首诗。这一年王安石三十岁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71640" y="26028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写诗背景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111456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7076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1143000"/>
            <a:ext cx="549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546880" y="934920"/>
            <a:ext cx="5060880" cy="4480920"/>
            <a:chOff x="5546880" y="934920"/>
            <a:chExt cx="5060880" cy="4480920"/>
          </a:xfrm>
        </p:grpSpPr>
        <p:sp>
          <p:nvSpPr>
            <p:cNvPr id="68" name=""/>
            <p:cNvSpPr/>
            <p:nvPr/>
          </p:nvSpPr>
          <p:spPr>
            <a:xfrm>
              <a:off x="5546880" y="934920"/>
              <a:ext cx="506088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飞来峰，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浙江绍兴城外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宝林山，唐宋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其上有应天塔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俗称塔山，古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传说此山自琅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县城东武县（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在山东诸城）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来，故名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5000" y="990720"/>
              <a:ext cx="380880" cy="304560"/>
            </a:xfrm>
            <a:prstGeom prst="star5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16000" y="692280"/>
            <a:ext cx="72723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b0d8d"/>
                </a:solidFill>
                <a:latin typeface="黑体"/>
                <a:ea typeface="黑体"/>
              </a:rPr>
              <a:t>飞来山上千寻塔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b0d8d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bb0d8d"/>
                </a:solidFill>
                <a:latin typeface="黑体"/>
                <a:ea typeface="黑体"/>
              </a:rPr>
              <a:t>闻说鸡鸣见日升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b0d8d"/>
                </a:solidFill>
                <a:latin typeface="黑体"/>
                <a:ea typeface="黑体"/>
              </a:rPr>
              <a:t>不畏浮云遮望眼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b0d8d"/>
                </a:solidFill>
                <a:latin typeface="黑体"/>
                <a:ea typeface="黑体"/>
              </a:rPr>
              <a:t>只缘身在最高层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16905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176220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17622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765000"/>
            <a:ext cx="84978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飞来峰：即浙江绍兴城外的宝林山。唐宋时其上有应天塔，俗称塔山。古代传说此山自琅琊郡东武县（今山东诸城）飞来，故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千寻：极言塔高。古以八尺为一寻，形容高耸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不畏：反用李白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登金陵凤凰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》“总为浮云能蔽日，长安不见使人愁”句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浮云：暗喻奸佞的小人。汉陆贾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新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》：“邪臣蔽贤，犹浮云之障白日也。”唐李白《登金陵凤凰台》：“总为浮云能蔽日，长安不见使人愁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缘 ：因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眼：视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塔：铁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最高层：最高处。又喻自己是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皇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旁的最高决策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1762200"/>
            <a:ext cx="21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1474920"/>
            <a:ext cx="9289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译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飞来峰顶灵隐寺前有座高耸入云的塔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听说鸡鸣时分可以看见旭日升起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不怕层层浮云遮住我那远眺的视野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只因为我站在飞来峰顶，登高望远心胸宽广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19700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3284640"/>
            <a:ext cx="856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本诗是一首哲理诗，其中的哲理是如何揭示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拨：①哲理是从具体的情境中自然提炼出来的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    ②哲理是用形象生动的语言加以表的。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谈谈你对这两句蕴含深刻的诗的理解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59280" y="333360"/>
            <a:ext cx="2736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思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154620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《登飞来峰》前两句，后两句的侧重点各是什么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220500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①②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描写景物——充满生机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③④抒发情怀——踌躇满志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8985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4T00:13:48Z</dcterms:created>
  <dc:creator>梁万玲</dc:creator>
  <dc:description/>
  <dc:language>en-US</dc:language>
  <cp:lastModifiedBy>WIN</cp:lastModifiedBy>
  <dcterms:modified xsi:type="dcterms:W3CDTF">2016-03-04T00:29:0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