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B560-92CD-4A0C-B34D-2A60AF64B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372D-4B81-4808-B131-39FF44FE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E9F9-5489-4B0B-83B1-98B542376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FC99-204B-4A4D-92CE-4793D562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5AF4-ACB2-4B25-851B-DF8722AE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E87D-8FF7-481F-9509-0BCC0CE1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4741-41B4-4A9F-A406-81BE18A8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06A5-E3B9-41E2-BB68-E5A5C035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82D7-7148-40BF-9817-3ECC8D74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6E89-3826-4733-8A7D-EF99E958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94F3-5FCF-4691-87DC-A0CF0424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AE1C-9C77-4D78-AF53-A3042C44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9F2B-2CF1-4D21-8ECB-98148ACB82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16320" y="320364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Arial"/>
              </a:rPr>
              <a:t>登  飞  来  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239960" y="2797560"/>
            <a:ext cx="454680" cy="15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长岭一中    王瑞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3736800"/>
            <a:ext cx="20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505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5050"/>
                </a:solidFill>
                <a:latin typeface="Arial"/>
              </a:rPr>
              <a:t>宋）王安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739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默    写   练   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47920" y="12193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457200"/>
            <a:ext cx="65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飞来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10080" y="2209680"/>
            <a:ext cx="312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王安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29200" y="243828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95480" y="38088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733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cc"/>
                </a:solidFill>
                <a:latin typeface="Times New Roman"/>
                <a:ea typeface="长城行楷体"/>
              </a:rPr>
              <a:t>作者简介：</a:t>
            </a:r>
            <a:r>
              <a:rPr b="0" lang="zh-CN" sz="3200" spc="-1" strike="noStrike">
                <a:solidFill>
                  <a:srgbClr val="cc00cc"/>
                </a:solidFill>
                <a:latin typeface="Times New Roman"/>
                <a:ea typeface="华文行楷"/>
              </a:rPr>
              <a:t>王安石，字介甫，晚号半山。唐宋八大家之一。著有《临川先生文集》。宋神宗时，他致力于政治改革，表现了他勇于革新，不畏众议的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070760" y="101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56360" y="1143000"/>
            <a:ext cx="549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546880" y="934920"/>
            <a:ext cx="5060880" cy="4480920"/>
            <a:chOff x="5546880" y="934920"/>
            <a:chExt cx="5060880" cy="4480920"/>
          </a:xfrm>
        </p:grpSpPr>
        <p:sp>
          <p:nvSpPr>
            <p:cNvPr id="56" name=""/>
            <p:cNvSpPr/>
            <p:nvPr/>
          </p:nvSpPr>
          <p:spPr>
            <a:xfrm>
              <a:off x="5546880" y="934920"/>
              <a:ext cx="5060880" cy="44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隶书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隶书"/>
                </a:rPr>
                <a:t>飞来峰，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隶书"/>
                </a:rPr>
                <a:t>浙江绍兴城外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隶书"/>
                </a:rPr>
                <a:t>宝林山，唐宋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隶书"/>
                </a:rPr>
                <a:t>其上有应天塔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隶书"/>
                </a:rPr>
                <a:t>俗称塔山，古代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隶书"/>
                </a:rPr>
                <a:t>传说此山自琅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隶书"/>
                </a:rPr>
                <a:t>县城东武县（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隶书"/>
                </a:rPr>
                <a:t>在山东诸城）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隶书"/>
                </a:rPr>
                <a:t>来，故名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715000" y="990720"/>
              <a:ext cx="380880" cy="304560"/>
            </a:xfrm>
            <a:prstGeom prst="star5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-1600200" y="9907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533520"/>
            <a:ext cx="80769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飞来峰上千寻塔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闻说鸡鸣见日升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9144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7621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70560" y="260208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《登飞来峰》思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1031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《登飞来峰》是一首哲理诗。这首诗借写景抒发了诗人广阔的政治胸怀，以理入诗，表现了作者高瞻远瞩、不畏困难的心怀。一二句叙述自己行动，为后文议论打好基础。三四句议论，由前两句自己的生活经验体悟到一种人生哲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432080" y="131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609480"/>
            <a:ext cx="831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33"/>
                </a:solidFill>
                <a:latin typeface="Times New Roman"/>
                <a:ea typeface="华文行楷"/>
              </a:rPr>
              <a:t>不畏浮云遮望眼，自缘身在最高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06280" y="1336680"/>
            <a:ext cx="484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华文行楷"/>
              </a:rPr>
              <a:t>释义：不怕被漂浮的云彩遮挡住双眼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华文行楷"/>
              </a:rPr>
              <a:t>只是因为自己处在（山）的最高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3352680"/>
            <a:ext cx="702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33"/>
                </a:solidFill>
                <a:latin typeface="Times New Roman"/>
                <a:ea typeface="华文行楷"/>
              </a:rPr>
              <a:t>哲理：观察事物，解决问题，要站得高，看得远，否则会被眼前的小事所羁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838400" y="801720"/>
            <a:ext cx="20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  诵  练 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69960" y="-1773360"/>
            <a:ext cx="7802640" cy="104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06:59:13Z</dcterms:created>
  <dc:creator>微软用户</dc:creator>
  <dc:description/>
  <dc:language>en-US</dc:language>
  <cp:lastModifiedBy>zmj</cp:lastModifiedBy>
  <dcterms:modified xsi:type="dcterms:W3CDTF">2009-03-12T03:31:18Z</dcterms:modified>
  <cp:revision>9</cp:revision>
  <dc:subject/>
  <dc:title>幻灯片 1</dc:title>
</cp:coreProperties>
</file>