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73D-3EFE-4048-9A22-E97A9911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8D0-E7BE-4842-9BCB-6A250B9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13A-BE64-4EB0-ABA9-D28FA0D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2C2-88A9-474A-B818-92EC4234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360-C08F-45AF-8083-099754FB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A18-4B3D-4603-814F-DD6A331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A2D-2583-429F-95CF-C9CF62DA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C0A-C344-4882-A247-4E241C8B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A1E-B029-423B-BAAB-A89954F5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613-BB1D-4340-AD27-88F82F9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9F6-4191-4DD2-9AD2-4A8D2BF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BDD-5B29-4015-9391-834959A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64E0-A11D-4295-880E-5FA4DFED6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1341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登  飞  来  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1640" y="2349360"/>
            <a:ext cx="7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只有站的高才能望得远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安石的一生都致力于变法革新，他满怀着要求改变现实的雄心壮志，希望有一天能施展他治国平天下的雄才伟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《登飞来峰》前两句，后两句的侧重点各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①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描写景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——充满生机。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③④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抒发情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——踌躇满志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本诗是一首哲理诗，其中的哲理是如何揭示出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哲理是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具体的情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自然提炼出来的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  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哲理是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形象生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语言加以表的。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43280" y="4724280"/>
            <a:ext cx="6300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二句叙述自己行动，为后文议论打好基础。三四句议论，由前两句自己的生活经验体悟到一种人生哲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《登飞来峰》是一首哲理诗。这首诗借写景抒发了诗人广阔的政治胸怀，以理入诗，表现了作者高瞻远瞩、不畏困难的心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准确朗读诗歌，会背诵，能默写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领会诗歌的思想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诗中蕴含的哲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学习诗人高瞻远瞩、不畏艰难的高贵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4724280"/>
            <a:ext cx="399564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40000" y="0"/>
            <a:ext cx="68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安石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21——108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，字介甫，号半山老人，北宋大政治家，当过宰相，在神宗皇帝支持下实行改革，历史上叫做“王安石变法”。王安石又是文学家，诗和散文都写得很好。他十分注重修辞，据说，他的名句“春风又绿江南岸”经过几十次修改才选定“绿”字，千百年来传为美谈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6825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6825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305080" cy="316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219564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707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11430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11592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15920"/>
            <a:ext cx="6156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飞来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即浙江绍兴城外的宝林山，唐宋时其上有应天塔，俗称塔山，古代传说此山自琅琊县城东武县（现在山东诸城）飞来，故名。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王安石于公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5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登上此山，写了这首诗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飞来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飞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峰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塔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闻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鸡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畏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浮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遮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望眼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身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90560" cy="143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91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千寻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极言塔高。古以八尺为一寻（一说为七尺），形容高耸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②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畏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不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浮云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暗喻奸佞的小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缘 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眼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线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48360" y="4122720"/>
            <a:ext cx="39956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铁塔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高层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高处。又喻自己是皇帝身旁的最高决策层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鸡鸣见日升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鸡鸣时可以望见太阳升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来峰顶有座高耸入云的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听说鸡鸣时分可以看见旭日升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怕层层浮云遮住我那远眺的视野，只因为我站在飞来峰顶，登高望远心胸宽广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名句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畏浮云遮望眼，只缘身在最高层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的意思是：不怕被漂浮的云彩遮挡住双眼，只是因为自己处在（山）的最高处。其中蕴含的哲理是：观察事物，解决问题，要站得高，看得远，否则会被眼前的小事所羁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4:11:01Z</dcterms:created>
  <dc:creator>未知用户</dc:creator>
  <dc:description/>
  <dc:language>en-US</dc:language>
  <cp:lastModifiedBy>未知用户</cp:lastModifiedBy>
  <dcterms:modified xsi:type="dcterms:W3CDTF">2015-03-04T15:37:23Z</dcterms:modified>
  <cp:revision>5</cp:revision>
  <dc:subject/>
  <dc:title>幻灯片 1</dc:title>
</cp:coreProperties>
</file>