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gif" ContentType="image/gif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569E-3C8D-4544-B8F1-0560EF7A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D9ED-056C-44B3-ABCD-CA4BD63A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036A-DB46-448E-B208-21587835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0188-C3AD-4A5F-9F25-B8BD24A8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48F4-840E-4AA9-B90C-34CFEBF6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9FA4-A549-412D-BB29-494B1C13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C338-FF21-4C47-9FC1-ABFC11DF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4D9F-66A1-4614-9957-D6E0EB7C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4A3-C2BD-4FAC-9623-DE23E8DD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AE32-7F3A-44B7-AB9D-A7782740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2305-0410-49B3-BC22-78EC1C81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8244-CE42-46B0-ABE9-17ED9A21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2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3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ACFD-9D09-43C2-BC1B-42E025CBC12D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xmwb.news365.com.cn/wy/200712/t20071206_1676937.htm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819520" y="380880"/>
            <a:ext cx="3735360" cy="1008360"/>
          </a:xfrm>
          <a:prstGeom prst="rect">
            <a:avLst/>
          </a:prstGeom>
          <a:solidFill>
            <a:srgbClr val="0000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定 风 波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1676520"/>
            <a:ext cx="7391160" cy="314136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这是一首记事抒怀之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      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元丰五年（</a:t>
            </a: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082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年），                                                                                             苏轼因“乌台诗案”被贬黄州（湖北省黄冈县），偏居荒野，躬耕自乐。是年春，诗人至黄冈东南三十里的新购田地，归途遇雨，心有所感，遂赋此词 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53400" y="1676520"/>
            <a:ext cx="8261640" cy="4277880"/>
            <a:chOff x="653400" y="1676520"/>
            <a:chExt cx="8261640" cy="4277880"/>
          </a:xfrm>
        </p:grpSpPr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1528920" y="1676520"/>
              <a:ext cx="7386120" cy="42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653400" y="2062800"/>
              <a:ext cx="2072520" cy="24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marL="343080" indent="-343080">
                <a:lnSpc>
                  <a:spcPct val="115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苏东坡</a:t>
              </a:r>
              <a:endParaRPr b="0" lang="en-US" sz="5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-531720" y="380880"/>
            <a:ext cx="2584080" cy="6864480"/>
            <a:chOff x="-531720" y="380880"/>
            <a:chExt cx="2584080" cy="6864480"/>
          </a:xfrm>
        </p:grpSpPr>
        <p:grpSp>
          <p:nvGrpSpPr>
            <p:cNvPr id="86" name=""/>
            <p:cNvGrpSpPr/>
            <p:nvPr/>
          </p:nvGrpSpPr>
          <p:grpSpPr>
            <a:xfrm>
              <a:off x="-88920" y="380880"/>
              <a:ext cx="1762920" cy="6864480"/>
              <a:chOff x="-88920" y="380880"/>
              <a:chExt cx="1762920" cy="6864480"/>
            </a:xfrm>
          </p:grpSpPr>
          <p:sp>
            <p:nvSpPr>
              <p:cNvPr id="87" name="Freeform 14"/>
              <p:cNvSpPr/>
              <p:nvPr/>
            </p:nvSpPr>
            <p:spPr>
              <a:xfrm>
                <a:off x="-88920" y="380880"/>
                <a:ext cx="1227600" cy="6864480"/>
              </a:xfrm>
              <a:prstGeom prst="pie">
                <a:avLst/>
              </a:prstGeom>
              <a:noFill/>
              <a:ln w="14400">
                <a:solidFill>
                  <a:srgbClr val="53b8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8" name="Freeform 15"/>
              <p:cNvSpPr/>
              <p:nvPr/>
            </p:nvSpPr>
            <p:spPr>
              <a:xfrm>
                <a:off x="-78840" y="380880"/>
                <a:ext cx="1257120" cy="6864480"/>
              </a:xfrm>
              <a:prstGeom prst="pie">
                <a:avLst/>
              </a:prstGeom>
              <a:noFill/>
              <a:ln w="14400">
                <a:solidFill>
                  <a:srgbClr val="4fb1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9" name="Freeform 16"/>
              <p:cNvSpPr/>
              <p:nvPr/>
            </p:nvSpPr>
            <p:spPr>
              <a:xfrm>
                <a:off x="-69120" y="380880"/>
                <a:ext cx="1290960" cy="6864480"/>
              </a:xfrm>
              <a:prstGeom prst="pie">
                <a:avLst/>
              </a:prstGeom>
              <a:noFill/>
              <a:ln w="14400">
                <a:solidFill>
                  <a:srgbClr val="48ac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0" name="Freeform 17"/>
              <p:cNvSpPr/>
              <p:nvPr/>
            </p:nvSpPr>
            <p:spPr>
              <a:xfrm>
                <a:off x="-61920" y="380880"/>
                <a:ext cx="1323360" cy="6864480"/>
              </a:xfrm>
              <a:prstGeom prst="pie">
                <a:avLst/>
              </a:prstGeom>
              <a:noFill/>
              <a:ln w="14400">
                <a:solidFill>
                  <a:srgbClr val="43a7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1" name="Freeform 18"/>
              <p:cNvSpPr/>
              <p:nvPr/>
            </p:nvSpPr>
            <p:spPr>
              <a:xfrm>
                <a:off x="-54720" y="380880"/>
                <a:ext cx="1357200" cy="6864480"/>
              </a:xfrm>
              <a:prstGeom prst="pie">
                <a:avLst/>
              </a:prstGeom>
              <a:noFill/>
              <a:ln w="14400">
                <a:solidFill>
                  <a:srgbClr val="3ca2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2" name="Freeform 19"/>
              <p:cNvSpPr/>
              <p:nvPr/>
            </p:nvSpPr>
            <p:spPr>
              <a:xfrm>
                <a:off x="-47880" y="380880"/>
                <a:ext cx="1389600" cy="6864480"/>
              </a:xfrm>
              <a:prstGeom prst="pie">
                <a:avLst/>
              </a:prstGeom>
              <a:noFill/>
              <a:ln w="14400">
                <a:solidFill>
                  <a:srgbClr val="369e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3" name="Freeform 20"/>
              <p:cNvSpPr/>
              <p:nvPr/>
            </p:nvSpPr>
            <p:spPr>
              <a:xfrm>
                <a:off x="-37800" y="380880"/>
                <a:ext cx="1462680" cy="6864480"/>
              </a:xfrm>
              <a:prstGeom prst="pie">
                <a:avLst/>
              </a:prstGeom>
              <a:noFill/>
              <a:ln w="14400">
                <a:solidFill>
                  <a:srgbClr val="2f99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4" name="Freeform 21"/>
              <p:cNvSpPr/>
              <p:nvPr/>
            </p:nvSpPr>
            <p:spPr>
              <a:xfrm>
                <a:off x="-32400" y="380880"/>
                <a:ext cx="1540440" cy="6864480"/>
              </a:xfrm>
              <a:prstGeom prst="pie">
                <a:avLst/>
              </a:prstGeom>
              <a:noFill/>
              <a:ln w="14400">
                <a:solidFill>
                  <a:srgbClr val="2a95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5" name="Freeform 22"/>
              <p:cNvSpPr/>
              <p:nvPr/>
            </p:nvSpPr>
            <p:spPr>
              <a:xfrm>
                <a:off x="-25560" y="380880"/>
                <a:ext cx="1616400" cy="6864480"/>
              </a:xfrm>
              <a:prstGeom prst="pie">
                <a:avLst/>
              </a:prstGeom>
              <a:noFill/>
              <a:ln w="14400">
                <a:solidFill>
                  <a:srgbClr val="2191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6" name="Freeform 23"/>
              <p:cNvSpPr/>
              <p:nvPr/>
            </p:nvSpPr>
            <p:spPr>
              <a:xfrm>
                <a:off x="-18360" y="380880"/>
                <a:ext cx="1692360" cy="6864480"/>
              </a:xfrm>
              <a:prstGeom prst="pie">
                <a:avLst/>
              </a:prstGeom>
              <a:noFill/>
              <a:ln w="14400">
                <a:solidFill>
                  <a:srgbClr val="1a8d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-92160" y="2354040"/>
              <a:ext cx="2144520" cy="2152440"/>
              <a:chOff x="-92160" y="2354040"/>
              <a:chExt cx="2144520" cy="2152440"/>
            </a:xfrm>
          </p:grpSpPr>
          <p:sp>
            <p:nvSpPr>
              <p:cNvPr id="98" name="Oval 147"/>
              <p:cNvSpPr/>
              <p:nvPr/>
            </p:nvSpPr>
            <p:spPr>
              <a:xfrm>
                <a:off x="-92160" y="2354040"/>
                <a:ext cx="2144520" cy="2152440"/>
              </a:xfrm>
              <a:prstGeom prst="ellipse">
                <a:avLst/>
              </a:prstGeom>
              <a:gradFill rotWithShape="0">
                <a:gsLst>
                  <a:gs pos="0">
                    <a:srgbClr val="2fa4d9">
                      <a:alpha val="62352"/>
                    </a:srgbClr>
                  </a:gs>
                  <a:gs pos="100000">
                    <a:srgbClr val="164c64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129600" y="3587760"/>
                <a:ext cx="1703160" cy="569880"/>
                <a:chOff x="129600" y="3587760"/>
                <a:chExt cx="1703160" cy="569880"/>
              </a:xfrm>
            </p:grpSpPr>
            <p:sp>
              <p:nvSpPr>
                <p:cNvPr id="100" name="Oval 149"/>
                <p:cNvSpPr/>
                <p:nvPr/>
              </p:nvSpPr>
              <p:spPr>
                <a:xfrm>
                  <a:off x="129600" y="3587760"/>
                  <a:ext cx="1703160" cy="56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8eb7">
                        <a:alpha val="61176"/>
                      </a:srgbClr>
                    </a:gs>
                    <a:gs pos="100000">
                      <a:srgbClr val="18425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1" name="Oval 150"/>
                <p:cNvSpPr/>
                <p:nvPr/>
              </p:nvSpPr>
              <p:spPr>
                <a:xfrm>
                  <a:off x="568800" y="3729240"/>
                  <a:ext cx="860400" cy="31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5c8eb">
                        <a:alpha val="93333"/>
                      </a:srgbClr>
                    </a:gs>
                    <a:gs pos="100000">
                      <a:srgbClr val="195d6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419400" y="2816640"/>
                <a:ext cx="1124280" cy="1130040"/>
                <a:chOff x="419400" y="2816640"/>
                <a:chExt cx="1124280" cy="1130040"/>
              </a:xfrm>
            </p:grpSpPr>
            <p:sp>
              <p:nvSpPr>
                <p:cNvPr id="103" name="Oval 152"/>
                <p:cNvSpPr/>
                <p:nvPr/>
              </p:nvSpPr>
              <p:spPr>
                <a:xfrm>
                  <a:off x="419400" y="2818080"/>
                  <a:ext cx="1124280" cy="11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f7295"/>
                    </a:gs>
                    <a:gs pos="100000">
                      <a:srgbClr val="16a5d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153"/>
                <p:cNvSpPr/>
                <p:nvPr/>
              </p:nvSpPr>
              <p:spPr>
                <a:xfrm>
                  <a:off x="434880" y="2816640"/>
                  <a:ext cx="1096200" cy="772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>
                        <a:alpha val="53333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" name=""/>
            <p:cNvGrpSpPr/>
            <p:nvPr/>
          </p:nvGrpSpPr>
          <p:grpSpPr>
            <a:xfrm>
              <a:off x="-531720" y="1162080"/>
              <a:ext cx="2144520" cy="2152080"/>
              <a:chOff x="-531720" y="1162080"/>
              <a:chExt cx="2144520" cy="2152080"/>
            </a:xfrm>
          </p:grpSpPr>
          <p:sp>
            <p:nvSpPr>
              <p:cNvPr id="106" name="Oval 96"/>
              <p:cNvSpPr/>
              <p:nvPr/>
            </p:nvSpPr>
            <p:spPr>
              <a:xfrm>
                <a:off x="-531720" y="1162080"/>
                <a:ext cx="2144520" cy="2152080"/>
              </a:xfrm>
              <a:prstGeom prst="ellipse">
                <a:avLst/>
              </a:prstGeom>
              <a:gradFill rotWithShape="0">
                <a:gsLst>
                  <a:gs pos="0">
                    <a:srgbClr val="2fa4d9">
                      <a:alpha val="62352"/>
                    </a:srgbClr>
                  </a:gs>
                  <a:gs pos="100000">
                    <a:srgbClr val="164c64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-309600" y="2395800"/>
                <a:ext cx="1703160" cy="569880"/>
                <a:chOff x="-309600" y="2395800"/>
                <a:chExt cx="1703160" cy="569880"/>
              </a:xfrm>
            </p:grpSpPr>
            <p:sp>
              <p:nvSpPr>
                <p:cNvPr id="108" name="Oval 90"/>
                <p:cNvSpPr/>
                <p:nvPr/>
              </p:nvSpPr>
              <p:spPr>
                <a:xfrm>
                  <a:off x="-309600" y="2395800"/>
                  <a:ext cx="1703160" cy="56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8eb7">
                        <a:alpha val="61176"/>
                      </a:srgbClr>
                    </a:gs>
                    <a:gs pos="100000">
                      <a:srgbClr val="18425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9" name="Oval 91"/>
                <p:cNvSpPr/>
                <p:nvPr/>
              </p:nvSpPr>
              <p:spPr>
                <a:xfrm>
                  <a:off x="129600" y="2537280"/>
                  <a:ext cx="860400" cy="31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5c8eb">
                        <a:alpha val="93333"/>
                      </a:srgbClr>
                    </a:gs>
                    <a:gs pos="100000">
                      <a:srgbClr val="195d6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-19800" y="1624680"/>
                <a:ext cx="1124280" cy="1130040"/>
                <a:chOff x="-19800" y="1624680"/>
                <a:chExt cx="1124280" cy="1130040"/>
              </a:xfrm>
            </p:grpSpPr>
            <p:sp>
              <p:nvSpPr>
                <p:cNvPr id="111" name="Oval 93"/>
                <p:cNvSpPr/>
                <p:nvPr/>
              </p:nvSpPr>
              <p:spPr>
                <a:xfrm>
                  <a:off x="-19800" y="1626120"/>
                  <a:ext cx="1124280" cy="11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f7295"/>
                    </a:gs>
                    <a:gs pos="100000">
                      <a:srgbClr val="16a5d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94"/>
                <p:cNvSpPr/>
                <p:nvPr/>
              </p:nvSpPr>
              <p:spPr>
                <a:xfrm>
                  <a:off x="-3960" y="1624680"/>
                  <a:ext cx="1096200" cy="772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>
                        <a:alpha val="53333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-531720" y="3544920"/>
              <a:ext cx="2144520" cy="2152080"/>
              <a:chOff x="-531720" y="3544920"/>
              <a:chExt cx="2144520" cy="2152080"/>
            </a:xfrm>
          </p:grpSpPr>
          <p:sp>
            <p:nvSpPr>
              <p:cNvPr id="114" name="Oval 155"/>
              <p:cNvSpPr/>
              <p:nvPr/>
            </p:nvSpPr>
            <p:spPr>
              <a:xfrm>
                <a:off x="-531720" y="3544920"/>
                <a:ext cx="2144520" cy="2152080"/>
              </a:xfrm>
              <a:prstGeom prst="ellipse">
                <a:avLst/>
              </a:prstGeom>
              <a:gradFill rotWithShape="0">
                <a:gsLst>
                  <a:gs pos="0">
                    <a:srgbClr val="2fa4d9">
                      <a:alpha val="62352"/>
                    </a:srgbClr>
                  </a:gs>
                  <a:gs pos="100000">
                    <a:srgbClr val="164c64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115" name=""/>
              <p:cNvGrpSpPr/>
              <p:nvPr/>
            </p:nvGrpSpPr>
            <p:grpSpPr>
              <a:xfrm>
                <a:off x="-309600" y="4778640"/>
                <a:ext cx="1703160" cy="569880"/>
                <a:chOff x="-309600" y="4778640"/>
                <a:chExt cx="1703160" cy="569880"/>
              </a:xfrm>
            </p:grpSpPr>
            <p:sp>
              <p:nvSpPr>
                <p:cNvPr id="116" name="Oval 157"/>
                <p:cNvSpPr/>
                <p:nvPr/>
              </p:nvSpPr>
              <p:spPr>
                <a:xfrm>
                  <a:off x="-309600" y="4778640"/>
                  <a:ext cx="1703160" cy="56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8eb7">
                        <a:alpha val="61176"/>
                      </a:srgbClr>
                    </a:gs>
                    <a:gs pos="100000">
                      <a:srgbClr val="18425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7" name="Oval 158"/>
                <p:cNvSpPr/>
                <p:nvPr/>
              </p:nvSpPr>
              <p:spPr>
                <a:xfrm>
                  <a:off x="129600" y="4920120"/>
                  <a:ext cx="860400" cy="31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5c8eb">
                        <a:alpha val="93333"/>
                      </a:srgbClr>
                    </a:gs>
                    <a:gs pos="100000">
                      <a:srgbClr val="195d6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-19800" y="4007520"/>
                <a:ext cx="1124280" cy="1130040"/>
                <a:chOff x="-19800" y="4007520"/>
                <a:chExt cx="1124280" cy="1130040"/>
              </a:xfrm>
            </p:grpSpPr>
            <p:sp>
              <p:nvSpPr>
                <p:cNvPr id="119" name="Oval 160"/>
                <p:cNvSpPr/>
                <p:nvPr/>
              </p:nvSpPr>
              <p:spPr>
                <a:xfrm>
                  <a:off x="-19800" y="4008960"/>
                  <a:ext cx="1124280" cy="11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f7295"/>
                    </a:gs>
                    <a:gs pos="100000">
                      <a:srgbClr val="16a5d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161"/>
                <p:cNvSpPr/>
                <p:nvPr/>
              </p:nvSpPr>
              <p:spPr>
                <a:xfrm>
                  <a:off x="-3960" y="4007520"/>
                  <a:ext cx="1096200" cy="772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>
                        <a:alpha val="53333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" name=""/>
            <p:cNvGrpSpPr/>
            <p:nvPr/>
          </p:nvGrpSpPr>
          <p:grpSpPr>
            <a:xfrm>
              <a:off x="-92160" y="4735440"/>
              <a:ext cx="2144520" cy="2152080"/>
              <a:chOff x="-92160" y="4735440"/>
              <a:chExt cx="2144520" cy="2152080"/>
            </a:xfrm>
          </p:grpSpPr>
          <p:sp>
            <p:nvSpPr>
              <p:cNvPr id="122" name="Oval 163"/>
              <p:cNvSpPr/>
              <p:nvPr/>
            </p:nvSpPr>
            <p:spPr>
              <a:xfrm>
                <a:off x="-92160" y="4735440"/>
                <a:ext cx="2144520" cy="2152080"/>
              </a:xfrm>
              <a:prstGeom prst="ellipse">
                <a:avLst/>
              </a:prstGeom>
              <a:gradFill rotWithShape="0">
                <a:gsLst>
                  <a:gs pos="0">
                    <a:srgbClr val="2fa4d9">
                      <a:alpha val="62352"/>
                    </a:srgbClr>
                  </a:gs>
                  <a:gs pos="100000">
                    <a:srgbClr val="164c64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129600" y="5969160"/>
                <a:ext cx="1703160" cy="569880"/>
                <a:chOff x="129600" y="5969160"/>
                <a:chExt cx="1703160" cy="569880"/>
              </a:xfrm>
            </p:grpSpPr>
            <p:sp>
              <p:nvSpPr>
                <p:cNvPr id="124" name="Oval 165"/>
                <p:cNvSpPr/>
                <p:nvPr/>
              </p:nvSpPr>
              <p:spPr>
                <a:xfrm>
                  <a:off x="129600" y="5969160"/>
                  <a:ext cx="1703160" cy="56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8eb7">
                        <a:alpha val="61176"/>
                      </a:srgbClr>
                    </a:gs>
                    <a:gs pos="100000">
                      <a:srgbClr val="18425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5" name="Oval 166"/>
                <p:cNvSpPr/>
                <p:nvPr/>
              </p:nvSpPr>
              <p:spPr>
                <a:xfrm>
                  <a:off x="568800" y="6110640"/>
                  <a:ext cx="860400" cy="31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5c8eb">
                        <a:alpha val="93333"/>
                      </a:srgbClr>
                    </a:gs>
                    <a:gs pos="100000">
                      <a:srgbClr val="195d6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19400" y="5198040"/>
                <a:ext cx="1124280" cy="1130040"/>
                <a:chOff x="419400" y="5198040"/>
                <a:chExt cx="1124280" cy="1130040"/>
              </a:xfrm>
            </p:grpSpPr>
            <p:sp>
              <p:nvSpPr>
                <p:cNvPr id="127" name="Oval 168"/>
                <p:cNvSpPr/>
                <p:nvPr/>
              </p:nvSpPr>
              <p:spPr>
                <a:xfrm>
                  <a:off x="419400" y="5199480"/>
                  <a:ext cx="1124280" cy="11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f7295"/>
                    </a:gs>
                    <a:gs pos="100000">
                      <a:srgbClr val="16a5d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169"/>
                <p:cNvSpPr/>
                <p:nvPr/>
              </p:nvSpPr>
              <p:spPr>
                <a:xfrm>
                  <a:off x="434880" y="5198040"/>
                  <a:ext cx="1096200" cy="772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>
                        <a:alpha val="53333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27040" y="685440"/>
            <a:ext cx="861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在该词中，苏轼通过途中遇雨这种生活小事，表达了自己怎样的生活态度？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981080"/>
            <a:ext cx="86169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黑体"/>
                <a:ea typeface="黑体"/>
              </a:rPr>
              <a:t>(1)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途中遇雨，“同行皆狼狈”，而作者的反应怎样？由此可以看出作者怎样的心态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99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）“竹杖芒鞋轻胜马，谁怕？一蓑烟雨任平生。”从这一心中事中可以看出作者怎样的人生态度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99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）作者虽然不在意风雨，但雨过天晴后，本应欣喜，但作者反应如何？由此可以看出他怎样的人生态度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 rot="5400000">
            <a:off x="-495000" y="2400120"/>
            <a:ext cx="14475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讨论</a:t>
            </a:r>
            <a:endParaRPr b="1" lang="en-US" sz="1800" spc="1" strike="noStrike">
              <a:ln w="255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0"/>
            <a:ext cx="1828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合作探究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14400" y="9144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自然风雨（穿林打叶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00400" y="685800"/>
            <a:ext cx="1828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莫听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何妨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685800"/>
            <a:ext cx="1676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“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吟啸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徐行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38880" y="533520"/>
            <a:ext cx="1905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超然物外泰然自若潇洒安闲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29718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人生风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4724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8120" y="2666880"/>
            <a:ext cx="1904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谁怕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任平生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251460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搏击风雨、笑傲人生、泰然处之、无所畏惧、潇洒从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4495680"/>
            <a:ext cx="2895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回首”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  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归去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也无风雨也无晴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4419720"/>
            <a:ext cx="1524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心中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无晴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62920" y="4419720"/>
            <a:ext cx="198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宠辱偕忘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超然物外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600200" y="4723920"/>
            <a:ext cx="609480" cy="2286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5029200"/>
            <a:ext cx="533520" cy="2286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590920" y="3124080"/>
            <a:ext cx="609480" cy="15264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90920" y="3352680"/>
            <a:ext cx="533160" cy="38124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1295280"/>
            <a:ext cx="60984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1066680"/>
            <a:ext cx="838440" cy="304920"/>
          </a:xfrm>
          <a:prstGeom prst="rightArrow">
            <a:avLst>
              <a:gd name="adj1" fmla="val 50000"/>
              <a:gd name="adj2" fmla="val 68743"/>
            </a:avLst>
          </a:prstGeom>
          <a:solidFill>
            <a:srgbClr val="99336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048120"/>
            <a:ext cx="1143000" cy="304560"/>
          </a:xfrm>
          <a:prstGeom prst="rightArrow">
            <a:avLst>
              <a:gd name="adj1" fmla="val 50000"/>
              <a:gd name="adj2" fmla="val 93824"/>
            </a:avLst>
          </a:prstGeom>
          <a:solidFill>
            <a:srgbClr val="99336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480060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99336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480060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336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1219320"/>
            <a:ext cx="152280" cy="4190760"/>
          </a:xfrm>
          <a:custGeom>
            <a:avLst/>
            <a:gdLst>
              <a:gd name="textAreaLeft" fmla="*/ 97200 w 152280"/>
              <a:gd name="textAreaRight" fmla="*/ 152640 w 152280"/>
              <a:gd name="textAreaTop" fmla="*/ 109080 h 4190760"/>
              <a:gd name="textAreaBottom" fmla="*/ 4081680 h 41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066680"/>
            <a:ext cx="1066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人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态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2438280"/>
            <a:ext cx="381240" cy="914400"/>
          </a:xfrm>
          <a:prstGeom prst="downArrow">
            <a:avLst>
              <a:gd name="adj1" fmla="val 50000"/>
              <a:gd name="adj2" fmla="val 59962"/>
            </a:avLst>
          </a:prstGeom>
          <a:solidFill>
            <a:srgbClr val="99336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429000"/>
            <a:ext cx="12193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旷达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洒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乐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1981080"/>
            <a:ext cx="76320" cy="990720"/>
          </a:xfrm>
          <a:custGeom>
            <a:avLst/>
            <a:gdLst>
              <a:gd name="textAreaLeft" fmla="*/ 10080 w 76320"/>
              <a:gd name="textAreaRight" fmla="*/ 66240 w 7632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336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52280" y="0"/>
            <a:ext cx="1676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合作探究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1066320"/>
            <a:ext cx="85345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572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、词中塑造了一个怎样的抒情主人公形象？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rcRect l="0" t="0" r="58710" b="0"/>
          <a:stretch/>
        </p:blipFill>
        <p:spPr>
          <a:xfrm>
            <a:off x="0" y="1752480"/>
            <a:ext cx="2819520" cy="4716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152280" y="228600"/>
            <a:ext cx="1828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合作探究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2" name=""/>
          <p:cNvSpPr/>
          <p:nvPr/>
        </p:nvSpPr>
        <p:spPr>
          <a:xfrm>
            <a:off x="3048120" y="17524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这首词中，可以看出词人是一个吟啸徐行、拄着拐杖、穿着草鞋、顶风冒雨、不畏艰难、镇定从容、旷达乐观的词人形象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47242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雨中东坡—笑对人生风雨的达者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54864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雨后东坡—看破人生晴雨的智者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53452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572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、词中塑造了一个怎样的抒情主人公形象？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rcRect l="0" t="0" r="58710" b="0"/>
          <a:stretch/>
        </p:blipFill>
        <p:spPr>
          <a:xfrm>
            <a:off x="0" y="2895480"/>
            <a:ext cx="1523880" cy="357372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8153280" y="6248520"/>
            <a:ext cx="990720" cy="459720"/>
            <a:chOff x="8153280" y="6248520"/>
            <a:chExt cx="990720" cy="459720"/>
          </a:xfrm>
        </p:grpSpPr>
        <p:sp>
          <p:nvSpPr>
            <p:cNvPr id="198" name=""/>
            <p:cNvSpPr/>
            <p:nvPr/>
          </p:nvSpPr>
          <p:spPr>
            <a:xfrm>
              <a:off x="8229600" y="6248520"/>
              <a:ext cx="685800" cy="457200"/>
            </a:xfrm>
            <a:prstGeom prst="ellipse">
              <a:avLst/>
            </a:prstGeom>
            <a:solidFill>
              <a:srgbClr val="fda1a8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53280" y="62485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楷体_GB2312"/>
                </a:rPr>
                <a:t>返回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00" name=""/>
          <p:cNvSpPr txBox="1"/>
          <p:nvPr/>
        </p:nvSpPr>
        <p:spPr>
          <a:xfrm>
            <a:off x="152280" y="0"/>
            <a:ext cx="1828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合作探究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1523880"/>
            <a:ext cx="693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沉着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：再大的穿林打叶声，都打不乱一个人既有的步伐，只要你视风雨为无物，照样吟啸徐行。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豪迈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：竹杖芒鞋不可惧怕，只要你以之为乐，一样可以轻胜过马。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随意而安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：料峭春风冷，山头斜照暖。气候不定，人生不定，祸福难晓，不如听其自然。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通达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：也无风雨也无晴。阴晴可以等同，盛衰荣辱，又何足挂齿？利害得失可以一并泯灭…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374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李白相比，苏轼少了几分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多了几分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稼轩相比，苏轼少了几分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多了几分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72200" y="25909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桀骜不逊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1240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隐忍平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50840" y="1143000"/>
            <a:ext cx="48434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与杜甫相比，苏轼少了几分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沉郁愁苦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多了几分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超然达观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4343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慷慨激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4800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淡定从容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33520" y="228600"/>
            <a:ext cx="27432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人生启示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143000"/>
            <a:ext cx="8359560" cy="5425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华文行楷"/>
                <a:ea typeface="华文行楷"/>
              </a:rPr>
              <a:t>*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阳光总在风雨后。 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* 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也许正当我们感到绝望的时候，希望和转机已经在前面等着我们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*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失败和成功是一对孪生兄弟，失败来了，成功还会远吗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华文新魏"/>
                <a:ea typeface="华文新魏"/>
              </a:rPr>
              <a:t>* </a:t>
            </a:r>
            <a:r>
              <a:rPr b="1" lang="zh-CN" sz="3600" spc="-1" strike="noStrike">
                <a:solidFill>
                  <a:srgbClr val="0033cc"/>
                </a:solidFill>
                <a:latin typeface="华文新魏"/>
                <a:ea typeface="华文新魏"/>
              </a:rPr>
              <a:t>祸兮福所倚，福兮祸所伏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*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阴雨之后必有阳光，生活中要充满乐观和希望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981080" y="-360"/>
            <a:ext cx="6553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i="1" lang="zh-CN" sz="4000" spc="-1" strike="noStrike">
                <a:solidFill>
                  <a:srgbClr val="0033cc"/>
                </a:solidFill>
                <a:latin typeface="Arial"/>
              </a:rPr>
              <a:t>、探讨这首词的表现手法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1828800"/>
            <a:ext cx="769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以小见大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以一场自然风雨实写人生风雨、人生态度，从生活小事件中见出人生大哲理。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语双关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自然风雨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人生风雨。“风雨”和“晴”既是指自然现象，也是指人生中的风雨和晴天，即：人生中艰难苦难的逆境和人生中春风得意的顺境。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52280" y="228600"/>
            <a:ext cx="1828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合作探究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791320" y="152280"/>
            <a:ext cx="3352680" cy="632484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8153280" y="6400800"/>
            <a:ext cx="990720" cy="459720"/>
            <a:chOff x="8153280" y="6400800"/>
            <a:chExt cx="990720" cy="459720"/>
          </a:xfrm>
        </p:grpSpPr>
        <p:sp>
          <p:nvSpPr>
            <p:cNvPr id="218" name=""/>
            <p:cNvSpPr/>
            <p:nvPr/>
          </p:nvSpPr>
          <p:spPr>
            <a:xfrm>
              <a:off x="8229600" y="6400800"/>
              <a:ext cx="685800" cy="457200"/>
            </a:xfrm>
            <a:prstGeom prst="ellipse">
              <a:avLst/>
            </a:prstGeom>
            <a:solidFill>
              <a:srgbClr val="fda1a8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153280" y="64008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楷体_GB2312"/>
                </a:rPr>
                <a:t>返回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-608040" y="228600"/>
            <a:ext cx="2584080" cy="6864480"/>
            <a:chOff x="-608040" y="228600"/>
            <a:chExt cx="2584080" cy="6864480"/>
          </a:xfrm>
        </p:grpSpPr>
        <p:grpSp>
          <p:nvGrpSpPr>
            <p:cNvPr id="221" name=""/>
            <p:cNvGrpSpPr/>
            <p:nvPr/>
          </p:nvGrpSpPr>
          <p:grpSpPr>
            <a:xfrm>
              <a:off x="-165240" y="228600"/>
              <a:ext cx="1762920" cy="6864480"/>
              <a:chOff x="-165240" y="228600"/>
              <a:chExt cx="1762920" cy="6864480"/>
            </a:xfrm>
          </p:grpSpPr>
          <p:sp>
            <p:nvSpPr>
              <p:cNvPr id="222" name="Freeform 14"/>
              <p:cNvSpPr/>
              <p:nvPr/>
            </p:nvSpPr>
            <p:spPr>
              <a:xfrm>
                <a:off x="-165240" y="228600"/>
                <a:ext cx="1227600" cy="6864480"/>
              </a:xfrm>
              <a:prstGeom prst="pie">
                <a:avLst/>
              </a:prstGeom>
              <a:noFill/>
              <a:ln w="14400">
                <a:solidFill>
                  <a:srgbClr val="53b8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3" name="Freeform 15"/>
              <p:cNvSpPr/>
              <p:nvPr/>
            </p:nvSpPr>
            <p:spPr>
              <a:xfrm>
                <a:off x="-155160" y="228600"/>
                <a:ext cx="1257120" cy="6864480"/>
              </a:xfrm>
              <a:prstGeom prst="pie">
                <a:avLst/>
              </a:prstGeom>
              <a:noFill/>
              <a:ln w="14400">
                <a:solidFill>
                  <a:srgbClr val="4fb1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4" name="Freeform 16"/>
              <p:cNvSpPr/>
              <p:nvPr/>
            </p:nvSpPr>
            <p:spPr>
              <a:xfrm>
                <a:off x="-145440" y="228600"/>
                <a:ext cx="1290960" cy="6864480"/>
              </a:xfrm>
              <a:prstGeom prst="pie">
                <a:avLst/>
              </a:prstGeom>
              <a:noFill/>
              <a:ln w="14400">
                <a:solidFill>
                  <a:srgbClr val="48ac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5" name="Freeform 17"/>
              <p:cNvSpPr/>
              <p:nvPr/>
            </p:nvSpPr>
            <p:spPr>
              <a:xfrm>
                <a:off x="-138240" y="228600"/>
                <a:ext cx="1323360" cy="6864480"/>
              </a:xfrm>
              <a:prstGeom prst="pie">
                <a:avLst/>
              </a:prstGeom>
              <a:noFill/>
              <a:ln w="14400">
                <a:solidFill>
                  <a:srgbClr val="43a7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6" name="Freeform 18"/>
              <p:cNvSpPr/>
              <p:nvPr/>
            </p:nvSpPr>
            <p:spPr>
              <a:xfrm>
                <a:off x="-131040" y="228600"/>
                <a:ext cx="1357200" cy="6864480"/>
              </a:xfrm>
              <a:prstGeom prst="pie">
                <a:avLst/>
              </a:prstGeom>
              <a:noFill/>
              <a:ln w="14400">
                <a:solidFill>
                  <a:srgbClr val="3ca2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7" name="Freeform 19"/>
              <p:cNvSpPr/>
              <p:nvPr/>
            </p:nvSpPr>
            <p:spPr>
              <a:xfrm>
                <a:off x="-124200" y="228600"/>
                <a:ext cx="1389600" cy="6864480"/>
              </a:xfrm>
              <a:prstGeom prst="pie">
                <a:avLst/>
              </a:prstGeom>
              <a:noFill/>
              <a:ln w="14400">
                <a:solidFill>
                  <a:srgbClr val="369e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8" name="Freeform 20"/>
              <p:cNvSpPr/>
              <p:nvPr/>
            </p:nvSpPr>
            <p:spPr>
              <a:xfrm>
                <a:off x="-114120" y="228600"/>
                <a:ext cx="1462680" cy="6864480"/>
              </a:xfrm>
              <a:prstGeom prst="pie">
                <a:avLst/>
              </a:prstGeom>
              <a:noFill/>
              <a:ln w="14400">
                <a:solidFill>
                  <a:srgbClr val="2f99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9" name="Freeform 21"/>
              <p:cNvSpPr/>
              <p:nvPr/>
            </p:nvSpPr>
            <p:spPr>
              <a:xfrm>
                <a:off x="-108720" y="228600"/>
                <a:ext cx="1540440" cy="6864480"/>
              </a:xfrm>
              <a:prstGeom prst="pie">
                <a:avLst/>
              </a:prstGeom>
              <a:noFill/>
              <a:ln w="14400">
                <a:solidFill>
                  <a:srgbClr val="2a95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30" name="Freeform 22"/>
              <p:cNvSpPr/>
              <p:nvPr/>
            </p:nvSpPr>
            <p:spPr>
              <a:xfrm>
                <a:off x="-101880" y="228600"/>
                <a:ext cx="1616400" cy="6864480"/>
              </a:xfrm>
              <a:prstGeom prst="pie">
                <a:avLst/>
              </a:prstGeom>
              <a:noFill/>
              <a:ln w="14400">
                <a:solidFill>
                  <a:srgbClr val="2191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31" name="Freeform 23"/>
              <p:cNvSpPr/>
              <p:nvPr/>
            </p:nvSpPr>
            <p:spPr>
              <a:xfrm>
                <a:off x="-94680" y="228600"/>
                <a:ext cx="1692360" cy="6864480"/>
              </a:xfrm>
              <a:prstGeom prst="pie">
                <a:avLst/>
              </a:prstGeom>
              <a:noFill/>
              <a:ln w="14400">
                <a:solidFill>
                  <a:srgbClr val="1a8d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-168480" y="2201760"/>
              <a:ext cx="2144520" cy="2152440"/>
              <a:chOff x="-168480" y="2201760"/>
              <a:chExt cx="2144520" cy="2152440"/>
            </a:xfrm>
          </p:grpSpPr>
          <p:sp>
            <p:nvSpPr>
              <p:cNvPr id="233" name="Oval 147"/>
              <p:cNvSpPr/>
              <p:nvPr/>
            </p:nvSpPr>
            <p:spPr>
              <a:xfrm>
                <a:off x="-168480" y="2201760"/>
                <a:ext cx="2144520" cy="2152440"/>
              </a:xfrm>
              <a:prstGeom prst="ellipse">
                <a:avLst/>
              </a:prstGeom>
              <a:gradFill rotWithShape="0">
                <a:gsLst>
                  <a:gs pos="0">
                    <a:srgbClr val="2fa4d9">
                      <a:alpha val="62352"/>
                    </a:srgbClr>
                  </a:gs>
                  <a:gs pos="100000">
                    <a:srgbClr val="164c64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234" name=""/>
              <p:cNvGrpSpPr/>
              <p:nvPr/>
            </p:nvGrpSpPr>
            <p:grpSpPr>
              <a:xfrm>
                <a:off x="53280" y="3435480"/>
                <a:ext cx="1703160" cy="569880"/>
                <a:chOff x="53280" y="3435480"/>
                <a:chExt cx="1703160" cy="569880"/>
              </a:xfrm>
            </p:grpSpPr>
            <p:sp>
              <p:nvSpPr>
                <p:cNvPr id="235" name="Oval 149"/>
                <p:cNvSpPr/>
                <p:nvPr/>
              </p:nvSpPr>
              <p:spPr>
                <a:xfrm>
                  <a:off x="53280" y="3435480"/>
                  <a:ext cx="1703160" cy="56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8eb7">
                        <a:alpha val="61176"/>
                      </a:srgbClr>
                    </a:gs>
                    <a:gs pos="100000">
                      <a:srgbClr val="18425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36" name="Oval 150"/>
                <p:cNvSpPr/>
                <p:nvPr/>
              </p:nvSpPr>
              <p:spPr>
                <a:xfrm>
                  <a:off x="492480" y="3576960"/>
                  <a:ext cx="860400" cy="31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5c8eb">
                        <a:alpha val="93333"/>
                      </a:srgbClr>
                    </a:gs>
                    <a:gs pos="100000">
                      <a:srgbClr val="195d6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343080" y="2664360"/>
                <a:ext cx="1124280" cy="1130040"/>
                <a:chOff x="343080" y="2664360"/>
                <a:chExt cx="1124280" cy="1130040"/>
              </a:xfrm>
            </p:grpSpPr>
            <p:sp>
              <p:nvSpPr>
                <p:cNvPr id="238" name="Oval 152"/>
                <p:cNvSpPr/>
                <p:nvPr/>
              </p:nvSpPr>
              <p:spPr>
                <a:xfrm>
                  <a:off x="343080" y="2665800"/>
                  <a:ext cx="1124280" cy="11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f7295"/>
                    </a:gs>
                    <a:gs pos="100000">
                      <a:srgbClr val="16a5d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153"/>
                <p:cNvSpPr/>
                <p:nvPr/>
              </p:nvSpPr>
              <p:spPr>
                <a:xfrm>
                  <a:off x="358560" y="2664360"/>
                  <a:ext cx="1096200" cy="772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>
                        <a:alpha val="53333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"/>
            <p:cNvGrpSpPr/>
            <p:nvPr/>
          </p:nvGrpSpPr>
          <p:grpSpPr>
            <a:xfrm>
              <a:off x="-608040" y="1009800"/>
              <a:ext cx="2144520" cy="2152080"/>
              <a:chOff x="-608040" y="1009800"/>
              <a:chExt cx="2144520" cy="2152080"/>
            </a:xfrm>
          </p:grpSpPr>
          <p:sp>
            <p:nvSpPr>
              <p:cNvPr id="241" name="Oval 96"/>
              <p:cNvSpPr/>
              <p:nvPr/>
            </p:nvSpPr>
            <p:spPr>
              <a:xfrm>
                <a:off x="-608040" y="1009800"/>
                <a:ext cx="2144520" cy="2152080"/>
              </a:xfrm>
              <a:prstGeom prst="ellipse">
                <a:avLst/>
              </a:prstGeom>
              <a:gradFill rotWithShape="0">
                <a:gsLst>
                  <a:gs pos="0">
                    <a:srgbClr val="2fa4d9">
                      <a:alpha val="62352"/>
                    </a:srgbClr>
                  </a:gs>
                  <a:gs pos="100000">
                    <a:srgbClr val="164c64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-385920" y="2243520"/>
                <a:ext cx="1703160" cy="569880"/>
                <a:chOff x="-385920" y="2243520"/>
                <a:chExt cx="1703160" cy="569880"/>
              </a:xfrm>
            </p:grpSpPr>
            <p:sp>
              <p:nvSpPr>
                <p:cNvPr id="243" name="Oval 90"/>
                <p:cNvSpPr/>
                <p:nvPr/>
              </p:nvSpPr>
              <p:spPr>
                <a:xfrm>
                  <a:off x="-385920" y="2243520"/>
                  <a:ext cx="1703160" cy="56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8eb7">
                        <a:alpha val="61176"/>
                      </a:srgbClr>
                    </a:gs>
                    <a:gs pos="100000">
                      <a:srgbClr val="18425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44" name="Oval 91"/>
                <p:cNvSpPr/>
                <p:nvPr/>
              </p:nvSpPr>
              <p:spPr>
                <a:xfrm>
                  <a:off x="53280" y="2385000"/>
                  <a:ext cx="860400" cy="31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5c8eb">
                        <a:alpha val="93333"/>
                      </a:srgbClr>
                    </a:gs>
                    <a:gs pos="100000">
                      <a:srgbClr val="195d6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-96120" y="1472400"/>
                <a:ext cx="1124280" cy="1130040"/>
                <a:chOff x="-96120" y="1472400"/>
                <a:chExt cx="1124280" cy="1130040"/>
              </a:xfrm>
            </p:grpSpPr>
            <p:sp>
              <p:nvSpPr>
                <p:cNvPr id="246" name="Oval 93"/>
                <p:cNvSpPr/>
                <p:nvPr/>
              </p:nvSpPr>
              <p:spPr>
                <a:xfrm>
                  <a:off x="-96120" y="1473840"/>
                  <a:ext cx="1124280" cy="11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f7295"/>
                    </a:gs>
                    <a:gs pos="100000">
                      <a:srgbClr val="16a5d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94"/>
                <p:cNvSpPr/>
                <p:nvPr/>
              </p:nvSpPr>
              <p:spPr>
                <a:xfrm>
                  <a:off x="-80280" y="1472400"/>
                  <a:ext cx="1096200" cy="772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>
                        <a:alpha val="53333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8" name=""/>
            <p:cNvGrpSpPr/>
            <p:nvPr/>
          </p:nvGrpSpPr>
          <p:grpSpPr>
            <a:xfrm>
              <a:off x="-608040" y="3392640"/>
              <a:ext cx="2144520" cy="2152080"/>
              <a:chOff x="-608040" y="3392640"/>
              <a:chExt cx="2144520" cy="2152080"/>
            </a:xfrm>
          </p:grpSpPr>
          <p:sp>
            <p:nvSpPr>
              <p:cNvPr id="249" name="Oval 155"/>
              <p:cNvSpPr/>
              <p:nvPr/>
            </p:nvSpPr>
            <p:spPr>
              <a:xfrm>
                <a:off x="-608040" y="3392640"/>
                <a:ext cx="2144520" cy="2152080"/>
              </a:xfrm>
              <a:prstGeom prst="ellipse">
                <a:avLst/>
              </a:prstGeom>
              <a:gradFill rotWithShape="0">
                <a:gsLst>
                  <a:gs pos="0">
                    <a:srgbClr val="2fa4d9">
                      <a:alpha val="62352"/>
                    </a:srgbClr>
                  </a:gs>
                  <a:gs pos="100000">
                    <a:srgbClr val="164c64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-385920" y="4626360"/>
                <a:ext cx="1703160" cy="569880"/>
                <a:chOff x="-385920" y="4626360"/>
                <a:chExt cx="1703160" cy="569880"/>
              </a:xfrm>
            </p:grpSpPr>
            <p:sp>
              <p:nvSpPr>
                <p:cNvPr id="251" name="Oval 157"/>
                <p:cNvSpPr/>
                <p:nvPr/>
              </p:nvSpPr>
              <p:spPr>
                <a:xfrm>
                  <a:off x="-385920" y="4626360"/>
                  <a:ext cx="1703160" cy="56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8eb7">
                        <a:alpha val="61176"/>
                      </a:srgbClr>
                    </a:gs>
                    <a:gs pos="100000">
                      <a:srgbClr val="18425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52" name="Oval 158"/>
                <p:cNvSpPr/>
                <p:nvPr/>
              </p:nvSpPr>
              <p:spPr>
                <a:xfrm>
                  <a:off x="53280" y="4767840"/>
                  <a:ext cx="860400" cy="31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5c8eb">
                        <a:alpha val="93333"/>
                      </a:srgbClr>
                    </a:gs>
                    <a:gs pos="100000">
                      <a:srgbClr val="195d6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-96120" y="3855240"/>
                <a:ext cx="1124280" cy="1130040"/>
                <a:chOff x="-96120" y="3855240"/>
                <a:chExt cx="1124280" cy="1130040"/>
              </a:xfrm>
            </p:grpSpPr>
            <p:sp>
              <p:nvSpPr>
                <p:cNvPr id="254" name="Oval 160"/>
                <p:cNvSpPr/>
                <p:nvPr/>
              </p:nvSpPr>
              <p:spPr>
                <a:xfrm>
                  <a:off x="-96120" y="3856680"/>
                  <a:ext cx="1124280" cy="11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f7295"/>
                    </a:gs>
                    <a:gs pos="100000">
                      <a:srgbClr val="16a5d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161"/>
                <p:cNvSpPr/>
                <p:nvPr/>
              </p:nvSpPr>
              <p:spPr>
                <a:xfrm>
                  <a:off x="-80280" y="3855240"/>
                  <a:ext cx="1096200" cy="772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>
                        <a:alpha val="53333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6" name=""/>
            <p:cNvGrpSpPr/>
            <p:nvPr/>
          </p:nvGrpSpPr>
          <p:grpSpPr>
            <a:xfrm>
              <a:off x="-168480" y="4583160"/>
              <a:ext cx="2144520" cy="2152080"/>
              <a:chOff x="-168480" y="4583160"/>
              <a:chExt cx="2144520" cy="2152080"/>
            </a:xfrm>
          </p:grpSpPr>
          <p:sp>
            <p:nvSpPr>
              <p:cNvPr id="257" name="Oval 163"/>
              <p:cNvSpPr/>
              <p:nvPr/>
            </p:nvSpPr>
            <p:spPr>
              <a:xfrm>
                <a:off x="-168480" y="4583160"/>
                <a:ext cx="2144520" cy="2152080"/>
              </a:xfrm>
              <a:prstGeom prst="ellipse">
                <a:avLst/>
              </a:prstGeom>
              <a:gradFill rotWithShape="0">
                <a:gsLst>
                  <a:gs pos="0">
                    <a:srgbClr val="2fa4d9">
                      <a:alpha val="62352"/>
                    </a:srgbClr>
                  </a:gs>
                  <a:gs pos="100000">
                    <a:srgbClr val="164c64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53280" y="5816880"/>
                <a:ext cx="1703160" cy="569880"/>
                <a:chOff x="53280" y="5816880"/>
                <a:chExt cx="1703160" cy="569880"/>
              </a:xfrm>
            </p:grpSpPr>
            <p:sp>
              <p:nvSpPr>
                <p:cNvPr id="259" name="Oval 165"/>
                <p:cNvSpPr/>
                <p:nvPr/>
              </p:nvSpPr>
              <p:spPr>
                <a:xfrm>
                  <a:off x="53280" y="5816880"/>
                  <a:ext cx="1703160" cy="56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8eb7">
                        <a:alpha val="61176"/>
                      </a:srgbClr>
                    </a:gs>
                    <a:gs pos="100000">
                      <a:srgbClr val="18425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60" name="Oval 166"/>
                <p:cNvSpPr/>
                <p:nvPr/>
              </p:nvSpPr>
              <p:spPr>
                <a:xfrm>
                  <a:off x="492480" y="5958360"/>
                  <a:ext cx="860400" cy="31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5c8eb">
                        <a:alpha val="93333"/>
                      </a:srgbClr>
                    </a:gs>
                    <a:gs pos="100000">
                      <a:srgbClr val="195d6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343080" y="5045760"/>
                <a:ext cx="1124280" cy="1130040"/>
                <a:chOff x="343080" y="5045760"/>
                <a:chExt cx="1124280" cy="1130040"/>
              </a:xfrm>
            </p:grpSpPr>
            <p:sp>
              <p:nvSpPr>
                <p:cNvPr id="262" name="Oval 168"/>
                <p:cNvSpPr/>
                <p:nvPr/>
              </p:nvSpPr>
              <p:spPr>
                <a:xfrm>
                  <a:off x="343080" y="5047200"/>
                  <a:ext cx="1124280" cy="11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f7295"/>
                    </a:gs>
                    <a:gs pos="100000">
                      <a:srgbClr val="16a5d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169"/>
                <p:cNvSpPr/>
                <p:nvPr/>
              </p:nvSpPr>
              <p:spPr>
                <a:xfrm>
                  <a:off x="358560" y="5045760"/>
                  <a:ext cx="1096200" cy="772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>
                        <a:alpha val="53333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4" name=""/>
          <p:cNvSpPr/>
          <p:nvPr/>
        </p:nvSpPr>
        <p:spPr>
          <a:xfrm>
            <a:off x="0" y="1676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课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289548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40384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小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578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结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23880" y="6094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心有东坡词，人生无难题。人生再多的风雨，经过东坡的过滤，都变成一片晴空了。苏轼为我们撑起了一把伞，撑出了一片晴朗的天空，愿我们活得像他一样明亮，一样豁达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791320" y="152280"/>
            <a:ext cx="3352680" cy="6324840"/>
          </a:xfrm>
          <a:prstGeom prst="rect">
            <a:avLst/>
          </a:prstGeom>
          <a:ln w="0">
            <a:noFill/>
          </a:ln>
        </p:spPr>
      </p:pic>
      <p:grpSp>
        <p:nvGrpSpPr>
          <p:cNvPr id="270" name=""/>
          <p:cNvGrpSpPr/>
          <p:nvPr/>
        </p:nvGrpSpPr>
        <p:grpSpPr>
          <a:xfrm>
            <a:off x="8153280" y="6400800"/>
            <a:ext cx="990720" cy="459720"/>
            <a:chOff x="8153280" y="6400800"/>
            <a:chExt cx="990720" cy="459720"/>
          </a:xfrm>
        </p:grpSpPr>
        <p:sp>
          <p:nvSpPr>
            <p:cNvPr id="271" name=""/>
            <p:cNvSpPr/>
            <p:nvPr/>
          </p:nvSpPr>
          <p:spPr>
            <a:xfrm>
              <a:off x="8229600" y="6400800"/>
              <a:ext cx="685800" cy="457200"/>
            </a:xfrm>
            <a:prstGeom prst="ellipse">
              <a:avLst/>
            </a:prstGeom>
            <a:solidFill>
              <a:srgbClr val="fda1a8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53280" y="64008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楷体_GB2312"/>
                </a:rPr>
                <a:t>返回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-608040" y="228600"/>
            <a:ext cx="2584080" cy="6864480"/>
            <a:chOff x="-608040" y="228600"/>
            <a:chExt cx="2584080" cy="6864480"/>
          </a:xfrm>
        </p:grpSpPr>
        <p:grpSp>
          <p:nvGrpSpPr>
            <p:cNvPr id="274" name=""/>
            <p:cNvGrpSpPr/>
            <p:nvPr/>
          </p:nvGrpSpPr>
          <p:grpSpPr>
            <a:xfrm>
              <a:off x="-165240" y="228600"/>
              <a:ext cx="1762920" cy="6864480"/>
              <a:chOff x="-165240" y="228600"/>
              <a:chExt cx="1762920" cy="6864480"/>
            </a:xfrm>
          </p:grpSpPr>
          <p:sp>
            <p:nvSpPr>
              <p:cNvPr id="275" name="Freeform 14"/>
              <p:cNvSpPr/>
              <p:nvPr/>
            </p:nvSpPr>
            <p:spPr>
              <a:xfrm>
                <a:off x="-165240" y="228600"/>
                <a:ext cx="1227600" cy="6864480"/>
              </a:xfrm>
              <a:prstGeom prst="pie">
                <a:avLst/>
              </a:prstGeom>
              <a:noFill/>
              <a:ln w="14400">
                <a:solidFill>
                  <a:srgbClr val="53b8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76" name="Freeform 15"/>
              <p:cNvSpPr/>
              <p:nvPr/>
            </p:nvSpPr>
            <p:spPr>
              <a:xfrm>
                <a:off x="-155160" y="228600"/>
                <a:ext cx="1257120" cy="6864480"/>
              </a:xfrm>
              <a:prstGeom prst="pie">
                <a:avLst/>
              </a:prstGeom>
              <a:noFill/>
              <a:ln w="14400">
                <a:solidFill>
                  <a:srgbClr val="4fb1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77" name="Freeform 16"/>
              <p:cNvSpPr/>
              <p:nvPr/>
            </p:nvSpPr>
            <p:spPr>
              <a:xfrm>
                <a:off x="-145440" y="228600"/>
                <a:ext cx="1290960" cy="6864480"/>
              </a:xfrm>
              <a:prstGeom prst="pie">
                <a:avLst/>
              </a:prstGeom>
              <a:noFill/>
              <a:ln w="14400">
                <a:solidFill>
                  <a:srgbClr val="48ac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78" name="Freeform 17"/>
              <p:cNvSpPr/>
              <p:nvPr/>
            </p:nvSpPr>
            <p:spPr>
              <a:xfrm>
                <a:off x="-138240" y="228600"/>
                <a:ext cx="1323360" cy="6864480"/>
              </a:xfrm>
              <a:prstGeom prst="pie">
                <a:avLst/>
              </a:prstGeom>
              <a:noFill/>
              <a:ln w="14400">
                <a:solidFill>
                  <a:srgbClr val="43a7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79" name="Freeform 18"/>
              <p:cNvSpPr/>
              <p:nvPr/>
            </p:nvSpPr>
            <p:spPr>
              <a:xfrm>
                <a:off x="-131040" y="228600"/>
                <a:ext cx="1357200" cy="6864480"/>
              </a:xfrm>
              <a:prstGeom prst="pie">
                <a:avLst/>
              </a:prstGeom>
              <a:noFill/>
              <a:ln w="14400">
                <a:solidFill>
                  <a:srgbClr val="3ca2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0" name="Freeform 19"/>
              <p:cNvSpPr/>
              <p:nvPr/>
            </p:nvSpPr>
            <p:spPr>
              <a:xfrm>
                <a:off x="-124200" y="228600"/>
                <a:ext cx="1389600" cy="6864480"/>
              </a:xfrm>
              <a:prstGeom prst="pie">
                <a:avLst/>
              </a:prstGeom>
              <a:noFill/>
              <a:ln w="14400">
                <a:solidFill>
                  <a:srgbClr val="369e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1" name="Freeform 20"/>
              <p:cNvSpPr/>
              <p:nvPr/>
            </p:nvSpPr>
            <p:spPr>
              <a:xfrm>
                <a:off x="-114120" y="228600"/>
                <a:ext cx="1462680" cy="6864480"/>
              </a:xfrm>
              <a:prstGeom prst="pie">
                <a:avLst/>
              </a:prstGeom>
              <a:noFill/>
              <a:ln w="14400">
                <a:solidFill>
                  <a:srgbClr val="2f99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2" name="Freeform 21"/>
              <p:cNvSpPr/>
              <p:nvPr/>
            </p:nvSpPr>
            <p:spPr>
              <a:xfrm>
                <a:off x="-108720" y="228600"/>
                <a:ext cx="1540440" cy="6864480"/>
              </a:xfrm>
              <a:prstGeom prst="pie">
                <a:avLst/>
              </a:prstGeom>
              <a:noFill/>
              <a:ln w="14400">
                <a:solidFill>
                  <a:srgbClr val="2a95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3" name="Freeform 22"/>
              <p:cNvSpPr/>
              <p:nvPr/>
            </p:nvSpPr>
            <p:spPr>
              <a:xfrm>
                <a:off x="-101880" y="228600"/>
                <a:ext cx="1616400" cy="6864480"/>
              </a:xfrm>
              <a:prstGeom prst="pie">
                <a:avLst/>
              </a:prstGeom>
              <a:noFill/>
              <a:ln w="14400">
                <a:solidFill>
                  <a:srgbClr val="2191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4" name="Freeform 23"/>
              <p:cNvSpPr/>
              <p:nvPr/>
            </p:nvSpPr>
            <p:spPr>
              <a:xfrm>
                <a:off x="-94680" y="228600"/>
                <a:ext cx="1692360" cy="6864480"/>
              </a:xfrm>
              <a:prstGeom prst="pie">
                <a:avLst/>
              </a:prstGeom>
              <a:noFill/>
              <a:ln w="14400">
                <a:solidFill>
                  <a:srgbClr val="1a8d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-168480" y="2201760"/>
              <a:ext cx="2144520" cy="2152440"/>
              <a:chOff x="-168480" y="2201760"/>
              <a:chExt cx="2144520" cy="2152440"/>
            </a:xfrm>
          </p:grpSpPr>
          <p:sp>
            <p:nvSpPr>
              <p:cNvPr id="286" name="Oval 147"/>
              <p:cNvSpPr/>
              <p:nvPr/>
            </p:nvSpPr>
            <p:spPr>
              <a:xfrm>
                <a:off x="-168480" y="2201760"/>
                <a:ext cx="2144520" cy="2152440"/>
              </a:xfrm>
              <a:prstGeom prst="ellipse">
                <a:avLst/>
              </a:prstGeom>
              <a:gradFill rotWithShape="0">
                <a:gsLst>
                  <a:gs pos="0">
                    <a:srgbClr val="2fa4d9">
                      <a:alpha val="62352"/>
                    </a:srgbClr>
                  </a:gs>
                  <a:gs pos="100000">
                    <a:srgbClr val="164c64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287" name=""/>
              <p:cNvGrpSpPr/>
              <p:nvPr/>
            </p:nvGrpSpPr>
            <p:grpSpPr>
              <a:xfrm>
                <a:off x="53280" y="3435480"/>
                <a:ext cx="1703160" cy="569880"/>
                <a:chOff x="53280" y="3435480"/>
                <a:chExt cx="1703160" cy="569880"/>
              </a:xfrm>
            </p:grpSpPr>
            <p:sp>
              <p:nvSpPr>
                <p:cNvPr id="288" name="Oval 149"/>
                <p:cNvSpPr/>
                <p:nvPr/>
              </p:nvSpPr>
              <p:spPr>
                <a:xfrm>
                  <a:off x="53280" y="3435480"/>
                  <a:ext cx="1703160" cy="56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8eb7">
                        <a:alpha val="61176"/>
                      </a:srgbClr>
                    </a:gs>
                    <a:gs pos="100000">
                      <a:srgbClr val="18425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89" name="Oval 150"/>
                <p:cNvSpPr/>
                <p:nvPr/>
              </p:nvSpPr>
              <p:spPr>
                <a:xfrm>
                  <a:off x="492480" y="3576960"/>
                  <a:ext cx="860400" cy="31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5c8eb">
                        <a:alpha val="93333"/>
                      </a:srgbClr>
                    </a:gs>
                    <a:gs pos="100000">
                      <a:srgbClr val="195d6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43080" y="2664360"/>
                <a:ext cx="1124280" cy="1130040"/>
                <a:chOff x="343080" y="2664360"/>
                <a:chExt cx="1124280" cy="1130040"/>
              </a:xfrm>
            </p:grpSpPr>
            <p:sp>
              <p:nvSpPr>
                <p:cNvPr id="291" name="Oval 152"/>
                <p:cNvSpPr/>
                <p:nvPr/>
              </p:nvSpPr>
              <p:spPr>
                <a:xfrm>
                  <a:off x="343080" y="2665800"/>
                  <a:ext cx="1124280" cy="11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f7295"/>
                    </a:gs>
                    <a:gs pos="100000">
                      <a:srgbClr val="16a5d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153"/>
                <p:cNvSpPr/>
                <p:nvPr/>
              </p:nvSpPr>
              <p:spPr>
                <a:xfrm>
                  <a:off x="358560" y="2664360"/>
                  <a:ext cx="1096200" cy="772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>
                        <a:alpha val="53333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"/>
            <p:cNvGrpSpPr/>
            <p:nvPr/>
          </p:nvGrpSpPr>
          <p:grpSpPr>
            <a:xfrm>
              <a:off x="-608040" y="1009800"/>
              <a:ext cx="2144520" cy="2152080"/>
              <a:chOff x="-608040" y="1009800"/>
              <a:chExt cx="2144520" cy="2152080"/>
            </a:xfrm>
          </p:grpSpPr>
          <p:sp>
            <p:nvSpPr>
              <p:cNvPr id="294" name="Oval 96"/>
              <p:cNvSpPr/>
              <p:nvPr/>
            </p:nvSpPr>
            <p:spPr>
              <a:xfrm>
                <a:off x="-608040" y="1009800"/>
                <a:ext cx="2144520" cy="2152080"/>
              </a:xfrm>
              <a:prstGeom prst="ellipse">
                <a:avLst/>
              </a:prstGeom>
              <a:gradFill rotWithShape="0">
                <a:gsLst>
                  <a:gs pos="0">
                    <a:srgbClr val="2fa4d9">
                      <a:alpha val="62352"/>
                    </a:srgbClr>
                  </a:gs>
                  <a:gs pos="100000">
                    <a:srgbClr val="164c64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-385920" y="2243520"/>
                <a:ext cx="1703160" cy="569880"/>
                <a:chOff x="-385920" y="2243520"/>
                <a:chExt cx="1703160" cy="569880"/>
              </a:xfrm>
            </p:grpSpPr>
            <p:sp>
              <p:nvSpPr>
                <p:cNvPr id="296" name="Oval 90"/>
                <p:cNvSpPr/>
                <p:nvPr/>
              </p:nvSpPr>
              <p:spPr>
                <a:xfrm>
                  <a:off x="-385920" y="2243520"/>
                  <a:ext cx="1703160" cy="56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8eb7">
                        <a:alpha val="61176"/>
                      </a:srgbClr>
                    </a:gs>
                    <a:gs pos="100000">
                      <a:srgbClr val="18425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97" name="Oval 91"/>
                <p:cNvSpPr/>
                <p:nvPr/>
              </p:nvSpPr>
              <p:spPr>
                <a:xfrm>
                  <a:off x="53280" y="2385000"/>
                  <a:ext cx="860400" cy="31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5c8eb">
                        <a:alpha val="93333"/>
                      </a:srgbClr>
                    </a:gs>
                    <a:gs pos="100000">
                      <a:srgbClr val="195d6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-96120" y="1472400"/>
                <a:ext cx="1124280" cy="1130040"/>
                <a:chOff x="-96120" y="1472400"/>
                <a:chExt cx="1124280" cy="1130040"/>
              </a:xfrm>
            </p:grpSpPr>
            <p:sp>
              <p:nvSpPr>
                <p:cNvPr id="299" name="Oval 93"/>
                <p:cNvSpPr/>
                <p:nvPr/>
              </p:nvSpPr>
              <p:spPr>
                <a:xfrm>
                  <a:off x="-96120" y="1473840"/>
                  <a:ext cx="1124280" cy="11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f7295"/>
                    </a:gs>
                    <a:gs pos="100000">
                      <a:srgbClr val="16a5d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94"/>
                <p:cNvSpPr/>
                <p:nvPr/>
              </p:nvSpPr>
              <p:spPr>
                <a:xfrm>
                  <a:off x="-80280" y="1472400"/>
                  <a:ext cx="1096200" cy="772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>
                        <a:alpha val="53333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"/>
            <p:cNvGrpSpPr/>
            <p:nvPr/>
          </p:nvGrpSpPr>
          <p:grpSpPr>
            <a:xfrm>
              <a:off x="-608040" y="3392640"/>
              <a:ext cx="2144520" cy="2152080"/>
              <a:chOff x="-608040" y="3392640"/>
              <a:chExt cx="2144520" cy="2152080"/>
            </a:xfrm>
          </p:grpSpPr>
          <p:sp>
            <p:nvSpPr>
              <p:cNvPr id="302" name="Oval 155"/>
              <p:cNvSpPr/>
              <p:nvPr/>
            </p:nvSpPr>
            <p:spPr>
              <a:xfrm>
                <a:off x="-608040" y="3392640"/>
                <a:ext cx="2144520" cy="2152080"/>
              </a:xfrm>
              <a:prstGeom prst="ellipse">
                <a:avLst/>
              </a:prstGeom>
              <a:gradFill rotWithShape="0">
                <a:gsLst>
                  <a:gs pos="0">
                    <a:srgbClr val="2fa4d9">
                      <a:alpha val="62352"/>
                    </a:srgbClr>
                  </a:gs>
                  <a:gs pos="100000">
                    <a:srgbClr val="164c64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-385920" y="4626360"/>
                <a:ext cx="1703160" cy="569880"/>
                <a:chOff x="-385920" y="4626360"/>
                <a:chExt cx="1703160" cy="569880"/>
              </a:xfrm>
            </p:grpSpPr>
            <p:sp>
              <p:nvSpPr>
                <p:cNvPr id="304" name="Oval 157"/>
                <p:cNvSpPr/>
                <p:nvPr/>
              </p:nvSpPr>
              <p:spPr>
                <a:xfrm>
                  <a:off x="-385920" y="4626360"/>
                  <a:ext cx="1703160" cy="56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8eb7">
                        <a:alpha val="61176"/>
                      </a:srgbClr>
                    </a:gs>
                    <a:gs pos="100000">
                      <a:srgbClr val="18425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05" name="Oval 158"/>
                <p:cNvSpPr/>
                <p:nvPr/>
              </p:nvSpPr>
              <p:spPr>
                <a:xfrm>
                  <a:off x="53280" y="4767840"/>
                  <a:ext cx="860400" cy="31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5c8eb">
                        <a:alpha val="93333"/>
                      </a:srgbClr>
                    </a:gs>
                    <a:gs pos="100000">
                      <a:srgbClr val="195d6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-96120" y="3855240"/>
                <a:ext cx="1124280" cy="1130040"/>
                <a:chOff x="-96120" y="3855240"/>
                <a:chExt cx="1124280" cy="1130040"/>
              </a:xfrm>
            </p:grpSpPr>
            <p:sp>
              <p:nvSpPr>
                <p:cNvPr id="307" name="Oval 160"/>
                <p:cNvSpPr/>
                <p:nvPr/>
              </p:nvSpPr>
              <p:spPr>
                <a:xfrm>
                  <a:off x="-96120" y="3856680"/>
                  <a:ext cx="1124280" cy="11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f7295"/>
                    </a:gs>
                    <a:gs pos="100000">
                      <a:srgbClr val="16a5d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161"/>
                <p:cNvSpPr/>
                <p:nvPr/>
              </p:nvSpPr>
              <p:spPr>
                <a:xfrm>
                  <a:off x="-80280" y="3855240"/>
                  <a:ext cx="1096200" cy="772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>
                        <a:alpha val="53333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9" name=""/>
            <p:cNvGrpSpPr/>
            <p:nvPr/>
          </p:nvGrpSpPr>
          <p:grpSpPr>
            <a:xfrm>
              <a:off x="-168480" y="4583160"/>
              <a:ext cx="2144520" cy="2152080"/>
              <a:chOff x="-168480" y="4583160"/>
              <a:chExt cx="2144520" cy="2152080"/>
            </a:xfrm>
          </p:grpSpPr>
          <p:sp>
            <p:nvSpPr>
              <p:cNvPr id="310" name="Oval 163"/>
              <p:cNvSpPr/>
              <p:nvPr/>
            </p:nvSpPr>
            <p:spPr>
              <a:xfrm>
                <a:off x="-168480" y="4583160"/>
                <a:ext cx="2144520" cy="2152080"/>
              </a:xfrm>
              <a:prstGeom prst="ellipse">
                <a:avLst/>
              </a:prstGeom>
              <a:gradFill rotWithShape="0">
                <a:gsLst>
                  <a:gs pos="0">
                    <a:srgbClr val="2fa4d9">
                      <a:alpha val="62352"/>
                    </a:srgbClr>
                  </a:gs>
                  <a:gs pos="100000">
                    <a:srgbClr val="164c64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53280" y="5816880"/>
                <a:ext cx="1703160" cy="569880"/>
                <a:chOff x="53280" y="5816880"/>
                <a:chExt cx="1703160" cy="569880"/>
              </a:xfrm>
            </p:grpSpPr>
            <p:sp>
              <p:nvSpPr>
                <p:cNvPr id="312" name="Oval 165"/>
                <p:cNvSpPr/>
                <p:nvPr/>
              </p:nvSpPr>
              <p:spPr>
                <a:xfrm>
                  <a:off x="53280" y="5816880"/>
                  <a:ext cx="1703160" cy="56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8eb7">
                        <a:alpha val="61176"/>
                      </a:srgbClr>
                    </a:gs>
                    <a:gs pos="100000">
                      <a:srgbClr val="18425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13" name="Oval 166"/>
                <p:cNvSpPr/>
                <p:nvPr/>
              </p:nvSpPr>
              <p:spPr>
                <a:xfrm>
                  <a:off x="492480" y="5958360"/>
                  <a:ext cx="860400" cy="31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5c8eb">
                        <a:alpha val="93333"/>
                      </a:srgbClr>
                    </a:gs>
                    <a:gs pos="100000">
                      <a:srgbClr val="195d6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43080" y="5045760"/>
                <a:ext cx="1124280" cy="1130040"/>
                <a:chOff x="343080" y="5045760"/>
                <a:chExt cx="1124280" cy="1130040"/>
              </a:xfrm>
            </p:grpSpPr>
            <p:sp>
              <p:nvSpPr>
                <p:cNvPr id="315" name="Oval 168"/>
                <p:cNvSpPr/>
                <p:nvPr/>
              </p:nvSpPr>
              <p:spPr>
                <a:xfrm>
                  <a:off x="343080" y="5047200"/>
                  <a:ext cx="1124280" cy="11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f7295"/>
                    </a:gs>
                    <a:gs pos="100000">
                      <a:srgbClr val="16a5d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169"/>
                <p:cNvSpPr/>
                <p:nvPr/>
              </p:nvSpPr>
              <p:spPr>
                <a:xfrm>
                  <a:off x="358560" y="5045760"/>
                  <a:ext cx="1096200" cy="772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>
                        <a:alpha val="53333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7" name=""/>
          <p:cNvSpPr/>
          <p:nvPr/>
        </p:nvSpPr>
        <p:spPr>
          <a:xfrm>
            <a:off x="0" y="1676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课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289548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40384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小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52578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结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80880"/>
            <a:ext cx="6553080" cy="44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人生有顺逆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,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有成败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,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有荣辱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,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有福祸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.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但无论处于何种境地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,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我们都要以坦然而超脱的心态去对待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,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胜不骄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,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败不馁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,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福不喜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,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祸不悲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,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这样才能完成自己的人格修养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lvl="4" marL="182880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B141-2EBE-4C83-BBB2-1379D8338644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23" name="Picture 2" descr="图片05"/>
          <p:cNvPicPr/>
          <p:nvPr/>
        </p:nvPicPr>
        <p:blipFill>
          <a:blip r:embed="rId2"/>
          <a:stretch/>
        </p:blipFill>
        <p:spPr>
          <a:xfrm>
            <a:off x="304920" y="0"/>
            <a:ext cx="2077920" cy="8380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3"/>
          <p:cNvSpPr/>
          <p:nvPr/>
        </p:nvSpPr>
        <p:spPr>
          <a:xfrm>
            <a:off x="228600" y="838080"/>
            <a:ext cx="86868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下列各项中，字音、字形全都正确的一项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        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故垒    公瑾    纶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ɡuān)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巾    雄资英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神游    华发    樯橹           酹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lèi)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江月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C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狼狈    何妨    吟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yín)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啸     竹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D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料峭    斜照    回首           潇瑟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sè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25" name="Picture 4" descr="图片9"/>
          <p:cNvPicPr/>
          <p:nvPr/>
        </p:nvPicPr>
        <p:blipFill>
          <a:blip r:embed="rId3"/>
          <a:stretch/>
        </p:blipFill>
        <p:spPr>
          <a:xfrm>
            <a:off x="6248520" y="1295280"/>
            <a:ext cx="1371600" cy="762120"/>
          </a:xfrm>
          <a:prstGeom prst="rect">
            <a:avLst/>
          </a:prstGeom>
          <a:ln w="0">
            <a:noFill/>
          </a:ln>
        </p:spPr>
      </p:pic>
      <p:sp>
        <p:nvSpPr>
          <p:cNvPr id="326" name="AutoShape 5"/>
          <p:cNvSpPr/>
          <p:nvPr/>
        </p:nvSpPr>
        <p:spPr>
          <a:xfrm>
            <a:off x="1371600" y="4941720"/>
            <a:ext cx="7010280" cy="13068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8000"/>
            </a:solidFill>
            <a:prstDash val="sysDot"/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371600" y="5105520"/>
            <a:ext cx="7165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.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雄资英发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应为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雄姿英发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C.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竹仗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应为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竹杖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D.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潇瑟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应为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萧瑟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84360" y="4581360"/>
            <a:ext cx="1223640" cy="576360"/>
            <a:chOff x="684360" y="4581360"/>
            <a:chExt cx="1223640" cy="576360"/>
          </a:xfrm>
        </p:grpSpPr>
        <p:sp>
          <p:nvSpPr>
            <p:cNvPr id="329" name="圆角矩形 51"/>
            <p:cNvSpPr/>
            <p:nvPr/>
          </p:nvSpPr>
          <p:spPr>
            <a:xfrm>
              <a:off x="1013400" y="4752360"/>
              <a:ext cx="789480" cy="334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4feff"/>
                </a:gs>
                <a:gs pos="100000">
                  <a:srgbClr val="f6ffff"/>
                </a:gs>
              </a:gsLst>
              <a:lin ang="5400000"/>
            </a:gradFill>
            <a:ln w="9360">
              <a:solidFill>
                <a:srgbClr val="d5e8ea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 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330" name="图片 19" descr="33.png"/>
            <p:cNvPicPr/>
            <p:nvPr/>
          </p:nvPicPr>
          <p:blipFill>
            <a:blip r:embed="rId4"/>
            <a:stretch/>
          </p:blipFill>
          <p:spPr>
            <a:xfrm>
              <a:off x="684360" y="4581360"/>
              <a:ext cx="52632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TextBox 53" descr=""/>
            <p:cNvPicPr/>
            <p:nvPr/>
          </p:nvPicPr>
          <p:blipFill>
            <a:blip r:embed="rId5"/>
            <a:stretch/>
          </p:blipFill>
          <p:spPr>
            <a:xfrm>
              <a:off x="918000" y="4666680"/>
              <a:ext cx="990000" cy="49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572"/>
                </a:solidFill>
                <a:latin typeface="Arial"/>
                <a:ea typeface="华文新魏"/>
              </a:rPr>
              <a:t>新课导入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406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贬到杭州，他说“我本无家更安住，故乡无此好湖山”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贬到黄州，他说：“长江绕郭知鱼美，好竹连山觉笋香”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贬到惠州，他说：“日啖荔枝三百颗，不辞长作岭南人”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贬到儋州，他说：“九死南荒吾不悔，兹游奇绝冠平生”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05E0-673B-436D-81E8-E2963DC7E882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33" name="Picture 2" descr="图片05"/>
          <p:cNvPicPr/>
          <p:nvPr/>
        </p:nvPicPr>
        <p:blipFill>
          <a:blip r:embed="rId2"/>
          <a:stretch/>
        </p:blipFill>
        <p:spPr>
          <a:xfrm>
            <a:off x="228600" y="228600"/>
            <a:ext cx="2077920" cy="7192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3"/>
          <p:cNvSpPr/>
          <p:nvPr/>
        </p:nvSpPr>
        <p:spPr>
          <a:xfrm>
            <a:off x="457200" y="762120"/>
            <a:ext cx="8305920" cy="32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下列对苏轼《念奴娇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赤壁怀古》内容的解说，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不当的一项是  </a:t>
            </a:r>
            <a:r>
              <a:rPr b="1" lang="en-US" sz="2400" spc="-1" strike="noStrike">
                <a:solidFill>
                  <a:srgbClr val="0033cc"/>
                </a:solidFill>
                <a:latin typeface="宋体"/>
              </a:rPr>
              <a:t>(    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876"/>
              </a:spcBef>
              <a:buClr>
                <a:srgbClr val="008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大江东去，浪淘尽，千古风流人物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总领全词，为下文描写周郎埋下伏笔，营造出雄浑的气氛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876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乱石穿空，惊涛拍岸，卷起千堆雪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用词生动形象，绘声绘色地描绘了赤壁奇景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876"/>
              </a:spcBef>
              <a:buClr>
                <a:srgbClr val="008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江山如画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承上总括，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一时多少豪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呼应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千古风流人物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再为赞美周郎蓄势，自然过渡到下阕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876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小乔初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”“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羽扇纶巾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”“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谈笑间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等词句从正面多角度赞美周郎的少年得志、指挥若定的从容神态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35" name="Picture 4" descr="图片10"/>
          <p:cNvPicPr/>
          <p:nvPr/>
        </p:nvPicPr>
        <p:blipFill>
          <a:blip r:embed="rId3"/>
          <a:stretch/>
        </p:blipFill>
        <p:spPr>
          <a:xfrm>
            <a:off x="2895480" y="1219320"/>
            <a:ext cx="1219320" cy="685800"/>
          </a:xfrm>
          <a:prstGeom prst="rect">
            <a:avLst/>
          </a:prstGeom>
          <a:ln w="0">
            <a:noFill/>
          </a:ln>
        </p:spPr>
      </p:pic>
      <p:sp>
        <p:nvSpPr>
          <p:cNvPr id="336" name="AutoShape 5"/>
          <p:cNvSpPr/>
          <p:nvPr/>
        </p:nvSpPr>
        <p:spPr>
          <a:xfrm>
            <a:off x="1371600" y="4343400"/>
            <a:ext cx="3048120" cy="1295280"/>
          </a:xfrm>
          <a:prstGeom prst="wedgeEllipseCallout">
            <a:avLst>
              <a:gd name="adj1" fmla="val -44532"/>
              <a:gd name="adj2" fmla="val 48898"/>
            </a:avLst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楷体_GB2312"/>
              </a:rPr>
              <a:t>小乔初嫁”是侧面描写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图片05"/>
          <p:cNvPicPr/>
          <p:nvPr/>
        </p:nvPicPr>
        <p:blipFill>
          <a:blip r:embed="rId2"/>
          <a:stretch/>
        </p:blipFill>
        <p:spPr>
          <a:xfrm>
            <a:off x="304920" y="152280"/>
            <a:ext cx="2077920" cy="7192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3"/>
          <p:cNvSpPr/>
          <p:nvPr/>
        </p:nvSpPr>
        <p:spPr>
          <a:xfrm>
            <a:off x="228600" y="838080"/>
            <a:ext cx="8534520" cy="24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下列有关文学常识的表述，不正确的一项是      </a:t>
            </a:r>
            <a:r>
              <a:rPr b="1" lang="en-US" sz="2400" spc="-1" strike="noStrike">
                <a:solidFill>
                  <a:srgbClr val="0033cc"/>
                </a:solidFill>
                <a:latin typeface="宋体"/>
              </a:rPr>
              <a:t>(    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8000"/>
              </a:buClr>
              <a:buFont typeface="楷体_GB2312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苏轼，字子瞻，自号东坡居士，四川眉山人。作品有《东坡乐府》《东坡七集》，著名散文有《赤壁赋》《石钟山记》等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苏轼的词意境和风格都比前人提高一步。他作词不纠缠于男女之间的绮靡之情，也不喜欢写那些春愁秋恨的滥调，一扫晚唐五代以来文人词的柔靡纤细的气息，创造出高远清新的意境和豪迈奔放的风格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苏轼的词强烈地反映着入世和出世的世界观的矛盾。他政治上长期失意，一生历经坎坷，但仍能保持乐观豪迈的精神，不时发出健旺爽朗的笑声；在达观潇洒的风度里潜伏着一种浓厚的，逃避现实，追求解脱的老庄思想，用来寄托自己对政治现实不满的心情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8000"/>
              </a:buClr>
              <a:buFont typeface="楷体_GB2312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《念奴娇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赤壁怀古》是苏轼谪居黄州游赤壁时写的。这时作者</a:t>
            </a:r>
            <a:r>
              <a:rPr b="1" lang="en-US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7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岁，自觉功成名就，就借怀古以抒发自己的怀抱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39" name="Picture 4" descr="图片10"/>
          <p:cNvPicPr/>
          <p:nvPr/>
        </p:nvPicPr>
        <p:blipFill>
          <a:blip r:embed="rId3"/>
          <a:stretch/>
        </p:blipFill>
        <p:spPr>
          <a:xfrm>
            <a:off x="7010280" y="762120"/>
            <a:ext cx="1613160" cy="685800"/>
          </a:xfrm>
          <a:prstGeom prst="rect">
            <a:avLst/>
          </a:prstGeom>
          <a:ln w="0">
            <a:noFill/>
          </a:ln>
        </p:spPr>
      </p:pic>
      <p:sp>
        <p:nvSpPr>
          <p:cNvPr id="340" name="AutoShape 5"/>
          <p:cNvSpPr/>
          <p:nvPr/>
        </p:nvSpPr>
        <p:spPr>
          <a:xfrm>
            <a:off x="2133720" y="4267080"/>
            <a:ext cx="3887640" cy="1600200"/>
          </a:xfrm>
          <a:prstGeom prst="wedgeEllipseCallout">
            <a:avLst>
              <a:gd name="adj1" fmla="val -42814"/>
              <a:gd name="adj2" fmla="val 63490"/>
            </a:avLst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楷体_GB2312"/>
              </a:rPr>
              <a:t>自觉功成名就”错。这时，作者自觉功名事业还没有成就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692360" y="1989000"/>
            <a:ext cx="5904000" cy="247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谢谢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71280" y="404640"/>
            <a:ext cx="597708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57600" y="1557360"/>
            <a:ext cx="61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828800" y="30492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诵读课文，积累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感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885840" y="1447560"/>
            <a:ext cx="5257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朗读的要求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读准字音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读出节奏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读出感情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225"/>
          <p:cNvPicPr/>
          <p:nvPr/>
        </p:nvPicPr>
        <p:blipFill>
          <a:blip r:embed="rId2"/>
          <a:stretch/>
        </p:blipFill>
        <p:spPr>
          <a:xfrm>
            <a:off x="-103320" y="0"/>
            <a:ext cx="9247320" cy="88758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"/>
          <p:cNvSpPr/>
          <p:nvPr/>
        </p:nvSpPr>
        <p:spPr>
          <a:xfrm>
            <a:off x="539640" y="642240"/>
            <a:ext cx="9361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莫听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穿林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打叶声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何妨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吟啸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且徐行。竹杖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芒鞋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轻胜马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谁怕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？一蓑烟雨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\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任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平生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料峭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春风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吹酒醒，微冷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山头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斜照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\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却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相迎。回首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向来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萧瑟处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归去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也无风雨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\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也无晴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矩形 5"/>
          <p:cNvSpPr/>
          <p:nvPr/>
        </p:nvSpPr>
        <p:spPr>
          <a:xfrm>
            <a:off x="-250920" y="0"/>
            <a:ext cx="4570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1905120" cy="609480"/>
          </a:xfrm>
          <a:prstGeom prst="horizontalScroll">
            <a:avLst>
              <a:gd name="adj" fmla="val 12500"/>
            </a:avLst>
          </a:prstGeom>
          <a:solidFill>
            <a:srgbClr val="d23200">
              <a:alpha val="80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诵读感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2916360" cy="6095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819520" y="304920"/>
            <a:ext cx="6019560" cy="119124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上片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33cc"/>
                </a:solidFill>
                <a:latin typeface="华文新魏"/>
                <a:ea typeface="华文新魏"/>
              </a:rPr>
              <a:t>莫听穿林打叶声，何妨吟啸且徐行。竹杖芒鞋轻胜马。谁怕？一蓑烟雨任平生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2743200"/>
            <a:ext cx="6019560" cy="119124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译文：</a:t>
            </a:r>
            <a:r>
              <a:rPr b="1" lang="zh-CN" sz="3600" spc="-1" strike="noStrike">
                <a:solidFill>
                  <a:srgbClr val="003399"/>
                </a:solidFill>
                <a:latin typeface="华文新魏"/>
                <a:ea typeface="华文新魏"/>
              </a:rPr>
              <a:t>不要去听那穿林打叶的雨声，不妨一边吟诗长啸，一边缓步而行。竹杖和芒鞋轻捷的更胜过马，有什么可怕！只要披一件蓑衣，任凭一生风雨，我也不在意。 </a:t>
            </a:r>
            <a:br>
              <a:rPr sz="3600"/>
            </a:b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0"/>
            <a:ext cx="2057400" cy="838080"/>
          </a:xfrm>
          <a:prstGeom prst="horizontalScroll">
            <a:avLst>
              <a:gd name="adj" fmla="val 12500"/>
            </a:avLst>
          </a:prstGeom>
          <a:solidFill>
            <a:srgbClr val="d23200">
              <a:alpha val="80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赏析探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843280" y="380880"/>
            <a:ext cx="6148440" cy="173988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下片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料峭春风吹酒醒，微冷。山头斜照却相迎。回首向来萧瑟处，归去。也无风雨也无晴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43280" y="2997360"/>
            <a:ext cx="6121440" cy="119124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译文：</a:t>
            </a:r>
            <a:r>
              <a:rPr b="1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料峭的春风把我的酒意吹醒，我感到微微的寒冷。抬头看时，山头的斜阳却殷殷相迎。回头望望方才风吹雨落的地方，我信步归去，既没有风雨，也无所谓天晴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0"/>
            <a:ext cx="1828800" cy="914400"/>
          </a:xfrm>
          <a:prstGeom prst="horizontalScroll">
            <a:avLst>
              <a:gd name="adj" fmla="val 12500"/>
            </a:avLst>
          </a:prstGeom>
          <a:solidFill>
            <a:srgbClr val="d23200">
              <a:alpha val="80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赏析探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2771640" cy="547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181120" y="-360"/>
            <a:ext cx="35672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572"/>
                </a:solidFill>
                <a:latin typeface="Arial"/>
                <a:ea typeface="方正行楷简体"/>
              </a:rPr>
              <a:t>         </a:t>
            </a:r>
            <a:br>
              <a:rPr sz="3200"/>
            </a:br>
            <a:r>
              <a:rPr b="1" lang="zh-CN" sz="4200" spc="-1" strike="noStrike">
                <a:solidFill>
                  <a:srgbClr val="007572"/>
                </a:solidFill>
                <a:latin typeface="Arial"/>
                <a:ea typeface="楷体_GB2312"/>
              </a:rPr>
              <a:t>解读小序</a:t>
            </a:r>
            <a:br>
              <a:rPr sz="4200"/>
            </a:br>
            <a:r>
              <a:rPr b="1" lang="zh-CN" sz="4200" spc="-1" strike="noStrike">
                <a:solidFill>
                  <a:srgbClr val="007572"/>
                </a:solidFill>
                <a:latin typeface="Arial"/>
                <a:ea typeface="楷体_GB2312"/>
              </a:rPr>
              <a:t>了解背景</a:t>
            </a:r>
            <a:br>
              <a:rPr sz="3200"/>
            </a:br>
            <a:r>
              <a:rPr b="1" lang="en-US" sz="3200" spc="-1" strike="noStrike">
                <a:solidFill>
                  <a:srgbClr val="007572"/>
                </a:solidFill>
                <a:latin typeface="Arial"/>
                <a:ea typeface="方正行楷简体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4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105520" y="23623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宋体"/>
              </a:rPr>
              <a:t>思考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cc00ff"/>
                </a:solidFill>
                <a:latin typeface="宋体"/>
              </a:rPr>
              <a:t>小序交代了哪些信息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7200" y="2514600"/>
            <a:ext cx="8458200" cy="39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方正行楷简体"/>
              </a:rPr>
              <a:t>★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方正行楷简体"/>
              </a:rPr>
              <a:t>时间：三月七日         ★地点：沙湖道中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方正行楷简体"/>
              </a:rPr>
              <a:t>★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方正行楷简体"/>
              </a:rPr>
              <a:t>环境：先雨后晴。     ★事件：遇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方正行楷简体"/>
              </a:rPr>
              <a:t>★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方正行楷简体"/>
              </a:rPr>
              <a:t>人物：雨具（拿着雨具的仆人），同行，余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方正行楷简体"/>
              </a:rPr>
              <a:t>★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方正行楷简体"/>
              </a:rPr>
              <a:t>感觉：狼狈  不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方正行楷简体"/>
              </a:rPr>
              <a:t>★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方正行楷简体"/>
              </a:rPr>
              <a:t>故：交代写作缘由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行楷简体"/>
              </a:rPr>
              <a:t>小序交待了写作时间、地点、环境、人物、事件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12536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　　三月七日，沙湖道中遇雨。雨具先去，同行皆狼狈，余独不觉。已而遂晴，故作此词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40280" y="33336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词的小序写了什么内容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1218960"/>
            <a:ext cx="7547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词的上下片各写了什么内容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362320"/>
            <a:ext cx="85345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Times New Roman"/>
              </a:rPr>
              <a:t>上片写风雨中的情景和心境（雨中事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Times New Roman"/>
              </a:rPr>
              <a:t>下片写风雨后的情景和心境（雨后感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52280" y="152280"/>
            <a:ext cx="1828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整体感知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段冬文</dc:creator>
  <dc:description/>
  <cp:keywords>作者 赏析 拓展</cp:keywords>
  <dc:language>en-US</dc:language>
  <cp:lastModifiedBy>微软用户</cp:lastModifiedBy>
  <dcterms:modified xsi:type="dcterms:W3CDTF">2012-04-20T09:55:48Z</dcterms:modified>
  <cp:revision>208</cp:revision>
  <dc:subject>诗词鉴赏</dc:subject>
  <dc:title>苏轼词二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63</vt:lpwstr>
  </property>
  <property fmtid="{D5CDD505-2E9C-101B-9397-08002B2CF9AE}" pid="3" name="Version">
    <vt:r8>1</vt:r8>
  </property>
</Properties>
</file>