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15C-4E40-41F7-B415-8AA266DC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642-9EBE-49D1-A072-DFE4D227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AA3-3362-41AB-A84E-1C4334F7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E75-6A74-4A48-A2FF-EB5FE4FE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43C-88EE-436C-BB9A-76232710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89C-E71A-4D1E-AD08-7C9DC19D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395-E17F-46F4-A665-A93F6760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277-21B7-4688-939D-D9A4E235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2BA-9464-4EA2-8681-7F6FECA2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921-890F-4CEA-9C6D-428EDE67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C55-52E1-496C-B422-63F3D7A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B91-2F43-43D4-B52F-EF9C74CA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ADCF-AF4D-4BAD-B675-F484BDE69D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</a:rPr>
              <a:t>必修四第二单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16080" y="266400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衡阳县第一中学  聂仲生 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8640" y="5935680"/>
            <a:ext cx="19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01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0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2916360" cy="623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32000" y="765000"/>
            <a:ext cx="5791320" cy="1312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莫听穿林打叶声，何妨吟啸且徐行。竹杖芒鞋轻胜马。谁怕？一蓑烟雨任平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154764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赏析探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4581360"/>
            <a:ext cx="2286000" cy="137160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914400"/>
            <a:ext cx="7993080" cy="106884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思考：面对穿林打叶的大雨，抒情主人公是怎样的态度？这体现了他怎样的个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47636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赏析探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18480" y="2789280"/>
            <a:ext cx="112824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莫听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2743200"/>
            <a:ext cx="259236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超然物外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038480"/>
            <a:ext cx="1676520" cy="1068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何妨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谁怕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962520"/>
            <a:ext cx="237672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向风雨挑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292640"/>
            <a:ext cx="935280" cy="288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4560" y="5308560"/>
            <a:ext cx="185976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吟啸且徐行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6160" y="5203800"/>
            <a:ext cx="1155960" cy="1068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潇洒安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泰然自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2852640"/>
            <a:ext cx="935280" cy="289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5445000"/>
            <a:ext cx="934920" cy="289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907920"/>
            <a:ext cx="8569080" cy="1068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思考：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作者为什么说“竹杖芒鞋”比马“轻” ？你认为这里的“竹杖芒鞋”和“马”有什么深刻含义吗？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47636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赏析探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560" y="3581280"/>
            <a:ext cx="161604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竹杖芒鞋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371628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7920" y="3645000"/>
            <a:ext cx="115596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闲散江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19760" y="4508640"/>
            <a:ext cx="88452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马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566100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9560" y="4554360"/>
            <a:ext cx="115596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奔波官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3400" y="5237280"/>
            <a:ext cx="1434600" cy="1068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竹杖芒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轻胜马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65300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5373720"/>
            <a:ext cx="3924360" cy="1068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两者对比，隐喻闲散江湖胜过奔波官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836640"/>
            <a:ext cx="8610480" cy="1409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思考：“一蓑烟雨任平生”中的“烟雨”是否仅指自然界的风雨？“任”表现了作者怎样的心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54764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赏析探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7480" y="3292560"/>
            <a:ext cx="112824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烟雨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3360" y="3232080"/>
            <a:ext cx="2131560" cy="1068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自然界的风雨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政治上的风云变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0480" y="4805280"/>
            <a:ext cx="88452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任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6720" y="4816440"/>
            <a:ext cx="65772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镇定、从容、洒脱和旷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500280"/>
            <a:ext cx="936720" cy="287640"/>
          </a:xfrm>
          <a:prstGeom prst="rightArrow">
            <a:avLst>
              <a:gd name="adj1" fmla="val 50000"/>
              <a:gd name="adj2" fmla="val 81414"/>
            </a:avLst>
          </a:pr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501336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867280"/>
            <a:ext cx="1523880" cy="703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5867280"/>
            <a:ext cx="3048120" cy="703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雨具皆去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6095880"/>
            <a:ext cx="762120" cy="304920"/>
          </a:xfrm>
          <a:prstGeom prst="rightArrow">
            <a:avLst>
              <a:gd name="adj1" fmla="val 31250"/>
              <a:gd name="adj2" fmla="val 28118"/>
            </a:avLst>
          </a:prstGeom>
          <a:solidFill>
            <a:srgbClr val="6600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572000"/>
            <a:ext cx="2666880" cy="1866960"/>
          </a:xfrm>
          <a:prstGeom prst="wedgeEllipseCallout">
            <a:avLst>
              <a:gd name="adj1" fmla="val -71606"/>
              <a:gd name="adj2" fmla="val 45578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内心的情怀，旷达乐观情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43280" y="836640"/>
            <a:ext cx="6121440" cy="1434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料峭春风吹酒醒，微冷。山头斜照却相迎。回首向来萧瑟处，归去。也无风雨也无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54764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赏析探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2771640" cy="561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62720" y="4724280"/>
            <a:ext cx="2895480" cy="137160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765000"/>
            <a:ext cx="8353440" cy="1263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思考：“料峭春风吹酒醒，微冷，山头斜照却相迎”三句中“微冷”“相迎”并举，表达了作者的人生体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941720"/>
            <a:ext cx="8353440" cy="1166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明确：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作者于挫折中看到希望，于逆境中看到曙光，不让这暂时的挫折和逆境左右自己的心情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147636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赏析探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92200" y="3149640"/>
            <a:ext cx="161604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料峭春风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6560" y="3043080"/>
            <a:ext cx="1400040" cy="1068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人生的逆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政治的风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328464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92200" y="4157640"/>
            <a:ext cx="161604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山头斜照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429264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44920" y="4195800"/>
            <a:ext cx="140004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人生的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765000"/>
            <a:ext cx="8610480" cy="1263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思考：“也无风雨也无晴”中的“风雨”和“晴”的深层含义是什么？这一句写出了词人怎样的人生感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581360"/>
            <a:ext cx="8610480" cy="563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明确：词人认为无论是雨还是晴都无所谓。人生也是如此，顺境也好，逆境也好；窘困也好，通达也好，都无所谓。这是词人面对仕途失意的旷达胸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61928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赏析探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10880" y="3220920"/>
            <a:ext cx="197892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风雨”和“晴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84280" y="2754360"/>
            <a:ext cx="2131560" cy="1556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人生的逆境和顺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名利的失和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官职的降和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335772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6600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5938"/>
                </a:solidFill>
                <a:latin typeface="Times New Roman"/>
              </a:rPr>
              <a:t>词作刻画自己这样的形象有什么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表明自己在自然风雨中镇定自若、在仕途风险中泰然处之、在痛苦中旷达自解等复杂而深微的情致及旷达豪放的情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88520" y="501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5938"/>
                </a:solidFill>
                <a:latin typeface="Times New Roman"/>
              </a:rPr>
              <a:t>你还能列举苏轼一首豪放词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154764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扩展延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341360"/>
            <a:ext cx="8497800" cy="2226600"/>
          </a:xfrm>
          <a:prstGeom prst="rect">
            <a:avLst/>
          </a:prstGeom>
          <a:solidFill>
            <a:srgbClr val="f8f8f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调歌头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fc5938"/>
                </a:solidFill>
                <a:latin typeface="华文仿宋"/>
                <a:ea typeface="华文仿宋"/>
              </a:rPr>
              <a:t>丙辰中秋，欢饮达旦，大醉。作此篇，兼怀子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月几时有，把酒问青天。不知天上宫阙，今夕是何年。我欲乘风归去，又恐琼楼玉宇，高处不胜寒。起舞弄清影，何似在人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转朱阁，低绮户，照无眠。不应有恨，何事长向别时圆。人有悲欢离合，月有阴晴圆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事古难全。但愿人长久，千里共婵娟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1052640"/>
            <a:ext cx="8111880" cy="581400"/>
          </a:xfrm>
          <a:prstGeom prst="rect">
            <a:avLst/>
          </a:prstGeom>
          <a:solidFill>
            <a:srgbClr val="f8f8f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思考：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词中哪些诗句体现词人旷达情怀？请加以赏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5120" y="2886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852640"/>
            <a:ext cx="8136000" cy="581400"/>
          </a:xfrm>
          <a:prstGeom prst="rect">
            <a:avLst/>
          </a:prstGeom>
          <a:solidFill>
            <a:srgbClr val="f8f8f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明确：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“人有悲欢离合，月有阴晴圆缺，此事古难全。但愿人长久，千里共婵娟。”这几句诗借月之圆缺的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"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物理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"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排解人之离合的情理，最后以由衷的美好祝愿收结全篇，表达了作者超逸旷达的情怀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54764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扩展延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99320" y="40464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请背诵《念奴娇   赤壁怀古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0160" y="13399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请简述苏轼的豪放情怀及豪放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107160"/>
            <a:ext cx="82087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他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频遭贬谪， 一生历八州，行万里，走过无数穷山恶水，却都如处天堂，他说：“此心安处是吾家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他</a:t>
            </a: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被无数小人中伤下狱，朋友背叛，同道反目，见识了人间万千丑态却说：“眼前见天下无一个不是好人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720" y="5472000"/>
            <a:ext cx="82076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c5938"/>
                </a:solidFill>
                <a:latin typeface="华文新魏"/>
                <a:ea typeface="华文新魏"/>
              </a:rPr>
              <a:t>他，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描述自己的一生：“载歌载舞，深得其乐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6720" y="333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这些词中你得出了怎样的人生思考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2720" y="119700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阳光总在风雨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山重水复疑无路，柳暗花明又一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打击只会让我们坚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祸兮福所倚，福兮祸所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人生不如意事常八九，要多想一二，知足常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面对生活，宠辱不惊，任天上云卷云舒；去留无意，看窗外花开花落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720" y="602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鉴赏此词的艺术特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074160" cy="6839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4920" y="44280"/>
            <a:ext cx="9217080" cy="6981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929480" y="242100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c5938"/>
                </a:solidFill>
                <a:latin typeface="Times New Roman"/>
              </a:rPr>
              <a:t>再  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70840" y="907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5938"/>
                </a:solidFill>
                <a:latin typeface="Times New Roman"/>
                <a:ea typeface="黑体"/>
              </a:rPr>
              <a:t>定风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8360" y="1989000"/>
            <a:ext cx="7771680" cy="2450520"/>
            <a:chOff x="468360" y="1989000"/>
            <a:chExt cx="7771680" cy="2450520"/>
          </a:xfrm>
        </p:grpSpPr>
        <p:sp>
          <p:nvSpPr>
            <p:cNvPr id="51" name=""/>
            <p:cNvSpPr/>
            <p:nvPr/>
          </p:nvSpPr>
          <p:spPr>
            <a:xfrm>
              <a:off x="3188520" y="1989000"/>
              <a:ext cx="2331360" cy="980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</a:rPr>
                <a:t>62</a:t>
              </a: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</a:rPr>
                <a:t>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3459240"/>
              <a:ext cx="2331360" cy="980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</a:rPr>
                <a:t>中调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2" idx="0"/>
              <a:endCxn id="51" idx="2"/>
            </p:cNvCxnSpPr>
            <p:nvPr/>
          </p:nvCxnSpPr>
          <p:spPr>
            <a:xfrm flipH="1" flipV="1" rot="5400000">
              <a:off x="2748960" y="1853640"/>
              <a:ext cx="490680" cy="2720880"/>
            </a:xfrm>
            <a:prstGeom prst="bentConnector3">
              <a:avLst>
                <a:gd name="adj1" fmla="val 39941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>
              <a:off x="3188520" y="3459240"/>
              <a:ext cx="2331360" cy="980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</a:rPr>
                <a:t>双调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54" idx="0"/>
              <a:endCxn id="51" idx="2"/>
            </p:cNvCxnSpPr>
            <p:nvPr/>
          </p:nvCxnSpPr>
          <p:spPr>
            <a:xfrm flipH="1" flipV="1" rot="5400000">
              <a:off x="4107600" y="3213720"/>
              <a:ext cx="490680" cy="1404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56" name=""/>
            <p:cNvSpPr/>
            <p:nvPr/>
          </p:nvSpPr>
          <p:spPr>
            <a:xfrm>
              <a:off x="5908680" y="3459240"/>
              <a:ext cx="2331360" cy="980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</a:rPr>
                <a:t>豪放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0"/>
              <a:endCxn id="51" idx="2"/>
            </p:cNvCxnSpPr>
            <p:nvPr/>
          </p:nvCxnSpPr>
          <p:spPr>
            <a:xfrm flipV="1" rot="16200000">
              <a:off x="5468760" y="1853280"/>
              <a:ext cx="490680" cy="2720880"/>
            </a:xfrm>
            <a:prstGeom prst="bentConnector3">
              <a:avLst>
                <a:gd name="adj1" fmla="val 39941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  <p:sp>
        <p:nvSpPr>
          <p:cNvPr id="58" name=""/>
          <p:cNvSpPr/>
          <p:nvPr/>
        </p:nvSpPr>
        <p:spPr>
          <a:xfrm>
            <a:off x="6948360" y="476280"/>
            <a:ext cx="1800360" cy="971640"/>
          </a:xfrm>
          <a:prstGeom prst="wedgeRoundRectCallout">
            <a:avLst>
              <a:gd name="adj1" fmla="val -139412"/>
              <a:gd name="adj2" fmla="val 51703"/>
              <a:gd name="adj3" fmla="val 16667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5938"/>
                </a:solidFill>
                <a:latin typeface="Times New Roman"/>
              </a:rPr>
              <a:t>词牌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370880"/>
            <a:ext cx="8280360" cy="17398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元丰五年（</a:t>
            </a: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82</a:t>
            </a: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年），苏轼因“乌台诗案”被贬黄州（今湖北省黄冈县），偏居荒野，躬耕自乐。是年春，诗人至黄冈东南三十里的新购田地，归途遇雨，心有所感，遂赋此词 。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词前小序有所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69236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诗词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718080"/>
            <a:ext cx="91440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词前小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华文新魏"/>
              </a:rPr>
              <a:t>三月七日，沙湖道中遇雨，雨具先去，同行皆狼狈，余独不觉。已而遂晴，故作此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28195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495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334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3341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581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感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2819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8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7339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沙湖道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80988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4956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行 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58136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狼狈、不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53737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已而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97960" y="476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5938"/>
                </a:solidFill>
                <a:latin typeface="Times New Roman"/>
              </a:rPr>
              <a:t>这个小序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0040" y="1557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交代时间地点人物事件及作词缘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558720"/>
            <a:ext cx="9144000" cy="6299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1835280" cy="43164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诗词吟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851040" cy="952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全词大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628640"/>
            <a:ext cx="864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要去听雨点子穿过树林打在树叶上的声音，不妨一边舒适地吟诗、长啸，一边慢慢地走去。</a:t>
            </a:r>
            <a:r>
              <a:rPr b="1" lang="zh-CN" sz="4000" spc="-1" strike="noStrike">
                <a:solidFill>
                  <a:srgbClr val="fc5938"/>
                </a:solidFill>
                <a:latin typeface="Times New Roman"/>
              </a:rPr>
              <a:t>拄着竹杖，穿着草鞋，比乘马还要来得轻便。这雨有甚么可怕？虽只有一件蓑衣，任凭一生风雨都不在意</a:t>
            </a:r>
            <a:r>
              <a:rPr b="1" lang="en-US" sz="4000" spc="-1" strike="noStrike">
                <a:solidFill>
                  <a:srgbClr val="fc5938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8240" y="3809880"/>
            <a:ext cx="9005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5938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6720" y="836640"/>
            <a:ext cx="830592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带着寒气的春风将我的醉意吹醒了，微微感到点冷。 雨后放晴，前面山头上的夕阳普照， 好似在招手欢迎我。回头望望刚才遇雨的地方，真是晴雨无常！回去吧，不管风吹雨打也好，阳光四照也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781360"/>
            <a:ext cx="80647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360" y="62028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整体看，这首词以刻画人物意象为主。你认为词作刻画了怎样的词人形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27480" y="2205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5938"/>
                </a:solidFill>
                <a:latin typeface="华文新魏"/>
                <a:ea typeface="华文新魏"/>
              </a:rPr>
              <a:t>塑造了一个乐观、旷达的主人公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08320" y="3573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种形象特点表现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084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5938"/>
                </a:solidFill>
                <a:latin typeface="Times New Roman"/>
              </a:rPr>
              <a:t>表现在对自然对人生雨晴变化的与众不同的态度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4:40:34Z</dcterms:created>
  <dc:creator>现代语文</dc:creator>
  <dc:description/>
  <dc:language>en-US</dc:language>
  <cp:lastModifiedBy>User</cp:lastModifiedBy>
  <cp:lastPrinted>1899-12-30T00:00:00Z</cp:lastPrinted>
  <dcterms:modified xsi:type="dcterms:W3CDTF">2014-05-03T12:31:30Z</dcterms:modified>
  <cp:revision>3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