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10C-51FB-4D4A-8FF9-C59689B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EA9-C6C1-4EFD-B30D-AD0E6AD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C55-02C6-4080-B584-70A193A9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F6E-F529-4A86-95CD-B87746C6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48C-737F-44BA-AEA8-7668AE42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F41-1A36-4981-A40E-9D958441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42F-3316-4725-9631-EEF38C0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DF8-7687-47E5-8EF5-2BB4E5B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514-85A7-4D82-8D30-2D61837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9A1-7DF2-4FF1-954F-69CDF88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893-1310-4E3D-8B9A-187E10E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627-6FAE-40F2-9323-E84277D8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22A-2D92-4C62-AD66-952B6FEAD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407664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苏 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276640"/>
            <a:ext cx="734400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仿宋"/>
              </a:rPr>
              <a:t>定  风  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512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97240" y="57340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燕郊高级中学高一年级        赵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3644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、“回首向来萧瑟处，归去，也无风雨也无晴”，你如何理解句中的“风雨”和“晴”的？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这三句是此篇的画龙点睛之笔，道出了词人在大自然微妙的一瞬所获得的顿悟和启示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请谈谈是怎样的一种顿悟和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270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雨”比喻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人生中的逆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如各种政治打击和人生险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晴”比喻春风得意的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顺境</a:t>
            </a:r>
            <a:r>
              <a:rPr b="1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65000"/>
            <a:ext cx="914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有人评价这首词“即景生情，缘事谈理”（</a:t>
            </a:r>
            <a:r>
              <a:rPr b="1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因自然现象和所经历的事情，表达思想感情，阐发人生哲理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）。请就此谈谈你的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还可以这样问：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有人评价这首词是“于简朴中见深意”联系全词，谈谈你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词中记叙了途中遇雨的生活小事，描写了“春风”“山头斜照”等雨后天晴等的平常自然之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但在这些简朴的描述中却表现了深刻的人生哲理：无论人生遭遇多少风雨苦难，不要苦恼，不要被它吓倒，只要坦然相对，一切风雨苦难都将成为过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人生有顺逆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有成败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有荣辱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有福祸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但无论处于何种境地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我们都要以坦然而超脱的心态去对待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胜不骄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败不馁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福不喜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祸不悲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这样才能完成自己的人格修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伟大的灵魂在艰苦的跋涉，无声的探索，无歌无喜，无风无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词人用象征手法，写出──在突如其来的政治风雨面前，自己内心的坦荡与气度的从容。从历史和磨难中走来，在穿林竹叶声中吟啸徐行，不避崎岖，走入安宁，走入心灵的坦途，在纷扰的世界中寻找自己崭新的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9720" y="1197000"/>
            <a:ext cx="895428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莫听穿林打叶声，何妨吟啸且徐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竹杖芒鞋轻胜马，谁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一蓑烟雨任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料峭春风吹酒醒，微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山头斜照却相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回首向来萧瑟处，归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也无风雨也无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宋神宗元丰五年（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1082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）的三月七日，时苏轼谪居黄州已第三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《东坡志林》说：「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黄州东南三十里为沙湖，亦曰螺师店，予买田其间，因往相田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。」途中遇雨，便写出这样一首词来，于简朴中见深意、寻常处生波澜。因自然现象，谈人生哲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047760"/>
            <a:ext cx="91440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词中记叙的只是出游时途中遇雨的一件小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上阕写途中遇雨的情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下阕写雨过天晴后的心理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"/>
            <a:ext cx="91440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三月七日，沙湖道中遇雨。雨具先去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同行皆狼狈，余独不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已而遂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，故作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421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、在风雨中，“同行皆狼狈”，而词人却能“吟啸且徐行”“竹杖轻胜马”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表现了他怎样的心情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914400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闲适、轻松、自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、“一蓑烟雨任平生”的意思是什么？表达了诗人怎样的人生态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蓑衣在风雨中过一辈子也处之泰然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；（怎么可能在风雨中过一辈子呢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反映作者不避风雨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听任自然的生活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303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这首词中，我们看到了一个怎样的人物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物形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为、性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0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吟啸徐行、拄着拐杖、穿着草鞋、顶风冒雨、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行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不畏艰难、镇定从容、旷达乐观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性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人形象（形象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51:25Z</dcterms:created>
  <dc:creator>a</dc:creator>
  <dc:description/>
  <dc:language>en-US</dc:language>
  <cp:lastModifiedBy>USER-</cp:lastModifiedBy>
  <dcterms:modified xsi:type="dcterms:W3CDTF">2014-06-21T02:04:18Z</dcterms:modified>
  <cp:revision>11</cp:revision>
  <dc:subject/>
  <dc:title>幻灯片 1</dc:title>
</cp:coreProperties>
</file>