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BF2C-DB51-4A68-A249-FB1908DC00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02DD-4AB1-49EA-B1A7-A1EDDD1595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EAD-EC71-4898-8FC3-E31C63C2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769-0E43-403D-A80F-22AB7AA3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C6C-6FE9-412C-A369-4DBF50B9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559-2C04-4D07-8EB5-FAEEED16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EC7-2CC7-416F-B2CF-3A3E7484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441-0958-43FD-BB51-19F4623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D4B-EB68-4529-953D-8C53E06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C7C-2165-475F-B3E0-BAB6EFA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425-DC85-418C-8EAD-65476AC9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74B-2167-43F3-9225-B59EDEF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E6C-32D8-47EF-88DB-B8669FC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C00-69F8-4D6C-A62E-B2A812D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BDDD-DFCD-40A1-8AB5-A508E86ABC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2647800"/>
            <a:ext cx="72007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古代戏剧小知识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898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260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元代四大爱情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关汉卿的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拜月亭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白朴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墙头马上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王实甫的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西厢记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郑光祖的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倩女离魂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280" y="45086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元曲四大家”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关汉卿、郑光祖、白朴、马致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ouey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8360" y="2635200"/>
            <a:ext cx="3620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窦娥2"/>
          <p:cNvPicPr/>
          <p:nvPr/>
        </p:nvPicPr>
        <p:blipFill>
          <a:blip r:embed="rId1"/>
          <a:stretch/>
        </p:blipFill>
        <p:spPr>
          <a:xfrm>
            <a:off x="5292720" y="260280"/>
            <a:ext cx="3564000" cy="496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333360"/>
            <a:ext cx="50036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三）、简介关汉卿及有关常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关汉卿，号已斋叟，金末元初大都（现在北京市）人，元杂剧的代表人物，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郑光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代表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倩女离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白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代表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墙头马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马致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代表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汉宫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四人共称为元曲四大家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汉卿的代表作品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窦娥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他著名作品还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望江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刀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救风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其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窦娥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是中国十大古典悲剧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 flipH="1">
            <a:off x="3350520" y="-19037160"/>
            <a:ext cx="12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530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汉卿是我国戏剧的创始人，数量超过了英国的戏剧家“戏剧之父”莎士比亚，被称为中国的莎士比亚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窦娥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有英译本流传海外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世界和平理事会把关汉卿与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芬奇等同列为世界文化名人。关汉卿的戏剧语言，被称为本色派之首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5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汉卿在《南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枝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伏老》中自述“通五音六律滑熟”，“我也会吟诗，会篆籀，会弹丝，会品竹。我也会唱鹧鸪，舞垂手，会打围，会蹴鞠，会围棋，会双陆”，“我是个蒸不烂、煮不熟、捶不扁、炒不爆、响当当一粒铜豌豆”，可见他的才艺、生活和个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3041640"/>
            <a:ext cx="9144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一生“不屑仕进”，生活在底层人民中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当时杂剧界的领袖人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的戏曲作品题材广泛，大多暴露了封建统治的黑暗腐败，表现了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古代人民特别是青年妇女的苦难遭遇和反抗斗争，人物性格鲜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构完整，情节生动，语言本色而精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元杂剧和后来戏曲的发展有很大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窦娥冤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列之于世界大悲剧中，亦无愧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——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王国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准字音，富有情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够较好的把握人物内心情感，带上适当的肢体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1295280"/>
            <a:ext cx="5562360" cy="731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‖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角色诵读课文 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基础字词：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盗跖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错勘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前合后偃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哥哥行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尸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刽子手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瀽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罪愆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湛湛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苌弘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1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亢旱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2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暑气暄　 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3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斫直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、古陌荒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5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衔冤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6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提防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7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亲眷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8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嗟怨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19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甘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20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杳无音信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21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变徵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22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埋怨　</a:t>
            </a:r>
            <a:r>
              <a:rPr b="1" lang="en-US" sz="2800" spc="-1" strike="noStrike">
                <a:solidFill>
                  <a:srgbClr val="001e1d"/>
                </a:solidFill>
                <a:latin typeface="黑体"/>
                <a:ea typeface="黑体"/>
              </a:rPr>
              <a:t>23.</a:t>
            </a: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羊肚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1d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8320" y="9428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h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044080" y="9079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07960" y="9428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ǎ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94560" y="9428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7241040" y="9428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á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7440" y="18572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2049840" y="18572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iǎ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345840" y="18572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422240" y="1933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023520" y="19051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60080" y="28479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736720" y="28479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u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117680" y="28195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303240" y="285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6927480" y="28195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470520" y="39337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i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2238120" y="3860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3998160" y="3933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u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7310520" y="4076640"/>
            <a:ext cx="59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461520" y="4869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3174120" y="494172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358520" y="50133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6427440" y="49417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1219320" y="5646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284440" y="4005360"/>
            <a:ext cx="57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i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赏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《窦娥冤》全剧共四折，开头有一个楔子，由蔡婆婆独白开始。四折的内容分别构成故事的开端、发展、高潮、结局。课文节选的是楔子和前三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3733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791160" y="33847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请大家结合课下注释细读课文并概括楔子和每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折的故事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613880" y="144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课文，概括课文各部分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28600" y="2438280"/>
            <a:ext cx="89154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楔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窦天章抛幼女上京都取应，蔡婆婆以旧账买窦娥为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第一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蔡婆婆索旧账途中遭暗算，苦命女守贞节拒嫁张驴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第二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张驴儿下毒药误杀亲爹，窦娥受酷刑屈打成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第三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冤屈无辜窦娥遭死罪，斩前留下三桩誓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54936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、在课文中共出现多少曲牌？都属什么宫调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明确：共出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个曲牌，都属于正宫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2_002"/>
          <p:cNvPicPr/>
          <p:nvPr/>
        </p:nvPicPr>
        <p:blipFill>
          <a:blip r:embed="rId1"/>
          <a:srcRect l="0" t="15748" r="0" b="18635"/>
          <a:stretch/>
        </p:blipFill>
        <p:spPr>
          <a:xfrm>
            <a:off x="0" y="3701880"/>
            <a:ext cx="9144000" cy="2532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赏读课文第三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、根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个曲牌和故事情节，可以把课文分成几个层次？各层大意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24000" y="114300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明确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个曲牌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个层次。使剧情有张有弛，有烘托、有渲染，扣人心弦，催人泪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层是［端正好］［滚绣球］两个曲牌，大意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窦娥指斥天地鬼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层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倘秀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至［鲍老儿］四个曲牌，大意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窦娥告别婆婆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层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耍孩儿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至［煞尾］四个曲牌。大意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窦娥发下三大誓愿，前两桩应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5280" y="2286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华文行楷"/>
                <a:ea typeface="华文行楷"/>
              </a:rPr>
              <a:t>   </a:t>
            </a:r>
            <a:r>
              <a:rPr b="0" lang="zh-CN" sz="5400" spc="-1" strike="noStrike">
                <a:solidFill>
                  <a:srgbClr val="660066"/>
                </a:solidFill>
                <a:latin typeface="华文行楷"/>
                <a:ea typeface="华文行楷"/>
              </a:rPr>
              <a:t>中 国 古 典 戏 剧 概 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121932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国古典戏曲是中华民族文化的一个重要组成部分，她以富于艺术魅力的表演形式，为历代人民群众所喜闻乐见。而且在世界剧坛上也占有独特的位置，它与古希腊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悲喜剧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印度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梵剧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称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世界三大古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中国古典戏曲在其漫长的发展过程中，曾先后出现了宋元南戏、元代杂剧、明清传奇、清代花部等四种基本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48320" y="5181480"/>
            <a:ext cx="91440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934320" y="5181480"/>
            <a:ext cx="91440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990720" y="5638680"/>
            <a:ext cx="91440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276720" y="5715000"/>
            <a:ext cx="91440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40428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读第一层的唱词思考。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端正好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》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表现了窦娥怎样的思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3520" y="4800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05000"/>
            <a:ext cx="8896320" cy="2133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表现了窦娥满腹冤屈与怨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引用“盗跖、颜渊”的典故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滚绣球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中有一句话揭露了社会的严重不公，是哪一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概括地说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滚绣球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曲表达了怎样的思想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84360" y="4005360"/>
            <a:ext cx="7637400" cy="2006640"/>
          </a:xfrm>
          <a:prstGeom prst="rect">
            <a:avLst/>
          </a:prstGeom>
          <a:solidFill>
            <a:srgbClr val="33996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指责天地好坏不分，黑白颠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善的受贫穷更命短，造恶的享富贵又寿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既表达了对天地不公的不满，又表现了主人公的反抗精神，也是对黑暗社会的揭露和控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401920" y="0"/>
            <a:ext cx="385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细读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滚绣球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窦娥像"/>
          <p:cNvPicPr/>
          <p:nvPr/>
        </p:nvPicPr>
        <p:blipFill>
          <a:blip r:embed="rId1"/>
          <a:stretch/>
        </p:blipFill>
        <p:spPr>
          <a:xfrm>
            <a:off x="179280" y="260280"/>
            <a:ext cx="7201080" cy="5892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50920" y="5229360"/>
            <a:ext cx="8497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窦娥是被昏官屈判死罪的，她为何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滚绣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一曲中指责天地鬼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26028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窦娥受神权思想影响，开始相信“青天大老爷”能主持正义，赏善罚恶。在残酷的现实面前，她觉醒过来了，她猛烈地指责天地鬼神不分清浊，混淆是非，致使恶人横行，良善衔冤。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中宋"/>
              </a:rPr>
              <a:t>窦娥对神权的大胆谴责，实质上是对封建统治阶级的强烈控诉和根本否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。她那似岩浆迸射如山洪决堤般的愤激之词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中宋"/>
              </a:rPr>
              <a:t>反映了女主人公的反抗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260280"/>
            <a:ext cx="871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在押赴刑场的路上，窦娥要求刽子手走后街不走前街，这一细节刻画对塑造窦娥形象和表现主题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d2_006"/>
          <p:cNvPicPr/>
          <p:nvPr/>
        </p:nvPicPr>
        <p:blipFill>
          <a:blip r:embed="rId1"/>
          <a:srcRect l="0" t="15853" r="0" b="18517"/>
          <a:stretch/>
        </p:blipFill>
        <p:spPr>
          <a:xfrm>
            <a:off x="0" y="2205000"/>
            <a:ext cx="53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EY027"/>
          <p:cNvPicPr/>
          <p:nvPr/>
        </p:nvPicPr>
        <p:blipFill>
          <a:blip r:embed="rId2"/>
          <a:srcRect l="0" t="4383" r="0" b="7625"/>
          <a:stretch/>
        </p:blipFill>
        <p:spPr>
          <a:xfrm>
            <a:off x="4716360" y="2205000"/>
            <a:ext cx="4427640" cy="289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50920" y="12682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自己已走在通向死亡的路上，想到的还是如何不使年迈孤寂的婆婆伤心，这是何等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善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啊！而剧作家越是刻画她的善良，也就越发显出其冤屈，她的抗争与反抗也就越发令人同情。因此，这一细节的描写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不仅使窦娥这个形象更丰满动人，也使剧作对封建社会的批判更为有力和深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阅读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层，分析窦娥临刑时发出的三桩誓愿，说明她所希望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窦娥像1"/>
          <p:cNvPicPr/>
          <p:nvPr/>
        </p:nvPicPr>
        <p:blipFill>
          <a:blip r:embed="rId1"/>
          <a:stretch/>
        </p:blipFill>
        <p:spPr>
          <a:xfrm>
            <a:off x="250920" y="386064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窦娥像2"/>
          <p:cNvPicPr/>
          <p:nvPr/>
        </p:nvPicPr>
        <p:blipFill>
          <a:blip r:embed="rId2"/>
          <a:stretch/>
        </p:blipFill>
        <p:spPr>
          <a:xfrm>
            <a:off x="2484360" y="25653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窦娥像3"/>
          <p:cNvPicPr/>
          <p:nvPr/>
        </p:nvPicPr>
        <p:blipFill>
          <a:blip r:embed="rId3"/>
          <a:stretch/>
        </p:blipFill>
        <p:spPr>
          <a:xfrm>
            <a:off x="5219640" y="14842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50920" y="404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752480"/>
            <a:ext cx="8458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一个誓愿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血溅白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：她希望刑场上的人们能立刻了解她的冤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二个誓愿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六月飞雪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：她希望自己的冤屈会在上天得到反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第三个誓愿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亢旱三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；她不仅希望个人的冤屈得到伸张，而且希望上天能够惩治邪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00" y="476280"/>
            <a:ext cx="8496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她的三桩誓愿与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层对天地的指责是什么关系呢？是否矛盾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13446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这显然是矛盾的。可见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中宋"/>
              </a:rPr>
              <a:t>窦娥诉冤过程中对天的怀疑和依赖是始终交织在一起的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这正反映了作家的地位和阶级的局限，表现了他们的无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一方面，他通过窦娥指斥天地从根本上批判封建统治阶级，表达自己变革现实的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另一方面，又不能从根本上提出救民于水火的办法，只能靠天地动容来昭雪窦娥的冤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请同学们想一想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三桩誓愿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在现实生活中可能吗？作者用的是什么创作手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-50400" y="2708280"/>
            <a:ext cx="7902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三   桩   誓   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V="1">
            <a:off x="826920" y="170028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7640" y="126828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血溅白练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冤深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75564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476360" y="3429000"/>
            <a:ext cx="208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六月飞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感天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826920" y="4365720"/>
            <a:ext cx="7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619280" y="5300640"/>
            <a:ext cx="151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</a:rPr>
              <a:t>亢旱三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动地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3635280" y="1484280"/>
            <a:ext cx="936720" cy="460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549960" y="2565360"/>
            <a:ext cx="7902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浪 漫 主 义 手 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2" descr="窦娥5"/>
          <p:cNvPicPr/>
          <p:nvPr/>
        </p:nvPicPr>
        <p:blipFill>
          <a:blip r:embed="rId1"/>
          <a:stretch/>
        </p:blipFill>
        <p:spPr>
          <a:xfrm>
            <a:off x="5364000" y="907920"/>
            <a:ext cx="3780000" cy="595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戏曲种类：</a:t>
            </a: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{40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余种</a:t>
            </a: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京剧、晋剧、蒲剧、雁剧、秦剧、吉剧、豫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吕剧、淮剧、沪剧、越剧、婺剧、绍剧、徽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闽剧、赣剧、汉剧、湘剧、祁剧、潮剧、桂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壮剧、川剧、黔剧、滇剧、傣剧、藏剧、粤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昆曲、高腔、评剧、越调、彩调、梆子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人台、龙江剧、黄梅戏、莆仙戏、梨园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甲戏、采荼戏、皮影戏、滑稽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河北梆子、上党梆子、山东梆子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河南曲剧、湖南花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67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剧作家为什么要在这折戏的结尾安排“三大奇愿”这样的情节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42800" y="2386080"/>
            <a:ext cx="830592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这三愿充分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揭露了当时社会官吏昏聩，法制腐败，人民蒙受奇冤而又呼告无门的真实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它表现主人公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至死不屈的斗争精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这种精神甚至产生了感动天地的力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三桩奇愿充分体现了人民伸张人间正义，杀尽贪官污吏，洗雪冤屈的良好意志与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486400" y="609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人物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c6bef203d24752aed43f7c0f"/>
          <p:cNvPicPr/>
          <p:nvPr/>
        </p:nvPicPr>
        <p:blipFill>
          <a:blip r:embed="rId1"/>
          <a:srcRect l="18801" t="4967" r="28155" b="4936"/>
          <a:stretch/>
        </p:blipFill>
        <p:spPr>
          <a:xfrm>
            <a:off x="0" y="260280"/>
            <a:ext cx="3780000" cy="623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4103640" y="3319920"/>
            <a:ext cx="4284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窦娥是一个饱受封建压迫与摧残的充满反抗精神的劳动妇女的形象。她善良勤劳、孝顺贤惠，同时又坚强刚烈，具有封建贞节观念，敢于与恶势力拼斗到底。她生于严酷腐败的封建社会，注定了悲剧结局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物形象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95280" y="836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蔡婆婆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善良、胆小、糊涂、懦弱、逆来顺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面对张驴儿父子的强娶动摇不定，间接导致了窦娥的悲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4000" y="2565360"/>
            <a:ext cx="7988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驴儿 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无赖、狠毒、品行恶劣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征横行乡里的恶势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桃杌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贪财凶暴、草菅人命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征司法不公、政治腐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78100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人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-----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社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292640"/>
            <a:ext cx="77738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赖张驴儿和昏官桃杌所代表的社会黑暗势力无情的毁灭了窦娥（劳动人民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549360"/>
            <a:ext cx="82422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戏剧是通过矛盾冲突来塑造人物形象表达主题的。文中主要矛盾是什么矛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124000" y="22860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七、拓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良而坚强的窦娥就这样无辜的被送上了刑场，这样的结局着实让人痛心惋惜愤恨，我相信在座的每一位都希望窦娥能幸福的生活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21337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心愿终于在明代人叶宪祖那儿得到实现，叶宪祖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窦娥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编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锁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窦娥的丈夫并没有夭折，而是在赴京赶考途中，落水黄河，被龙王招为驸马。三年后又入京参加科举考试，一举状元及第。而窦娥也在行刑时，因天降大雪，提刑官惊骇，急令刀下留人，得以不死。最后窦天章平反冤狱，窦娥得以昭雪获释，与丈夫蔡昌宗舟中相遇，父女夫妻欢庆团圆。正是“翁做高官婿状元，夫妻母子重相会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5334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叶宪祖这样一改，真正符合了大家的愿望，不知大家有何感想。请讨论一下：这样改好不好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剧本，看戏曲，一定要注意其矛盾冲突。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折戏中，冲突双方是谁？能由此概括出本剧的主题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表面上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冲突的双方是窦娥和桃杌太守、张驴儿等人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其实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窦娥的曲词和宾白来看，受冤的不仅仅是窦娥一个人，而是整个生活在黑暗社会中的劳动人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屈打成招、滥施刑罚、草菅人命、贪赃枉法的也不仅仅是桃杌等人，而是整个社会的腐败吏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396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由此，本剧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题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可这样概括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通过写窦娥被押赴刑场杀害的悲惨情景，揭露了元代吏治的腐败、残酷，反映了当时社会的黑暗，歌颂了窦娥 的善良心灵和反抗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803160"/>
            <a:ext cx="914400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四、语言表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根据下面两则材料，给“杂剧”下个定义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超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字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杂剧综合了“唱”“念”“做”等表现手法。它的剧本描写人物故事则主要通过歌唱和念白。一些优秀剧本的唱词都在不同程度上呈现出诗剧的色彩。念白部分由于受唐宋以来的戏剧传统的影响，常有插科打诨，颇富幽默趣味。杂剧每本四折，演唱四套宫调不同的曲子。这四套由一个演员主唱。扮演男主角叫正末，扮演女主角叫正旦。一些次要的角色被称为外末、外旦等，偶尔也唱一两支小令，从来不唱整套曲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杂剧盛行于元朝，明清渐趋衰微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答：杂剧是一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549360"/>
            <a:ext cx="8893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确定宾语中心语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统戏剧样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提炼两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材料中反映杂剧本质特点的有关内容，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念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表现手法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折本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行于元朝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把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内容变为宾语中心语前的修饰语，并合理安排好它们的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就可以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剧是一种）盛行于元朝、综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唱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念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表现手法、以主角的歌唱和念白为主的四折本传统戏剧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26028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00"/>
                </a:solidFill>
                <a:latin typeface="隶书"/>
                <a:ea typeface="隶书"/>
              </a:rPr>
              <a:t>二、元 代 杂 剧</a:t>
            </a:r>
            <a:r>
              <a:rPr b="1" lang="zh-CN" sz="6600" spc="-1" strike="noStrike">
                <a:solidFill>
                  <a:srgbClr val="3333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1916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杂剧一本通常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折一楔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角色大致可以分为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旦（女角）、末（男角）、净（似京剧的花脸，可扮男，也可扮女）、杂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上述三类不包括的杂角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类。一本杂剧只限一个角色唱，其他角色只能念白。动作和效果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凡需演员表演某一动作，剧本上都标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剧本由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唱、科、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部分构成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2602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元杂剧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杂剧有一套较严格的体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结构：元杂剧一般是一本四折演一完整的故事，个别的有五折、六折或多本连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折是音乐组织的单元，也是故事情节发展的自然段落，它不受时间、地点的限制，每一折大都包括较多的场次，类似于现代戏剧的“幕”。有的杂剧还有“楔子”，通常在第一折之前起交代作用相当于现代剧的序幕，用来说明情节，介绍人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189000"/>
            <a:ext cx="856908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角色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扮演的角色有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旦、末、净、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杂剧每本戏只有一个主角。男主角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女主角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正末主唱的剧本叫末本，正旦主唱的叫旦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女角色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分正旦（女主角）、副旦（女配角）、外旦、小旦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男角色称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分正末（男主角）、副末（又叫冲末，男配角）、外末（老年男子）、小末（少年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俗称“大花脸”，大都扮演性格刚烈、相貌上有特异之处的人物如张飞、李逵。有男有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包括细酸（穷秀才）、孛（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 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老（老头儿），卜儿（老妇人），孤（官员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徕儿（小厮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剧本的构成：剧本由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唱、科、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部分构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唱叫曲词，是按一定的宫调（乐调）、曲牌（曲谱）写成的韵文，元杂剧规定，每一折戏，唱同一宫调的一套曲子，其宫调和每套曲子的先后顺序都有惯例规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科是戏剧动作的总称，包括舞台的武打和舞蹈。如“做哭科”“做笑科”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白是“宾白”，是剧中人的说白部分”宾白又分以下四种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白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物对话；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独白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人物自叙；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旁白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背过别的人物自叙心理话；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带白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唱词中的插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68360" y="1268280"/>
            <a:ext cx="8283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-18030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新宋体-18030"/>
              </a:rPr>
              <a:t>元杂剧的唱词按一定的宫调写成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新宋体-18030"/>
              </a:rPr>
              <a:t>共分“五宫四调”：正宫、中吕宫、南吕宫、仙吕宫、黄钟宫和大石调、双调、越调、商调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新宋体-18030"/>
              </a:rPr>
              <a:t>元杂剧中一折限于一调一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中国十大古典悲剧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窦娥冤》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-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元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·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关汉卿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《赵氏孤儿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纪君 《精忠旗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冯梦龙  《清忠谱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清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李  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《桃花扇》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-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清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·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孔尚任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《汉宫秋》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-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元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·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马致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《琵琶记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高则诚   《娇红记》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孟称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《长生殿》清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·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洪   昇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《雷峰塔》清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方成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56:17Z</dcterms:modified>
  <cp:revision>232</cp:revision>
  <dc:subject/>
  <dc:title>PowerPoint 演示文稿</dc:title>
</cp:coreProperties>
</file>