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9CC-5874-4F1C-89ED-5C4C4047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395-3211-413E-ACA2-7AD9A059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0BC-CC7B-4D9A-ADEF-7CDA3166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297-647D-416D-AC15-2BE080A4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439-D22D-4D36-B9D1-DB4EC2CA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D8A-9BBE-46C8-A310-8E18DDD4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65E-C12F-441D-A4BA-0A8CE9A5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38D-203F-48F2-ACE7-5EAAAD01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F01-29A6-44FF-8C3B-D569F209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A1D-2599-44E0-B816-521C7213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5F2-0536-41FC-9B32-1A71BF29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321-5C6D-48D6-B4D4-75438BD6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3241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1407-A219-495E-8CF2-164955134B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411722463897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457200"/>
            <a:ext cx="24382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6600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登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14479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制作：  城关初中 王玉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819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后四句写登高时触发的感慨，作者忧国伤时的情操，跃然纸上。颈联从纵（时间、“百年”）、横（空间、“万里”）两方面着手，由异乡飘泊写到多病残生，使人深深感到他那沉重地跳动着的脉搏，并和上联的“无边”、“不尽”，在意境上互为呼应。尾联也以对作结，并分承五六两句，盖久客则艰苦备尝，多病则潦倒日甚，所以白发频添，酒杯难举，同时点出了此时艰难正是潦倒不堪的根源，无限悲凉之意，溢于言外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</a:rPr>
              <a:t>《登高》讨论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、本诗前两联写景，后两联抒情，说说这首诗的情景交融的特点。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、诗人忧国伤时的感情集中表现在哪个诗句上，试做分析。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、本诗四联都是对仗，都很工整，试以一、二联为例，说说你的体会。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1752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 u="sng">
                <a:solidFill>
                  <a:srgbClr val="cc6600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NI_085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549000" cy="549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下列说法不正确的一项是（      ）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《登高》中“风急”二字一开头就以猎猎秋风，把读者带入了苍凉肃杀的秋景之中。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《登高》八句四联皆对仗，很好地表现了诗人“尽善尽工”的艺术风格。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《登高》的颈联和尾联由写景转入抒情，抒发了诗人常年漂泊、老病孤愁的复杂感情。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D  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尾联中的“艰难”就是指作者的自身命运，并非兼指国家的命运。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60958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6248520"/>
            <a:ext cx="1981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 u="sng">
                <a:solidFill>
                  <a:srgbClr val="cc6600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ANI_032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051200" cy="296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15200" y="9144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84880" y="83808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古典诗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古体诗（又称为古风）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五言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绝句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七言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近体诗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五言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                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律诗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七言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22096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57200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312408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00200"/>
            <a:ext cx="380880" cy="4038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219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《石壕吏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981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《寻隐者不遇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31240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《秋词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5049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4821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4343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《过故人庄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5562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《登高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NI_032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1371600" cy="457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685800"/>
            <a:ext cx="8534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1200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多年前，一个秋天，九月初九重阳节前后。夔州，长江边。大风凛冽地吹，吹得江边万木凋零。树叶在天空中飘飘洒洒，漫山遍地满是衰败、枯黄的树叶。江水滚滚翻腾，急剧地向前冲击。凄冷的风中，有几只孤鸟在盘旋。远处还不时传来几声猿的哀鸣。这时，一位老人朝山上走来。他衣衫褴褛，老眼浑浊，蓬头垢面。老人步履蹒跚，跌跌撞撞。他已经满身疾病，有肺病、疟疾、风痹。而且已经“右臂偏枯耳半聋”。</a:t>
            </a:r>
            <a:br>
              <a:rPr sz="2400"/>
            </a:b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　　重阳节，是登高祈求长寿的节日。可是这位老人，一生坎坷，穷愁潦倒，似乎已经走到了生命的冬季。而且此时，国家正处在战乱之中，他远离家乡，孤独地一个人在外漂泊。</a:t>
            </a:r>
            <a:br>
              <a:rPr sz="2400"/>
            </a:b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　　面对万里江天，面对孤独的飞鸟，面对衰败的枯树，老人百感千愁涌上心头…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848720" y="57150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草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63" name="无标题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14600" y="6248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9966ff"/>
                </a:solidFill>
                <a:latin typeface="Times New Roman"/>
              </a:rPr>
              <a:t>杜甫旧居——草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</a:rPr>
              <a:t>杜甫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子美（  ） 杜少陵（           ）杜工部      （                     ）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诗圣”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诗史”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三吏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（                                                   ）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三别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17524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1828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曾居少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362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曾任工部员外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343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《石壕吏》、《潼关吏》、《新安吏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5029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《新婚别》、《垂老别》、《无家别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00"/>
                </a:solidFill>
                <a:latin typeface="Times New Roman"/>
              </a:rPr>
              <a:t>登高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风急天高猿啸哀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,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渚清沙白鸟飞回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.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 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无边落木萧萧下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,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不尽长江滚滚来。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 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万里悲秋常作客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,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百年多病独登台。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 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艰难苦病繁霜鬓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,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经典繁行书"/>
              </a:rPr>
              <a:t>潦倒新停浊酒杯。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          </a:t>
            </a:r>
            <a:r>
              <a:rPr b="0" lang="zh-CN" sz="4000" spc="-1" strike="noStrike" u="sng">
                <a:solidFill>
                  <a:srgbClr val="cc6600"/>
                </a:solidFill>
                <a:uFillTx/>
                <a:latin typeface="Times New Roman"/>
                <a:hlinkClick r:id="rId2" action="ppaction://hlinksldjump"/>
              </a:rPr>
              <a:t>背景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zh-CN" sz="4000" spc="-1" strike="noStrike" u="sng">
                <a:solidFill>
                  <a:srgbClr val="cc6600"/>
                </a:solidFill>
                <a:uFillTx/>
                <a:latin typeface="Times New Roman"/>
                <a:hlinkClick r:id="rId3" action="ppaction://hlinksldjump"/>
              </a:rPr>
              <a:t>鉴赏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zh-CN" sz="4000" spc="-1" strike="noStrike" u="sng">
                <a:solidFill>
                  <a:srgbClr val="cc6600"/>
                </a:solidFill>
                <a:uFillTx/>
                <a:latin typeface="Times New Roman"/>
                <a:hlinkClick r:id="rId4" action="ppaction://hlinksldjump"/>
              </a:rPr>
              <a:t>讨论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zh-CN" sz="4000" spc="-1" strike="noStrike" u="sng">
                <a:solidFill>
                  <a:srgbClr val="cc6600"/>
                </a:solidFill>
                <a:uFillTx/>
                <a:latin typeface="Times New Roman"/>
                <a:hlinkClick r:id="rId5" action="ppaction://hlinksldjump"/>
              </a:rPr>
              <a:t>练习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9714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我有这样一个观点，不知对不对？即，要想读好一首诗或一篇文章，你就把你自己当成作者，化身为其人，就当这首诗或这篇文章就是你自己写的。老师在读这首诗时就真是这样想的，我想我就是杜甫，就是那个老病孤独的杜甫。我就站在长江边上，衣衫褴楼，蓬头垢面，登高望远，怀想家乡，思念亲人，牵挂祖国，同时更凄凉地想自我人生，想自己这一辈子。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</a:rPr>
              <a:t>《登高》背景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Times New Roman"/>
              </a:rPr>
              <a:t>这首诗是杜甫在大历二年（</a:t>
            </a:r>
            <a:r>
              <a:rPr b="0" lang="zh-CN" sz="4800" spc="-1" strike="noStrike">
                <a:solidFill>
                  <a:srgbClr val="6600cc"/>
                </a:solidFill>
                <a:latin typeface="Times New Roman"/>
              </a:rPr>
              <a:t>767</a:t>
            </a:r>
            <a:r>
              <a:rPr b="0" lang="zh-CN" sz="4800" spc="-1" strike="noStrike">
                <a:solidFill>
                  <a:srgbClr val="6600cc"/>
                </a:solidFill>
                <a:latin typeface="Times New Roman"/>
              </a:rPr>
              <a:t>年）重阳日寄寓夔州（现重庆奉节）时写的，抒发了诗人常年漂泊、老病孤愁的复杂感情。</a:t>
            </a:r>
            <a:endParaRPr b="0" lang="en-US" sz="4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6019920"/>
            <a:ext cx="2514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 u="sng">
                <a:solidFill>
                  <a:srgbClr val="cc6600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0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644400"/>
            <a:ext cx="7064280" cy="360"/>
            <a:chOff x="0" y="644400"/>
            <a:chExt cx="7064280" cy="360"/>
          </a:xfrm>
        </p:grpSpPr>
        <p:sp>
          <p:nvSpPr>
            <p:cNvPr id="79" name=""/>
            <p:cNvSpPr/>
            <p:nvPr/>
          </p:nvSpPr>
          <p:spPr>
            <a:xfrm>
              <a:off x="0" y="64440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64440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858000" y="617220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 u="sng">
                <a:solidFill>
                  <a:srgbClr val="cc6600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《登高》鉴赏</a:t>
            </a:r>
            <a:br>
              <a:rPr sz="6000"/>
            </a:b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           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对前四句写登高见闻，紧扣夔州特定环境。首联起，不仅上下两句对，而且句中自对，十四个字字字精当，无一虚设，奇妙无比。颔联在写景的同时，深沉地抒发了情怀，透过沉郁苍凉的对句，显示了出神入化的笔力。四句诗闻与见，山和水，两两间隔，妙语天成。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3:26:59Z</dcterms:created>
  <dc:creator>haier</dc:creator>
  <dc:description/>
  <dc:language>en-US</dc:language>
  <cp:lastModifiedBy>aa</cp:lastModifiedBy>
  <dcterms:modified xsi:type="dcterms:W3CDTF">2005-09-29T02:10:01Z</dcterms:modified>
  <cp:revision>69</cp:revision>
  <dc:subject/>
  <dc:title>杜甫律诗三首</dc:title>
</cp:coreProperties>
</file>