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AC6-52C4-482B-A04D-808DC7EB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389-C7EB-4284-AC12-99B2059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068C-DC12-427C-83FB-1CEB339F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23044-33CA-4D90-8D23-15D48147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B85B1-B80A-44EF-AAB0-93E706F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9ADEF-4CA9-4C9E-80F5-A3C9EAD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BF4D0-A9D9-4092-9341-FE07C73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8B281-0ED4-4814-922F-1083B196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F27D3-39D7-45EF-AA25-571A1E2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68F48-1DF7-431A-A65A-114B22B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3CB0-D9E8-4D99-A7F9-4841D5D5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1F88-11C0-44FE-B762-78504731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CD7-7BF6-4C62-AEF1-3E78A6CB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17E5A-E2BF-40C9-BD29-D026C34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56518-2AA3-45C4-A890-7684A490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E504E-5B2E-4AC9-9B51-81A8F43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7EDB-6684-42B8-9F7A-AECEFF3A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2D7C2-024A-4066-B7CD-87EC1CD0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EF481-7D92-44E8-8409-44D24CF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1F60-BBAC-40ED-B5D9-F8377D2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49B65-4D5E-4328-BAA6-C14A3ED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30902-8484-4396-A33C-89C36EF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E2B97-9352-4ED4-8EAE-E3CF5129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778-09FF-44D6-B93F-FF276CDC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5C4D2-37BB-4A44-8594-B86B2584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A943B-16E1-4285-AA3C-3CF708E0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937E-9FF8-4C89-83D9-CD6F433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088B-6FDC-4717-B65F-FCA72BD5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B0E45-822F-41BA-9247-3927950A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5CCB3-C182-41B0-9940-29177781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9F96E-BF24-4B59-AEDD-70DFE652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25AD-4C65-4C00-B991-1C1B4093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49976-1186-40C3-9754-4CF2142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738C1-E65B-445E-9471-9E41D6C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B224-0E91-4224-BEB8-0EF944FD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C04D9-0543-4326-8499-9A15D40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C9E1F-570A-4A3B-B581-FC916EAC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D58D0-1CEF-4670-9C8B-6B9DE0B9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0691-A36A-4510-82F8-2C0D999C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3185E-EC96-4613-9736-3493F806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56818-3A03-4D98-9570-8701E22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B2325-626A-4A07-B3E7-ADA4D42F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730F-4DB8-4609-B72B-886BED47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EAA3F-AA25-4DB1-8844-28716908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06F29-C706-4A3F-B502-AD8CA5F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4C9-0B48-4D4E-9A2F-FBC4BE4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7E3DD-16BA-4CAF-B686-E0A7493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80037-941B-49D7-AE57-B40739F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D68AB-D840-42A5-B748-A60E36A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8A96C-035F-4BFF-90B0-DE7102D2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1BA14-39AE-4CA9-A37D-C1DE518D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8E7B-2F4F-432A-BC54-477B51C8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E48-3C03-4AB0-9E8B-554089A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E889-7F82-4BCA-8260-4FBF9B09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BC06-805D-4020-BD52-39DD8A6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54E8-2A36-4342-8F49-5179706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003-0EC9-41C9-85E9-FC32E26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6DF4-5630-4CED-8F00-49B819D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030-6700-46C9-9941-062CEF3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832-8CC9-43FD-8CB3-34D13D3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943-6FB5-4181-A96D-5B5ECE6D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69F-C3BB-45D9-97C4-E1B907EB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A9DC-5DE5-4E92-8317-6ED9B7D6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4DA4-6FD4-4CF1-9DA6-414FBF2A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1BC2-4296-4EE3-AAD2-F48D24EE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9C12-750C-4748-82BD-A2FE01A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394F-9754-4C22-81B9-904004AC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28B-F6BD-4556-8A67-DD69CAA3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12E6-BBE3-47DF-B2A1-448BDA0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FC6B-6D9B-421A-9941-92D3A317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F396-63D5-4D0C-B1B9-C435741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243A-0EC1-4532-88D6-82D0095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7122-BB61-4D97-9A0E-ABF7AE0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3755-8EA4-4075-A3B9-37D20110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D039-4196-4368-82E9-E48E5FC5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09AF5-6A8A-4213-B531-1471308B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FED8-AD18-49FE-9FD6-B44DD2C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A5F4-D1D8-4971-80F3-022EECD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DE5-3081-475C-87C4-3995935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40AE-2EC8-4B70-BDA1-FC490378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67D2-5614-4DAD-B54A-572D446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AD5E-5DCD-4AA1-9996-3F378E9D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1A3A6-AFFB-4276-A4E2-B5134B7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3E4E-2886-42F8-BA67-0A39546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7DA3A-96D5-49FA-B087-27D4CD2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8A83-2D31-48C1-8963-DD98FC27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D352-D830-4CB5-9D15-2DC3EE9F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A3F3-464E-41D4-996A-D83189C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8D91-AAB5-493B-8828-294A278D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5B7-A559-429A-9AA4-FB32EF7F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B7AE-F85C-4279-9176-225AF84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0DB5-7A3F-4748-9CB0-68828AD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FE8D-F976-44CE-ACBE-6F1AAD3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711D-7AD9-4B79-8501-A6922E42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CAB8-49D8-4C59-8E9A-034257D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C8FB-402B-4A9A-8F10-8384E43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62E13-CAE7-4234-A393-299D163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B126-5DAB-4996-A1DF-930CDDD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E011F-03D9-4AEE-B979-4801D2A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4B95-9DA9-41FE-9FC6-BC5DCC3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86B-9704-403F-B3FC-81D04A5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FF10-3807-433C-BF72-365E223B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B9176-2CD4-4165-8AEE-30203AE3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F55B-B661-474C-8D6E-4D8960F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EA844-B508-4F19-B058-53B8BE0C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EB59-3F2E-4702-BE90-100D4FFA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BC18E-1FE4-4993-883A-F978648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07D6-E44D-40B0-A681-99BBCC10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DA5E-6D62-4459-80C8-3767D8F7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DD0E-E6A1-4E29-9A11-D036781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1F50-1888-4E79-B97C-02497AD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ECD-D524-495A-9DC8-87DA970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1233-4EFE-456E-B969-6A4453AE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0E9DA-C052-4703-8240-73C25EE5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4773-D770-4DD0-B05B-F76461AB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D9ADD-015E-4BEB-B616-8E644CCF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F0C9-6558-4D06-9E03-792E27FA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15E8D-F393-4AB3-AF9A-CF012F0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AED8-6C2A-4A9C-AEEF-B1BBB501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2049A-D588-461E-96E2-F1BDB20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82CA-472F-4FB9-B1C4-63A8C9E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1200-1D33-4217-8344-F3CA776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701-A788-4988-B091-44ED7BD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F6E40-13B3-4F30-BE96-A2881F51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08F7-20D5-40AB-AF1F-BF8B7EF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27FB5-7482-4B6F-811A-7D9F803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92FF-73C9-4ADE-84CA-EA5278AA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B1B5-FC1A-4D74-AEA2-AC817CA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EA5A1-16FE-4386-8BF2-E5986B9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D418-BF7C-4E1D-8D19-07F44DFC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10B7-E909-4B8D-BD99-286C33DD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623B-15BD-4C81-8D46-93B25134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15E32-E8AB-422C-8D4A-340E4AD4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DA8-34E9-4E86-AFD3-A98913A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6CE58-A34C-4E4C-95BE-5729A20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7B99-A95E-4EDA-BEAE-A45E7F0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6CB7-1E35-4ACA-B6BF-0A02CE5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F299-E431-4619-B445-6FFA4B2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FD65C-A6F7-4030-841B-10F0DFD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2ED28-2418-4A95-996E-E9D8E2B9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6359F-8EBE-4A81-83D6-A308DDA5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6E500-6DAD-461B-BFD4-BC017380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75DA2-23BA-404A-850D-6699815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83CDD-D936-4A17-A8F2-B5A16592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3A3E-84B5-4E23-A01D-876DDFBFA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CFBE-21C1-4D28-B563-B65EA8C70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0EF8-568B-4C0A-9131-24D03FD68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54CD-684D-4441-BB69-80BC5FBBD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9417-BA5F-4F48-A692-DD388D1E3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B088-E8ED-4A21-B48C-8C10DC583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44E-0038-4A88-AD6D-EB8E9159E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D11-2D37-400C-A17E-5C7896A16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CA0F-81B2-499D-9C15-CB93122BFD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0B99-4A1B-4978-90A9-C93D90064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367-BD34-47E4-84E5-98A4BEC51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CFE7-56B3-46E9-A839-3F70D6E36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1.gif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5124" descr="21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5125"/>
          <p:cNvSpPr/>
          <p:nvPr/>
        </p:nvSpPr>
        <p:spPr>
          <a:xfrm>
            <a:off x="900000" y="333360"/>
            <a:ext cx="575964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i="1" lang="zh-CN" sz="9600" spc="-1" strike="noStrike" u="sng">
                <a:solidFill>
                  <a:srgbClr val="333399"/>
                </a:solidFill>
                <a:uFillTx/>
                <a:latin typeface="Arial"/>
              </a:rPr>
              <a:t>搭   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刘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内容占位符 92161" descr="2_17005000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23" name="文本框 92162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清　波　漾　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92163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内容占位符 10342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26" name="文本框 103426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03427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内容占位符 11366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113666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13667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113668" descr="4B314765285"/>
          <p:cNvPicPr/>
          <p:nvPr/>
        </p:nvPicPr>
        <p:blipFill>
          <a:blip r:embed="rId2"/>
          <a:stretch/>
        </p:blipFill>
        <p:spPr>
          <a:xfrm>
            <a:off x="5364000" y="5734080"/>
            <a:ext cx="2665440" cy="565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内容占位符 86017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33" name="文本框 86018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86019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内容占位符 91137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91138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内容占位符 89089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89090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内容占位符 93185" descr="2_17005000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93186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清　波　漾　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93187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内容占位符 104449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104450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04451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内容占位符 105473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10547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05475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内容占位符 106497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106498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06499"/>
          <p:cNvSpPr/>
          <p:nvPr/>
        </p:nvSpPr>
        <p:spPr>
          <a:xfrm>
            <a:off x="395280" y="476280"/>
            <a:ext cx="835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　家乡有一句“紧走搭石慢过桥”的俗语。搭石，原本就是天然石块，踩上去难免会活动，走得快才容易保持平衡。人们走搭石不能抢路，也不能突然止步。如果前面的人突然停住，后边的人没处落脚，就会掉进水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当上工、下工，一行人走搭石的时候，动作是那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协调有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前面的抬起脚来，后面的紧跟上去，踏踏的声音，像轻快的音乐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清波漾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人影绰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79873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96" name="文本框 79874"/>
          <p:cNvSpPr/>
          <p:nvPr/>
        </p:nvSpPr>
        <p:spPr>
          <a:xfrm>
            <a:off x="611280" y="1341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气变凉，家乡的人们会根据水的深浅，从河的两岸找来一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整方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石头，按照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尺左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间隔，在小溪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横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摆上一排，让人们从上面踏过，这就是搭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内容占位符 107521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107522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07523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内容占位符 112641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112642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11264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内容占位符 66561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58" name="文本框 66563"/>
          <p:cNvSpPr/>
          <p:nvPr/>
        </p:nvSpPr>
        <p:spPr>
          <a:xfrm>
            <a:off x="468360" y="9079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读课文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划出有关句子，体会看不见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反复读句子，想想具体从哪些字词体会到 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6582"/>
          <p:cNvSpPr/>
          <p:nvPr/>
        </p:nvSpPr>
        <p:spPr>
          <a:xfrm>
            <a:off x="6300720" y="6093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6583"/>
          <p:cNvSpPr/>
          <p:nvPr/>
        </p:nvSpPr>
        <p:spPr>
          <a:xfrm>
            <a:off x="7885080" y="580536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6592"/>
          <p:cNvGrpSpPr/>
          <p:nvPr/>
        </p:nvGrpSpPr>
        <p:grpSpPr>
          <a:xfrm>
            <a:off x="5651640" y="6165720"/>
            <a:ext cx="215640" cy="287640"/>
            <a:chOff x="5651640" y="6165720"/>
            <a:chExt cx="215640" cy="287640"/>
          </a:xfrm>
        </p:grpSpPr>
        <p:sp>
          <p:nvSpPr>
            <p:cNvPr id="562" name="矩形 66581"/>
            <p:cNvSpPr/>
            <p:nvPr/>
          </p:nvSpPr>
          <p:spPr>
            <a:xfrm>
              <a:off x="5651640" y="6165720"/>
              <a:ext cx="215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文本框 66585"/>
            <p:cNvSpPr/>
            <p:nvPr/>
          </p:nvSpPr>
          <p:spPr>
            <a:xfrm>
              <a:off x="5651640" y="6165720"/>
              <a:ext cx="21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文本框 66586"/>
          <p:cNvSpPr/>
          <p:nvPr/>
        </p:nvSpPr>
        <p:spPr>
          <a:xfrm rot="10678800">
            <a:off x="6300360" y="609120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6587"/>
          <p:cNvSpPr/>
          <p:nvPr/>
        </p:nvSpPr>
        <p:spPr>
          <a:xfrm>
            <a:off x="6300720" y="6093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66588"/>
          <p:cNvSpPr/>
          <p:nvPr/>
        </p:nvSpPr>
        <p:spPr>
          <a:xfrm rot="10678800">
            <a:off x="6300360" y="609120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66591"/>
          <p:cNvGrpSpPr/>
          <p:nvPr/>
        </p:nvGrpSpPr>
        <p:grpSpPr>
          <a:xfrm>
            <a:off x="6296760" y="6086160"/>
            <a:ext cx="294840" cy="294120"/>
            <a:chOff x="6296760" y="6086160"/>
            <a:chExt cx="294840" cy="294120"/>
          </a:xfrm>
        </p:grpSpPr>
        <p:sp>
          <p:nvSpPr>
            <p:cNvPr id="568" name="矩形 66589"/>
            <p:cNvSpPr/>
            <p:nvPr/>
          </p:nvSpPr>
          <p:spPr>
            <a:xfrm>
              <a:off x="6300720" y="6093000"/>
              <a:ext cx="216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66590"/>
            <p:cNvSpPr/>
            <p:nvPr/>
          </p:nvSpPr>
          <p:spPr>
            <a:xfrm rot="10678800">
              <a:off x="6300360" y="609120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6594"/>
          <p:cNvGrpSpPr/>
          <p:nvPr/>
        </p:nvGrpSpPr>
        <p:grpSpPr>
          <a:xfrm>
            <a:off x="7020000" y="5948280"/>
            <a:ext cx="358560" cy="289080"/>
            <a:chOff x="7020000" y="5948280"/>
            <a:chExt cx="358560" cy="289080"/>
          </a:xfrm>
        </p:grpSpPr>
        <p:sp>
          <p:nvSpPr>
            <p:cNvPr id="571" name="矩形 66584"/>
            <p:cNvSpPr/>
            <p:nvPr/>
          </p:nvSpPr>
          <p:spPr>
            <a:xfrm>
              <a:off x="7093080" y="5950080"/>
              <a:ext cx="215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66593"/>
            <p:cNvSpPr/>
            <p:nvPr/>
          </p:nvSpPr>
          <p:spPr>
            <a:xfrm rot="10800000">
              <a:off x="7020000" y="5948280"/>
              <a:ext cx="35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内容占位符 12289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12290"/>
          <p:cNvSpPr/>
          <p:nvPr/>
        </p:nvSpPr>
        <p:spPr>
          <a:xfrm>
            <a:off x="755640" y="155736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上了点年岁的人，无论怎样急着赶路，只要发现哪块搭石不平稳，一定会放下带的东西，找来合适的石头搭上，再在上边踏上几个来回，直到满意了才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内容占位符 2662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76" name="文本框 26626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踏上几个来回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内容占位符 27649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78" name="文本框 27650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内容占位符 75777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0" name="文本框 75778"/>
          <p:cNvSpPr/>
          <p:nvPr/>
        </p:nvSpPr>
        <p:spPr>
          <a:xfrm>
            <a:off x="755640" y="333360"/>
            <a:ext cx="7920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老人踩到了不稳的搭石，他想（                                   ），当他找到合适的石头搭上，还要在上面踏上几个来回，他（                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内容占位符 10854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108546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内容占位符 110593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4" name="文本框 110594"/>
          <p:cNvSpPr/>
          <p:nvPr/>
        </p:nvSpPr>
        <p:spPr>
          <a:xfrm>
            <a:off x="684360" y="404640"/>
            <a:ext cx="792000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搭石，构成了家乡的一道风景。秋凉以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早早地将搭石摆放好。如果别处都有搭石，唯独这一处没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会谴责这里的人懒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内容占位符 111617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6" name="文本框 111618"/>
          <p:cNvSpPr/>
          <p:nvPr/>
        </p:nvSpPr>
        <p:spPr>
          <a:xfrm>
            <a:off x="684360" y="404640"/>
            <a:ext cx="79200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搭石，构成了家乡的一道风景。秋凉以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早早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将搭石摆放好。如果别处都有搭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唯独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处没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会谴责这里的人懒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1619"/>
          <p:cNvSpPr/>
          <p:nvPr/>
        </p:nvSpPr>
        <p:spPr>
          <a:xfrm>
            <a:off x="7956720" y="6165720"/>
            <a:ext cx="287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内容占位符 10241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0243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024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内容占位符 47108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47109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47110"/>
          <p:cNvSpPr/>
          <p:nvPr/>
        </p:nvSpPr>
        <p:spPr>
          <a:xfrm>
            <a:off x="539640" y="2421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如果有两个人面对面同时走到溪边，总会在第一块搭石前止步，招手示意，让对方先走，等对方过了河，俩人再说上几句家常话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内容占位符 50177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92" name="文本框 50178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0179"/>
          <p:cNvSpPr/>
          <p:nvPr/>
        </p:nvSpPr>
        <p:spPr>
          <a:xfrm>
            <a:off x="539640" y="2421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两个人面对面同时走到溪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第一块搭石前止步，招手示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对方先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等对方过了河，俩人再说上几句家常话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内容占位符 51201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95" name="文本框 51202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51203"/>
          <p:cNvSpPr/>
          <p:nvPr/>
        </p:nvSpPr>
        <p:spPr>
          <a:xfrm>
            <a:off x="539640" y="2421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两个人面对面同时走到溪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第一块搭石前止步，招手示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对方先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等对方过了河，俩人再说上几句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家常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动作按钮: 自定义 51204"/>
          <p:cNvSpPr/>
          <p:nvPr/>
        </p:nvSpPr>
        <p:spPr>
          <a:xfrm>
            <a:off x="7164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内容占位符 3174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31746"/>
          <p:cNvSpPr/>
          <p:nvPr/>
        </p:nvSpPr>
        <p:spPr>
          <a:xfrm>
            <a:off x="539640" y="177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假如遇上老人来走搭石，年轻人总要伏下身子背老人过去，人们把这看成理所当然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内容占位符 53249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01" name="文本框 53250"/>
          <p:cNvSpPr/>
          <p:nvPr/>
        </p:nvSpPr>
        <p:spPr>
          <a:xfrm>
            <a:off x="539640" y="1773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假如遇上老人来走搭石，年轻人总要伏下身子背老人过去，人们把这看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理所当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动作按钮: 自定义 53251"/>
          <p:cNvSpPr/>
          <p:nvPr/>
        </p:nvSpPr>
        <p:spPr>
          <a:xfrm>
            <a:off x="7308720" y="5589720"/>
            <a:ext cx="466920" cy="395280"/>
          </a:xfrm>
          <a:custGeom>
            <a:avLst/>
            <a:gdLst>
              <a:gd name="textAreaLeft" fmla="*/ 25560 w 466920"/>
              <a:gd name="textAreaRight" fmla="*/ 441360 w 466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511" h="21600">
                <a:moveTo>
                  <a:pt x="0" y="0"/>
                </a:moveTo>
                <a:lnTo>
                  <a:pt x="25511" y="0"/>
                </a:lnTo>
                <a:lnTo>
                  <a:pt x="25511" y="21600"/>
                </a:lnTo>
                <a:lnTo>
                  <a:pt x="0" y="21600"/>
                </a:lnTo>
                <a:close/>
              </a:path>
              <a:path fill="lightenLess" w="25511" h="21600">
                <a:moveTo>
                  <a:pt x="0" y="0"/>
                </a:moveTo>
                <a:lnTo>
                  <a:pt x="25511" y="0"/>
                </a:lnTo>
                <a:lnTo>
                  <a:pt x="24111" y="1400"/>
                </a:lnTo>
                <a:lnTo>
                  <a:pt x="1400" y="1400"/>
                </a:lnTo>
                <a:close/>
              </a:path>
              <a:path fill="darken" w="25511" h="21600">
                <a:moveTo>
                  <a:pt x="25511" y="0"/>
                </a:moveTo>
                <a:lnTo>
                  <a:pt x="25511" y="21600"/>
                </a:lnTo>
                <a:lnTo>
                  <a:pt x="24111" y="20200"/>
                </a:lnTo>
                <a:lnTo>
                  <a:pt x="24111" y="1400"/>
                </a:lnTo>
                <a:close/>
              </a:path>
              <a:path fill="darkenLess" w="25511" h="21600">
                <a:moveTo>
                  <a:pt x="25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1" y="20200"/>
                </a:lnTo>
                <a:close/>
              </a:path>
              <a:path fill="lighten" w="25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内容占位符 100353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100354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100356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内容占位符 7782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07" name="文本框 77826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77827"/>
          <p:cNvSpPr/>
          <p:nvPr/>
        </p:nvSpPr>
        <p:spPr>
          <a:xfrm>
            <a:off x="684360" y="220500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排排搭石，任人走，任人踏，它们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故乡的小路，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乡亲们美好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98305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98306" descr="4B257572911[1]"/>
          <p:cNvPicPr/>
          <p:nvPr/>
        </p:nvPicPr>
        <p:blipFill>
          <a:blip r:embed="rId2"/>
          <a:stretch/>
        </p:blipFill>
        <p:spPr>
          <a:xfrm>
            <a:off x="1447920" y="48769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98307" descr="4B398627253"/>
          <p:cNvPicPr/>
          <p:nvPr/>
        </p:nvPicPr>
        <p:blipFill>
          <a:blip r:embed="rId3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98308" descr="4B398630205"/>
          <p:cNvPicPr/>
          <p:nvPr/>
        </p:nvPicPr>
        <p:blipFill>
          <a:blip r:embed="rId4"/>
          <a:stretch/>
        </p:blipFill>
        <p:spPr>
          <a:xfrm>
            <a:off x="684360" y="83664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8309" descr="4B398627253"/>
          <p:cNvPicPr/>
          <p:nvPr/>
        </p:nvPicPr>
        <p:blipFill>
          <a:blip r:embed="rId5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练笔：写写自己发现的平凡事物中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99329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矩形 99337"/>
          <p:cNvSpPr/>
          <p:nvPr/>
        </p:nvSpPr>
        <p:spPr>
          <a:xfrm>
            <a:off x="5366160" y="981000"/>
            <a:ext cx="2724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没有心的沙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没有爱的荒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死神也望而却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幸福之花处处开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将变成美好的人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9330" descr="4B398627253"/>
          <p:cNvPicPr/>
          <p:nvPr/>
        </p:nvPicPr>
        <p:blipFill>
          <a:blip r:embed="rId2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99331" descr="4B398630205"/>
          <p:cNvPicPr/>
          <p:nvPr/>
        </p:nvPicPr>
        <p:blipFill>
          <a:blip r:embed="rId3"/>
          <a:stretch/>
        </p:blipFill>
        <p:spPr>
          <a:xfrm>
            <a:off x="2195640" y="2602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99332" descr="4B398627253"/>
          <p:cNvPicPr/>
          <p:nvPr/>
        </p:nvPicPr>
        <p:blipFill>
          <a:blip r:embed="rId4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262728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的奉献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99335"/>
          <p:cNvSpPr/>
          <p:nvPr/>
        </p:nvSpPr>
        <p:spPr>
          <a:xfrm>
            <a:off x="250920" y="982800"/>
            <a:ext cx="439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心的呼唤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爱的奉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人间的春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生命的源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没有心的沙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没有爱的荒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死神也望而却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幸福之花处处开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将变成美好的人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99336"/>
          <p:cNvSpPr/>
          <p:nvPr/>
        </p:nvSpPr>
        <p:spPr>
          <a:xfrm>
            <a:off x="8472600" y="333360"/>
            <a:ext cx="6714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图片 99338" descr="4B398630205"/>
          <p:cNvPicPr/>
          <p:nvPr/>
        </p:nvPicPr>
        <p:blipFill>
          <a:blip r:embed="rId5"/>
          <a:stretch/>
        </p:blipFill>
        <p:spPr>
          <a:xfrm>
            <a:off x="5435640" y="2602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99339" descr="4B398630205"/>
          <p:cNvPicPr/>
          <p:nvPr/>
        </p:nvPicPr>
        <p:blipFill>
          <a:blip r:embed="rId6"/>
          <a:stretch/>
        </p:blipFill>
        <p:spPr>
          <a:xfrm>
            <a:off x="3708360" y="2349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99340" descr="4B398630205"/>
          <p:cNvPicPr/>
          <p:nvPr/>
        </p:nvPicPr>
        <p:blipFill>
          <a:blip r:embed="rId7"/>
          <a:stretch/>
        </p:blipFill>
        <p:spPr>
          <a:xfrm>
            <a:off x="8028000" y="1125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99341" descr="4B398627253"/>
          <p:cNvPicPr/>
          <p:nvPr/>
        </p:nvPicPr>
        <p:blipFill>
          <a:blip r:embed="rId8"/>
          <a:stretch/>
        </p:blipFill>
        <p:spPr>
          <a:xfrm>
            <a:off x="7524720" y="24922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99342" descr="4B398627253"/>
          <p:cNvPicPr/>
          <p:nvPr/>
        </p:nvPicPr>
        <p:blipFill>
          <a:blip r:embed="rId9"/>
          <a:stretch/>
        </p:blipFill>
        <p:spPr>
          <a:xfrm>
            <a:off x="1332000" y="29242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99343" descr="4B398627253"/>
          <p:cNvPicPr/>
          <p:nvPr/>
        </p:nvPicPr>
        <p:blipFill>
          <a:blip r:embed="rId10"/>
          <a:stretch/>
        </p:blipFill>
        <p:spPr>
          <a:xfrm>
            <a:off x="3851280" y="33577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99344" descr="4B398627253"/>
          <p:cNvPicPr/>
          <p:nvPr/>
        </p:nvPicPr>
        <p:blipFill>
          <a:blip r:embed="rId11"/>
          <a:stretch/>
        </p:blipFill>
        <p:spPr>
          <a:xfrm>
            <a:off x="2843280" y="1125360"/>
            <a:ext cx="639720" cy="6400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99345" descr="4B398627253"/>
          <p:cNvPicPr/>
          <p:nvPr/>
        </p:nvPicPr>
        <p:blipFill>
          <a:blip r:embed="rId12"/>
          <a:stretch/>
        </p:blipFill>
        <p:spPr>
          <a:xfrm>
            <a:off x="468360" y="609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99346" descr="4B398627253"/>
          <p:cNvPicPr/>
          <p:nvPr/>
        </p:nvPicPr>
        <p:blipFill>
          <a:blip r:embed="rId13"/>
          <a:stretch/>
        </p:blipFill>
        <p:spPr>
          <a:xfrm>
            <a:off x="2987640" y="609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99347" descr="4B398627253"/>
          <p:cNvPicPr/>
          <p:nvPr/>
        </p:nvPicPr>
        <p:blipFill>
          <a:blip r:embed="rId14"/>
          <a:stretch/>
        </p:blipFill>
        <p:spPr>
          <a:xfrm>
            <a:off x="4859280" y="60213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99348" descr="4B398627253"/>
          <p:cNvPicPr/>
          <p:nvPr/>
        </p:nvPicPr>
        <p:blipFill>
          <a:blip r:embed="rId15"/>
          <a:stretch/>
        </p:blipFill>
        <p:spPr>
          <a:xfrm>
            <a:off x="7020000" y="59500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99349" descr="4B398630205"/>
          <p:cNvPicPr/>
          <p:nvPr/>
        </p:nvPicPr>
        <p:blipFill>
          <a:blip r:embed="rId16"/>
          <a:stretch/>
        </p:blipFill>
        <p:spPr>
          <a:xfrm>
            <a:off x="4356000" y="522936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635" name="爱的奉献7.mp3" descr=""/>
          <p:cNvPicPr/>
          <p:nvPr/>
        </p:nvPicPr>
        <p:blipFill>
          <a:blip r:embed="rId17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76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内容占位符 81921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8192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81924"/>
          <p:cNvSpPr/>
          <p:nvPr/>
        </p:nvSpPr>
        <p:spPr>
          <a:xfrm>
            <a:off x="395280" y="112536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清波漾漾，人影绰绰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81925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504" name="图片 81926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文本框 81927"/>
            <p:cNvSpPr/>
            <p:nvPr/>
          </p:nvSpPr>
          <p:spPr>
            <a:xfrm>
              <a:off x="2050920" y="6093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81928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507" name="图片 81929" descr="4B314765285"/>
            <p:cNvPicPr/>
            <p:nvPr/>
          </p:nvPicPr>
          <p:blipFill>
            <a:blip r:embed="rId3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文本框 81930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内容占位符 82945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10" name="文本框 82947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82948"/>
          <p:cNvSpPr/>
          <p:nvPr/>
        </p:nvSpPr>
        <p:spPr>
          <a:xfrm>
            <a:off x="324000" y="184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清波漾漾，人影绰绰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内容占位符 101377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13" name="文本框 101378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101379"/>
          <p:cNvSpPr/>
          <p:nvPr/>
        </p:nvSpPr>
        <p:spPr>
          <a:xfrm>
            <a:off x="395280" y="476280"/>
            <a:ext cx="8352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　家乡有一句“紧走搭石慢过桥”的俗语。搭石，原本就是天然石块，踩上去难免会活动，走得快才容易保持平衡。人们走搭石不能抢路，也不能突然止步。如果前面的人突然停住，后边的人没处落脚，就会掉进水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当上工、下工，一行人走搭石的时候，动作是那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协调有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前面的抬起脚来，后面的紧跟上去，踏踏的声音，像轻快的音乐；清波漾漾，人影绰绰，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内容占位符 84993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8499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84995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内容占位符 87041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文本框 87042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内容占位符 88065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066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0:17Z</dcterms:created>
  <dc:creator>user</dc:creator>
  <dc:description/>
  <dc:language>en-US</dc:language>
  <cp:lastModifiedBy>admin</cp:lastModifiedBy>
  <dcterms:modified xsi:type="dcterms:W3CDTF">2019-03-26T07:39:19Z</dcterms:modified>
  <cp:revision>54</cp:revision>
  <dc:subject/>
  <dc:title>搭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