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5DB-D78B-4EA1-AED1-0AEC8143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197-843D-4CA4-9752-6AA531B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000-A6A9-46A9-B0F6-A940F562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AE1-C292-4660-8B9D-29549604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8E5-26F8-4C14-8A55-40D9BF5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479-8ABF-4986-8919-5D11CDA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3C8-84AC-4495-AC4E-85A3A215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68D-EF56-4D43-9D11-3852EA0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089-CA45-4BB2-9B0D-FE88F34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42E-3CA7-4B7C-B435-34F59D9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8C-03A0-4AE9-8629-AEFAEAE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8FD-25FB-40DC-94C0-994DDBE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5400-9AF7-40F1-B8AF-1BB45D3EB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5760" y="1268280"/>
            <a:ext cx="12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从一个微笑开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33360" y="339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刘心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重点：了解文中阐述的道理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难点：理清文章论述的层次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4160" y="1390680"/>
            <a:ext cx="38383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心武，当代作家。生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川成都人，著有短篇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班主任》，长篇小说《钟鼓楼》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6000" y="1763640"/>
            <a:ext cx="39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整体感知，理清论述过程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——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以抒情起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让我们献出一个微笑开始的观点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4960" y="1557360"/>
            <a:ext cx="582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第二部分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5——9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段）是分析问题部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阐述微笑的意义。 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段：微笑面对世界的意义。 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段：论述不会微笑的生命中必有隐蔽的遗憾。 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段：论述要以微笑面对人生的挑战。 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段：不要丧失微笑的心绪，以微笑面对自己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20480" y="1341360"/>
            <a:ext cx="538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重申观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一个微笑开始，那就离成功很近，离幸福不远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总结写作特点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言醇厚，娓娓道来，阐述一个人生道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有说服力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处运用比喻、排比的修辞方法，富有感染力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、采用各种形式读几遍课文。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、给学生推荐刘心武的作品：长篇小说《钟鼓楼》（茅盾文学奖获奖作品）《刘心武揭秘红楼梦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4:26:13Z</dcterms:created>
  <dc:creator/>
  <dc:description/>
  <dc:language>en-US</dc:language>
  <cp:lastModifiedBy>zmj</cp:lastModifiedBy>
  <dcterms:modified xsi:type="dcterms:W3CDTF">2009-10-06T12:55:0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0000000000001024120</vt:lpwstr>
  </property>
</Properties>
</file>