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3236-7B2A-44B0-BAAD-C8EF35AC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D072-E5EA-47D2-BCFC-80D1BAA7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3B2-EA0A-4039-9B4F-B507D726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44BB-8F5E-48AF-8271-C1FD3676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7AF1-A6A4-4C31-92B7-B28BA204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113-0E3F-4242-ADD7-F3AEEAF7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494-B843-40DA-9722-243D699D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51B-074E-4B25-ADE2-7514A1DB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4FC-3A09-47CE-BC84-96819C80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797C-E7E9-4C54-8D6A-56DF50B1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F9AE-768E-47C6-BE02-AA9898E1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604-C338-4C8C-B07E-7D169C31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2414-8370-406D-AA53-4EDC8B7D77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p10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6840" y="-144720"/>
            <a:ext cx="2755800" cy="71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相思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  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纳兰性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146589410360998" descr=""/>
          <p:cNvPicPr/>
          <p:nvPr/>
        </p:nvPicPr>
        <p:blipFill>
          <a:blip r:embed="rId1"/>
          <a:stretch/>
        </p:blipFill>
        <p:spPr>
          <a:xfrm>
            <a:off x="0" y="0"/>
            <a:ext cx="299412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66040" y="0"/>
            <a:ext cx="294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多情贵胄——纳兰性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76212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纳兰性德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5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8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清词人。原名成德，避太子保成讳改性德；字容若（纳兰容若），号楞伽山人，满洲正黄旗人。大学士纳兰明珠长子，生长在北京。善骑射，好读书。经史百家无所不窥，谙悉传统学术文化，尤好填词。康熙十五年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67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进士，授乾清门三等侍卫，后循迁至一等。随扈出巡南北，并曾出使梭龙（黑龙江流域）考察沙俄侵扰东北情况。康熙二十四年患急病去世，年仅三十一岁。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760" y="4572000"/>
            <a:ext cx="893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品特点：词以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小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见长，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感伤情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间有雄浑之作。也能诗。有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通志堂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》。词集名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纳兰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》，有单行本。又与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徐乾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编刻唐以来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说经诸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通志堂经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》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5791320"/>
            <a:ext cx="92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诗词成就：与阳羡派代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陈维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浙西派掌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朱彝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鼎足而立，并称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清词三大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。况周颐《蕙风词话》中誉其为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国初第一词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00559205167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18800" y="-879840"/>
            <a:ext cx="790200" cy="87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万帐穹庐人醉    星影摇摇欲坠    归梦隔狼河  又被河声搅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又被河声搅碎    还睡  还睡   解道醒来无味   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——《如梦令 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8240" y="-68400"/>
            <a:ext cx="1400040" cy="69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谁翻乐府凄凉曲   风也萧萧   雨也萧萧    瘦尽灯花又一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不知何事萦怀抱   醒也无聊   醉也无聊  梦也何曾到谢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《采桑子 》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81600" y="-836280"/>
            <a:ext cx="1003320" cy="86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一生一代一双人     争教两处销魂    相思相望不相亲    天为谁春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浆向蓝桥易乞      药成碧海难奔    若容相访饮牛津    相对忘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《画堂春 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82840" y="0"/>
            <a:ext cx="23749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泪咽更无声  止向从前悔薄情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凭仗丹青重省识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盈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一片伤心画不成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别语忒分明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午夜鹣鹣梦早醒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卿自早醒侬自梦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更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泣尽风前夜雨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南乡子  为亡妇题照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 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09520" y="1669680"/>
            <a:ext cx="6678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纳兰作品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242480" y="1295280"/>
            <a:ext cx="12776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长相思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42640" y="855360"/>
            <a:ext cx="78984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一程  水一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09280" y="457200"/>
            <a:ext cx="1399320" cy="68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向榆关那畔行 夜深千帐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4880" y="823680"/>
            <a:ext cx="78984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一更  雪一更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70640" y="-677160"/>
            <a:ext cx="789840" cy="87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聒碎乡心梦不成 故园无此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37040" y="254124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词牌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7000" y="1084680"/>
            <a:ext cx="91188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一路走过的风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既感慨又峰回路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008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2590920"/>
            <a:ext cx="0" cy="1295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3840" y="1566360"/>
            <a:ext cx="546120" cy="33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俗语   如那厮  那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809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22920" y="4724280"/>
            <a:ext cx="3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松、高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动、豪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5410080"/>
            <a:ext cx="0" cy="1219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60840" y="4269600"/>
            <a:ext cx="54612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皇帝远征的浩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1676520"/>
            <a:ext cx="0" cy="761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6800" y="13489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山海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0"/>
            <a:ext cx="2286000" cy="609480"/>
          </a:xfrm>
          <a:prstGeom prst="rightArrow">
            <a:avLst>
              <a:gd name="adj1" fmla="val 50000"/>
              <a:gd name="adj2" fmla="val 937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31320" y="1125720"/>
            <a:ext cx="91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风雪之夜      思乡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感慨万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1523880"/>
            <a:ext cx="0" cy="7621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4419720"/>
            <a:ext cx="0" cy="22096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00" y="4222800"/>
            <a:ext cx="127764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家庭的温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衬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异地他乡的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8280" y="68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结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1165309927998" descr=""/>
          <p:cNvPicPr/>
          <p:nvPr/>
        </p:nvPicPr>
        <p:blipFill>
          <a:blip r:embed="rId1"/>
          <a:srcRect l="0" t="0" r="0" b="-19"/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16856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纳兰词道“夜深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帐灯”，如果换成诗仙李白也许就会变为“夜深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帐灯”，这显示出两个诗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自的风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767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纳兰这首词总的来说写得很传神动情，委婉多情又有少见的豪迈，只是纳兰作诗到情处又不夸张，不见大气魄犹见真情在，这大概跟他显赫的家世和父亲谨慎为官的教育有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5:22:59Z</dcterms:created>
  <dc:creator>hhh</dc:creator>
  <dc:description/>
  <dc:language>en-US</dc:language>
  <cp:lastModifiedBy>hhh</cp:lastModifiedBy>
  <dcterms:modified xsi:type="dcterms:W3CDTF">2007-03-20T17:28:20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2000000000001024120</vt:lpwstr>
  </property>
</Properties>
</file>