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12345.wav" ContentType="audio/x-wav"/>
  <Override PartName="/ppt/media/image7.png" ContentType="image/png"/>
  <Override PartName="/ppt/media/image4.gif" ContentType="image/gif"/>
  <Override PartName="/ppt/media/image9.gif" ContentType="image/gif"/>
  <Override PartName="/ppt/media/image8.jpeg" ContentType="image/jpeg"/>
  <Override PartName="/ppt/media/image10.jpeg" ContentType="image/jpeg"/>
  <Override PartName="/ppt/media/image6.png" ContentType="image/png"/>
  <Override PartName="/ppt/media/image11.gif" ContentType="image/gif"/>
  <Override PartName="/ppt/media/image19.gif" ContentType="image/gif"/>
  <Override PartName="/ppt/media/image1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3.jpeg" ContentType="image/jpeg"/>
  <Override PartName="/ppt/media/image18.gif" ContentType="image/gif"/>
  <Override PartName="/ppt/media/image13.jpeg" ContentType="image/jpeg"/>
  <Override PartName="/ppt/media/image12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A54-9B3F-43DC-94A9-ABFF6008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5CC-74EA-40DA-9E2E-4C2047F6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FCA-515A-41FA-8DC9-39961AA4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CE2-8FCC-419E-B832-2DEF6FAF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A915-AF44-4A21-9984-373FF78F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4E44-2793-4F6E-8A59-9281AA74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718D-6843-473C-A96B-D92486BA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689B-996D-446F-BC19-128C7906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7DC9-2DC7-4F97-9165-A3251B77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5072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AC6A-1615-42ED-B5AC-48D66C9C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2B34-6621-4F9C-AD1E-E42B59D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BEA-EF0B-410B-9ECB-0E67DEAA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9BEB-90CD-45F2-A33C-2152409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542E-5242-4B8E-8D2D-B8E64532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AB2C-EC75-4A89-8775-0805574E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F258-DB82-42B7-9CF4-8F2A9B69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0C69-4CA4-4C32-8811-1E7724D7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B7D-97E4-417A-9A49-03ED9DCF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1C7-3EEC-41FE-9CC5-D9ED7C70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F89-2E1C-4956-AB15-72D1C733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50720" y="6091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731-B851-44EF-9EA0-D51B5C3D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ECF-0871-45C4-A776-676F9A6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5D8-F79E-4C71-B717-9B3B2E0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9B4-41B6-4887-A95F-2B26C7A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4C92-A236-4CE9-B34F-41FDAF26D5B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295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658880"/>
            <a:ext cx="83808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01600" y="1523880"/>
            <a:ext cx="6364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1828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7F63-2BCC-4BBA-8297-4CAE2F9211A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12345.wav"/><Relationship Id="rId10" Type="http://schemas.openxmlformats.org/officeDocument/2006/relationships/audio" Target="../media/12345.wav"/><Relationship Id="rId11" Type="http://schemas.openxmlformats.org/officeDocument/2006/relationships/audio" Target="../media/12345.wav"/><Relationship Id="rId12" Type="http://schemas.openxmlformats.org/officeDocument/2006/relationships/audio" Target="../media/12345.wav"/><Relationship Id="rId13" Type="http://schemas.openxmlformats.org/officeDocument/2006/relationships/audio" Target="../media/12345.wav"/><Relationship Id="rId14" Type="http://schemas.openxmlformats.org/officeDocument/2006/relationships/audio" Target="../media/12345.wav"/><Relationship Id="rId1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8001000" cy="376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23880" y="1905120"/>
            <a:ext cx="64771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Tahoma"/>
                <a:ea typeface="楷体_GB2312"/>
              </a:rPr>
              <a:t>写作目的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281320" y="2133720"/>
            <a:ext cx="475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借讲前朝故事来揭露黑暗现实，批判的针芒直指天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本文是《聊斋志异》中深刻揭露黑暗现实的篇章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作品是以斗促织的宫廷嬉戏作为引线，通过曲折变化的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节揭露黑暗的社会现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67840" y="261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5334120" cy="2666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0384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  <a:ea typeface="华文彩云"/>
              </a:rPr>
              <a:t>全文特点概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4419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借古讽今的手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95288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借明朝讽喻清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（讽刺贪官虐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254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细腻的心理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971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跌宕起伏、曲折生动的故事情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756240" cy="4952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3434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  <a:ea typeface="华文行楷"/>
              </a:rPr>
              <a:t>蒲      松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934320" y="762120"/>
            <a:ext cx="771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</a:rPr>
              <a:t>课后作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0866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参照作品的故事情节编写一个戏剧小品。可发挥想象，进行再创造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2514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场数以一场为宜，可任意截取课文中某片段改编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3397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台词可用原文，也可自编，但必须符合人物性格；要有舞台说明和矛盾冲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4357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剧中人物个数不定，但主人公不能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921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可仿照学过的某个戏剧小品（如话剧《茶馆》）依样画葫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1646280" cy="1235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400800" y="609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1905120" cy="1888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133720" y="205740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600200" y="762120"/>
            <a:ext cx="1646280" cy="1234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2971800" y="3276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7391520" y="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4495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99"/>
                </a:solidFill>
                <a:latin typeface="Tahoma"/>
              </a:rPr>
              <a:t>邹平县长山中学语文组       刘书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2860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99"/>
                </a:solidFill>
                <a:latin typeface="Tahoma"/>
              </a:rPr>
              <a:t>谢谢使用本课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617220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Tahoma"/>
              </a:rPr>
              <a:t>E-mail:msz1234@163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380880" y="1828800"/>
            <a:ext cx="990720" cy="919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3657600" y="5189400"/>
            <a:ext cx="15210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作者介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748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者蒲松龄，山东淄川（今淄博市）蒲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庄人，字留仙，一字剑臣，别号柳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9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514600"/>
            <a:ext cx="6933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从小热衷功名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岁参加科举考试，连中县、府、道的第一，但此后却屡试不第，挤不进官场。他的大半生基本上在家乡过着清苦的塾师生活，因而和人民接触的机会较多，对统治阶级的种种罪恶有所不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《聊斋》收集了大量的民间神话传说，书中极大部分以狐仙鬼怪、鱼精花夭为题材，用以讽刺现实，寄托孤愤。正如该书自序所说：“集腋成裘，忘续明之录，浮白载笔，仅成孤愤之书。寄托如此，亦是悲矣。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826920" cy="114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384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  <a:ea typeface="华文行楷"/>
              </a:rPr>
              <a:t>蒲        松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作者介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908000"/>
            <a:ext cx="411480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汉鼎简魏碑"/>
                <a:ea typeface="汉鼎简魏碑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小说是蒲松龄一生心血的结晶，也是一部以作者书房名称命名的文言短篇小说集。因借叙说奇闻异事，赞美花妖狐魅来鞭挞世间的丑恶，故称作“志异”。郭沫若评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汉鼎简魏碑"/>
                <a:ea typeface="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汉鼎简魏碑"/>
                <a:ea typeface=""/>
              </a:rPr>
              <a:t>写鬼写妖，高人一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汉鼎简魏碑"/>
                <a:ea typeface="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汉鼎简魏碑"/>
                <a:ea typeface=""/>
              </a:rPr>
              <a:t>刺贪刺虐，入木三分</a:t>
            </a:r>
            <a:r>
              <a:rPr b="1" lang="zh-CN" sz="3200" spc="-1" strike="noStrike">
                <a:solidFill>
                  <a:srgbClr val="ff3300"/>
                </a:solidFill>
                <a:latin typeface="汉鼎简魏碑"/>
                <a:ea typeface="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  <a:ea typeface="华文行楷"/>
              </a:rPr>
              <a:t>蒲        松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29400" y="685800"/>
            <a:ext cx="826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80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ahoma"/>
                <a:ea typeface="华文行楷"/>
              </a:rPr>
              <a:t>蒲      松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957240" cy="13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867040" cy="2552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 </a:t>
            </a: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促  织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05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48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2240" y="2090880"/>
            <a:ext cx="8169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令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以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责之里正                   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10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不终岁，薄产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累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成妻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具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资诣问                   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11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成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然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蹑迹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披求                         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12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斯须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就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既而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得其尸于井               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13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成以其小，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劣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自增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惭怍                         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14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无出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右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细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疏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其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抚军亦厚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赉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成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独是成氏子以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蠹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、又嘱学使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俾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入邑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46720" y="20908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连，就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0880" y="201456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8680" y="245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准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2880" y="2819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追随、拨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7280" y="322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不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5160" y="352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惭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3760" y="390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陈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赏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58320" y="4648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侵耗，因侵耗而贫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7000" y="5029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俾，使。庠，学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8400" y="207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亏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3160" y="239544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认为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~~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1360" y="2840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不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200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认为不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4924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（以右为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华文隶书"/>
              </a:rPr>
              <a:t>疑难字句解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  <a:ea typeface="华文行楷"/>
              </a:rPr>
              <a:t>蒲        松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881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93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70000" y="22096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A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邑</a:t>
            </a: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有成名者，操童子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小则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邑</a:t>
            </a:r>
            <a:r>
              <a:rPr b="0" lang="zh-CN" sz="2400" spc="-1" strike="noStrike">
                <a:solidFill>
                  <a:srgbClr val="3333ff"/>
                </a:solidFill>
                <a:latin typeface="Tahoma"/>
              </a:rPr>
              <a:t>，大则得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89680" y="3124080"/>
            <a:ext cx="298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试与他虫斗，虫尽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靡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计不施，迄无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天高地迥，号呼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靡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生之者少而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靡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之者甚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吾视其辙乱，望其旗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靡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，故逐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61880" y="5181480"/>
            <a:ext cx="264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因出己虫，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比笼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至通州，几以不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成妻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钱案上，焚拜如前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谘诹善道，察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雅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16800" y="218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旧时县的别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84560" y="26449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古代与都城对称的县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20800" y="312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败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66160" y="3505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无，没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5920" y="388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892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浪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608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倒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9400" y="518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放进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448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接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0" y="5867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交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5360" y="624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华文新魏"/>
              </a:rPr>
              <a:t>（采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0720" y="10663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Tahoma"/>
                <a:ea typeface="华文新魏"/>
              </a:rPr>
              <a:t>实词练习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8380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316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故事情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13372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序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714320" cy="1486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05320" y="21337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交代故事背景    朝廷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征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促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2743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开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  <a:ea typeface="华文新魏"/>
              </a:rPr>
              <a:t>成名被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摊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  <a:ea typeface="华文新魏"/>
              </a:rPr>
              <a:t>派交纳促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发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2767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成妻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卜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促织   成名按图索促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382428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高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3809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成子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毙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促织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化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促织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斗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促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419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结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4419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  <a:ea typeface="华文新魏"/>
              </a:rPr>
              <a:t>成名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献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  <a:ea typeface="华文新魏"/>
              </a:rPr>
              <a:t>促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96728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尾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952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  <a:ea typeface="华文新魏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评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  <a:ea typeface="华文新魏"/>
              </a:rPr>
              <a:t>促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1234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1234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1234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1234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1234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1234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320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细读课文，点击心理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699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001000" y="1066680"/>
            <a:ext cx="434880" cy="708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508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5596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7056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9916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796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75680" y="314496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e4a8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</a:rPr>
              <a:t>阅读课文第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</a:rPr>
              <a:t>小节，找出体现成名心理活动变化的单音词，依次填入空格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7432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成名听说儿子误毙蟋蟀则（   ），得子尸于井则转而为（   ），见儿子气息然则转为（   ），但顾蟋蟀笼虚则又转而为（   ），忽而闻门外虫鸣则既（   ）且（   ），忽见蟋蟀短小则认为它（  ）；视之，意似良，则又转为（   ）。将献公堂，不知能否合官老爷意，心中又（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666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3657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3657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191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4114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6324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51656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562284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6:09:45Z</dcterms:created>
  <dc:creator>gbj</dc:creator>
  <dc:description/>
  <dc:language>en-US</dc:language>
  <cp:lastModifiedBy>微软用户</cp:lastModifiedBy>
  <dcterms:modified xsi:type="dcterms:W3CDTF">2009-02-21T06:48:43Z</dcterms:modified>
  <cp:revision>61</cp:revision>
  <dc:subject/>
  <dc:title>          促  织</dc:title>
</cp:coreProperties>
</file>