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DC8E-5A11-4156-8E8A-E57E75D7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27DB-0A43-448D-A51E-862013BB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3506-12DA-45C2-820B-67C88274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56D-9E1C-4250-9A54-E2E2A3E7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6415-B1BD-4216-9991-9B1C7E58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4C76-6EF7-4D3B-ADE7-48C7F2DC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F072-658D-415A-AB0C-8B0A1D4F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1566-26F4-40EE-87CD-D58D249F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41EF-31D7-48B6-A250-620B3F1B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D406-67E3-435D-A1EA-27F2C92C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E61C-760D-4154-9B87-B40F0CB7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F571-1DB3-43AA-96C8-7A459A41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401B-387F-407F-B2EA-EC0202C67A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Arial"/>
                <a:ea typeface="华文行楷"/>
              </a:rPr>
              <a:t>朝天子</a:t>
            </a:r>
            <a:r>
              <a:rPr b="0" lang="zh-CN" sz="7200" spc="-1" strike="noStrike">
                <a:solidFill>
                  <a:srgbClr val="ff0066"/>
                </a:solidFill>
                <a:latin typeface="Arial"/>
                <a:ea typeface="华文行楷"/>
              </a:rPr>
              <a:t>·</a:t>
            </a:r>
            <a:r>
              <a:rPr b="0" lang="zh-CN" sz="7200" spc="-1" strike="noStrike">
                <a:solidFill>
                  <a:srgbClr val="ff0066"/>
                </a:solidFill>
                <a:latin typeface="Arial"/>
                <a:ea typeface="华文行楷"/>
              </a:rPr>
              <a:t>咏喇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cc"/>
                </a:solidFill>
                <a:latin typeface="华文新魏"/>
                <a:ea typeface="华文新魏"/>
              </a:rPr>
              <a:t>王  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9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522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讨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85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这首散曲以一个什么字贯穿始终，分别写了哪些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981080"/>
            <a:ext cx="8686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吹之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吹之功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吹之恶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9625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全曲表面上句句是在咏喇叭，实际上作者要表达的是什么？你能作简要分析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20" y="2590920"/>
            <a:ext cx="729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87960" y="1898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腔儿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514600"/>
            <a:ext cx="3809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全仗你抬声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86240" y="32479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吹翻了这家、吹伤了那家、水尽鹅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43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3333ff"/>
              </a:solidFill>
              <a:latin typeface="Arial"/>
              <a:ea typeface="黑体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借物咏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喇叭和宦官不同类，但喇叭的“曲儿小腔儿大”与宦官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“本事小来头大”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却有共同点，于是作品在物与人之间找到共性，作者实际上是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比照着宦官的嘴脸“咏”喇叭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的：以吹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虚张声势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为特征，是官方害民的帮凶，到处作威作福，惹得军民共忿，直到吹得天昏地暗、江山动摇。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这首散曲，表面是吟咏喇叭，实际上讽刺揭露了宦官狐假虎威、残害百姓的丑恶嘴脸。宦官本是宫廷中供使唤的奴才，地位本来低下，却依仗皇帝的宠幸大摆威风，横行霸道。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所以说这首小令的思想内涵是丰富而深刻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6b4c"/>
            </a:gs>
            <a:gs pos="100000">
              <a:srgbClr val="f9e9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朝天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咏喇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首散曲表面是吟咏喇叭，实际上是借物咏怀，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讽刺和揭露了明代宦官狐假虎威，残害百姓的罪恶行经，表达了人民的痛恨情绪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77920" y="2833560"/>
            <a:ext cx="678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3049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447920"/>
            <a:ext cx="8839080" cy="38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了解王磐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散曲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《朝天子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咏喇叭》的文学常识，理解这首散曲的内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学习这首散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诙谐讽刺性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的语言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了解本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借物咏怀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的手法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深刻体会人民对贪官污吏的痛恨之情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散曲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是曲的一种体式，和诗词一样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用于抒情、写景、叙事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形式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包括小令、带过曲、套数三种形式。主要形式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令、套数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小令：散曲的一种形式，单独的一支曲子，称为小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套曲：散曲的一种形式，由几支同一 宫调的曲子联缀而成的曲，称为套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6320" y="228600"/>
          <a:ext cx="9067680" cy="6219720"/>
        </p:xfrm>
        <a:graphic>
          <a:graphicData uri="http://schemas.openxmlformats.org/drawingml/2006/table">
            <a:tbl>
              <a:tblPr/>
              <a:tblGrid>
                <a:gridCol w="9067680"/>
              </a:tblGrid>
              <a:tr h="569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散曲的发展</a:t>
                      </a:r>
                      <a:r>
                        <a:rPr b="1" lang="zh-CN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: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散曲是在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宋、金时代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的“俗谣俚曲”的基础上，以及其他说唱艺术的影响下，发展起来的新与的一种歌诗和乐曲。这一从民间来的新的文学样式，经过了长期的酝酿和发展，到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元代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进入了她的全盛时期。作为我国古典诗歌中浪行久远，而又保持着自己特色的“元曲”（散曲和雜剧）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取得了与“唐诗”、“宋词”鼎足而三的地位。</a:t>
                      </a:r>
                      <a:br>
                        <a:rPr sz="2800"/>
                      </a:b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在中国文学史上给散曲以一席之地，只不过六七十年间的事情。曲在中国各种古典诗歌体裁之中，产生最晚，地位也最低，无论散曲还是戏曲，歷来为封建街道者所歧视，长期被当作小道末技而“薄之”！</a:t>
                      </a:r>
                      <a:br>
                        <a:rPr sz="2800"/>
                      </a:b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散曲在元代经历了她的兴旺时期以后，到了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明代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，作家和作品的数量都远远地超过元代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主要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散曲作为继诗、词之后出现的新诗体，在它身上显然流动着诗、词等韵文文体的血脉，继承了它们的优秀传统。然而，它更有着不同于传统诗、词的鲜明独特的艺术个性和表现手法，这主要表现在以下三个方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第一 灵活多变伸缩自如的句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第二 以俗为尚和口语化、散文化的语言风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第三 明快显豁自然酣畅的审美取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行楷"/>
              </a:rPr>
              <a:t>作者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王磐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约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47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约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530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字鸿渐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号西楼，明高邮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今江苏省高邮县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人。从年轻时起即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鄙视功名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筑楼高邮城西，与名流谈咏其间，因自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号西楼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其散曲题材广泛，虽多闲适之作，亦有同情人民疾苦、讥讽时政的佳作。有《王西楼乐府》。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写作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这支曲作于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明武宗正德年间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(1506—1521)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当时宦官当权，在交通要道运河上，他们往来频繁，每到一处就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耀武扬威，鱼肉百姓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诗人王磐家住运河边的高邮县，目睹宦官的种种恶行，写了这支《朝天子》，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借咏喇叭，揭露宦官的罪行。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朝 天 子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·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咏 喇 叭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王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828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喇叭，锁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曲儿小，腔儿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官船来往乱如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全仗你抬声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军听了军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民听了民怕</a:t>
            </a:r>
            <a:r>
              <a:rPr b="1" lang="zh-CN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那里去辨甚么真共假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眼见的吹翻了这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吹伤了那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只吹的水尽鹅飞罢！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5530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4825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66680" y="22860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《朝天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咏喇叭》，说说这首散曲可分为几层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5760" y="297648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三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43040" y="2039760"/>
            <a:ext cx="414360" cy="2760840"/>
          </a:xfrm>
          <a:custGeom>
            <a:avLst/>
            <a:gdLst>
              <a:gd name="textAreaLeft" fmla="*/ 264960 w 414360"/>
              <a:gd name="textAreaRight" fmla="*/ 414720 w 414360"/>
              <a:gd name="textAreaTop" fmla="*/ 72000 h 2760840"/>
              <a:gd name="textAreaBottom" fmla="*/ 2688840 h 276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14479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层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句）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明写喇叭、唢呐特点，暗喻宦官身为奴仆而虚张声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28954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层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-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句）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讽刺宦官依仗权势，作威作福。喇叭到则官船到则民遭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43434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层（最后三句）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写宦官压迫、掠夺人民，致使千家万户家破人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s</cp:lastModifiedBy>
  <dcterms:modified xsi:type="dcterms:W3CDTF">2007-04-14T04:28:3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