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310313" cy="8899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9F83-C066-45E2-A003-8156958D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E183-587F-4551-A5BE-99BC1BE2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2B94-6A14-486E-8339-75D46F29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57AE-50F9-4287-B4BE-C690660B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DDD0-89EE-4686-879B-535A0990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476A-D924-44B3-9057-AE63B9DC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72DF-B3B1-42ED-8351-4112C672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1CED-C2F3-412D-B1C5-E72A9770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8521-2833-42B5-94FE-9B1F9937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5D33-A5C8-4FB3-A0F7-E8ADF7DB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6582-82C3-41E2-B031-C7D045F7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17B7-B97D-412C-83CD-F9573D56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727E-49C0-49AC-9A5D-AE14825C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DEA7-B032-45BE-BB99-8827DC97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2D5B-5CA7-49FF-826A-0DB3BA94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F0FE-0087-45BE-8AAE-BD296E5C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22BB-F3C5-4D3F-AA39-E2ADEA83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F89B-33BC-4F64-B0F1-890C07AD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2E59-F0F2-4D23-9204-30D564FD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D58E-2391-46E6-9AF1-AAB00AD1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C8EC-A06D-4906-AF9E-8D3A2839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2A5B-4D26-4AFB-BEA8-16D8EF4C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5F84-83B4-440C-B577-24CADE01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6384-84BB-447E-B10D-EDB2CB1F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638E-2A48-49B9-A8F7-39DF9EA531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31A9-F890-490B-BBF9-CD5CF36415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0881" descr="西厢记"/>
          <p:cNvPicPr/>
          <p:nvPr/>
        </p:nvPicPr>
        <p:blipFill>
          <a:blip r:embed="rId2"/>
          <a:stretch/>
        </p:blipFill>
        <p:spPr>
          <a:xfrm>
            <a:off x="0" y="609480"/>
            <a:ext cx="4646520" cy="5639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800600" y="1371600"/>
            <a:ext cx="3809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长亭送别</a:t>
            </a:r>
            <a:endParaRPr b="1" lang="en-US" sz="60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38098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元</a:t>
            </a: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王实甫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1066680"/>
            <a:ext cx="677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找出文中环境描写的句子，并说明其作用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26956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脱布衫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西风黄叶纷飞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染寒烟衰草萋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91464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渲染张生内心因离别而产生的惆怅凄凉之情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gif005" descr=""/>
          <p:cNvPicPr/>
          <p:nvPr/>
        </p:nvPicPr>
        <p:blipFill>
          <a:blip r:embed="rId2"/>
          <a:stretch/>
        </p:blipFill>
        <p:spPr>
          <a:xfrm>
            <a:off x="7772400" y="5896080"/>
            <a:ext cx="76212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743200" y="3808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析第三部分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708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崔莺莺最关心的是什么？最担心的是什么？表现了她怎样的思想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这部分中用了哪几个典故？有何作用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4724280"/>
            <a:ext cx="685800" cy="533520"/>
          </a:xfrm>
          <a:prstGeom prst="smileyFace">
            <a:avLst>
              <a:gd name="adj" fmla="val 9282"/>
            </a:avLst>
          </a:prstGeom>
          <a:solidFill>
            <a:srgbClr val="cce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3238560"/>
            <a:ext cx="685800" cy="571320"/>
          </a:xfrm>
          <a:prstGeom prst="smileyFace">
            <a:avLst>
              <a:gd name="adj" fmla="val 9282"/>
            </a:avLst>
          </a:prstGeom>
          <a:solidFill>
            <a:srgbClr val="cce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28880" y="2286000"/>
            <a:ext cx="6629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崔莺莺最关心的张生的安危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担心的是张生“停妻再娶妻”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现了她对爱情的珍重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81320" y="92880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关心与担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gif005" descr=""/>
          <p:cNvPicPr/>
          <p:nvPr/>
        </p:nvPicPr>
        <p:blipFill>
          <a:blip r:embed="rId2"/>
          <a:stretch/>
        </p:blipFill>
        <p:spPr>
          <a:xfrm>
            <a:off x="7772400" y="5896080"/>
            <a:ext cx="76212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3880" y="23623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表现两人缠绵难舍的心情</a:t>
            </a:r>
            <a:r>
              <a:rPr b="0" lang="zh-CN" sz="36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533520"/>
            <a:ext cx="83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用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57200"/>
            <a:ext cx="4572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淋漓襟袖啼红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伯劳东去燕西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3200400"/>
            <a:ext cx="5257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春鱼雁无消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这里表鸾有信频须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05764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表明崔莺莺对张生的担心及她对爱情的珍重</a:t>
            </a:r>
            <a:r>
              <a:rPr b="1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.</a:t>
            </a:r>
            <a:r>
              <a:rPr b="0" lang="zh-CN" sz="1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52680" y="1676520"/>
            <a:ext cx="0" cy="838080"/>
          </a:xfrm>
          <a:prstGeom prst="line">
            <a:avLst/>
          </a:prstGeom>
          <a:ln cap="sq" w="57240">
            <a:solidFill>
              <a:srgbClr val="3399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4343400"/>
            <a:ext cx="0" cy="838080"/>
          </a:xfrm>
          <a:prstGeom prst="line">
            <a:avLst/>
          </a:prstGeom>
          <a:ln cap="sq" w="57240">
            <a:solidFill>
              <a:srgbClr val="3399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71880" y="53352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析第四部分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57160" y="1600200"/>
            <a:ext cx="742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[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煞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]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中再写环境，其作用是否与先前所写相同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33526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稍有不同，这里是表现崔莺莺目送张生远去时那种凄怆悲苦的眷恋之情。以所见之物，写内心深藏之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67040" y="457200"/>
            <a:ext cx="47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化用的诗句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219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碧云天，黄花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17524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范仲淹《苏幕遮》“碧云天，黄叶地。秋色连波，波上寒烟翠。山映斜阳接水。芳草无情，更在斜阳外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3526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阁泪汪汪不敢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3962520"/>
            <a:ext cx="7543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宋人《鹧鸪天》“尊前只恐伤郎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阁泪汪汪不敢垂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0292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蜗角功名，蝇头微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562720"/>
            <a:ext cx="56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苏轼《满庭芳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2057400"/>
            <a:ext cx="8305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弃掷今何在，当时且自亲。还将旧来意，怜取眼前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34732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伯劳东去燕西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48769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一春鱼雁无消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3124080"/>
            <a:ext cx="8915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出自元缜《莺莺传》中莺莺谢绝张生的一首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4038480"/>
            <a:ext cx="8402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乐府诗《东飞伯劳歌》“东飞伯劳西飞燕，黄姑织女时相见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5410080"/>
            <a:ext cx="8763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秦观《鹧鸪天》“一春鱼雁无消息，千里关山劳梦魂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709560"/>
            <a:ext cx="914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暖溶溶的玉醅，白泠泠似水，多半是相思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14018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范仲淹《苏幕遮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62120" y="2057400"/>
            <a:ext cx="792468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十里长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：古代驿路上十里设一长亭，五里设一短亭，都是供行人休息和送别的地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举案齐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：后汉梁鸿、孟光的故事。后形容夫妻相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望夫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：古代神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30440" y="68580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  <a:ea typeface="华文新魏"/>
              </a:rPr>
              <a:t>典故成语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976320"/>
            <a:ext cx="8077320" cy="31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红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：王嘉《拾遗记》中薛灵芸的故事。后人称女子的眼泪为红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司马青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：白居易《琵琶行》最后两句“座中泣下谁最多？江州司马青衫湿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鱼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：指书信。古乐府《饮马长城窟行》中的鱼、《汉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苏武传》中的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青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：古代传说中能报信的鸟。据说汉武帝时，西王母降临，青鸾先来报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971800" y="3808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总结课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11480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主题思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118728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写作特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011320"/>
            <a:ext cx="769608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宋体"/>
                <a:ea typeface="楷体_GB2312"/>
              </a:rPr>
              <a:t>⑴</a:t>
            </a:r>
            <a:r>
              <a:rPr b="1" lang="zh-CN" sz="4000" spc="-1" strike="noStrike">
                <a:solidFill>
                  <a:srgbClr val="000099"/>
                </a:solidFill>
                <a:latin typeface="宋体"/>
                <a:ea typeface="楷体_GB2312"/>
              </a:rPr>
              <a:t>情景交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宋体"/>
                <a:ea typeface="楷体_GB2312"/>
              </a:rPr>
              <a:t>⑵</a:t>
            </a:r>
            <a:r>
              <a:rPr b="1" lang="zh-CN" sz="4000" spc="-1" strike="noStrike">
                <a:solidFill>
                  <a:srgbClr val="000099"/>
                </a:solidFill>
                <a:latin typeface="宋体"/>
                <a:ea typeface="楷体_GB2312"/>
              </a:rPr>
              <a:t>运用多种修辞方法，融古代诗词和民间口语为一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23440" y="487692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歌颂真挚爱情，鄙视功名利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1552680"/>
            <a:ext cx="8686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实甫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代著名杂剧作家。当时享有盛名，所作杂剧十四种。剧作大都以青年女性反抗封建礼教为题材，塑造了崔莺莺、红娘、刘月娥等不同妇女的典型形象。他的作品戏剧性强，曲词优美，对元杂剧和后来戏曲的发展有很大影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666880" y="380880"/>
            <a:ext cx="3200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作者简介</a:t>
            </a:r>
            <a:endParaRPr b="1" lang="en-US" sz="54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3808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Arial"/>
                <a:ea typeface="华文新魏"/>
              </a:rPr>
              <a:t>后人评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4560" y="1371600"/>
            <a:ext cx="780732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《长亭送别》是一首真挚的抒情诗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是一幅淡雅的水墨画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是一支撩人心弦的离歌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它给人以深沉的美感享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40384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王实甫之词如花间美人，铺叙委婉，深得骚人之趣。极有佳句，若玉环之出浴华清，绿珠之采莲洛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38080" y="1828800"/>
            <a:ext cx="77724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唐</a:t>
            </a:r>
            <a:r>
              <a:rPr b="1" lang="zh-CN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·</a:t>
            </a:r>
            <a:r>
              <a:rPr b="1" lang="zh-CN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元稹的小说《莺莺传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宋</a:t>
            </a:r>
            <a:r>
              <a:rPr b="1" lang="zh-CN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·</a:t>
            </a:r>
            <a:r>
              <a:rPr b="1" lang="zh-CN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董解元的杂剧《西厢记诸宫调》</a:t>
            </a:r>
            <a:r>
              <a:rPr b="1" lang="zh-CN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</a:t>
            </a:r>
            <a:r>
              <a:rPr b="1" lang="zh-CN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董西厢》</a:t>
            </a:r>
            <a:r>
              <a:rPr b="1" lang="zh-CN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元</a:t>
            </a:r>
            <a:r>
              <a:rPr b="1" lang="zh-CN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·</a:t>
            </a:r>
            <a:r>
              <a:rPr b="1" lang="zh-CN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王实甫的杂剧《西厢记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43280" y="762120"/>
            <a:ext cx="120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《西厢记》故事的来源、发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86280" y="18288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宋体"/>
                <a:ea typeface="楷体_GB2312"/>
              </a:rPr>
              <a:t>赶赴长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81440" y="53352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理清剧情结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43200" y="5410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宋体"/>
                <a:ea typeface="楷体_GB2312"/>
              </a:rPr>
              <a:t>夫妻分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43200" y="4267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宋体"/>
                <a:ea typeface="楷体_GB2312"/>
              </a:rPr>
              <a:t>临别叮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43200" y="3078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宋体"/>
                <a:ea typeface="楷体_GB2312"/>
              </a:rPr>
              <a:t>长亭饯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3657600"/>
            <a:ext cx="0" cy="762120"/>
          </a:xfrm>
          <a:prstGeom prst="line">
            <a:avLst/>
          </a:prstGeom>
          <a:ln cap="sq" w="38160">
            <a:solidFill>
              <a:srgbClr val="ff33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4840" y="4876920"/>
            <a:ext cx="0" cy="761760"/>
          </a:xfrm>
          <a:prstGeom prst="line">
            <a:avLst/>
          </a:prstGeom>
          <a:ln cap="sq" w="38160">
            <a:solidFill>
              <a:srgbClr val="ff33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2438280"/>
            <a:ext cx="0" cy="762120"/>
          </a:xfrm>
          <a:prstGeom prst="line">
            <a:avLst/>
          </a:prstGeom>
          <a:ln cap="sq" w="38160">
            <a:solidFill>
              <a:srgbClr val="ff33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38080" y="2436840"/>
            <a:ext cx="7696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华文新魏"/>
                <a:ea typeface="华文新魏"/>
              </a:rPr>
              <a:t>[</a:t>
            </a:r>
            <a:r>
              <a:rPr b="0" lang="zh-CN" sz="4800" spc="-1" strike="noStrike">
                <a:solidFill>
                  <a:srgbClr val="000099"/>
                </a:solidFill>
                <a:latin typeface="华文新魏"/>
                <a:ea typeface="华文新魏"/>
              </a:rPr>
              <a:t>端正好</a:t>
            </a:r>
            <a:r>
              <a:rPr b="0" lang="zh-CN" sz="4800" spc="-1" strike="noStrike">
                <a:solidFill>
                  <a:srgbClr val="000099"/>
                </a:solidFill>
                <a:latin typeface="华文新魏"/>
                <a:ea typeface="华文新魏"/>
              </a:rPr>
              <a:t>]</a:t>
            </a:r>
            <a:r>
              <a:rPr b="0" lang="zh-CN" sz="4800" spc="-1" strike="noStrike">
                <a:solidFill>
                  <a:srgbClr val="000099"/>
                </a:solidFill>
                <a:latin typeface="华文新魏"/>
                <a:ea typeface="华文新魏"/>
              </a:rPr>
              <a:t>一曲是化用谁的诗词</a:t>
            </a:r>
            <a:r>
              <a:rPr b="0" lang="zh-CN" sz="4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</a:rPr>
              <a:t>？</a:t>
            </a:r>
            <a:r>
              <a:rPr b="0" lang="zh-CN" sz="4800" spc="-1" strike="noStrike">
                <a:solidFill>
                  <a:srgbClr val="000099"/>
                </a:solidFill>
                <a:latin typeface="华文新魏"/>
                <a:ea typeface="华文新魏"/>
              </a:rPr>
              <a:t>描写了怎样的环境</a:t>
            </a:r>
            <a:r>
              <a:rPr b="0" lang="zh-CN" sz="4800" spc="-1" strike="noStrike">
                <a:solidFill>
                  <a:srgbClr val="000099"/>
                </a:solidFill>
                <a:latin typeface="华文新魏"/>
                <a:ea typeface="华文新魏"/>
              </a:rPr>
              <a:t>?</a:t>
            </a:r>
            <a:r>
              <a:rPr b="0" lang="zh-CN" sz="4800" spc="-1" strike="noStrike">
                <a:solidFill>
                  <a:srgbClr val="000099"/>
                </a:solidFill>
                <a:latin typeface="华文新魏"/>
                <a:ea typeface="华文新魏"/>
              </a:rPr>
              <a:t>有何作用？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7621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析第一部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if005" descr=""/>
          <p:cNvPicPr/>
          <p:nvPr/>
        </p:nvPicPr>
        <p:blipFill>
          <a:blip r:embed="rId2"/>
          <a:stretch/>
        </p:blipFill>
        <p:spPr>
          <a:xfrm>
            <a:off x="7772400" y="5896080"/>
            <a:ext cx="76212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38080" y="213372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四句一句一景，以具有深秋时节特征的景物，衬托出崔莺莺为离别所烦恼的痛苦压抑的心情；后二句自问自答，采用夸张手法表现了崔莺莺因张生即将远离而无限感伤的心境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60948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华文新魏"/>
                <a:ea typeface="华文新魏"/>
              </a:rPr>
              <a:t>[</a:t>
            </a:r>
            <a:r>
              <a:rPr b="0" lang="zh-CN" sz="4800" spc="-1" strike="noStrike">
                <a:solidFill>
                  <a:srgbClr val="000099"/>
                </a:solidFill>
                <a:latin typeface="华文新魏"/>
                <a:ea typeface="华文新魏"/>
              </a:rPr>
              <a:t>端正好</a:t>
            </a:r>
            <a:r>
              <a:rPr b="0" lang="zh-CN" sz="4800" spc="-1" strike="noStrike">
                <a:solidFill>
                  <a:srgbClr val="000099"/>
                </a:solidFill>
                <a:latin typeface="华文新魏"/>
                <a:ea typeface="华文新魏"/>
              </a:rPr>
              <a:t>]</a:t>
            </a:r>
            <a:r>
              <a:rPr b="0" lang="zh-CN" sz="4800" spc="-1" strike="noStrike">
                <a:solidFill>
                  <a:srgbClr val="000099"/>
                </a:solidFill>
                <a:latin typeface="华文新魏"/>
                <a:ea typeface="华文新魏"/>
              </a:rPr>
              <a:t>一曲描写了怎样的环境</a:t>
            </a:r>
            <a:r>
              <a:rPr b="0" lang="zh-CN" sz="4800" spc="-1" strike="noStrike">
                <a:solidFill>
                  <a:srgbClr val="000099"/>
                </a:solidFill>
                <a:latin typeface="华文新魏"/>
                <a:ea typeface="华文新魏"/>
              </a:rPr>
              <a:t>?</a:t>
            </a:r>
            <a:r>
              <a:rPr b="0" lang="zh-CN" sz="4800" spc="-1" strike="noStrike">
                <a:solidFill>
                  <a:srgbClr val="000099"/>
                </a:solidFill>
                <a:latin typeface="华文新魏"/>
                <a:ea typeface="华文新魏"/>
              </a:rPr>
              <a:t>有何作用？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gif005" descr=""/>
          <p:cNvPicPr/>
          <p:nvPr/>
        </p:nvPicPr>
        <p:blipFill>
          <a:blip r:embed="rId2"/>
          <a:stretch/>
        </p:blipFill>
        <p:spPr>
          <a:xfrm>
            <a:off x="7772400" y="5896080"/>
            <a:ext cx="76212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2714760"/>
            <a:ext cx="7086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楷体_GB2312"/>
              </a:rPr>
              <a:t>碧云天，黄叶地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楷体_GB2312"/>
              </a:rPr>
              <a:t>秋色连波，波上寒烟翠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楷体_GB2312"/>
              </a:rPr>
              <a:t>山映斜阳接水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楷体_GB2312"/>
              </a:rPr>
              <a:t>芳草无情，更在斜阳外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671400"/>
            <a:ext cx="43434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楷体_GB2312"/>
              </a:rPr>
              <a:t>苏幕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楷体_GB2312"/>
              </a:rPr>
              <a:t>     —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楷体_GB2312"/>
              </a:rPr>
              <a:t>范仲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gif005" descr=""/>
          <p:cNvPicPr/>
          <p:nvPr/>
        </p:nvPicPr>
        <p:blipFill>
          <a:blip r:embed="rId2"/>
          <a:stretch/>
        </p:blipFill>
        <p:spPr>
          <a:xfrm>
            <a:off x="7772400" y="5896080"/>
            <a:ext cx="76212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362320" y="3808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析第二部分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1673280"/>
            <a:ext cx="739152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找出文中环境描写的句子，并说明其作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 夫人是怎样一个人？崔莺莺又是怎样一个人？请在文中找出理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2286000"/>
            <a:ext cx="990720" cy="457200"/>
          </a:xfrm>
          <a:prstGeom prst="smileyFace">
            <a:avLst>
              <a:gd name="adj" fmla="val 9282"/>
            </a:avLst>
          </a:prstGeom>
          <a:solidFill>
            <a:srgbClr val="cce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3962520"/>
            <a:ext cx="609840" cy="457200"/>
          </a:xfrm>
          <a:prstGeom prst="smileyFace">
            <a:avLst>
              <a:gd name="adj" fmla="val -4652"/>
            </a:avLst>
          </a:prstGeom>
          <a:solidFill>
            <a:srgbClr val="cce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38080" y="220968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贪图富贵权势的势利的贵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4440" y="1268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夫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457200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珍重爱情，鄙视功名利禄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3429000"/>
            <a:ext cx="266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崔莺莺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600200" y="304920"/>
            <a:ext cx="3276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19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</a:rPr>
              <a:t>人物形象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15" name="gif005" descr=""/>
          <p:cNvPicPr/>
          <p:nvPr/>
        </p:nvPicPr>
        <p:blipFill>
          <a:blip r:embed="rId2"/>
          <a:stretch/>
        </p:blipFill>
        <p:spPr>
          <a:xfrm>
            <a:off x="7772400" y="5896080"/>
            <a:ext cx="76212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4T05:57:03Z</dcterms:created>
  <dc:creator>卢斌</dc:creator>
  <dc:description/>
  <dc:language>en-US</dc:language>
  <cp:lastModifiedBy>yczx</cp:lastModifiedBy>
  <dcterms:modified xsi:type="dcterms:W3CDTF">2003-05-05T23:27:19Z</dcterms:modified>
  <cp:revision>147</cp:revision>
  <dc:subject/>
  <dc:title>PowerPoint 演示文稿</dc:title>
</cp:coreProperties>
</file>